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29A-E28A-480D-A145-AF229855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E0C-A53E-4B87-BF6C-DF10D8B5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7AA-FC40-4153-A580-8D41AB97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15E-5330-4141-B40F-4B65AC65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7650-D76C-41C9-B1D0-B3A094CD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5662-A24C-48E9-ADDA-B394D30B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A3CE-BF82-4EE2-ADE5-72E2E60B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D10D-0AA4-455F-891B-F0A07C37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8CF6-B263-447E-861C-363C4FA8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D9C5-76E9-4E2D-BA56-E6086C0C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C0D3-5DFE-4D78-9D9D-2A7E0B3C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9DF-560C-4DF7-93AD-93C5C8CB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11A8-D861-4D27-B9C7-5DCC98C7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8E2B-8254-446F-9C9C-23EBD0F7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67B4-8D06-41C8-B5DF-A7C57D58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1D45-B957-4CCB-A643-1DA5E538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6A1B-453A-4075-8B52-CC505EB4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67C-244F-44D6-8F0F-39B49741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FA6-854D-4E86-A12C-50E36947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BFA-A77F-4F7D-BB32-51B9C112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9AD-39AA-434F-8BFA-8E864C93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A38-E381-43F2-9DD3-0E170E04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BFA-7C8B-4E5A-95BF-31D33806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32BE-58EA-4634-8AAC-7ADB61E8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CFEB05-67F1-40AA-AE4D-C4D2E5EDA0D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E59DB4-2F54-47EB-8627-065BE592203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6215040" y="1000080"/>
            <a:ext cx="1015560" cy="349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6323040" y="3689280"/>
            <a:ext cx="891720" cy="81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6730920" y="1071720"/>
            <a:ext cx="677520" cy="407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2105280" y="28188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粉色柔美简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8"/>
          <p:cNvSpPr/>
          <p:nvPr/>
        </p:nvSpPr>
        <p:spPr>
          <a:xfrm>
            <a:off x="87660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621180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9"/>
          <p:cNvSpPr/>
          <p:nvPr/>
        </p:nvSpPr>
        <p:spPr>
          <a:xfrm>
            <a:off x="428328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178272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571680" y="42876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199728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42584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671184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84492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414036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685476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171144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8"/>
          <p:cNvSpPr/>
          <p:nvPr/>
        </p:nvSpPr>
        <p:spPr>
          <a:xfrm>
            <a:off x="87660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928800" y="242892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128268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706932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99768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8"/>
          <p:cNvSpPr/>
          <p:nvPr/>
        </p:nvSpPr>
        <p:spPr>
          <a:xfrm>
            <a:off x="84492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1643040" y="214308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492588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564048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285444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899640" y="623736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"/>
          <p:cNvSpPr/>
          <p:nvPr/>
        </p:nvSpPr>
        <p:spPr>
          <a:xfrm>
            <a:off x="94824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12114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7118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428328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8"/>
          <p:cNvSpPr/>
          <p:nvPr/>
        </p:nvSpPr>
        <p:spPr>
          <a:xfrm>
            <a:off x="87660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4211640" y="5072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/>
          <p:cNvSpPr/>
          <p:nvPr/>
        </p:nvSpPr>
        <p:spPr>
          <a:xfrm>
            <a:off x="249732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628344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4425840" y="1428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8"/>
          <p:cNvSpPr/>
          <p:nvPr/>
        </p:nvSpPr>
        <p:spPr>
          <a:xfrm>
            <a:off x="87660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435456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628344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242568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8"/>
          <p:cNvSpPr/>
          <p:nvPr/>
        </p:nvSpPr>
        <p:spPr>
          <a:xfrm>
            <a:off x="87660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65692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406872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192564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  <Words>287</Words>
  <Paragraphs>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03T12:24:09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1</vt:r8>
  </property>
</Properties>
</file>