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07A-759F-483D-A200-6076D307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AA1-3519-4BD0-BEA9-BE16DB7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B24-0436-4BDF-A967-636F3E92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F05-3C12-43D2-B7AD-6AEB21CC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C3A-3237-4D6D-825A-59CF328A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34D-9F84-4434-8BBE-5123BCEF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DC5-6643-4EAF-A396-53DD910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6404-8941-4050-9F25-C110314F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35FC-D01D-49CC-BAFB-B2CD2FE2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0DE-6AF0-4044-AB15-3059312C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357-E1DC-4DD7-94CC-141DFE8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CE5-F078-4D54-B70B-C7DD787A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90FB-BA1C-4667-8A87-4FFD4AD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2A7-7D2A-4B5C-A119-59C4225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EA7-791F-48DF-AE66-B0EEDECC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9E10-D075-49EB-8452-1C5D6DF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087-5850-40A9-8C01-DD05FDBA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5E7-5C42-41ED-A461-82CB7CE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F8C-0C9B-4106-A8D2-3FAD13F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DD8-8F3F-48B2-9BDF-22DC87F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C26-28B7-4532-82C1-84EB065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61D-66E5-4CC3-B690-637DC4BE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E83-55BD-4D54-9FDB-88B357F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1C9-5008-42CE-8CCB-0592B677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46E1-2240-4104-BEDC-8276DF74552D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2923920"/>
            <a:ext cx="883908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钢笔论文答辩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模板免费下载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95280" y="6526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5d4bc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6ca5d8"/>
                    </a:gs>
                    <a:gs pos="100000">
                      <a:srgbClr val="cbb61d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6ca5d8"/>
                  </a:gs>
                  <a:gs pos="100000">
                    <a:srgbClr val="cbb61d"/>
                  </a:gs>
                </a:gsLst>
                <a:lin ang="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 </a:t>
            </a:r>
            <a:r>
              <a:rPr b="1" lang="zh-CN" sz="1000" spc="-1" strike="noStrike" u="sng">
                <a:solidFill>
                  <a:srgbClr val="5d4bc7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5d4bc7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5d4bc7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yu wang</cp:lastModifiedBy>
  <dcterms:modified xsi:type="dcterms:W3CDTF">2015-08-03T12:25:23Z</dcterms:modified>
  <cp:revision>8</cp:revision>
  <dc:subject/>
  <dc:title>论文名称</dc:title>
</cp:coreProperties>
</file>