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AE20-DBE6-4493-BEAD-24405308E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640" y="908640"/>
            <a:ext cx="145008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55640" y="1340640"/>
            <a:ext cx="6130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555640" y="3704760"/>
            <a:ext cx="6130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23E5-6360-486D-8BE2-1C57EC05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640" y="908640"/>
            <a:ext cx="145008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55640" y="1340640"/>
            <a:ext cx="2991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97360" y="1340640"/>
            <a:ext cx="2991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55640" y="3704760"/>
            <a:ext cx="2991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697360" y="3704760"/>
            <a:ext cx="2991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CA45-5FE6-4F11-9C9E-8DE07CEA3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640" y="908640"/>
            <a:ext cx="145008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55640" y="134064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8520" y="134064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01400" y="134064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555640" y="370476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28520" y="370476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01400" y="370476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2D05-7633-415C-8336-76139EA9F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EA58-7A14-40BA-9365-60C2A08E9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640" y="908640"/>
            <a:ext cx="145008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55640" y="1340640"/>
            <a:ext cx="6130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610D-0EF6-4BA7-B1EE-6A60C7BA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640" y="908640"/>
            <a:ext cx="145008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55640" y="1340640"/>
            <a:ext cx="6130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67DA-364B-4542-BC1F-A9B20BC2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640" y="908640"/>
            <a:ext cx="145008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55640" y="1340640"/>
            <a:ext cx="29916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697360" y="1340640"/>
            <a:ext cx="29916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BE9D-227C-4F92-A919-C258FA56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640" y="908640"/>
            <a:ext cx="145008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BC5D-773E-472A-ABEA-D2D4378B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9640" y="5399640"/>
            <a:ext cx="1450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8BF7-7011-4B7D-8D78-7CE0A977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640" y="908640"/>
            <a:ext cx="145008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55640" y="1340640"/>
            <a:ext cx="2991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97360" y="1340640"/>
            <a:ext cx="29916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55640" y="3704760"/>
            <a:ext cx="2991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139D-37FC-49E8-98B5-AE19F6B7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640" y="908640"/>
            <a:ext cx="145008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555640" y="1340640"/>
            <a:ext cx="6130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F7D5-6207-459E-B04F-4595227E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640" y="908640"/>
            <a:ext cx="145008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55640" y="1340640"/>
            <a:ext cx="29916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97360" y="1340640"/>
            <a:ext cx="2991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97360" y="3704760"/>
            <a:ext cx="2991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01BA-F4C3-4889-A8BF-3FACEDC0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640" y="908640"/>
            <a:ext cx="145008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55640" y="1340640"/>
            <a:ext cx="2991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97360" y="1340640"/>
            <a:ext cx="2991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555640" y="3704760"/>
            <a:ext cx="6130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2C0A-6E3B-4D61-8673-FC678ACF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640" y="908640"/>
            <a:ext cx="145008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55640" y="1340640"/>
            <a:ext cx="6130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555640" y="3704760"/>
            <a:ext cx="6130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C07F-8F21-406E-B9EA-9AB55172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640" y="908640"/>
            <a:ext cx="145008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55640" y="1340640"/>
            <a:ext cx="2991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97360" y="1340640"/>
            <a:ext cx="2991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555640" y="3704760"/>
            <a:ext cx="2991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97360" y="3704760"/>
            <a:ext cx="2991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FCD0-6555-4789-A83C-13E82E211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640" y="908640"/>
            <a:ext cx="145008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55640" y="134064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28520" y="134064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01400" y="134064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555640" y="370476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628520" y="370476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701400" y="370476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0B59-CBFF-4851-9E4B-2808F1876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640" y="908640"/>
            <a:ext cx="145008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55640" y="1340640"/>
            <a:ext cx="6130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EC01-052B-49FA-9371-E395A872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640" y="908640"/>
            <a:ext cx="145008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55640" y="1340640"/>
            <a:ext cx="29916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697360" y="1340640"/>
            <a:ext cx="29916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6B33-4236-46F9-856D-873A3C13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640" y="908640"/>
            <a:ext cx="145008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D7D0-540D-4328-A191-EB3F50AD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9640" y="5399640"/>
            <a:ext cx="1450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4B2B-205E-43B8-9F6A-2D03CAC3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640" y="908640"/>
            <a:ext cx="145008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55640" y="1340640"/>
            <a:ext cx="2991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97360" y="1340640"/>
            <a:ext cx="29916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555640" y="3704760"/>
            <a:ext cx="2991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4C8A-E0BC-4CB4-B19E-F3FE12DE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640" y="908640"/>
            <a:ext cx="145008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55640" y="1340640"/>
            <a:ext cx="29916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97360" y="1340640"/>
            <a:ext cx="2991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97360" y="3704760"/>
            <a:ext cx="2991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EAB7-6085-4517-8D7D-DF061A4B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640" y="908640"/>
            <a:ext cx="145008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55640" y="1340640"/>
            <a:ext cx="2991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97360" y="1340640"/>
            <a:ext cx="2991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55640" y="3704760"/>
            <a:ext cx="6130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E798-86EC-40C1-A5D1-A17821AC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2964600"/>
            <a:ext cx="9143640" cy="3893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91B44B-BBC9-413B-92CF-827C692E42A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tretch/>
        </p:blipFill>
        <p:spPr>
          <a:xfrm>
            <a:off x="1331640" y="708840"/>
            <a:ext cx="7812000" cy="5312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640" y="908640"/>
            <a:ext cx="1450080" cy="489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叶根友毛笔行书"/>
                <a:ea typeface="叶根友毛笔行书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55640" y="1340640"/>
            <a:ext cx="613080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请在这里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请在这里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90ACBF-D460-4EDF-8C61-C4D8E725282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副标题 2"/>
          <p:cNvSpPr/>
          <p:nvPr/>
        </p:nvSpPr>
        <p:spPr>
          <a:xfrm>
            <a:off x="5868000" y="3141000"/>
            <a:ext cx="183204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rmAutofit/>
          </a:bodyPr>
          <a:p>
            <a:pPr algn="ctr">
              <a:lnSpc>
                <a:spcPct val="150000"/>
              </a:lnSpc>
              <a:spcBef>
                <a:spcPts val="360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Calibri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360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Calibri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360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Calibri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"/>
          <p:cNvSpPr/>
          <p:nvPr/>
        </p:nvSpPr>
        <p:spPr>
          <a:xfrm>
            <a:off x="2207880" y="1484640"/>
            <a:ext cx="5156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古典大气水墨画风格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标题 1"/>
          <p:cNvSpPr/>
          <p:nvPr/>
        </p:nvSpPr>
        <p:spPr>
          <a:xfrm>
            <a:off x="190080" y="2343240"/>
            <a:ext cx="131364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5400" spc="-1" strike="noStrike">
                <a:solidFill>
                  <a:srgbClr val="000000"/>
                </a:solidFill>
                <a:latin typeface="叶根友毛笔行书"/>
                <a:ea typeface="叶根友毛笔行书"/>
              </a:rPr>
              <a:t>模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副标题 2"/>
          <p:cNvSpPr/>
          <p:nvPr/>
        </p:nvSpPr>
        <p:spPr>
          <a:xfrm>
            <a:off x="839160" y="4052520"/>
            <a:ext cx="67968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rmAutofit/>
          </a:bodyPr>
          <a:p>
            <a:pPr algn="ctr">
              <a:lnSpc>
                <a:spcPct val="150000"/>
              </a:lnSpc>
              <a:spcBef>
                <a:spcPts val="360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Calibri"/>
              </a:rPr>
              <a:t>请在这里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2699640" y="1326600"/>
            <a:ext cx="626436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353160" y="279360"/>
            <a:ext cx="136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公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副标题 2"/>
          <p:cNvSpPr/>
          <p:nvPr/>
        </p:nvSpPr>
        <p:spPr>
          <a:xfrm>
            <a:off x="5868000" y="3141000"/>
            <a:ext cx="183204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rmAutofit/>
          </a:bodyPr>
          <a:p>
            <a:pPr algn="ctr">
              <a:lnSpc>
                <a:spcPct val="150000"/>
              </a:lnSpc>
              <a:spcBef>
                <a:spcPts val="360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Calibri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360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Calibri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360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Calibri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标题 1"/>
          <p:cNvSpPr/>
          <p:nvPr/>
        </p:nvSpPr>
        <p:spPr>
          <a:xfrm>
            <a:off x="4572000" y="2453040"/>
            <a:ext cx="1313640" cy="14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6600" spc="-1" strike="noStrike">
                <a:solidFill>
                  <a:srgbClr val="000000"/>
                </a:solidFill>
                <a:latin typeface="叶根友毛笔行书"/>
                <a:ea typeface="叶根友毛笔行书"/>
              </a:rPr>
              <a:t>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标题 1"/>
          <p:cNvSpPr/>
          <p:nvPr/>
        </p:nvSpPr>
        <p:spPr>
          <a:xfrm>
            <a:off x="3492000" y="1340640"/>
            <a:ext cx="1313640" cy="14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9600" spc="-1" strike="noStrike">
                <a:solidFill>
                  <a:srgbClr val="000000"/>
                </a:solidFill>
                <a:latin typeface="叶根友毛笔行书"/>
                <a:ea typeface="叶根友毛笔行书"/>
              </a:rPr>
              <a:t>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7524360" y="279360"/>
            <a:ext cx="136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公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叶根友毛笔行书"/>
                <a:ea typeface="叶根友毛笔行书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buClr>
                <a:srgbClr val="ededed"/>
              </a:buClr>
              <a:buFont typeface="Arial"/>
              <a:buChar char="•"/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ededed"/>
              </a:buClr>
              <a:buFont typeface="Arial"/>
              <a:buChar char="•"/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ededed"/>
              </a:buClr>
              <a:buFont typeface="Arial"/>
              <a:buChar char="•"/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ededed"/>
              </a:buClr>
              <a:buFont typeface="Arial"/>
              <a:buChar char="•"/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10"/>
              </a:spcBef>
              <a:buClr>
                <a:srgbClr val="ededed"/>
              </a:buClr>
              <a:buFont typeface="Arial"/>
              <a:buChar char="•"/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1"/>
              </a:spcBef>
              <a:buClr>
                <a:srgbClr val="ededed"/>
              </a:buClr>
              <a:buFont typeface="Arial"/>
              <a:buChar char="•"/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1"/>
              </a:spcBef>
              <a:buClr>
                <a:srgbClr val="ededed"/>
              </a:buClr>
              <a:buFont typeface="Arial"/>
              <a:buChar char="•"/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1"/>
              </a:spcBef>
              <a:buClr>
                <a:srgbClr val="ededed"/>
              </a:buClr>
              <a:buFont typeface="Arial"/>
              <a:buChar char="•"/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1"/>
              </a:spcBef>
              <a:buClr>
                <a:srgbClr val="ededed"/>
              </a:buClr>
              <a:buFont typeface="Arial"/>
              <a:buChar char="•"/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1"/>
              </a:spcBef>
              <a:buClr>
                <a:srgbClr val="ededed"/>
              </a:buClr>
              <a:buFont typeface="Arial"/>
              <a:buChar char="•"/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1"/>
              </a:spcBef>
              <a:buClr>
                <a:srgbClr val="ededed"/>
              </a:buClr>
              <a:buFont typeface="Arial"/>
              <a:buChar char="•"/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1"/>
              </a:spcBef>
              <a:buClr>
                <a:srgbClr val="ededed"/>
              </a:buClr>
              <a:buFont typeface="Arial"/>
              <a:buChar char="•"/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1"/>
              </a:spcBef>
              <a:buClr>
                <a:srgbClr val="ededed"/>
              </a:buClr>
              <a:buFont typeface="Arial"/>
              <a:buChar char="•"/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1"/>
              </a:spcBef>
              <a:buClr>
                <a:srgbClr val="ededed"/>
              </a:buClr>
              <a:buFont typeface="Arial"/>
              <a:buChar char="•"/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1"/>
              </a:spcBef>
              <a:buClr>
                <a:srgbClr val="ededed"/>
              </a:buClr>
              <a:buFont typeface="Arial"/>
              <a:buChar char="•"/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1"/>
              </a:spcBef>
              <a:buClr>
                <a:srgbClr val="ededed"/>
              </a:buClr>
              <a:buFont typeface="Arial"/>
              <a:buChar char="•"/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  <Words>232</Words>
  <Paragraphs>53</Paragraphs>
  <Company>Sky123.Or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5T08:42:01Z</dcterms:created>
  <dc:creator>chenzhilei</dc:creator>
  <dc:description/>
  <dc:language>en-US</dc:language>
  <cp:lastModifiedBy>yu wang</cp:lastModifiedBy>
  <dcterms:modified xsi:type="dcterms:W3CDTF">2015-08-03T12:19:36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4</vt:r8>
  </property>
</Properties>
</file>