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040-9ACD-42A5-99EF-7707A972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98C-C44F-490C-9947-0353302F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2AD-F382-416E-983D-47A09B3C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C65-60CF-41D3-9116-A081082A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C7C2-7142-4CB1-80D5-33F8EAB3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7D8-07ED-4573-9331-423816C9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BE3B-F619-4078-A6DA-CC67A57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FF2B-7C62-4E01-B7E0-6DA4181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B89-9476-4CFB-8802-7547DB56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EA1-B877-40A4-90F9-13B85EB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5E2-5591-46CE-B8E0-B08E186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6E3-32B6-4ABE-8C67-34AD499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73C-1A70-4D46-A623-6EE750A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BADC-B396-4CEF-8FF1-1C39D1E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587-50C3-4846-B802-CB44606A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6D86-3287-446F-9951-B8DF2CBD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921-F93C-4FC4-992B-4CD77B2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0A88-31AC-49E0-BB7C-5E4B35A5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BEBE-5527-46E4-A425-021576F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2C6A-060C-4123-93C5-2165D54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7190-420A-4A7E-9C3E-6FE5412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5955-2D08-479E-8AF7-C2DC604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6E7-3AA1-4F20-BB4E-BB4F5F58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CE12-D0D7-4F33-B36F-26FD1BB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E69D-EADD-40EE-A25A-67B8201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8817-F956-4CC3-A4A2-CB1E156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B2C0-33E3-4AF3-9768-3FC229C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3132-9E10-46FC-971F-EBD7728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2770-90A1-44FD-8B76-9508FE98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10EC-5B61-4E76-8631-6E4F4A48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B33F-C436-48BC-A06A-2FC67C4E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42FB-BEE2-4106-A272-4092139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67CA-AC49-474B-8E48-83B73ED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01A-440A-41F7-A2D0-0BF78ED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BAC9-35E1-4228-A22C-B7D16FB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B5D7-D721-412D-B107-B2AE886B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3934-1CDA-4B6F-8D09-7E14F1E2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A869-1ADA-44F5-91EE-7D03605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AAED-F78E-4DF7-9EA4-9F1CC7A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8941-D81A-4CF0-938E-7504A6C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228D-1330-4EE7-A7BF-1768C4F1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25FD-FF76-42FD-89FB-588D9A28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E999-3E6C-4095-AF4C-FCEC75C4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7337-C060-42A5-B5A5-F847B884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EEA-EDC2-46A9-8169-9CE4A80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F4DEC-2950-4829-9C98-F5EEFFF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FE1F-CD8A-4B0B-A09F-420340A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817CD-B504-4CC9-A7E5-16FE4222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0520D-91F5-42BF-B534-E2F6567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5A6C-B99F-4069-8498-36843AD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DAA5B-B0C2-4BF3-BA7A-177AAFD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69EC-47CD-46BB-8C7D-E09C7105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10EE-8989-4E35-BBE8-66E2ABF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BEEE-BE65-44E8-99E1-FA31E80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7B8F-3ECD-4B50-8910-6B178A9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056-08A5-49B2-BC79-991AA894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D8CD9-4E3E-431E-8F8C-66013060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2FAB-EA54-455B-8B06-9406C436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BFFD-66C0-40C2-8162-D8068C8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C3A5-8FBB-45E9-ACA2-A611121D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072D-E08D-4533-8069-A24F72B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C673-E8FD-4589-8961-9ABCC834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E9E9-5A5F-4265-B68F-D17D36A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79FA-8E7D-4934-AAAD-8A68030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753CD-FB9F-4CFB-98B8-379920B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6443-1837-47D6-8564-F2D9719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CA7-1720-40C0-9BCD-7F22209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8088-3323-4255-9BAE-7D4B26E1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65AD-D351-443A-8F95-4311D78A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8B54-42C0-48AC-BDCE-7505E5A7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264-DAE5-4188-8B8F-9ECEFA5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D36-5D68-4882-A850-6677370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293-2395-4776-AB7F-75589BCD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456-0BB0-463E-A355-098A44F1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4840-95A3-469B-AECB-9722C576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DAB-897A-4C5C-9A10-9418A3EE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1F1-83E6-4265-A8B8-2141547C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947-40B9-46A5-A55E-153264863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2217240" y="1341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水墨人物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moban1-2副本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>ppt宝藏</dc:creator>
  <dc:description/>
  <dc:language>en-US</dc:language>
  <cp:lastModifiedBy>yu wang</cp:lastModifiedBy>
  <dcterms:modified xsi:type="dcterms:W3CDTF">2015-08-03T12:19:40Z</dcterms:modified>
  <cp:revision>1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2000000000001024140</vt:lpwstr>
  </property>
</Properties>
</file>