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F3C864-2BF0-40E8-8CF4-D64E9185E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736393-A070-43FA-B8D6-FFD99F5B38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格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设计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配色方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编辑配色方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添加修改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直接选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括标题和文本格式的设置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--&gt;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幻灯片母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E3B8C3-403B-4F2D-B1EB-397E849436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99D71A-CCE4-4EC5-BA17-9C79FE6C80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A692EB-2AD5-4AD0-91F5-6CD23369F61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9320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75280" y="17748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112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9320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75280" y="4138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4138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7748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1120" y="4138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.jpe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8251920" y="636264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18"/>
          <a:stretch/>
        </p:blipFill>
        <p:spPr>
          <a:xfrm>
            <a:off x="8172360" y="6031080"/>
            <a:ext cx="808200" cy="80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914400" y="990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1981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5877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11120" y="17748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195640" y="2421000"/>
            <a:ext cx="6476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63640" y="1268280"/>
            <a:ext cx="4800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8172360" y="6027840"/>
            <a:ext cx="83844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8172360" y="6060960"/>
            <a:ext cx="777960" cy="7779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16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203400"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3400"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3040"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68360" y="1628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古典中国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5535000" y="32180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公司署名或副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1774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7621560" y="5759280"/>
            <a:ext cx="83808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08:58Z</dcterms:created>
  <dc:creator>无锡阿达游软件有限公司</dc:creator>
  <dc:description/>
  <dc:language>en-US</dc:language>
  <cp:lastModifiedBy>yu wang</cp:lastModifiedBy>
  <dcterms:modified xsi:type="dcterms:W3CDTF">2015-08-03T12:19:28Z</dcterms:modified>
  <cp:revision>14</cp:revision>
  <dc:subject/>
  <dc:title>清明上河图</dc:title>
</cp:coreProperties>
</file>