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5A7-923F-4646-8115-EA08A816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74C-2092-4F25-BA85-8CA16535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319-006E-42E8-A30D-C7C0D852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ABB-C7DC-4013-9B9E-7349CD01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874-D443-4ED9-84B7-B67BC70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D6F-7236-40F9-93D4-9C91930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4D2-6729-48D3-AA27-B9C4511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C03-7ED7-4448-AB26-A59E0A3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E21-73B2-4CFD-8685-2AD09F8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EC7-FA8E-4676-B8C2-A41BB8E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568-B25E-4D2C-B9FF-E99F6CE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85E-090D-4E74-A84E-E10803D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B53-9222-4764-B24B-120DA94845D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C:\Documents and Settings\Administrator\桌面\ppt宝藏_www.pptbz.com_古典扇子\ppt宝藏_www.pptbz.com_古典扇子\ppt宝藏_www.pptbz.com_古典扇子_3.jpg"/>
          <p:cNvPicPr/>
          <p:nvPr/>
        </p:nvPicPr>
        <p:blipFill>
          <a:blip r:embed="rId14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762240" y="1197000"/>
            <a:ext cx="1826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折扇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古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国风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幻灯片模板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403280" y="6032520"/>
            <a:ext cx="66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00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9966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996600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996600"/>
                </a:solidFill>
                <a:latin typeface="微软雅黑"/>
                <a:ea typeface="微软雅黑"/>
              </a:rPr>
              <a:t>WWW.1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istrator\桌面\ppt宝藏_www.pptbz.com_古典扇子\ppt宝藏_www.pptbz.com_古典扇子\ppt宝藏_www.pptbz.com_古典扇子_1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455760" y="2597040"/>
            <a:ext cx="546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169236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97504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istrator\桌面\ppt宝藏_www.pptbz.com_古典扇子\ppt宝藏_www.pptbz.com_古典扇子\ppt宝藏_www.pptbz.com_古典扇子_4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istrator\桌面\ppt宝藏_www.pptbz.com_古典扇子\ppt宝藏_www.pptbz.com_古典扇子\ppt宝藏_www.pptbz.com_古典扇子_5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507960" y="257400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173196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01788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istrator\桌面\ppt宝藏_www.pptbz.com_古典扇子\ppt宝藏_www.pptbz.com_古典扇子\ppt宝藏_www.pptbz.com_古典扇子_7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9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istrator\桌面\ppt宝藏_www.pptbz.com_古典扇子\ppt宝藏_www.pptbz.com_古典扇子\ppt宝藏_www.pptbz.com_古典扇子_6.jpg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580572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331920" y="27525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155556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84148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istrator\桌面\ppt宝藏_www.pptbz.com_古典扇子\ppt宝藏_www.pptbz.com_古典扇子\ppt宝藏_www.pptbz.com_古典扇子_8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67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Administrator\桌面\ppt宝藏_www.pptbz.com_古典扇子\ppt宝藏_www.pptbz.com_古典扇子\ppt宝藏_www.pptbz.com_古典扇子_9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71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istrator\桌面\ppt宝藏_www.pptbz.com_古典扇子\ppt宝藏_www.pptbz.com_古典扇子\ppt宝藏_www.pptbz.com_古典扇子_2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7864920" y="12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谢谢观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19:37Z</dcterms:modified>
  <cp:revision>7</cp:revision>
  <dc:subject/>
  <dc:title>PowerPoint 演示文稿</dc:title>
</cp:coreProperties>
</file>