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685440"/>
            <a:ext cx="50515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D3D7-D28D-4451-8E95-D9B0374CBC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3240" y="685800"/>
            <a:ext cx="505152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73D-CA7E-4C43-B173-04634E6631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E20-889A-4129-B295-CF6D39B5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395352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196-77B7-43EE-B821-1A7D1B5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F43-1EBB-4599-898D-C069552D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D1E-8C89-4D41-80BF-CCC45674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D6A-CD36-4184-996E-FB5A3C0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3C2-8C6C-4936-8E59-C0723E97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714-5E32-4B02-AFFA-CCF284F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A48-D8AF-40A1-8ACF-BBBCB7DC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274680"/>
            <a:ext cx="90727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4B0-9951-41D4-B2F8-5A2479C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0CD-9B50-49DB-8A3F-BF492D3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CFD-242A-48CB-82B4-452C03E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010-880B-496D-906D-C45134F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229440"/>
            <a:ext cx="2351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229440"/>
            <a:ext cx="3191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229440"/>
            <a:ext cx="2352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EA5-28F2-432C-9F12-7C0100F0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rcRect l="0" t="0" r="42" b="-16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1230480" y="2583000"/>
            <a:ext cx="4572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8" descr=""/>
          <p:cNvPicPr/>
          <p:nvPr/>
        </p:nvPicPr>
        <p:blipFill>
          <a:blip r:embed="rId2"/>
          <a:stretch/>
        </p:blipFill>
        <p:spPr>
          <a:xfrm>
            <a:off x="969840" y="1494000"/>
            <a:ext cx="4924440" cy="510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-3840120" y="167940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5294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5294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未标题-1fgh"/>
          <p:cNvPicPr/>
          <p:nvPr/>
        </p:nvPicPr>
        <p:blipFill>
          <a:blip r:embed="rId2"/>
          <a:stretch/>
        </p:blipFill>
        <p:spPr>
          <a:xfrm>
            <a:off x="-162000" y="1819440"/>
            <a:ext cx="1040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未标题-1gh"/>
          <p:cNvPicPr/>
          <p:nvPr/>
        </p:nvPicPr>
        <p:blipFill>
          <a:blip r:embed="rId2"/>
          <a:stretch/>
        </p:blipFill>
        <p:spPr>
          <a:xfrm>
            <a:off x="33480" y="1847880"/>
            <a:ext cx="10015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未标题-1ty"/>
          <p:cNvPicPr/>
          <p:nvPr/>
        </p:nvPicPr>
        <p:blipFill>
          <a:blip r:embed="rId1"/>
          <a:srcRect l="0" t="0" r="0" b="-12"/>
          <a:stretch/>
        </p:blipFill>
        <p:spPr>
          <a:xfrm>
            <a:off x="0" y="677880"/>
            <a:ext cx="100807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未标题-1xs"/>
          <p:cNvPicPr/>
          <p:nvPr/>
        </p:nvPicPr>
        <p:blipFill>
          <a:blip r:embed="rId1"/>
          <a:srcRect l="0" t="0" r="0" b="-16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未标题-109"/>
          <p:cNvPicPr/>
          <p:nvPr/>
        </p:nvPicPr>
        <p:blipFill>
          <a:blip r:embed="rId1"/>
          <a:srcRect l="0" t="0" r="7" b="0"/>
          <a:stretch/>
        </p:blipFill>
        <p:spPr>
          <a:xfrm>
            <a:off x="0" y="1116000"/>
            <a:ext cx="10080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未标题x-1"/>
          <p:cNvPicPr/>
          <p:nvPr/>
        </p:nvPicPr>
        <p:blipFill>
          <a:blip r:embed="rId1"/>
          <a:srcRect l="0" t="0" r="0" b="12"/>
          <a:stretch/>
        </p:blipFill>
        <p:spPr>
          <a:xfrm>
            <a:off x="0" y="638280"/>
            <a:ext cx="1008072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7360" y="740880"/>
            <a:ext cx="678492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48920" y="1635120"/>
            <a:ext cx="73818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4960" y="860400"/>
            <a:ext cx="11476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on</dc:creator>
  <dc:description/>
  <dc:language>en-US</dc:language>
  <cp:lastModifiedBy>yu wang</cp:lastModifiedBy>
  <dcterms:modified xsi:type="dcterms:W3CDTF">2015-08-03T12:20:1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