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EDC6-68B1-4D32-AC2E-793E8A19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5DF0-A039-4109-87BB-A860662C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92F-5943-42A0-BEB2-AE63C640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7E2-12A4-41D8-8CF2-21421A7F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7638-0B72-4C55-930E-D69B3A2D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8B59-E582-4C84-B5FE-F6546E26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2C6F-C6B7-4E3C-A179-9B11B521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C91C-BEF6-4019-948F-5F67034E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7E7E-23B6-4D71-A81F-DD30AFA1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138A-CF97-46B8-9F76-DA0D0F68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386A-7F3E-4EA2-8BC4-83CA13E5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EB5-A59C-4DF5-87F1-0A4497F3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CEC0-313D-4D4E-85BE-71D62A3D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A0C9-E743-40DC-AE81-44ADC2C2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C892-FD5F-4001-AA38-8EB7AA3E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418D-C7BD-47A9-86B2-1D4DD036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10EE-AE56-46EC-BECE-966B72F9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B49-4726-4453-9783-1E2CD732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3346-74B9-4D74-8F1A-203E1317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B64E-2FF8-42BC-81CD-21562CB8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79D2-0D1E-4AAE-B24E-CD8A12C8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969-3CB5-4BBF-BD37-04128F3A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150-E965-49C5-AE7B-CA15BDF9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9E7-1AFA-4B31-9B31-C7F5C51F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B1AC-F02C-4BC2-B029-2EB089D42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2454-5B5E-461A-B39E-A99F3F7AE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2425320" y="177336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古器红色中国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1566360"/>
            <a:ext cx="822960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ppt宝藏</dc:creator>
  <dc:description/>
  <dc:language>en-US</dc:language>
  <cp:lastModifiedBy>yu wang</cp:lastModifiedBy>
  <dcterms:modified xsi:type="dcterms:W3CDTF">2015-08-03T12:19:45Z</dcterms:modified>
  <cp:revision>47</cp:revision>
  <dc:subject/>
  <dc:title>www.pptbz.com</dc:title>
</cp:coreProperties>
</file>