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137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" y="34160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4160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400" y="34160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33240" y="119700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" y="34160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800" y="34160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33240" y="34160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640" y="0"/>
            <a:ext cx="822960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360" y="34160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400" y="34160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4160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920" y="3985920"/>
            <a:ext cx="8858160" cy="13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2268"/>
                </a:solidFill>
                <a:latin typeface="汉仪粗篆繁"/>
                <a:ea typeface="汉仪粗篆繁"/>
              </a:rPr>
              <a:t>古色古香江南小镇中国风</a:t>
            </a:r>
            <a:r>
              <a:rPr b="0" lang="en-US" sz="4000" spc="-1" strike="noStrike">
                <a:solidFill>
                  <a:srgbClr val="222268"/>
                </a:solidFill>
                <a:latin typeface="汉仪粗篆繁"/>
                <a:ea typeface="汉仪粗篆繁"/>
              </a:rPr>
              <a:t>PPT</a:t>
            </a:r>
            <a:r>
              <a:rPr b="0" lang="zh-CN" sz="4000" spc="-1" strike="noStrike">
                <a:solidFill>
                  <a:srgbClr val="222268"/>
                </a:solidFill>
                <a:latin typeface="汉仪粗篆繁"/>
                <a:ea typeface="汉仪粗篆繁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12"/>
          <p:cNvSpPr/>
          <p:nvPr/>
        </p:nvSpPr>
        <p:spPr>
          <a:xfrm>
            <a:off x="314280" y="55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94000" y="639360"/>
            <a:ext cx="615600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24000" y="14493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608880" y="747720"/>
            <a:ext cx="1041120" cy="262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8:20:21Z</dcterms:created>
  <dc:creator>微软用户</dc:creator>
  <dc:description/>
  <dc:language>en-US</dc:language>
  <cp:lastModifiedBy>yu wang</cp:lastModifiedBy>
  <dcterms:modified xsi:type="dcterms:W3CDTF">2015-08-03T12:19:48Z</dcterms:modified>
  <cp:revision>5</cp:revision>
  <dc:subject/>
  <dc:title>站长素材(sc.chinaz.com) </dc:title>
</cp:coreProperties>
</file>