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20BB-BE52-4459-85F6-CD3EC622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F6A-3C07-477E-AABB-BE1A44A9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5BA-9B56-4412-BF80-3C39CBCF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55F-183A-48C1-B944-EF85AFD8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A69A-3460-4663-92D2-504AF008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3AD-67F0-4039-9677-2A5350FF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6427-8DD6-49EC-A50C-51E8105F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141-151F-4209-8265-7EC1D1FF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FF6-2579-44C8-82DC-87174946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A8E-ABBC-4FC6-ACC0-ED33967E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C4D-2ED4-41CE-AD7D-CA8A79B9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8CA-8005-4813-9194-8FFC19CC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5BA8-9D03-4AEC-8064-C7A3BECF4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87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33"/>
                </a:solidFill>
                <a:latin typeface="Kozuka Gothic Pro H"/>
                <a:ea typeface="Kozuka Gothic Pro H"/>
              </a:rPr>
              <a:t>古色古香中国风</a:t>
            </a:r>
            <a:r>
              <a:rPr b="0" lang="en-US" sz="4000" spc="-1" strike="noStrike">
                <a:solidFill>
                  <a:srgbClr val="660033"/>
                </a:solidFill>
                <a:latin typeface="Kozuka Gothic Pro H"/>
                <a:ea typeface="Kozuka Gothic Pro H"/>
              </a:rPr>
              <a:t>PPT</a:t>
            </a:r>
            <a:r>
              <a:rPr b="0" lang="zh-CN" sz="4000" spc="-1" strike="noStrike">
                <a:solidFill>
                  <a:srgbClr val="660033"/>
                </a:solidFill>
                <a:latin typeface="Kozuka Gothic Pro H"/>
                <a:ea typeface="Kozuka Gothic Pro H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7456271944bfda7a34fa41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03T12:19:4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