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move the slide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EFB-0DAA-4B50-8B63-E8239CBA2ABD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562-9A74-47FF-8D97-3CA493726BB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A58-99FF-4702-A052-D188720C822F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49C-B9FE-432B-9483-3919D072E75B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463-E412-4E93-AFB8-E90745920C6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5E1-C3C6-48FD-8833-3230A6D80EAB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E49-B708-49E3-AF5C-9AC259FB025B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297-A4A3-4642-B15D-652C0BE38F4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10A-52B5-4F3B-863D-444EDAE2785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32A-7C51-4074-B4FA-4DF327546CF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256-C1B0-4239-8EC9-E55F08A2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C31-711B-472F-888B-3B4E5D5F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16E-1B4B-4A9F-9FD9-6063C2F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A22-E32D-4FE0-AC80-273534C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EFA-08B1-4A7A-846F-C4C767C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EB3-845D-4A98-B3D0-1193D75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684-299A-48F7-9420-370A86E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BC6-1890-4999-85B5-90B47DA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871-E943-4C01-A8EA-CE72716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1D4-9E74-4CF0-A63B-2F545CCE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050-2E09-482D-AF6F-D23892AC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DAE-DF04-47B2-9B95-C91A9B1A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Silverlight_logo.png"/>
          <p:cNvPicPr/>
          <p:nvPr/>
        </p:nvPicPr>
        <p:blipFill>
          <a:blip r:embed="rId3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Silverlight_logo.png"/>
          <p:cNvPicPr/>
          <p:nvPr/>
        </p:nvPicPr>
        <p:blipFill>
          <a:blip r:embed="rId3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Silverlight_logo.png"/>
          <p:cNvPicPr/>
          <p:nvPr/>
        </p:nvPicPr>
        <p:blipFill>
          <a:blip r:embed="rId3"/>
          <a:srcRect l="-3403" t="0" r="0" b="0"/>
          <a:stretch/>
        </p:blipFill>
        <p:spPr>
          <a:xfrm>
            <a:off x="6021360" y="5602320"/>
            <a:ext cx="2549520" cy="799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Silverlight_logo.png"/>
          <p:cNvPicPr/>
          <p:nvPr/>
        </p:nvPicPr>
        <p:blipFill>
          <a:blip r:embed="rId3"/>
          <a:srcRect l="-7391" t="0" r="0" b="0"/>
          <a:stretch/>
        </p:blipFill>
        <p:spPr>
          <a:xfrm>
            <a:off x="198360" y="231840"/>
            <a:ext cx="2648160" cy="7999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9D0-576D-4E2F-903E-4F4E4B074720}" type="slidenum">
              <a:rPr b="0" lang="zh-CN" sz="2400" spc="-1" strike="noStrike">
                <a:solidFill>
                  <a:srgbClr val="ffffff"/>
                </a:solidFill>
                <a:latin typeface="Sego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Silverlight_logo.png"/>
          <p:cNvPicPr/>
          <p:nvPr/>
        </p:nvPicPr>
        <p:blipFill>
          <a:blip r:embed="rId3"/>
          <a:stretch/>
        </p:blipFill>
        <p:spPr>
          <a:xfrm>
            <a:off x="380880" y="231840"/>
            <a:ext cx="2465640" cy="799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Silverlight_logo.png"/>
          <p:cNvPicPr/>
          <p:nvPr/>
        </p:nvPicPr>
        <p:blipFill>
          <a:blip r:embed="rId3"/>
          <a:stretch/>
        </p:blipFill>
        <p:spPr>
          <a:xfrm>
            <a:off x="380880" y="231840"/>
            <a:ext cx="2465640" cy="799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blueband.tif"/>
          <p:cNvPicPr/>
          <p:nvPr/>
        </p:nvPicPr>
        <p:blipFill>
          <a:blip r:embed="rId3"/>
          <a:stretch/>
        </p:blipFill>
        <p:spPr>
          <a:xfrm>
            <a:off x="0" y="5384880"/>
            <a:ext cx="9144000" cy="1473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MSnet_logo.png"/>
          <p:cNvPicPr/>
          <p:nvPr/>
        </p:nvPicPr>
        <p:blipFill>
          <a:blip r:embed="rId4"/>
          <a:stretch/>
        </p:blipFill>
        <p:spPr>
          <a:xfrm>
            <a:off x="8016840" y="6067440"/>
            <a:ext cx="79236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ASPnet_logo.png"/>
          <p:cNvPicPr/>
          <p:nvPr/>
        </p:nvPicPr>
        <p:blipFill>
          <a:blip r:embed="rId4"/>
          <a:stretch/>
        </p:blipFill>
        <p:spPr>
          <a:xfrm>
            <a:off x="7610400" y="6068880"/>
            <a:ext cx="1152720" cy="400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visualstudio_logo.png"/>
          <p:cNvPicPr/>
          <p:nvPr/>
        </p:nvPicPr>
        <p:blipFill>
          <a:blip r:embed="rId4"/>
          <a:stretch/>
        </p:blipFill>
        <p:spPr>
          <a:xfrm>
            <a:off x="6935760" y="6122880"/>
            <a:ext cx="1827360" cy="277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blueband.tif"/>
          <p:cNvPicPr/>
          <p:nvPr/>
        </p:nvPicPr>
        <p:blipFill>
          <a:blip r:embed="rId3"/>
          <a:stretch/>
        </p:blipFill>
        <p:spPr>
          <a:xfrm>
            <a:off x="0" y="6016680"/>
            <a:ext cx="8128080" cy="476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Silverlight_logo.png"/>
          <p:cNvPicPr/>
          <p:nvPr/>
        </p:nvPicPr>
        <p:blipFill>
          <a:blip r:embed="rId4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hyperlink" Target="http://www.microsoft.com/silverlight" TargetMode="External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3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itle 1"/>
          <p:cNvSpPr/>
          <p:nvPr/>
        </p:nvSpPr>
        <p:spPr>
          <a:xfrm>
            <a:off x="380880" y="3542400"/>
            <a:ext cx="83422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125ca7"/>
                </a:solidFill>
                <a:latin typeface="Segoe Light"/>
                <a:ea typeface="宋体"/>
              </a:rPr>
              <a:t>国外微软企业</a:t>
            </a:r>
            <a:r>
              <a:rPr b="0" lang="en-US" sz="4000" spc="-1" strike="noStrike">
                <a:solidFill>
                  <a:srgbClr val="125ca7"/>
                </a:solidFill>
                <a:latin typeface="Segoe Light"/>
                <a:ea typeface="宋体"/>
              </a:rPr>
              <a:t>PPT</a:t>
            </a:r>
            <a:r>
              <a:rPr b="0" lang="zh-CN" sz="4000" spc="-1" strike="noStrike">
                <a:solidFill>
                  <a:srgbClr val="125ca7"/>
                </a:solidFill>
                <a:latin typeface="Segoe Light"/>
                <a:ea typeface="宋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Subtitle 2"/>
          <p:cNvSpPr/>
          <p:nvPr/>
        </p:nvSpPr>
        <p:spPr>
          <a:xfrm>
            <a:off x="1033560" y="4175280"/>
            <a:ext cx="76896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2300" spc="-1" strike="noStrike">
                <a:solidFill>
                  <a:srgbClr val="817c77"/>
                </a:solidFill>
                <a:latin typeface="Segoe"/>
              </a:rPr>
              <a:t>An Intro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80560" y="4022280"/>
            <a:ext cx="76899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2300" spc="-1" strike="noStrike">
              <a:solidFill>
                <a:srgbClr val="817c77"/>
              </a:solidFill>
              <a:latin typeface="Segoe"/>
              <a:ea typeface="宋体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94000" y="998640"/>
            <a:ext cx="6156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700" spc="-1" strike="noStrike">
                <a:solidFill>
                  <a:srgbClr val="125ca7"/>
                </a:solidFill>
                <a:latin typeface="Segoe Light"/>
              </a:rPr>
              <a:t>使用规范说明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24000" y="1809360"/>
            <a:ext cx="669600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Segoe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Segoe"/>
              </a:rPr>
              <a:t> </a:t>
            </a:r>
            <a:r>
              <a:rPr b="0" lang="zh-CN" sz="1000" spc="-1" strike="noStrike" u="sng">
                <a:solidFill>
                  <a:srgbClr val="54b0e2"/>
                </a:solidFill>
                <a:uFillTx/>
                <a:latin typeface="Segoe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54b0e2"/>
                </a:solidFill>
                <a:uFillTx/>
                <a:latin typeface="Segoe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Segoe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54b0e2"/>
                </a:solidFill>
                <a:uFillTx/>
                <a:latin typeface="Segoe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Segoe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IE Icon" descr="I:\Illustrations-Icons\Windows_Vista_Icons_ for_Marketing_use\IE7.png"/>
          <p:cNvPicPr/>
          <p:nvPr/>
        </p:nvPicPr>
        <p:blipFill>
          <a:blip r:embed="rId1"/>
          <a:stretch/>
        </p:blipFill>
        <p:spPr>
          <a:xfrm>
            <a:off x="1792440" y="800280"/>
            <a:ext cx="529920" cy="529920"/>
          </a:xfrm>
          <a:prstGeom prst="rect">
            <a:avLst/>
          </a:prstGeom>
          <a:ln w="0">
            <a:noFill/>
          </a:ln>
        </p:spPr>
      </p:pic>
      <p:pic>
        <p:nvPicPr>
          <p:cNvPr id="604" name="Opera Icon" descr="I:\LOGOS\GEN_LOGO\O\Opera_logo4_t.png"/>
          <p:cNvPicPr/>
          <p:nvPr/>
        </p:nvPicPr>
        <p:blipFill>
          <a:blip r:embed="rId2"/>
          <a:srcRect l="0" t="0" r="56728" b="2808"/>
          <a:stretch/>
        </p:blipFill>
        <p:spPr>
          <a:xfrm>
            <a:off x="1752480" y="3200400"/>
            <a:ext cx="446040" cy="38088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000000"/>
            </a:outerShdw>
          </a:effectLst>
        </p:spPr>
      </p:pic>
      <p:pic>
        <p:nvPicPr>
          <p:cNvPr id="605" name="Firefox Icon" descr="I:\LOGOS\GEN_LOGO\F\firefox logo white text.png"/>
          <p:cNvPicPr/>
          <p:nvPr/>
        </p:nvPicPr>
        <p:blipFill>
          <a:blip r:embed="rId3"/>
          <a:srcRect l="0" t="0" r="57791" b="2432"/>
          <a:stretch/>
        </p:blipFill>
        <p:spPr>
          <a:xfrm>
            <a:off x="1841400" y="1676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606" name="Safari Icon" descr="I:\SHOW_ART\Executive_Show_Art\06_EXECUTIVE_SHOW_ART\Rudder - 110706 TechEd EMEA\PNGs\Logos\Safari-RSS-BLK.png"/>
          <p:cNvPicPr/>
          <p:nvPr/>
        </p:nvPicPr>
        <p:blipFill>
          <a:blip r:embed="rId4"/>
          <a:srcRect l="0" t="0" r="59271" b="-2575"/>
          <a:stretch/>
        </p:blipFill>
        <p:spPr>
          <a:xfrm>
            <a:off x="1827360" y="2438280"/>
            <a:ext cx="460080" cy="455760"/>
          </a:xfrm>
          <a:prstGeom prst="rect">
            <a:avLst/>
          </a:prstGeom>
          <a:ln w="0">
            <a:noFill/>
          </a:ln>
        </p:spPr>
      </p:pic>
      <p:pic>
        <p:nvPicPr>
          <p:cNvPr id="607" name="Vista Icon" descr=""/>
          <p:cNvPicPr/>
          <p:nvPr/>
        </p:nvPicPr>
        <p:blipFill>
          <a:blip r:embed="rId5"/>
          <a:stretch/>
        </p:blipFill>
        <p:spPr>
          <a:xfrm>
            <a:off x="6362640" y="1330200"/>
            <a:ext cx="530280" cy="528840"/>
          </a:xfrm>
          <a:prstGeom prst="rect">
            <a:avLst/>
          </a:prstGeom>
          <a:ln w="0">
            <a:noFill/>
          </a:ln>
        </p:spPr>
      </p:pic>
      <p:grpSp>
        <p:nvGrpSpPr>
          <p:cNvPr id="608" name="Apple Icon"/>
          <p:cNvGrpSpPr/>
          <p:nvPr/>
        </p:nvGrpSpPr>
        <p:grpSpPr>
          <a:xfrm>
            <a:off x="6362640" y="2320920"/>
            <a:ext cx="442800" cy="493560"/>
            <a:chOff x="6362640" y="2320920"/>
            <a:chExt cx="442800" cy="493560"/>
          </a:xfrm>
        </p:grpSpPr>
        <p:sp>
          <p:nvSpPr>
            <p:cNvPr id="609" name="Background Fix"/>
            <p:cNvSpPr/>
            <p:nvPr/>
          </p:nvSpPr>
          <p:spPr>
            <a:xfrm>
              <a:off x="6362640" y="2320920"/>
              <a:ext cx="442800" cy="493560"/>
            </a:xfrm>
            <a:custGeom>
              <a:avLst/>
              <a:gdLst>
                <a:gd name="textAreaLeft" fmla="*/ 32760 w 442800"/>
                <a:gd name="textAreaRight" fmla="*/ 410040 w 442800"/>
                <a:gd name="textAreaTop" fmla="*/ 32760 h 493560"/>
                <a:gd name="textAreaBottom" fmla="*/ 460800 h 493560"/>
              </a:gdLst>
              <a:ahLst/>
              <a:rect l="textAreaLeft" t="textAreaTop" r="textAreaRight" b="textAreaBottom"/>
              <a:pathLst>
                <a:path w="21600" h="24074">
                  <a:moveTo>
                    <a:pt x="5472" y="0"/>
                  </a:moveTo>
                  <a:arcTo wR="5472" hR="5472" stAng="16200000" swAng="-5400000"/>
                  <a:lnTo>
                    <a:pt x="0" y="18602"/>
                  </a:lnTo>
                  <a:arcTo wR="5472" hR="5472" stAng="10800000" swAng="-5400000"/>
                  <a:lnTo>
                    <a:pt x="16128" y="24074"/>
                  </a:lnTo>
                  <a:arcTo wR="5472" hR="5472" stAng="5400000" swAng="-5400000"/>
                  <a:lnTo>
                    <a:pt x="21600" y="5472"/>
                  </a:lnTo>
                  <a:arcTo wR="5472" hR="547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0" name="Icon" descr="http://www.globalpov.com/images/apple.jpg"/>
            <p:cNvPicPr/>
            <p:nvPr/>
          </p:nvPicPr>
          <p:blipFill>
            <a:blip r:embed="rId6"/>
            <a:stretch/>
          </p:blipFill>
          <p:spPr>
            <a:xfrm>
              <a:off x="6400440" y="2347920"/>
              <a:ext cx="34488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Picture 2" descr=""/>
          <p:cNvPicPr/>
          <p:nvPr/>
        </p:nvPicPr>
        <p:blipFill>
          <a:blip r:embed="rId7"/>
          <a:stretch/>
        </p:blipFill>
        <p:spPr>
          <a:xfrm>
            <a:off x="1892160" y="3962520"/>
            <a:ext cx="330480" cy="311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8"/>
          <a:stretch/>
        </p:blipFill>
        <p:spPr>
          <a:xfrm>
            <a:off x="6288120" y="3311640"/>
            <a:ext cx="517320" cy="600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Microsoft Silverligh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54440" y="1752480"/>
            <a:ext cx="1635120" cy="181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8"/>
          <p:cNvSpPr/>
          <p:nvPr/>
        </p:nvSpPr>
        <p:spPr>
          <a:xfrm>
            <a:off x="1632600" y="4735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5ca7"/>
                </a:solidFill>
                <a:latin typeface="Segoe"/>
                <a:ea typeface="宋体"/>
              </a:rPr>
              <a:t>Silverlight is a cross-browser, cross-platform plug-i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419040" y="522144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Segoe"/>
                <a:ea typeface="宋体"/>
              </a:rPr>
              <a:t>* </a:t>
            </a:r>
            <a:r>
              <a:rPr b="0" lang="en-US" sz="1200" spc="-1" strike="noStrike">
                <a:solidFill>
                  <a:srgbClr val="7f7f7f"/>
                </a:solidFill>
                <a:latin typeface="Segoe"/>
                <a:ea typeface="宋体"/>
              </a:rPr>
              <a:t>An auxiliary program that works with a software package to enhance its capability. For example, plug-ins used in Photoshop to add a filter for some special effect. Other examples of Plug-ins are Macromedia Flash, Digital Video Express(Divx) Player plug-in, Windows Media Player et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Why it’s time for Silver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286000" y="144000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2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Run on all popular browsers and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Consistent experience irrespective of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upports AJAX methodology for rich Interne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Includes compelling graphics, 2D vector &amp;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treams video/audio and scales video quality from mobile device to 720 HDTV video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mall download 4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7" descr="WinFX_WPF__18a"/>
          <p:cNvPicPr/>
          <p:nvPr/>
        </p:nvPicPr>
        <p:blipFill>
          <a:blip r:embed="rId7"/>
          <a:stretch/>
        </p:blipFill>
        <p:spPr>
          <a:xfrm>
            <a:off x="762120" y="762120"/>
            <a:ext cx="1074600" cy="10303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WinFX_WPF__18c"/>
          <p:cNvPicPr/>
          <p:nvPr/>
        </p:nvPicPr>
        <p:blipFill>
          <a:blip r:embed="rId8"/>
          <a:stretch/>
        </p:blipFill>
        <p:spPr>
          <a:xfrm>
            <a:off x="879480" y="1841400"/>
            <a:ext cx="95724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WinFX_WPF__18d"/>
          <p:cNvPicPr/>
          <p:nvPr/>
        </p:nvPicPr>
        <p:blipFill>
          <a:blip r:embed="rId9"/>
          <a:stretch/>
        </p:blipFill>
        <p:spPr>
          <a:xfrm>
            <a:off x="762120" y="4343400"/>
            <a:ext cx="1179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10"/>
          <p:cNvGrpSpPr/>
          <p:nvPr/>
        </p:nvGrpSpPr>
        <p:grpSpPr>
          <a:xfrm>
            <a:off x="609480" y="3054240"/>
            <a:ext cx="466920" cy="378000"/>
            <a:chOff x="609480" y="3054240"/>
            <a:chExt cx="466920" cy="378000"/>
          </a:xfrm>
        </p:grpSpPr>
        <p:pic>
          <p:nvPicPr>
            <p:cNvPr id="622" name="Picture 11" descr="WinFX__01a"/>
            <p:cNvPicPr/>
            <p:nvPr/>
          </p:nvPicPr>
          <p:blipFill>
            <a:blip r:embed="rId10">
              <a:alphaModFix amt="0"/>
            </a:blip>
            <a:stretch/>
          </p:blipFill>
          <p:spPr>
            <a:xfrm>
              <a:off x="609480" y="3236040"/>
              <a:ext cx="4669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2" descr="WinFX_WPF__18b"/>
            <p:cNvPicPr/>
            <p:nvPr/>
          </p:nvPicPr>
          <p:blipFill>
            <a:blip r:embed="rId11"/>
            <a:stretch/>
          </p:blipFill>
          <p:spPr>
            <a:xfrm>
              <a:off x="716760" y="3054240"/>
              <a:ext cx="24984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13"/>
          <p:cNvGrpSpPr/>
          <p:nvPr/>
        </p:nvGrpSpPr>
        <p:grpSpPr>
          <a:xfrm>
            <a:off x="762120" y="3206880"/>
            <a:ext cx="1179360" cy="907560"/>
            <a:chOff x="762120" y="3206880"/>
            <a:chExt cx="1179360" cy="907560"/>
          </a:xfrm>
        </p:grpSpPr>
        <p:pic>
          <p:nvPicPr>
            <p:cNvPr id="625" name="Picture 14" descr="WinFX__01a"/>
            <p:cNvPicPr/>
            <p:nvPr/>
          </p:nvPicPr>
          <p:blipFill>
            <a:blip r:embed="rId12">
              <a:alphaModFix amt="0"/>
            </a:blip>
            <a:stretch/>
          </p:blipFill>
          <p:spPr>
            <a:xfrm>
              <a:off x="762120" y="3643560"/>
              <a:ext cx="1179360" cy="47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15" descr="WinFX_WPF__18b"/>
            <p:cNvPicPr/>
            <p:nvPr/>
          </p:nvPicPr>
          <p:blipFill>
            <a:blip r:embed="rId13"/>
            <a:stretch/>
          </p:blipFill>
          <p:spPr>
            <a:xfrm>
              <a:off x="1033200" y="3206880"/>
              <a:ext cx="63072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7" name="Picture 16" descr="WinFX_WPF__18d"/>
          <p:cNvPicPr/>
          <p:nvPr/>
        </p:nvPicPr>
        <p:blipFill>
          <a:blip r:embed="rId14"/>
          <a:stretch/>
        </p:blipFill>
        <p:spPr>
          <a:xfrm>
            <a:off x="423720" y="4000680"/>
            <a:ext cx="45576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15 -7.51445E-007 L 4.16667E-006 -7.51445E-007 E">
                                      <p:cBhvr>
                                        <p:cTn id="9" dur="1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7 -7.51445E-007 L 4.16667E-006 -7.51445E-007 E">
                                      <p:cBhvr>
                                        <p:cTn id="21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27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33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39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Programming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Diagram 5" descr=""/>
          <p:cNvPicPr/>
          <p:nvPr/>
        </p:nvPicPr>
        <p:blipFill>
          <a:blip r:embed="rId1"/>
          <a:stretch/>
        </p:blipFill>
        <p:spPr>
          <a:xfrm>
            <a:off x="2066760" y="1395360"/>
            <a:ext cx="5010480" cy="317664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6"/>
          <p:cNvSpPr/>
          <p:nvPr/>
        </p:nvSpPr>
        <p:spPr>
          <a:xfrm>
            <a:off x="1371600" y="5411880"/>
            <a:ext cx="54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XAML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- core of Silverlight for Rich User interfa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All other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- for programming log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"/>
          <p:cNvGrpSpPr/>
          <p:nvPr/>
        </p:nvGrpSpPr>
        <p:grpSpPr>
          <a:xfrm>
            <a:off x="484200" y="1063800"/>
            <a:ext cx="7802640" cy="1908000"/>
            <a:chOff x="484200" y="1063800"/>
            <a:chExt cx="7802640" cy="1908000"/>
          </a:xfrm>
        </p:grpSpPr>
        <p:grpSp>
          <p:nvGrpSpPr>
            <p:cNvPr id="632" name="Group 4"/>
            <p:cNvGrpSpPr/>
            <p:nvPr/>
          </p:nvGrpSpPr>
          <p:grpSpPr>
            <a:xfrm>
              <a:off x="484200" y="1063800"/>
              <a:ext cx="3200040" cy="1908000"/>
              <a:chOff x="484200" y="1063800"/>
              <a:chExt cx="3200040" cy="1908000"/>
            </a:xfrm>
          </p:grpSpPr>
          <p:grpSp>
            <p:nvGrpSpPr>
              <p:cNvPr id="633" name="Group 5"/>
              <p:cNvGrpSpPr/>
              <p:nvPr/>
            </p:nvGrpSpPr>
            <p:grpSpPr>
              <a:xfrm>
                <a:off x="484200" y="1310400"/>
                <a:ext cx="3200040" cy="1661400"/>
                <a:chOff x="484200" y="1310400"/>
                <a:chExt cx="3200040" cy="1661400"/>
              </a:xfrm>
            </p:grpSpPr>
            <p:pic>
              <p:nvPicPr>
                <p:cNvPr id="634" name="Picture 6" descr="screen"/>
                <p:cNvPicPr/>
                <p:nvPr/>
              </p:nvPicPr>
              <p:blipFill>
                <a:blip r:embed="rId1"/>
                <a:srcRect l="0" t="0" r="0" b="28325"/>
                <a:stretch/>
              </p:blipFill>
              <p:spPr>
                <a:xfrm>
                  <a:off x="484200" y="1310400"/>
                  <a:ext cx="2693880" cy="16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5" name="Rectangle 7"/>
                <p:cNvSpPr/>
                <p:nvPr/>
              </p:nvSpPr>
              <p:spPr>
                <a:xfrm>
                  <a:off x="527040" y="1650960"/>
                  <a:ext cx="31572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utton b1 = new Button(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Content = "OK"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Background = new SolidColorBrush(Colors.LightBlue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Width = 100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6" name="Picture 8" descr="C#"/>
              <p:cNvPicPr/>
              <p:nvPr/>
            </p:nvPicPr>
            <p:blipFill>
              <a:blip r:embed="rId2"/>
              <a:stretch/>
            </p:blipFill>
            <p:spPr>
              <a:xfrm>
                <a:off x="588240" y="1063800"/>
                <a:ext cx="639720" cy="42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7" name="Picture 9" descr="ok button"/>
            <p:cNvPicPr/>
            <p:nvPr/>
          </p:nvPicPr>
          <p:blipFill>
            <a:blip r:embed="rId3"/>
            <a:stretch/>
          </p:blipFill>
          <p:spPr>
            <a:xfrm>
              <a:off x="6123240" y="1447920"/>
              <a:ext cx="21636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Group 12"/>
          <p:cNvGrpSpPr/>
          <p:nvPr/>
        </p:nvGrpSpPr>
        <p:grpSpPr>
          <a:xfrm>
            <a:off x="484200" y="3886200"/>
            <a:ext cx="7802640" cy="1676160"/>
            <a:chOff x="484200" y="3886200"/>
            <a:chExt cx="7802640" cy="1676160"/>
          </a:xfrm>
        </p:grpSpPr>
        <p:grpSp>
          <p:nvGrpSpPr>
            <p:cNvPr id="639" name="Group 13"/>
            <p:cNvGrpSpPr/>
            <p:nvPr/>
          </p:nvGrpSpPr>
          <p:grpSpPr>
            <a:xfrm>
              <a:off x="484200" y="3886200"/>
              <a:ext cx="2638440" cy="1676160"/>
              <a:chOff x="484200" y="3886200"/>
              <a:chExt cx="2638440" cy="1676160"/>
            </a:xfrm>
          </p:grpSpPr>
          <p:grpSp>
            <p:nvGrpSpPr>
              <p:cNvPr id="640" name="Group 14"/>
              <p:cNvGrpSpPr/>
              <p:nvPr/>
            </p:nvGrpSpPr>
            <p:grpSpPr>
              <a:xfrm>
                <a:off x="484200" y="4146120"/>
                <a:ext cx="2638440" cy="1416240"/>
                <a:chOff x="484200" y="4146120"/>
                <a:chExt cx="2638440" cy="1416240"/>
              </a:xfrm>
            </p:grpSpPr>
            <p:pic>
              <p:nvPicPr>
                <p:cNvPr id="641" name="Picture 15" descr="screen"/>
                <p:cNvPicPr/>
                <p:nvPr/>
              </p:nvPicPr>
              <p:blipFill>
                <a:blip r:embed="rId4"/>
                <a:srcRect l="0" t="0" r="0" b="28325"/>
                <a:stretch/>
              </p:blipFill>
              <p:spPr>
                <a:xfrm>
                  <a:off x="484200" y="4146120"/>
                  <a:ext cx="2638440" cy="141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Rectangle 16"/>
                <p:cNvSpPr/>
                <p:nvPr/>
              </p:nvSpPr>
              <p:spPr>
                <a:xfrm>
                  <a:off x="657000" y="4475160"/>
                  <a:ext cx="225072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 Width="100"&gt; OK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LightB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3" name="Picture 15" descr="XAML"/>
              <p:cNvPicPr/>
              <p:nvPr/>
            </p:nvPicPr>
            <p:blipFill>
              <a:blip r:embed="rId5"/>
              <a:stretch/>
            </p:blipFill>
            <p:spPr>
              <a:xfrm>
                <a:off x="556920" y="3886200"/>
                <a:ext cx="137088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4" name="Picture 18" descr="ok button"/>
            <p:cNvPicPr/>
            <p:nvPr/>
          </p:nvPicPr>
          <p:blipFill>
            <a:blip r:embed="rId6"/>
            <a:stretch/>
          </p:blipFill>
          <p:spPr>
            <a:xfrm>
              <a:off x="6123240" y="4190760"/>
              <a:ext cx="216360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Text Box 21"/>
          <p:cNvSpPr/>
          <p:nvPr/>
        </p:nvSpPr>
        <p:spPr>
          <a:xfrm>
            <a:off x="3648600" y="4556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Load, Parse,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Right Arrow 21"/>
          <p:cNvGrpSpPr/>
          <p:nvPr/>
        </p:nvGrpSpPr>
        <p:grpSpPr>
          <a:xfrm>
            <a:off x="4102200" y="1932120"/>
            <a:ext cx="1135080" cy="639720"/>
            <a:chOff x="4102200" y="1932120"/>
            <a:chExt cx="1135080" cy="639720"/>
          </a:xfrm>
        </p:grpSpPr>
        <p:pic>
          <p:nvPicPr>
            <p:cNvPr id="647" name="Right Arrow 21" descr=""/>
            <p:cNvPicPr/>
            <p:nvPr/>
          </p:nvPicPr>
          <p:blipFill>
            <a:blip r:embed="rId7"/>
            <a:stretch/>
          </p:blipFill>
          <p:spPr>
            <a:xfrm>
              <a:off x="4102200" y="1932120"/>
              <a:ext cx="113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179960" y="209556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Right Arrow 22"/>
          <p:cNvGrpSpPr/>
          <p:nvPr/>
        </p:nvGrpSpPr>
        <p:grpSpPr>
          <a:xfrm>
            <a:off x="4017960" y="4883040"/>
            <a:ext cx="1133640" cy="646200"/>
            <a:chOff x="4017960" y="4883040"/>
            <a:chExt cx="1133640" cy="646200"/>
          </a:xfrm>
        </p:grpSpPr>
        <p:pic>
          <p:nvPicPr>
            <p:cNvPr id="650" name="Right Arrow 22" descr=""/>
            <p:cNvPicPr/>
            <p:nvPr/>
          </p:nvPicPr>
          <p:blipFill>
            <a:blip r:embed="rId8"/>
            <a:stretch/>
          </p:blipFill>
          <p:spPr>
            <a:xfrm>
              <a:off x="4017960" y="4883040"/>
              <a:ext cx="1133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095720" y="504684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XAML / C #/ JavaScrip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3778560" y="1487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Compile and 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" descr="FlashProgramming.png"/>
          <p:cNvPicPr/>
          <p:nvPr/>
        </p:nvPicPr>
        <p:blipFill>
          <a:blip r:embed="rId1"/>
          <a:stretch/>
        </p:blipFill>
        <p:spPr>
          <a:xfrm>
            <a:off x="0" y="838080"/>
            <a:ext cx="4060800" cy="4953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SilverLightProgramming.png"/>
          <p:cNvPicPr/>
          <p:nvPr/>
        </p:nvPicPr>
        <p:blipFill>
          <a:blip r:embed="rId2"/>
          <a:stretch/>
        </p:blipFill>
        <p:spPr>
          <a:xfrm>
            <a:off x="3968640" y="838080"/>
            <a:ext cx="5175360" cy="5029200"/>
          </a:xfrm>
          <a:prstGeom prst="rect">
            <a:avLst/>
          </a:prstGeom>
          <a:ln w="0">
            <a:noFill/>
          </a:ln>
        </p:spPr>
      </p:pic>
      <p:sp>
        <p:nvSpPr>
          <p:cNvPr id="656" name="Title 5"/>
          <p:cNvSpPr/>
          <p:nvPr/>
        </p:nvSpPr>
        <p:spPr>
          <a:xfrm>
            <a:off x="1066680" y="76320"/>
            <a:ext cx="8031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Comparison with F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Straight Connector 5"/>
          <p:cNvSpPr/>
          <p:nvPr/>
        </p:nvSpPr>
        <p:spPr>
          <a:xfrm>
            <a:off x="3956760" y="887400"/>
            <a:ext cx="24120" cy="59706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52280" y="6384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4b0e2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 u="sng">
                <a:solidFill>
                  <a:srgbClr val="54b0e2"/>
                </a:solidFill>
                <a:uFillTx/>
                <a:latin typeface="Arial"/>
                <a:ea typeface="宋体"/>
                <a:hlinkClick r:id="rId4"/>
              </a:rPr>
              <a:t>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1066680" y="2200320"/>
            <a:ext cx="4229280" cy="27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Chart 3"/>
          <p:cNvGraphicFramePr/>
          <p:nvPr/>
        </p:nvGraphicFramePr>
        <p:xfrm>
          <a:off x="5276880" y="2181240"/>
          <a:ext cx="3048120" cy="25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2" name="Char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6880" y="2181240"/>
                    <a:ext cx="3048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4"/>
          <p:cNvSpPr/>
          <p:nvPr/>
        </p:nvSpPr>
        <p:spPr>
          <a:xfrm>
            <a:off x="674640" y="990720"/>
            <a:ext cx="462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Delivering media </a:t>
            </a: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thout going b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Video delivery tr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Placeholder 2"/>
          <p:cNvSpPr/>
          <p:nvPr/>
        </p:nvSpPr>
        <p:spPr>
          <a:xfrm>
            <a:off x="884160" y="2362320"/>
            <a:ext cx="36543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Why stre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Live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Fast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"/>
              </a:rPr>
              <a:t>Caching and Prox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Chart 6"/>
          <p:cNvGraphicFramePr/>
          <p:nvPr/>
        </p:nvGraphicFramePr>
        <p:xfrm>
          <a:off x="4559400" y="1778040"/>
          <a:ext cx="3060720" cy="4102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Char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1778040"/>
                    <a:ext cx="306072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7"/>
          <p:cNvSpPr/>
          <p:nvPr/>
        </p:nvSpPr>
        <p:spPr>
          <a:xfrm>
            <a:off x="674640" y="99072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ndows Media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2971800" y="5715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Silverlight 1.0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– XAML + JavaScri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COMPLETE DOM LEVEL 1 inte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itle 5"/>
          <p:cNvSpPr/>
          <p:nvPr/>
        </p:nvSpPr>
        <p:spPr>
          <a:xfrm>
            <a:off x="1752480" y="152280"/>
            <a:ext cx="7269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</a:rPr>
              <a:t>Creating a Silverlight appl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Diagram 15" descr=""/>
          <p:cNvPicPr/>
          <p:nvPr/>
        </p:nvPicPr>
        <p:blipFill>
          <a:blip r:embed="rId1"/>
          <a:stretch/>
        </p:blipFill>
        <p:spPr>
          <a:xfrm>
            <a:off x="1523880" y="1279440"/>
            <a:ext cx="6096240" cy="417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56:26Z</dcterms:created>
  <dc:creator/>
  <dc:description>COPYRIGHT, Microsoft 2007.  All rights reserved.  No permission is granted to reproduce or re-use materials from this document in other documents.  All rights reserved.
3rd party company names and logos are used with permission and are subject to their own copyrights and trademarks.</dc:description>
  <dc:language>en-US</dc:language>
  <cp:lastModifiedBy/>
  <dcterms:modified xsi:type="dcterms:W3CDTF">2015-08-03T12:20:04Z</dcterms:modified>
  <cp:revision>8</cp:revision>
  <dc:subject>Silverlight</dc:subject>
  <dc:title>Silverlight Briefing - MIX07</dc:title>
</cp:coreProperties>
</file>