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87EA-6C35-44ED-8D2E-BBD38570C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4541-235E-486A-9BD6-44D1F17F8A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56D7-4507-481B-BE2C-8204CE9C4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C4A5-25CB-4D15-AF70-9BA3B6F9A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DE08-225D-440D-975F-40E1B8A28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BB3-0A10-4CFF-986C-1AEA14191E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0DC6-97C4-40BF-AFE9-E444958862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E33-1F57-4233-853F-B0E7486C4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9670-85BE-45CD-8C3E-D2FA680CD5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0A5A-F2F8-42B9-8B70-D501BC88F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C51-D063-42FC-87BC-6A29E08D73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F12F-96EE-4E82-87B0-562968149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3737-E370-4AA7-BB47-0ED64EAC8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F42-045F-48DC-A7D5-B8608A272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F7BA-6D78-4D7C-8F2A-37F916E35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B4EF-7BE7-484F-B07F-20AB21423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D2F5-8BE7-40DE-BEB0-056D0D42FB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119D-957B-422D-9DCD-B2642FA84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6B7F-88EE-4D80-B50C-DC6E0A8BB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EFF-FF82-4A84-A731-2EAB01AC8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0187-8864-4953-81AD-2A44E04F3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A923-AC79-4BFC-BAD5-9F4D1A8CC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071-17ED-4309-A705-72FF2FAEB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506-D0D5-4E79-9B50-952204B6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464-2F56-4CD7-8C6C-5277316E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751-F2F4-4C53-BDDC-D4F076B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128-810D-4249-BE9D-E94D5FA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0E5-4AE7-403D-BCF6-90796C0A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F91-CD06-402C-BFC8-072A8629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851-5C7F-46C9-9ADE-617C148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031-BA6F-43DF-A2EA-B6E7E9B7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E55-0689-4504-9829-F5AD1EE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41E-2EB3-4EC4-882F-83F999B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96E-4422-4C77-89FD-79EFD25E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676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5200" y="177120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676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5200" y="4387680"/>
            <a:ext cx="294120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B4B-CE19-4742-957A-7B5B5DF8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302760"/>
            <a:ext cx="913464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88680" y="438768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88680" y="1771200"/>
            <a:ext cx="445752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387680"/>
            <a:ext cx="9134640" cy="23889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2040"/>
            <a:ext cx="8626320" cy="4513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tangle 5"/>
          <p:cNvGrpSpPr/>
          <p:nvPr/>
        </p:nvGrpSpPr>
        <p:grpSpPr>
          <a:xfrm>
            <a:off x="5456160" y="6797520"/>
            <a:ext cx="4572000" cy="24120"/>
            <a:chOff x="5456160" y="6797520"/>
            <a:chExt cx="4572000" cy="24120"/>
          </a:xfrm>
        </p:grpSpPr>
        <p:pic>
          <p:nvPicPr>
            <p:cNvPr id="3" name="Rectangle 5" descr=""/>
            <p:cNvPicPr/>
            <p:nvPr/>
          </p:nvPicPr>
          <p:blipFill>
            <a:blip r:embed="rId3"/>
            <a:stretch/>
          </p:blipFill>
          <p:spPr>
            <a:xfrm>
              <a:off x="5456160" y="6797520"/>
              <a:ext cx="4572000" cy="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5456160" y="6797520"/>
              <a:ext cx="45705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Text Box 8"/>
          <p:cNvSpPr/>
          <p:nvPr/>
        </p:nvSpPr>
        <p:spPr>
          <a:xfrm>
            <a:off x="6810480" y="6894360"/>
            <a:ext cx="3093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Harry Mills 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PRESENTATIONP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2760"/>
            <a:ext cx="9134640" cy="12654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1771200"/>
            <a:ext cx="9134640" cy="500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795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7600" y="7033680"/>
            <a:ext cx="236844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68600" y="7033680"/>
            <a:ext cx="321336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73800" y="7033680"/>
            <a:ext cx="2368800" cy="405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C6B-7008-4FA5-BF37-A616DE23632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sales@presentationpro.com" TargetMode="External"/><Relationship Id="rId3" Type="http://schemas.openxmlformats.org/officeDocument/2006/relationships/hyperlink" Target="http://www.presentationpro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hyperlink" Target="http://www.presentationpro.com/power_designs.aspx" TargetMode="External"/><Relationship Id="rId4" Type="http://schemas.openxmlformats.org/officeDocument/2006/relationships/image" Target="../media/image34.png"/><Relationship Id="rId5" Type="http://schemas.openxmlformats.org/officeDocument/2006/relationships/hyperlink" Target="http://www.presentationpro.com/power_designs.aspx" TargetMode="External"/><Relationship Id="rId6" Type="http://schemas.openxmlformats.org/officeDocument/2006/relationships/hyperlink" Target="http://www.presentationpro.com/in/PDATCFT" TargetMode="External"/><Relationship Id="rId7" Type="http://schemas.openxmlformats.org/officeDocument/2006/relationships/image" Target="../media/image34.png"/><Relationship Id="rId8" Type="http://schemas.openxmlformats.org/officeDocument/2006/relationships/hyperlink" Target="http://www.presentationpro.com/in/PDATCFT" TargetMode="External"/><Relationship Id="rId9" Type="http://schemas.openxmlformats.org/officeDocument/2006/relationships/hyperlink" Target="http://www.presentationpro.com/in/PDATCFT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EmailBackground"/>
          <p:cNvPicPr/>
          <p:nvPr/>
        </p:nvPicPr>
        <p:blipFill>
          <a:blip r:embed="rId1"/>
          <a:stretch/>
        </p:blipFill>
        <p:spPr>
          <a:xfrm>
            <a:off x="655560" y="138240"/>
            <a:ext cx="8915400" cy="744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pdbox.png"/>
          <p:cNvPicPr/>
          <p:nvPr/>
        </p:nvPicPr>
        <p:blipFill>
          <a:blip r:embed="rId2"/>
          <a:stretch/>
        </p:blipFill>
        <p:spPr>
          <a:xfrm>
            <a:off x="884160" y="4253040"/>
            <a:ext cx="2057400" cy="1957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579600" y="6310440"/>
            <a:ext cx="89154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7375e"/>
                </a:solidFill>
                <a:latin typeface="Arial"/>
                <a:ea typeface="宋体"/>
              </a:rPr>
              <a:t>FREE PowerDESIGNS template and graphics included in this presentation can be used to enhance your own presentations. Just copy and paste the graphics from this presentation to your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46200" y="149400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74640" y="2619360"/>
            <a:ext cx="630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Create stunning visuals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宋体"/>
              </a:rPr>
              <a:t>that sell, motivate and persu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637000" y="5091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This presentation was built entirely with templates and graphics from the PowerDESIGNS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OfficePowerPoint2007_Icon"/>
          <p:cNvPicPr/>
          <p:nvPr/>
        </p:nvPicPr>
        <p:blipFill>
          <a:blip r:embed="rId3"/>
          <a:stretch/>
        </p:blipFill>
        <p:spPr>
          <a:xfrm>
            <a:off x="6218280" y="1662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9040" y="1910880"/>
            <a:ext cx="7162560" cy="88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3600" spc="-1" strike="noStrike">
                <a:solidFill>
                  <a:srgbClr val="f27900"/>
                </a:solidFill>
                <a:latin typeface="Arial"/>
                <a:ea typeface="宋体"/>
              </a:rPr>
              <a:t>Free Sample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895320" y="3544920"/>
            <a:ext cx="72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国外演示设计公司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17240" y="720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Visual Metaphor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ales forecasts gradually improve over next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93760" y="3033720"/>
            <a:ext cx="3682800" cy="2971800"/>
            <a:chOff x="293760" y="3033720"/>
            <a:chExt cx="3682800" cy="2971800"/>
          </a:xfrm>
        </p:grpSpPr>
        <p:pic>
          <p:nvPicPr>
            <p:cNvPr id="211" name="Picture 5" descr="PPP_CGENE_CLP_Lightningcloud"/>
            <p:cNvPicPr/>
            <p:nvPr/>
          </p:nvPicPr>
          <p:blipFill>
            <a:blip r:embed="rId1"/>
            <a:stretch/>
          </p:blipFill>
          <p:spPr>
            <a:xfrm>
              <a:off x="293760" y="3479760"/>
              <a:ext cx="368280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8"/>
            <p:cNvSpPr/>
            <p:nvPr/>
          </p:nvSpPr>
          <p:spPr>
            <a:xfrm>
              <a:off x="1252440" y="411624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% De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1252440" y="303372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NU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3321000" y="3033720"/>
            <a:ext cx="3684240" cy="2598840"/>
            <a:chOff x="3321000" y="3033720"/>
            <a:chExt cx="3684240" cy="2598840"/>
          </a:xfrm>
        </p:grpSpPr>
        <p:pic>
          <p:nvPicPr>
            <p:cNvPr id="215" name="Picture 6" descr="PPP_CGENE_CLP_Partlysunny"/>
            <p:cNvPicPr/>
            <p:nvPr/>
          </p:nvPicPr>
          <p:blipFill>
            <a:blip r:embed="rId2"/>
            <a:stretch/>
          </p:blipFill>
          <p:spPr>
            <a:xfrm>
              <a:off x="3321000" y="3052800"/>
              <a:ext cx="36842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9"/>
            <p:cNvSpPr/>
            <p:nvPr/>
          </p:nvSpPr>
          <p:spPr>
            <a:xfrm>
              <a:off x="4359600" y="4584600"/>
              <a:ext cx="1683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%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4343400" y="3033720"/>
              <a:ext cx="1683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6"/>
          <p:cNvGrpSpPr/>
          <p:nvPr/>
        </p:nvGrpSpPr>
        <p:grpSpPr>
          <a:xfrm>
            <a:off x="6751800" y="2881440"/>
            <a:ext cx="2957400" cy="2970000"/>
            <a:chOff x="6751800" y="2881440"/>
            <a:chExt cx="2957400" cy="2970000"/>
          </a:xfrm>
        </p:grpSpPr>
        <p:pic>
          <p:nvPicPr>
            <p:cNvPr id="219" name="Picture 7" descr="PPP_CGENE_CLP_Sunny"/>
            <p:cNvPicPr/>
            <p:nvPr/>
          </p:nvPicPr>
          <p:blipFill>
            <a:blip r:embed="rId3"/>
            <a:stretch/>
          </p:blipFill>
          <p:spPr>
            <a:xfrm>
              <a:off x="6751800" y="2881440"/>
              <a:ext cx="295740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0"/>
            <p:cNvSpPr/>
            <p:nvPr/>
          </p:nvSpPr>
          <p:spPr>
            <a:xfrm>
              <a:off x="7591320" y="3911040"/>
              <a:ext cx="129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cr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7381800" y="3033360"/>
              <a:ext cx="1676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Rectangle 19"/>
          <p:cNvSpPr/>
          <p:nvPr/>
        </p:nvSpPr>
        <p:spPr>
          <a:xfrm>
            <a:off x="3978360" y="5776920"/>
            <a:ext cx="23922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06440" y="7164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5213520" y="2728800"/>
            <a:ext cx="4052520" cy="3460680"/>
            <a:chOff x="5213520" y="2728800"/>
            <a:chExt cx="4052520" cy="3460680"/>
          </a:xfrm>
        </p:grpSpPr>
        <p:pic>
          <p:nvPicPr>
            <p:cNvPr id="225" name="Picture 8" descr="PPP_CGENE_CLP_ArrowChartDown_Red"/>
            <p:cNvPicPr/>
            <p:nvPr/>
          </p:nvPicPr>
          <p:blipFill>
            <a:blip r:embed="rId1"/>
            <a:stretch/>
          </p:blipFill>
          <p:spPr>
            <a:xfrm>
              <a:off x="5213520" y="2728800"/>
              <a:ext cx="405252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9"/>
            <p:cNvSpPr/>
            <p:nvPr/>
          </p:nvSpPr>
          <p:spPr>
            <a:xfrm rot="2160000">
              <a:off x="5486400" y="3983760"/>
              <a:ext cx="3377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ut Less Loy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Use Animation to Create Movement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New Breed of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1111320" y="2728800"/>
            <a:ext cx="3677760" cy="3460680"/>
            <a:chOff x="1111320" y="2728800"/>
            <a:chExt cx="3677760" cy="3460680"/>
          </a:xfrm>
        </p:grpSpPr>
        <p:pic>
          <p:nvPicPr>
            <p:cNvPr id="230" name="Picture 5" descr="PPP_CGENE_CLP_ArrowChartUp_Blue"/>
            <p:cNvPicPr/>
            <p:nvPr/>
          </p:nvPicPr>
          <p:blipFill>
            <a:blip r:embed="rId2"/>
            <a:stretch/>
          </p:blipFill>
          <p:spPr>
            <a:xfrm>
              <a:off x="1111320" y="2728800"/>
              <a:ext cx="3677760" cy="34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6"/>
            <p:cNvSpPr/>
            <p:nvPr/>
          </p:nvSpPr>
          <p:spPr>
            <a:xfrm rot="19440000">
              <a:off x="1119960" y="3992040"/>
              <a:ext cx="337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ore Dema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7132680" y="2805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7"/>
          <p:cNvGrpSpPr/>
          <p:nvPr/>
        </p:nvGrpSpPr>
        <p:grpSpPr>
          <a:xfrm>
            <a:off x="1494000" y="3719520"/>
            <a:ext cx="2361960" cy="2470320"/>
            <a:chOff x="1494000" y="3719520"/>
            <a:chExt cx="2361960" cy="2470320"/>
          </a:xfrm>
        </p:grpSpPr>
        <p:pic>
          <p:nvPicPr>
            <p:cNvPr id="236" name="Picture 9" descr="PowerTemplates.png"/>
            <p:cNvPicPr/>
            <p:nvPr/>
          </p:nvPicPr>
          <p:blipFill>
            <a:blip r:embed="rId4"/>
            <a:stretch/>
          </p:blipFill>
          <p:spPr>
            <a:xfrm>
              <a:off x="1505520" y="3719520"/>
              <a:ext cx="2317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Box 12"/>
            <p:cNvSpPr/>
            <p:nvPr/>
          </p:nvSpPr>
          <p:spPr>
            <a:xfrm>
              <a:off x="1494000" y="5272200"/>
              <a:ext cx="2361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argest collection of professional PowerPoint templat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21"/>
          <p:cNvGrpSpPr/>
          <p:nvPr/>
        </p:nvGrpSpPr>
        <p:grpSpPr>
          <a:xfrm>
            <a:off x="3881520" y="3719520"/>
            <a:ext cx="2363760" cy="2470320"/>
            <a:chOff x="3881520" y="3719520"/>
            <a:chExt cx="2363760" cy="2470320"/>
          </a:xfrm>
        </p:grpSpPr>
        <p:pic>
          <p:nvPicPr>
            <p:cNvPr id="239" name="Picture 19" descr="PowerGraphics.png"/>
            <p:cNvPicPr/>
            <p:nvPr/>
          </p:nvPicPr>
          <p:blipFill>
            <a:blip r:embed="rId5"/>
            <a:stretch/>
          </p:blipFill>
          <p:spPr>
            <a:xfrm>
              <a:off x="3920760" y="3719520"/>
              <a:ext cx="22816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16"/>
            <p:cNvSpPr/>
            <p:nvPr/>
          </p:nvSpPr>
          <p:spPr>
            <a:xfrm>
              <a:off x="3881520" y="5272200"/>
              <a:ext cx="23637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igh impact graphic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visually communicate your mess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22"/>
          <p:cNvGrpSpPr/>
          <p:nvPr/>
        </p:nvGrpSpPr>
        <p:grpSpPr>
          <a:xfrm>
            <a:off x="6237360" y="3719520"/>
            <a:ext cx="2367000" cy="2470320"/>
            <a:chOff x="6237360" y="3719520"/>
            <a:chExt cx="2367000" cy="2470320"/>
          </a:xfrm>
        </p:grpSpPr>
        <p:pic>
          <p:nvPicPr>
            <p:cNvPr id="242" name="Picture 20" descr="PowerIcons.png"/>
            <p:cNvPicPr/>
            <p:nvPr/>
          </p:nvPicPr>
          <p:blipFill>
            <a:blip r:embed="rId6"/>
            <a:stretch/>
          </p:blipFill>
          <p:spPr>
            <a:xfrm>
              <a:off x="6237360" y="3719520"/>
              <a:ext cx="2328480" cy="24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18"/>
            <p:cNvSpPr/>
            <p:nvPr/>
          </p:nvSpPr>
          <p:spPr>
            <a:xfrm>
              <a:off x="6243480" y="5272200"/>
              <a:ext cx="23608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宋体"/>
                </a:rPr>
                <a:t>Image based icons emotionally connect with your audie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19"/>
          <p:cNvSpPr/>
          <p:nvPr/>
        </p:nvSpPr>
        <p:spPr>
          <a:xfrm>
            <a:off x="1668600" y="2495520"/>
            <a:ext cx="6797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owerDESIGNS includes everything you have just seen in this sample presentation plus over 15,000 other TEMPLATES, GRAPHICS and IC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Should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itle 13"/>
          <p:cNvSpPr/>
          <p:nvPr/>
        </p:nvSpPr>
        <p:spPr>
          <a:xfrm>
            <a:off x="2994120" y="3683160"/>
            <a:ext cx="5510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mproved Image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Your audience deserves to see a presentation that reflects your energy and professional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Increased Impact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Leave a memorable, lasting impression that gets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Save Time and Money: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Create professional quality slides in a fraction of the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9" descr="PPP_CSHAP_CLP_3DCheckMark01_Blue.png"/>
          <p:cNvPicPr/>
          <p:nvPr/>
        </p:nvPicPr>
        <p:blipFill>
          <a:blip r:embed="rId4"/>
          <a:stretch/>
        </p:blipFill>
        <p:spPr>
          <a:xfrm>
            <a:off x="1722600" y="350820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PPP_CSHAP_CLP_3DCheckMark01_Blue.png"/>
          <p:cNvPicPr/>
          <p:nvPr/>
        </p:nvPicPr>
        <p:blipFill>
          <a:blip r:embed="rId5"/>
          <a:stretch/>
        </p:blipFill>
        <p:spPr>
          <a:xfrm>
            <a:off x="1722600" y="4363920"/>
            <a:ext cx="109836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PPP_CSHAP_CLP_3DCheckMark01_Blue.png"/>
          <p:cNvPicPr/>
          <p:nvPr/>
        </p:nvPicPr>
        <p:blipFill>
          <a:blip r:embed="rId6"/>
          <a:stretch/>
        </p:blipFill>
        <p:spPr>
          <a:xfrm>
            <a:off x="1722600" y="5245200"/>
            <a:ext cx="1098360" cy="1216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at Do I Get When I Subscri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itle 13"/>
          <p:cNvSpPr/>
          <p:nvPr/>
        </p:nvSpPr>
        <p:spPr>
          <a:xfrm>
            <a:off x="1401840" y="3683160"/>
            <a:ext cx="735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Unlimited Access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to the World’s largest online collection of professionally designed PowerPoint templates and graph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FREE Monthly Updates</a:t>
            </a: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keep your presentations fresh and up-to-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Arial"/>
                <a:ea typeface="宋体"/>
              </a:rPr>
              <a:t>Our Exclusive One-Click-Apply Tool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allows you to access the entire PowerDESIGNS library from a button on your PowerPoint toolbar. Creating stunning presentations has never been easi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0" y="6651720"/>
            <a:ext cx="1015056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00-379-6393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sales@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│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3"/>
              </a:rPr>
              <a:t>www.presentationpr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2941560" y="2828880"/>
            <a:ext cx="5943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7900"/>
                </a:solidFill>
                <a:latin typeface="Arial Narrow"/>
                <a:ea typeface="宋体"/>
              </a:rPr>
              <a:t>Why Our Customers Are Happ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itle 13"/>
          <p:cNvSpPr/>
          <p:nvPr/>
        </p:nvSpPr>
        <p:spPr>
          <a:xfrm>
            <a:off x="1459080" y="37195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"PresentationPro's vivid and attention grabbing PowerPoint backgrounds help my presentations stand above the mass of run of the mill presenters, making my information more memorable in the minds of my audience."</a:t>
            </a:r>
            <a:br>
              <a:rPr sz="1600"/>
            </a:br>
            <a:r>
              <a:rPr b="1" i="1" lang="en-US" sz="1200" spc="-1" strike="noStrike">
                <a:solidFill>
                  <a:srgbClr val="52849f"/>
                </a:solidFill>
                <a:latin typeface="Arial"/>
                <a:ea typeface="宋体"/>
              </a:rPr>
              <a:t>Robert Anderson, U.S. Army Corps of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宋体"/>
              </a:rPr>
              <a:t>"We've had outstanding reception to presentations built with PowerDESIGNS. It's amazing how the overall look and feel of a presentation grabs a group's attention -- especially with conservative audiences. I tell my sales team to always include your designs in their presentations."</a:t>
            </a:r>
            <a:br>
              <a:rPr sz="1600"/>
            </a:br>
            <a:r>
              <a:rPr b="1" i="1" lang="en-US" sz="1200" spc="-1" strike="noStrike">
                <a:solidFill>
                  <a:srgbClr val="52849f"/>
                </a:solidFill>
                <a:latin typeface="Arial"/>
                <a:ea typeface="宋体"/>
              </a:rPr>
              <a:t>Steven T. Sudler, Ashtel Global Information System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8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9" descr="EmailBackground"/>
          <p:cNvPicPr/>
          <p:nvPr/>
        </p:nvPicPr>
        <p:blipFill>
          <a:blip r:embed="rId1"/>
          <a:stretch/>
        </p:blipFill>
        <p:spPr>
          <a:xfrm>
            <a:off x="1189080" y="636480"/>
            <a:ext cx="7772400" cy="6435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pdbox.png"/>
          <p:cNvPicPr/>
          <p:nvPr/>
        </p:nvPicPr>
        <p:blipFill>
          <a:blip r:embed="rId2"/>
          <a:stretch/>
        </p:blipFill>
        <p:spPr>
          <a:xfrm>
            <a:off x="1816200" y="2833560"/>
            <a:ext cx="3335400" cy="3171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8" descr="PPP_CNAVI_CLP_Button4_Rt_Blue.t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46680" y="33926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9">
            <a:hlinkClick r:id="rId5"/>
          </p:cNvPr>
          <p:cNvSpPr/>
          <p:nvPr/>
        </p:nvSpPr>
        <p:spPr>
          <a:xfrm>
            <a:off x="5497560" y="3538440"/>
            <a:ext cx="2133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0" descr="PPP_CNAVI_CLP_Button4_Rt_Blue.t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46680" y="4307040"/>
            <a:ext cx="825480" cy="7617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1">
            <a:hlinkClick r:id="rId8"/>
          </p:cNvPr>
          <p:cNvSpPr/>
          <p:nvPr/>
        </p:nvSpPr>
        <p:spPr>
          <a:xfrm>
            <a:off x="5497560" y="4454640"/>
            <a:ext cx="2971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宋体"/>
              </a:rPr>
              <a:t>PURCHASE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5">
            <a:hlinkClick r:id="rId9"/>
          </p:cNvPr>
          <p:cNvSpPr/>
          <p:nvPr/>
        </p:nvSpPr>
        <p:spPr>
          <a:xfrm>
            <a:off x="5500800" y="4764240"/>
            <a:ext cx="29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7900"/>
                </a:solidFill>
                <a:latin typeface="Arial"/>
                <a:ea typeface="宋体"/>
              </a:rPr>
              <a:t>Buy Now for Only $1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1284120" y="1811160"/>
            <a:ext cx="5257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849f"/>
                </a:solidFill>
                <a:latin typeface="Arial Narrow"/>
                <a:ea typeface="宋体"/>
              </a:rPr>
              <a:t>The Ultimate PowerPoint Design 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58880" y="1096920"/>
            <a:ext cx="6832800" cy="479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9000" y="1996920"/>
            <a:ext cx="7432560" cy="4346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040" bIns="50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1240"/>
                <a:tab algn="l" pos="2022480"/>
                <a:tab algn="l" pos="3033720"/>
                <a:tab algn="l" pos="4044960"/>
                <a:tab algn="l" pos="5056200"/>
                <a:tab algn="l" pos="6067440"/>
                <a:tab algn="l" pos="7078680"/>
                <a:tab algn="l" pos="8089920"/>
                <a:tab algn="l" pos="9101160"/>
                <a:tab algn="l" pos="10112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335720" y="1217520"/>
            <a:ext cx="115596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PowerPoint PowerTIP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pic>
        <p:nvPicPr>
          <p:cNvPr id="101" name="Picture 3" descr="PPP_CGENE_CLP_Bulb_Side_Glowing"/>
          <p:cNvPicPr/>
          <p:nvPr/>
        </p:nvPicPr>
        <p:blipFill>
          <a:blip r:embed="rId1"/>
          <a:stretch/>
        </p:blipFill>
        <p:spPr>
          <a:xfrm>
            <a:off x="3267000" y="2914560"/>
            <a:ext cx="5846760" cy="5148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982880" y="2332080"/>
            <a:ext cx="812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to create stunning visuals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tha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ell, motivate and persu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008600" y="1674720"/>
            <a:ext cx="44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  <a:ea typeface="Arial"/>
              </a:rPr>
              <a:t>Visual Ma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96080" y="38718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03280" y="3490920"/>
            <a:ext cx="2394000" cy="68580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bs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Persuad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008600" y="175104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Visuals help you sell your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2179800" y="2948040"/>
            <a:ext cx="3124080" cy="3073320"/>
            <a:chOff x="2179800" y="2948040"/>
            <a:chExt cx="3124080" cy="3073320"/>
          </a:xfrm>
        </p:grpSpPr>
        <p:pic>
          <p:nvPicPr>
            <p:cNvPr id="109" name="Picture 4" descr="Blue"/>
            <p:cNvPicPr/>
            <p:nvPr/>
          </p:nvPicPr>
          <p:blipFill>
            <a:blip r:embed="rId1"/>
            <a:stretch/>
          </p:blipFill>
          <p:spPr>
            <a:xfrm>
              <a:off x="2179800" y="2948040"/>
              <a:ext cx="31240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/>
            <p:cNvSpPr/>
            <p:nvPr/>
          </p:nvSpPr>
          <p:spPr>
            <a:xfrm>
              <a:off x="2925720" y="4802040"/>
              <a:ext cx="160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ddfbff"/>
                  </a:solidFill>
                  <a:latin typeface="Arial"/>
                  <a:ea typeface="宋体"/>
                </a:rPr>
                <a:t>33%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6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Decker 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84160" y="562464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ithout</a:t>
            </a:r>
            <a:r>
              <a:rPr b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989680" y="2577960"/>
            <a:ext cx="358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Successful meeting </a:t>
            </a: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using</a:t>
            </a:r>
            <a:r>
              <a:rPr b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 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3795840" y="2868480"/>
            <a:ext cx="3578040" cy="3517920"/>
            <a:chOff x="3795840" y="2868480"/>
            <a:chExt cx="3578040" cy="3517920"/>
          </a:xfrm>
        </p:grpSpPr>
        <p:pic>
          <p:nvPicPr>
            <p:cNvPr id="115" name="Picture 9" descr="Blue2"/>
            <p:cNvPicPr/>
            <p:nvPr/>
          </p:nvPicPr>
          <p:blipFill>
            <a:blip r:embed="rId2"/>
            <a:stretch/>
          </p:blipFill>
          <p:spPr>
            <a:xfrm>
              <a:off x="3795840" y="2868480"/>
              <a:ext cx="35780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0"/>
            <p:cNvSpPr/>
            <p:nvPr/>
          </p:nvSpPr>
          <p:spPr>
            <a:xfrm>
              <a:off x="4586400" y="4253040"/>
              <a:ext cx="1985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760"/>
                  </a:solidFill>
                  <a:latin typeface="Arial"/>
                  <a:ea typeface="宋体"/>
                </a:rPr>
                <a:t>67%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13"/>
          <p:cNvSpPr/>
          <p:nvPr/>
        </p:nvSpPr>
        <p:spPr>
          <a:xfrm>
            <a:off x="7132680" y="50911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Rectangle 2"/>
          <p:cNvGrpSpPr/>
          <p:nvPr/>
        </p:nvGrpSpPr>
        <p:grpSpPr>
          <a:xfrm>
            <a:off x="4846680" y="2438280"/>
            <a:ext cx="3760920" cy="3310200"/>
            <a:chOff x="4846680" y="2438280"/>
            <a:chExt cx="3760920" cy="3310200"/>
          </a:xfrm>
        </p:grpSpPr>
        <p:pic>
          <p:nvPicPr>
            <p:cNvPr id="119" name="Rectangle 2" descr=""/>
            <p:cNvPicPr/>
            <p:nvPr/>
          </p:nvPicPr>
          <p:blipFill>
            <a:blip r:embed="rId1"/>
            <a:stretch/>
          </p:blipFill>
          <p:spPr>
            <a:xfrm>
              <a:off x="4846680" y="2439360"/>
              <a:ext cx="3759480" cy="33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46680" y="2438280"/>
              <a:ext cx="3760920" cy="33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Visuals Increase Retention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We remember less than 10% of what we hear verb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680" y="6950160"/>
            <a:ext cx="312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: Wharton University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98560" y="3535200"/>
            <a:ext cx="3276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Message Retention in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59440" y="2436840"/>
          <a:ext cx="3352680" cy="3316320"/>
        </p:xfrm>
        <a:graphic>
          <a:graphicData uri="http://schemas.openxmlformats.org/drawingml/2006/table">
            <a:tbl>
              <a:tblPr/>
              <a:tblGrid>
                <a:gridCol w="1614240"/>
                <a:gridCol w="173844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46"/>
          <p:cNvGrpSpPr/>
          <p:nvPr/>
        </p:nvGrpSpPr>
        <p:grpSpPr>
          <a:xfrm>
            <a:off x="6461280" y="2921040"/>
            <a:ext cx="455400" cy="2318760"/>
            <a:chOff x="6461280" y="2921040"/>
            <a:chExt cx="455400" cy="2318760"/>
          </a:xfrm>
        </p:grpSpPr>
        <p:sp>
          <p:nvSpPr>
            <p:cNvPr id="127" name="Text Box 37"/>
            <p:cNvSpPr/>
            <p:nvPr/>
          </p:nvSpPr>
          <p:spPr>
            <a:xfrm>
              <a:off x="6461280" y="493524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8"/>
            <p:cNvSpPr/>
            <p:nvPr/>
          </p:nvSpPr>
          <p:spPr>
            <a:xfrm>
              <a:off x="6461280" y="426492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>
              <a:off x="6461280" y="3593160"/>
              <a:ext cx="455400" cy="304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0"/>
            <p:cNvSpPr/>
            <p:nvPr/>
          </p:nvSpPr>
          <p:spPr>
            <a:xfrm>
              <a:off x="6461280" y="2921040"/>
              <a:ext cx="45540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48"/>
          <p:cNvGrpSpPr/>
          <p:nvPr/>
        </p:nvGrpSpPr>
        <p:grpSpPr>
          <a:xfrm>
            <a:off x="6630840" y="2149560"/>
            <a:ext cx="2210040" cy="4509000"/>
            <a:chOff x="6630840" y="2149560"/>
            <a:chExt cx="2210040" cy="4509000"/>
          </a:xfrm>
        </p:grpSpPr>
        <p:sp>
          <p:nvSpPr>
            <p:cNvPr id="132" name="Text Box 42"/>
            <p:cNvSpPr/>
            <p:nvPr/>
          </p:nvSpPr>
          <p:spPr>
            <a:xfrm>
              <a:off x="6630840" y="6080040"/>
              <a:ext cx="22100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Presentation With Vis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Picture 43" descr="PPP_CSHAP_CLP_2in1_Cyl_Orange04"/>
            <p:cNvPicPr/>
            <p:nvPr/>
          </p:nvPicPr>
          <p:blipFill>
            <a:blip r:embed="rId2"/>
            <a:stretch/>
          </p:blipFill>
          <p:spPr>
            <a:xfrm>
              <a:off x="6651720" y="2149560"/>
              <a:ext cx="2157480" cy="44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47"/>
          <p:cNvGrpSpPr/>
          <p:nvPr/>
        </p:nvGrpSpPr>
        <p:grpSpPr>
          <a:xfrm>
            <a:off x="4748040" y="2149560"/>
            <a:ext cx="2156040" cy="4509000"/>
            <a:chOff x="4748040" y="2149560"/>
            <a:chExt cx="2156040" cy="4509000"/>
          </a:xfrm>
        </p:grpSpPr>
        <p:sp>
          <p:nvSpPr>
            <p:cNvPr id="135" name="Text Box 41"/>
            <p:cNvSpPr/>
            <p:nvPr/>
          </p:nvSpPr>
          <p:spPr>
            <a:xfrm>
              <a:off x="4787280" y="6080040"/>
              <a:ext cx="20559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bal Only 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44" descr="PPP_CSHAP_CLP_2in1_Cyl_Green01"/>
            <p:cNvPicPr/>
            <p:nvPr/>
          </p:nvPicPr>
          <p:blipFill>
            <a:blip r:embed="rId3"/>
            <a:stretch/>
          </p:blipFill>
          <p:spPr>
            <a:xfrm>
              <a:off x="4748040" y="2149560"/>
              <a:ext cx="2156040" cy="44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49"/>
          <p:cNvSpPr/>
          <p:nvPr/>
        </p:nvSpPr>
        <p:spPr>
          <a:xfrm>
            <a:off x="2681280" y="53197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ylin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A Visual Is Worth a Thousand Words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69960" y="2881440"/>
            <a:ext cx="266724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Visuals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PPP_IBUSI_CLP_Clock_B"/>
          <p:cNvPicPr/>
          <p:nvPr/>
        </p:nvPicPr>
        <p:blipFill>
          <a:blip r:embed="rId1"/>
          <a:stretch/>
        </p:blipFill>
        <p:spPr>
          <a:xfrm>
            <a:off x="4748040" y="2225520"/>
            <a:ext cx="3451320" cy="30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PP_IBUSI_CLP_Newspaper_B"/>
          <p:cNvPicPr/>
          <p:nvPr/>
        </p:nvPicPr>
        <p:blipFill>
          <a:blip r:embed="rId2"/>
          <a:stretch/>
        </p:blipFill>
        <p:spPr>
          <a:xfrm>
            <a:off x="3551400" y="3886200"/>
            <a:ext cx="3447720" cy="300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PP_IBUSI_CLP_LookingAhead_H_B"/>
          <p:cNvPicPr/>
          <p:nvPr/>
        </p:nvPicPr>
        <p:blipFill>
          <a:blip r:embed="rId3"/>
          <a:stretch/>
        </p:blipFill>
        <p:spPr>
          <a:xfrm>
            <a:off x="6523200" y="3184560"/>
            <a:ext cx="3450960" cy="30081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67518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IC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7" descr=""/>
          <p:cNvPicPr/>
          <p:nvPr/>
        </p:nvPicPr>
        <p:blipFill>
          <a:blip r:embed="rId1"/>
          <a:stretch/>
        </p:blipFill>
        <p:spPr>
          <a:xfrm>
            <a:off x="6751800" y="2413080"/>
            <a:ext cx="2827080" cy="1741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art With a Background Template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87240" y="2516040"/>
            <a:ext cx="35053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Provide visu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Add pizza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- Sav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6" descr=""/>
          <p:cNvPicPr/>
          <p:nvPr/>
        </p:nvPicPr>
        <p:blipFill>
          <a:blip r:embed="rId2"/>
          <a:stretch/>
        </p:blipFill>
        <p:spPr>
          <a:xfrm>
            <a:off x="4008600" y="3121200"/>
            <a:ext cx="283680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7209000" y="3957480"/>
            <a:ext cx="282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/>
          <p:cNvPicPr/>
          <p:nvPr/>
        </p:nvPicPr>
        <p:blipFill>
          <a:blip r:embed="rId4"/>
          <a:stretch/>
        </p:blipFill>
        <p:spPr>
          <a:xfrm>
            <a:off x="4524480" y="4687920"/>
            <a:ext cx="2836800" cy="1743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9"/>
          <p:cNvSpPr/>
          <p:nvPr/>
        </p:nvSpPr>
        <p:spPr>
          <a:xfrm>
            <a:off x="6948360" y="1738440"/>
            <a:ext cx="239256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7437600" y="577692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Me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2332080" y="5243400"/>
            <a:ext cx="23954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4237200" y="2452680"/>
            <a:ext cx="239364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Think KISS (Keep It Short and Simple)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189080" y="29862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Impac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si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cle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Is it vi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541760" y="2960640"/>
            <a:ext cx="4238640" cy="3549600"/>
            <a:chOff x="4541760" y="2960640"/>
            <a:chExt cx="4238640" cy="3549600"/>
          </a:xfrm>
        </p:grpSpPr>
        <p:sp>
          <p:nvSpPr>
            <p:cNvPr id="157" name="Oval 2"/>
            <p:cNvSpPr/>
            <p:nvPr/>
          </p:nvSpPr>
          <p:spPr>
            <a:xfrm>
              <a:off x="7211880" y="35701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"/>
            <p:cNvSpPr/>
            <p:nvPr/>
          </p:nvSpPr>
          <p:spPr>
            <a:xfrm>
              <a:off x="8323200" y="3033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4"/>
            <p:cNvSpPr/>
            <p:nvPr/>
          </p:nvSpPr>
          <p:spPr>
            <a:xfrm>
              <a:off x="817092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8218440" y="5214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7754760" y="56116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6068880" y="58723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4541760" y="60530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468144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4910040" y="2960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6357960" y="4329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75294"/>
                  </a:srgbClr>
                </a:gs>
                <a:gs pos="100000">
                  <a:srgbClr val="dddddd">
                    <a:alpha val="7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4788000" y="2805120"/>
            <a:ext cx="5094360" cy="3683160"/>
            <a:chOff x="4788000" y="2805120"/>
            <a:chExt cx="5094360" cy="3683160"/>
          </a:xfrm>
        </p:grpSpPr>
        <p:pic>
          <p:nvPicPr>
            <p:cNvPr id="168" name="Picture 15" descr="PPP_CSHAP_CLP_RoundBallGreen"/>
            <p:cNvPicPr/>
            <p:nvPr/>
          </p:nvPicPr>
          <p:blipFill>
            <a:blip r:embed="rId1"/>
            <a:stretch/>
          </p:blipFill>
          <p:spPr>
            <a:xfrm>
              <a:off x="4788000" y="481500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6" descr="PPP_CSHAP_CLP_RoundBallOrange"/>
            <p:cNvPicPr/>
            <p:nvPr/>
          </p:nvPicPr>
          <p:blipFill>
            <a:blip r:embed="rId2"/>
            <a:stretch/>
          </p:blipFill>
          <p:spPr>
            <a:xfrm>
              <a:off x="5575320" y="2805120"/>
              <a:ext cx="11923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7" descr="PPP_CSHAP_CLP_RoundBallPurple"/>
            <p:cNvPicPr/>
            <p:nvPr/>
          </p:nvPicPr>
          <p:blipFill>
            <a:blip r:embed="rId3"/>
            <a:stretch/>
          </p:blipFill>
          <p:spPr>
            <a:xfrm>
              <a:off x="7007400" y="4408560"/>
              <a:ext cx="119196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18"/>
            <p:cNvSpPr/>
            <p:nvPr/>
          </p:nvSpPr>
          <p:spPr>
            <a:xfrm flipV="1">
              <a:off x="5989680" y="4925880"/>
              <a:ext cx="914400" cy="1526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6662880" y="3859200"/>
              <a:ext cx="533160" cy="68580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H="1">
              <a:off x="5503680" y="3983040"/>
              <a:ext cx="307800" cy="822240"/>
            </a:xfrm>
            <a:prstGeom prst="line">
              <a:avLst/>
            </a:prstGeom>
            <a:ln w="9360">
              <a:solidFill>
                <a:srgbClr val="0e1194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5925960" y="30686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Lead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7367760" y="472608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al Excell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>
              <a:off x="5075280" y="5126040"/>
              <a:ext cx="2514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 Intim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24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Keys to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7209000" y="3643200"/>
            <a:ext cx="239364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PP_CARRO_CLP_Hollow_Dn_Blue"/>
          <p:cNvPicPr/>
          <p:nvPr/>
        </p:nvPicPr>
        <p:blipFill>
          <a:blip r:embed="rId1">
            <a:grayscl/>
          </a:blip>
          <a:stretch/>
        </p:blipFill>
        <p:spPr>
          <a:xfrm>
            <a:off x="6024600" y="2332080"/>
            <a:ext cx="2038320" cy="426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2760"/>
                </a:solidFill>
                <a:latin typeface="Arial"/>
              </a:rPr>
              <a:t>Stick to One Idea Per Visual </a:t>
            </a:r>
            <a:endParaRPr b="1" i="1" lang="en-US" sz="32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89080" y="2957400"/>
            <a:ext cx="3505320" cy="27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Clarity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Clear hea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One point per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宋体"/>
              </a:rPr>
              <a:t>- Unclut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PPP_CARRO_CLP_Hollow_Dn_Blue"/>
          <p:cNvPicPr/>
          <p:nvPr/>
        </p:nvPicPr>
        <p:blipFill>
          <a:blip r:embed="rId2"/>
          <a:stretch/>
        </p:blipFill>
        <p:spPr>
          <a:xfrm>
            <a:off x="6053040" y="2303640"/>
            <a:ext cx="203832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5989680" y="2941560"/>
            <a:ext cx="2209680" cy="630360"/>
            <a:chOff x="5989680" y="2941560"/>
            <a:chExt cx="2209680" cy="630360"/>
          </a:xfrm>
        </p:grpSpPr>
        <p:sp>
          <p:nvSpPr>
            <p:cNvPr id="184" name="Rectangle 7"/>
            <p:cNvSpPr/>
            <p:nvPr/>
          </p:nvSpPr>
          <p:spPr>
            <a:xfrm>
              <a:off x="5989680" y="2941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6053040" y="304632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uc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5989680" y="4037040"/>
            <a:ext cx="2209680" cy="631440"/>
            <a:chOff x="5989680" y="4037040"/>
            <a:chExt cx="2209680" cy="631440"/>
          </a:xfrm>
        </p:grpSpPr>
        <p:sp>
          <p:nvSpPr>
            <p:cNvPr id="187" name="Rectangle 8"/>
            <p:cNvSpPr/>
            <p:nvPr/>
          </p:nvSpPr>
          <p:spPr>
            <a:xfrm>
              <a:off x="5989680" y="4037040"/>
              <a:ext cx="2209680" cy="631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1"/>
            <p:cNvSpPr/>
            <p:nvPr/>
          </p:nvSpPr>
          <p:spPr>
            <a:xfrm>
              <a:off x="6053040" y="416088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t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5989680" y="5119560"/>
            <a:ext cx="2209680" cy="630360"/>
            <a:chOff x="5989680" y="5119560"/>
            <a:chExt cx="2209680" cy="630360"/>
          </a:xfrm>
        </p:grpSpPr>
        <p:sp>
          <p:nvSpPr>
            <p:cNvPr id="190" name="Rectangle 9"/>
            <p:cNvSpPr/>
            <p:nvPr/>
          </p:nvSpPr>
          <p:spPr>
            <a:xfrm>
              <a:off x="5989680" y="5119560"/>
              <a:ext cx="2209680" cy="63036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6053040" y="5243400"/>
              <a:ext cx="2057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l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13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The Three Es of Successfu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160880" y="5929200"/>
            <a:ext cx="2394000" cy="60984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Ar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31880" y="36684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2800" spc="-1" strike="noStrike">
                <a:solidFill>
                  <a:srgbClr val="002760"/>
                </a:solidFill>
                <a:latin typeface="Arial"/>
              </a:rPr>
              <a:t>Search For a Single Visual to Sell your Message</a:t>
            </a:r>
            <a:endParaRPr b="1" i="1" lang="en-US" sz="2800" spc="-1" strike="noStrike">
              <a:solidFill>
                <a:srgbClr val="00276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89080" y="2957400"/>
            <a:ext cx="312408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60"/>
                </a:solidFill>
                <a:latin typeface="Arial"/>
                <a:ea typeface="Arial"/>
              </a:rPr>
              <a:t>Presentation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2760"/>
                </a:solidFill>
                <a:latin typeface="Arial"/>
                <a:ea typeface="Arial"/>
              </a:rPr>
              <a:t>Our profits come from a few key cli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6480" y="1751040"/>
            <a:ext cx="682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760"/>
                </a:solidFill>
                <a:latin typeface="Arial"/>
                <a:ea typeface="Arial"/>
              </a:rPr>
              <a:t>Profit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019320" y="2424240"/>
            <a:ext cx="6160680" cy="4198680"/>
            <a:chOff x="3019320" y="2424240"/>
            <a:chExt cx="6160680" cy="4198680"/>
          </a:xfrm>
        </p:grpSpPr>
        <p:pic>
          <p:nvPicPr>
            <p:cNvPr id="198" name="Picture 6" descr="PPP_CPYRA_CLP_Pyramid_A_4Orange"/>
            <p:cNvPicPr/>
            <p:nvPr/>
          </p:nvPicPr>
          <p:blipFill>
            <a:blip r:embed="rId1"/>
            <a:stretch/>
          </p:blipFill>
          <p:spPr>
            <a:xfrm>
              <a:off x="3657240" y="2424240"/>
              <a:ext cx="552276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7"/>
            <p:cNvSpPr/>
            <p:nvPr/>
          </p:nvSpPr>
          <p:spPr>
            <a:xfrm>
              <a:off x="3019320" y="5303880"/>
              <a:ext cx="236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3384000" y="4446720"/>
              <a:ext cx="2513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ginal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3847680" y="3583080"/>
              <a:ext cx="250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ly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4266720" y="2881440"/>
              <a:ext cx="250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 profi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11"/>
          <p:cNvSpPr/>
          <p:nvPr/>
        </p:nvSpPr>
        <p:spPr>
          <a:xfrm>
            <a:off x="5626080" y="5148360"/>
            <a:ext cx="144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040440" y="4341960"/>
            <a:ext cx="1066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500880" y="3503520"/>
            <a:ext cx="685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05440" y="287640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7589880" y="2347920"/>
            <a:ext cx="2394000" cy="6094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tegory: Pyram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9:40:15Z</dcterms:created>
  <dc:creator>PresentationPro</dc:creator>
  <dc:description/>
  <dc:language>en-US</dc:language>
  <cp:lastModifiedBy>yu wang</cp:lastModifiedBy>
  <dcterms:modified xsi:type="dcterms:W3CDTF">2015-08-03T12:20:06Z</dcterms:modified>
  <cp:revision>10</cp:revision>
  <dc:subject>PresentationPro Free PowerPoint Download</dc:subject>
  <dc:title>PresentationPro Free Sample</dc:title>
</cp:coreProperties>
</file>