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0C61-37D1-4B82-8DBA-D443185D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517-AFF8-4420-A011-650F052C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4D8E-A0A2-4380-BD3D-DEB8E7F4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481-DD7D-4CAF-84B7-B7D6A156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D96-6707-4446-89F1-04B8CF7A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868-6FD9-4EA9-A1C6-B362936D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FF7-A14E-4293-A95F-B0B113A1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147-76DB-4018-8875-53D4A829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7A8-7684-4B99-AEC8-AA328FE0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8802-1005-4FDE-B049-6AF904A5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771-34F2-4A73-A583-9963AE6C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4610-63DA-4D89-A4D5-87C8B220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86A0-6622-4176-A16C-43F4D6FD406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163E-796D-4D6E-9FB0-377A4824B8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68280" y="892080"/>
            <a:ext cx="8447040" cy="508176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2887560" y="549360"/>
            <a:ext cx="36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创意设计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903320" y="663480"/>
            <a:ext cx="533556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网络科技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论文答辩ppt模板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通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医疗卫生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6607080" y="1108080"/>
            <a:ext cx="1042920" cy="262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202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461880" y="1324080"/>
            <a:ext cx="821844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187280" y="873000"/>
            <a:ext cx="63230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771640" y="250920"/>
            <a:ext cx="2984760" cy="64040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250920" y="648828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633744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900000" y="1339920"/>
            <a:ext cx="733896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270240" y="34920"/>
            <a:ext cx="260352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52840" y="301680"/>
            <a:ext cx="383688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31T11:33:00Z</dcterms:created>
  <dc:creator>haobao-007</dc:creator>
  <dc:description/>
  <dc:language>en-US</dc:language>
  <cp:lastModifiedBy>yu wang</cp:lastModifiedBy>
  <dcterms:modified xsi:type="dcterms:W3CDTF">2015-08-14T11:18:37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