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7FD-FDBE-4245-82CB-B2A9098E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B1F-AD67-41A2-A230-D11B1AAD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CC6-422F-4A17-A21D-84F3432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8BD-EC5B-4E0A-8507-3B3435F4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126-064A-4DA9-AD08-0CB11A7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E7E-A51E-4B99-8019-FDE1E00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338-48BE-408F-A812-8B477F64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195-B743-49A2-85CD-4D4135F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170-09C5-4947-B8A9-66BCC60A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75D-F10B-4839-BA82-CEDA7EB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91C-73FC-455F-A7C0-FAE41810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2E0-F6E0-41CD-8B79-931455E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16F2-6526-43B0-9527-BADEFE519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1160" y="-1440"/>
            <a:ext cx="9144000" cy="1277640"/>
            <a:chOff x="11160" y="-1440"/>
            <a:chExt cx="9144000" cy="1277640"/>
          </a:xfrm>
        </p:grpSpPr>
        <p:sp>
          <p:nvSpPr>
            <p:cNvPr id="42" name="矩形 3"/>
            <p:cNvSpPr/>
            <p:nvPr/>
          </p:nvSpPr>
          <p:spPr>
            <a:xfrm>
              <a:off x="11160" y="1440"/>
              <a:ext cx="914400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827280" y="-1440"/>
              <a:ext cx="936000" cy="1274760"/>
              <a:chOff x="827280" y="-1440"/>
              <a:chExt cx="936000" cy="1274760"/>
            </a:xfrm>
          </p:grpSpPr>
          <p:sp>
            <p:nvSpPr>
              <p:cNvPr id="44" name="平行四边形 4"/>
              <p:cNvSpPr/>
              <p:nvPr/>
            </p:nvSpPr>
            <p:spPr>
              <a:xfrm flipH="1">
                <a:off x="82728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平行四边形 5"/>
              <p:cNvSpPr/>
              <p:nvPr/>
            </p:nvSpPr>
            <p:spPr>
              <a:xfrm flipH="1" flipV="1">
                <a:off x="82728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Group 7"/>
            <p:cNvGrpSpPr/>
            <p:nvPr/>
          </p:nvGrpSpPr>
          <p:grpSpPr>
            <a:xfrm>
              <a:off x="1931760" y="-1440"/>
              <a:ext cx="936000" cy="1274760"/>
              <a:chOff x="1931760" y="-1440"/>
              <a:chExt cx="936000" cy="1274760"/>
            </a:xfrm>
          </p:grpSpPr>
          <p:sp>
            <p:nvSpPr>
              <p:cNvPr id="47" name="平行四边形 16"/>
              <p:cNvSpPr/>
              <p:nvPr/>
            </p:nvSpPr>
            <p:spPr>
              <a:xfrm flipH="1">
                <a:off x="1931760" y="-144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平行四边形 17"/>
              <p:cNvSpPr/>
              <p:nvPr/>
            </p:nvSpPr>
            <p:spPr>
              <a:xfrm flipH="1" flipV="1">
                <a:off x="1931760" y="660600"/>
                <a:ext cx="936000" cy="612720"/>
              </a:xfrm>
              <a:prstGeom prst="parallelogram">
                <a:avLst>
                  <a:gd name="adj" fmla="val 25043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3035880" y="-1440"/>
              <a:ext cx="936000" cy="1274760"/>
              <a:chOff x="3035880" y="-1440"/>
              <a:chExt cx="936000" cy="1274760"/>
            </a:xfrm>
          </p:grpSpPr>
          <p:sp>
            <p:nvSpPr>
              <p:cNvPr id="50" name="平行四边形 19"/>
              <p:cNvSpPr/>
              <p:nvPr/>
            </p:nvSpPr>
            <p:spPr>
              <a:xfrm flipH="1">
                <a:off x="303588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平行四边形 20"/>
              <p:cNvSpPr/>
              <p:nvPr/>
            </p:nvSpPr>
            <p:spPr>
              <a:xfrm flipH="1" flipV="1">
                <a:off x="303588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Group 13"/>
            <p:cNvGrpSpPr/>
            <p:nvPr/>
          </p:nvGrpSpPr>
          <p:grpSpPr>
            <a:xfrm>
              <a:off x="4140000" y="-1440"/>
              <a:ext cx="936000" cy="1274760"/>
              <a:chOff x="4140000" y="-1440"/>
              <a:chExt cx="936000" cy="1274760"/>
            </a:xfrm>
          </p:grpSpPr>
          <p:sp>
            <p:nvSpPr>
              <p:cNvPr id="53" name="平行四边形 22"/>
              <p:cNvSpPr/>
              <p:nvPr/>
            </p:nvSpPr>
            <p:spPr>
              <a:xfrm flipH="1">
                <a:off x="4140000" y="-144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平行四边形 23"/>
              <p:cNvSpPr/>
              <p:nvPr/>
            </p:nvSpPr>
            <p:spPr>
              <a:xfrm flipH="1" flipV="1">
                <a:off x="4140000" y="660600"/>
                <a:ext cx="936000" cy="612720"/>
              </a:xfrm>
              <a:prstGeom prst="parallelogram">
                <a:avLst>
                  <a:gd name="adj" fmla="val 25043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5244120" y="-1440"/>
              <a:ext cx="936000" cy="1274760"/>
              <a:chOff x="5244120" y="-1440"/>
              <a:chExt cx="936000" cy="1274760"/>
            </a:xfrm>
          </p:grpSpPr>
          <p:sp>
            <p:nvSpPr>
              <p:cNvPr id="56" name="平行四边形 25"/>
              <p:cNvSpPr/>
              <p:nvPr/>
            </p:nvSpPr>
            <p:spPr>
              <a:xfrm flipH="1">
                <a:off x="524412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平行四边形 26"/>
              <p:cNvSpPr/>
              <p:nvPr/>
            </p:nvSpPr>
            <p:spPr>
              <a:xfrm flipH="1" flipV="1">
                <a:off x="524412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6348240" y="-1440"/>
              <a:ext cx="936000" cy="1274760"/>
              <a:chOff x="6348240" y="-1440"/>
              <a:chExt cx="936000" cy="1274760"/>
            </a:xfrm>
          </p:grpSpPr>
          <p:sp>
            <p:nvSpPr>
              <p:cNvPr id="59" name="平行四边形 28"/>
              <p:cNvSpPr/>
              <p:nvPr/>
            </p:nvSpPr>
            <p:spPr>
              <a:xfrm flipH="1">
                <a:off x="634824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平行四边形 29"/>
              <p:cNvSpPr/>
              <p:nvPr/>
            </p:nvSpPr>
            <p:spPr>
              <a:xfrm flipH="1" flipV="1">
                <a:off x="634824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7452360" y="-1440"/>
              <a:ext cx="936000" cy="1274760"/>
              <a:chOff x="7452360" y="-1440"/>
              <a:chExt cx="936000" cy="1274760"/>
            </a:xfrm>
          </p:grpSpPr>
          <p:sp>
            <p:nvSpPr>
              <p:cNvPr id="62" name="平行四边形 31"/>
              <p:cNvSpPr/>
              <p:nvPr/>
            </p:nvSpPr>
            <p:spPr>
              <a:xfrm flipH="1">
                <a:off x="745236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平行四边形 32"/>
              <p:cNvSpPr/>
              <p:nvPr/>
            </p:nvSpPr>
            <p:spPr>
              <a:xfrm flipH="1" flipV="1">
                <a:off x="745236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椭圆 33"/>
            <p:cNvSpPr/>
            <p:nvPr/>
          </p:nvSpPr>
          <p:spPr>
            <a:xfrm>
              <a:off x="179280" y="37620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34"/>
            <p:cNvSpPr/>
            <p:nvPr/>
          </p:nvSpPr>
          <p:spPr>
            <a:xfrm>
              <a:off x="179280" y="77148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"/>
          <p:cNvSpPr/>
          <p:nvPr/>
        </p:nvSpPr>
        <p:spPr>
          <a:xfrm>
            <a:off x="1581120" y="2295360"/>
            <a:ext cx="73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白简约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3384360" y="31478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ub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8496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75532E-006 L -0.00122 -0.18359 E"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直接连接符 2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6"/>
          <p:cNvSpPr/>
          <p:nvPr/>
        </p:nvSpPr>
        <p:spPr>
          <a:xfrm>
            <a:off x="0" y="2787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7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8"/>
          <p:cNvSpPr/>
          <p:nvPr/>
        </p:nvSpPr>
        <p:spPr>
          <a:xfrm flipV="1">
            <a:off x="248436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17"/>
          <p:cNvSpPr/>
          <p:nvPr/>
        </p:nvSpPr>
        <p:spPr>
          <a:xfrm flipV="1">
            <a:off x="3851280" y="2787480"/>
            <a:ext cx="0" cy="1872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21"/>
          <p:cNvSpPr/>
          <p:nvPr/>
        </p:nvSpPr>
        <p:spPr>
          <a:xfrm flipV="1">
            <a:off x="658800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ShiYanch\Desktop\PNG\Others\White\MB_0019_plus.png"/>
          <p:cNvPicPr/>
          <p:nvPr/>
        </p:nvPicPr>
        <p:blipFill>
          <a:blip r:embed="rId3"/>
          <a:stretch/>
        </p:blipFill>
        <p:spPr>
          <a:xfrm>
            <a:off x="12708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2700360" y="131112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680400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ShiYanch\Desktop\PNG\Others\White\MB_0019_plus.png"/>
          <p:cNvPicPr/>
          <p:nvPr/>
        </p:nvPicPr>
        <p:blipFill>
          <a:blip r:embed="rId6"/>
          <a:stretch/>
        </p:blipFill>
        <p:spPr>
          <a:xfrm>
            <a:off x="179280" y="2994120"/>
            <a:ext cx="309600" cy="30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hiYanch\Desktop\PNG\Others\White\MB_0019_plus.png"/>
          <p:cNvPicPr/>
          <p:nvPr/>
        </p:nvPicPr>
        <p:blipFill>
          <a:blip r:embed="rId7"/>
          <a:stretch/>
        </p:blipFill>
        <p:spPr>
          <a:xfrm>
            <a:off x="4140360" y="300528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488880" y="12762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132000" y="12412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7201080" y="1235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11280" y="2927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565520" y="29368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93560" y="1841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442e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3116160" y="18111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Stage Line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7219800" y="181116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627120" y="357984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Detail  List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4572000" y="35798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hoto Show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5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276720" y="38671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442e"/>
                </a:solidFill>
                <a:latin typeface="微软雅黑"/>
                <a:ea typeface="微软雅黑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Users\ShiYanch\Desktop\PNG\Others\White\MB_0019_plus.png"/>
          <p:cNvPicPr/>
          <p:nvPr/>
        </p:nvPicPr>
        <p:blipFill>
          <a:blip r:embed="rId3"/>
          <a:stretch/>
        </p:blipFill>
        <p:spPr>
          <a:xfrm>
            <a:off x="336600" y="140508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5076720" y="1405080"/>
            <a:ext cx="308160" cy="309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5508720" y="130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755640" y="1300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524560" y="1779480"/>
            <a:ext cx="329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900000" y="17794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897E-006 L 0 -0.20969 E">
                                      <p:cBhvr>
                                        <p:cTn id="19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10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1"/>
          <p:cNvSpPr/>
          <p:nvPr/>
        </p:nvSpPr>
        <p:spPr>
          <a:xfrm flipV="1">
            <a:off x="457344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4692600" y="3594240"/>
            <a:ext cx="208764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6"/>
          <p:cNvSpPr/>
          <p:nvPr/>
        </p:nvSpPr>
        <p:spPr>
          <a:xfrm>
            <a:off x="7007400" y="35924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8000" y="3560760"/>
            <a:ext cx="208764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2387520" y="35798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18"/>
          <p:cNvSpPr/>
          <p:nvPr/>
        </p:nvSpPr>
        <p:spPr>
          <a:xfrm>
            <a:off x="108000" y="3579840"/>
            <a:ext cx="208764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5092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256716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712800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484812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2"/>
          <p:cNvSpPr/>
          <p:nvPr/>
        </p:nvSpPr>
        <p:spPr>
          <a:xfrm>
            <a:off x="2387520" y="3603600"/>
            <a:ext cx="208908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4694400" y="3579840"/>
            <a:ext cx="208728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6983280" y="3594240"/>
            <a:ext cx="20894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5"/>
          <p:cNvSpPr/>
          <p:nvPr/>
        </p:nvSpPr>
        <p:spPr>
          <a:xfrm>
            <a:off x="0" y="3579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6440" y="386712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2711520" y="385776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7319880" y="384804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9"/>
          <p:cNvSpPr/>
          <p:nvPr/>
        </p:nvSpPr>
        <p:spPr>
          <a:xfrm>
            <a:off x="5014800" y="387360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17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6" dur="1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276120" y="689040"/>
            <a:ext cx="2832120" cy="40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-249120" y="720720"/>
            <a:ext cx="2778120" cy="4035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7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627280" y="121752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①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2627280" y="302580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②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983040" y="15256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983040" y="337644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43" name="矩形 14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圆角矩形 16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圆角矩形 17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8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19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圆角矩形 20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21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圆角矩形 22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圆角矩形 23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53" name="矩形 15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圆角矩形 24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5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圆角矩形 26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圆角矩形 27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8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圆角矩形 29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30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31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直接连接符 5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3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3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14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51460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247176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-249120" y="720720"/>
            <a:ext cx="2778120" cy="40831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0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74" name="矩形 18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圆角矩形 19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圆角矩形 20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圆角矩形 21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圆角矩形 22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圆角矩形 23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圆角矩形 24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25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6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85" name="矩形 28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29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30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圆角矩形 31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32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圆角矩形 33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圆角矩形 34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圆角矩形 35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6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2652840" y="146844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2652840" y="22874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6"/>
          <a:stretch/>
        </p:blipFill>
        <p:spPr>
          <a:xfrm>
            <a:off x="2652840" y="32288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7"/>
          <a:stretch/>
        </p:blipFill>
        <p:spPr>
          <a:xfrm>
            <a:off x="2652840" y="404820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3132000" y="14097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111111111111111111111111111111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3165480" y="2181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222222222222222222222222222222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119400" y="3129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333333333333333333333333333333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2"/>
          <p:cNvSpPr/>
          <p:nvPr/>
        </p:nvSpPr>
        <p:spPr>
          <a:xfrm>
            <a:off x="3116160" y="39830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44444444444444444444444444444444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0392E-006 L -0.00191 0.16034 E">
                                      <p:cBhvr>
                                        <p:cTn id="531" dur="1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8384E-007 L -0.00052 -0.16312 E">
                                      <p:cBhvr>
                                        <p:cTn id="533" dur="15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36360" y="1311120"/>
            <a:ext cx="9144000" cy="288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-682560" y="1347840"/>
            <a:ext cx="17496000" cy="2736720"/>
            <a:chOff x="-682560" y="1347840"/>
            <a:chExt cx="17496000" cy="2736720"/>
          </a:xfrm>
        </p:grpSpPr>
        <p:sp>
          <p:nvSpPr>
            <p:cNvPr id="208" name="矩形 65"/>
            <p:cNvSpPr/>
            <p:nvPr/>
          </p:nvSpPr>
          <p:spPr>
            <a:xfrm>
              <a:off x="-34560" y="1347840"/>
              <a:ext cx="16848000" cy="2736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68"/>
            <p:cNvSpPr/>
            <p:nvPr/>
          </p:nvSpPr>
          <p:spPr>
            <a:xfrm>
              <a:off x="-68256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69"/>
            <p:cNvSpPr/>
            <p:nvPr/>
          </p:nvSpPr>
          <p:spPr>
            <a:xfrm>
              <a:off x="226224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71"/>
            <p:cNvSpPr/>
            <p:nvPr/>
          </p:nvSpPr>
          <p:spPr>
            <a:xfrm>
              <a:off x="5078520" y="230184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72"/>
            <p:cNvSpPr/>
            <p:nvPr/>
          </p:nvSpPr>
          <p:spPr>
            <a:xfrm>
              <a:off x="790236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73"/>
            <p:cNvSpPr/>
            <p:nvPr/>
          </p:nvSpPr>
          <p:spPr>
            <a:xfrm>
              <a:off x="10764720" y="230184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74"/>
            <p:cNvSpPr/>
            <p:nvPr/>
          </p:nvSpPr>
          <p:spPr>
            <a:xfrm>
              <a:off x="1378908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组合 67" descr=""/>
          <p:cNvPicPr/>
          <p:nvPr/>
        </p:nvPicPr>
        <p:blipFill>
          <a:blip r:embed="rId3"/>
          <a:stretch/>
        </p:blipFill>
        <p:spPr>
          <a:xfrm>
            <a:off x="-65160" y="1109520"/>
            <a:ext cx="9301320" cy="420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6" descr=""/>
          <p:cNvPicPr/>
          <p:nvPr/>
        </p:nvPicPr>
        <p:blipFill>
          <a:blip r:embed="rId4"/>
          <a:stretch/>
        </p:blipFill>
        <p:spPr>
          <a:xfrm>
            <a:off x="-90360" y="3919680"/>
            <a:ext cx="9277200" cy="420480"/>
          </a:xfrm>
          <a:prstGeom prst="rect">
            <a:avLst/>
          </a:prstGeom>
          <a:ln w="0">
            <a:noFill/>
          </a:ln>
        </p:spPr>
      </p:pic>
      <p:sp>
        <p:nvSpPr>
          <p:cNvPr id="217" name="矩形 12"/>
          <p:cNvSpPr/>
          <p:nvPr/>
        </p:nvSpPr>
        <p:spPr>
          <a:xfrm>
            <a:off x="-46080" y="4670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6" dur="7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8041E-006 L -0.8151 0.01389 E">
                                      <p:cBhvr>
                                        <p:cTn id="660" dur="10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-1003320"/>
            <a:ext cx="9144000" cy="1278360"/>
            <a:chOff x="0" y="-1003320"/>
            <a:chExt cx="9144000" cy="1278360"/>
          </a:xfrm>
        </p:grpSpPr>
        <p:sp>
          <p:nvSpPr>
            <p:cNvPr id="219" name="矩形 3"/>
            <p:cNvSpPr/>
            <p:nvPr/>
          </p:nvSpPr>
          <p:spPr>
            <a:xfrm>
              <a:off x="0" y="-1000080"/>
              <a:ext cx="9144000" cy="127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816120" y="-1003320"/>
              <a:ext cx="936000" cy="1275120"/>
              <a:chOff x="816120" y="-1003320"/>
              <a:chExt cx="936000" cy="1275120"/>
            </a:xfrm>
          </p:grpSpPr>
          <p:sp>
            <p:nvSpPr>
              <p:cNvPr id="221" name="平行四边形 4"/>
              <p:cNvSpPr/>
              <p:nvPr/>
            </p:nvSpPr>
            <p:spPr>
              <a:xfrm flipH="1">
                <a:off x="81612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平行四边形 5"/>
              <p:cNvSpPr/>
              <p:nvPr/>
            </p:nvSpPr>
            <p:spPr>
              <a:xfrm flipH="1" flipV="1">
                <a:off x="81612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7"/>
            <p:cNvGrpSpPr/>
            <p:nvPr/>
          </p:nvGrpSpPr>
          <p:grpSpPr>
            <a:xfrm>
              <a:off x="1920600" y="-1003320"/>
              <a:ext cx="936000" cy="1275120"/>
              <a:chOff x="1920600" y="-1003320"/>
              <a:chExt cx="936000" cy="1275120"/>
            </a:xfrm>
          </p:grpSpPr>
          <p:sp>
            <p:nvSpPr>
              <p:cNvPr id="224" name="平行四边形 16"/>
              <p:cNvSpPr/>
              <p:nvPr/>
            </p:nvSpPr>
            <p:spPr>
              <a:xfrm flipH="1">
                <a:off x="1920600" y="-100332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平行四边形 17"/>
              <p:cNvSpPr/>
              <p:nvPr/>
            </p:nvSpPr>
            <p:spPr>
              <a:xfrm flipH="1" flipV="1">
                <a:off x="1920600" y="-341280"/>
                <a:ext cx="936000" cy="613080"/>
              </a:xfrm>
              <a:prstGeom prst="parallelogram">
                <a:avLst>
                  <a:gd name="adj" fmla="val 2502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3024720" y="-1003320"/>
              <a:ext cx="936000" cy="1275120"/>
              <a:chOff x="3024720" y="-1003320"/>
              <a:chExt cx="936000" cy="1275120"/>
            </a:xfrm>
          </p:grpSpPr>
          <p:sp>
            <p:nvSpPr>
              <p:cNvPr id="227" name="平行四边形 19"/>
              <p:cNvSpPr/>
              <p:nvPr/>
            </p:nvSpPr>
            <p:spPr>
              <a:xfrm flipH="1">
                <a:off x="302472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平行四边形 20"/>
              <p:cNvSpPr/>
              <p:nvPr/>
            </p:nvSpPr>
            <p:spPr>
              <a:xfrm flipH="1" flipV="1">
                <a:off x="302472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Group 13"/>
            <p:cNvGrpSpPr/>
            <p:nvPr/>
          </p:nvGrpSpPr>
          <p:grpSpPr>
            <a:xfrm>
              <a:off x="4128840" y="-1003320"/>
              <a:ext cx="936000" cy="1275120"/>
              <a:chOff x="4128840" y="-1003320"/>
              <a:chExt cx="936000" cy="1275120"/>
            </a:xfrm>
          </p:grpSpPr>
          <p:sp>
            <p:nvSpPr>
              <p:cNvPr id="230" name="平行四边形 22"/>
              <p:cNvSpPr/>
              <p:nvPr/>
            </p:nvSpPr>
            <p:spPr>
              <a:xfrm flipH="1">
                <a:off x="4128840" y="-100332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平行四边形 23"/>
              <p:cNvSpPr/>
              <p:nvPr/>
            </p:nvSpPr>
            <p:spPr>
              <a:xfrm flipH="1" flipV="1">
                <a:off x="4128840" y="-341280"/>
                <a:ext cx="936000" cy="613080"/>
              </a:xfrm>
              <a:prstGeom prst="parallelogram">
                <a:avLst>
                  <a:gd name="adj" fmla="val 2502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16"/>
            <p:cNvGrpSpPr/>
            <p:nvPr/>
          </p:nvGrpSpPr>
          <p:grpSpPr>
            <a:xfrm>
              <a:off x="5232960" y="-1003320"/>
              <a:ext cx="936000" cy="1275120"/>
              <a:chOff x="5232960" y="-1003320"/>
              <a:chExt cx="936000" cy="1275120"/>
            </a:xfrm>
          </p:grpSpPr>
          <p:sp>
            <p:nvSpPr>
              <p:cNvPr id="233" name="平行四边形 25"/>
              <p:cNvSpPr/>
              <p:nvPr/>
            </p:nvSpPr>
            <p:spPr>
              <a:xfrm flipH="1">
                <a:off x="523296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平行四边形 26"/>
              <p:cNvSpPr/>
              <p:nvPr/>
            </p:nvSpPr>
            <p:spPr>
              <a:xfrm flipH="1" flipV="1">
                <a:off x="523296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Group 19"/>
            <p:cNvGrpSpPr/>
            <p:nvPr/>
          </p:nvGrpSpPr>
          <p:grpSpPr>
            <a:xfrm>
              <a:off x="6337080" y="-1003320"/>
              <a:ext cx="936000" cy="1275120"/>
              <a:chOff x="6337080" y="-1003320"/>
              <a:chExt cx="936000" cy="1275120"/>
            </a:xfrm>
          </p:grpSpPr>
          <p:sp>
            <p:nvSpPr>
              <p:cNvPr id="236" name="平行四边形 28"/>
              <p:cNvSpPr/>
              <p:nvPr/>
            </p:nvSpPr>
            <p:spPr>
              <a:xfrm flipH="1">
                <a:off x="633708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平行四边形 29"/>
              <p:cNvSpPr/>
              <p:nvPr/>
            </p:nvSpPr>
            <p:spPr>
              <a:xfrm flipH="1" flipV="1">
                <a:off x="633708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Group 22"/>
            <p:cNvGrpSpPr/>
            <p:nvPr/>
          </p:nvGrpSpPr>
          <p:grpSpPr>
            <a:xfrm>
              <a:off x="7441200" y="-1003320"/>
              <a:ext cx="936000" cy="1275120"/>
              <a:chOff x="7441200" y="-1003320"/>
              <a:chExt cx="936000" cy="1275120"/>
            </a:xfrm>
          </p:grpSpPr>
          <p:sp>
            <p:nvSpPr>
              <p:cNvPr id="239" name="平行四边形 31"/>
              <p:cNvSpPr/>
              <p:nvPr/>
            </p:nvSpPr>
            <p:spPr>
              <a:xfrm flipH="1">
                <a:off x="744120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平行四边形 32"/>
              <p:cNvSpPr/>
              <p:nvPr/>
            </p:nvSpPr>
            <p:spPr>
              <a:xfrm flipH="1" flipV="1">
                <a:off x="744120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1" name="椭圆 33"/>
            <p:cNvSpPr/>
            <p:nvPr/>
          </p:nvSpPr>
          <p:spPr>
            <a:xfrm>
              <a:off x="168120" y="-62532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椭圆 34"/>
            <p:cNvSpPr/>
            <p:nvPr/>
          </p:nvSpPr>
          <p:spPr>
            <a:xfrm>
              <a:off x="168120" y="-22968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空心弧 7"/>
          <p:cNvSpPr/>
          <p:nvPr/>
        </p:nvSpPr>
        <p:spPr>
          <a:xfrm>
            <a:off x="3529080" y="1924200"/>
            <a:ext cx="2085840" cy="2087280"/>
          </a:xfrm>
          <a:custGeom>
            <a:avLst/>
            <a:gdLst>
              <a:gd name="textAreaLeft" fmla="*/ 0 w 2085840"/>
              <a:gd name="textAreaRight" fmla="*/ 2086200 w 208584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2085975" h="2087563">
                <a:moveTo>
                  <a:pt x="0" y="1043782"/>
                </a:moveTo>
                <a:cubicBezTo>
                  <a:pt x="0" y="473615"/>
                  <a:pt x="457183" y="8948"/>
                  <a:pt x="1026848" y="125"/>
                </a:cubicBezTo>
                <a:cubicBezTo>
                  <a:pt x="1596532" y="-8698"/>
                  <a:pt x="2067873" y="441617"/>
                  <a:pt x="2085478" y="1011531"/>
                </a:cubicBezTo>
                <a:lnTo>
                  <a:pt x="2035083" y="1013089"/>
                </a:lnTo>
                <a:cubicBezTo>
                  <a:pt x="2018330" y="470704"/>
                  <a:pt x="1569773" y="42140"/>
                  <a:pt x="1027628" y="50537"/>
                </a:cubicBezTo>
                <a:cubicBezTo>
                  <a:pt x="485501" y="58934"/>
                  <a:pt x="50419" y="501156"/>
                  <a:pt x="50419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空心弧 35"/>
          <p:cNvSpPr/>
          <p:nvPr/>
        </p:nvSpPr>
        <p:spPr>
          <a:xfrm flipV="1">
            <a:off x="3529080" y="1905120"/>
            <a:ext cx="2087640" cy="2087280"/>
          </a:xfrm>
          <a:custGeom>
            <a:avLst/>
            <a:gdLst>
              <a:gd name="textAreaLeft" fmla="*/ 0 w 2087640"/>
              <a:gd name="textAreaRight" fmla="*/ 2088000 w 2087640"/>
              <a:gd name="textAreaTop" fmla="*/ 360 h 2087280"/>
              <a:gd name="textAreaBottom" fmla="*/ 2088000 h 2087280"/>
            </a:gdLst>
            <a:ahLst/>
            <a:rect l="textAreaLeft" t="textAreaTop" r="textAreaRight" b="textAreaBottom"/>
            <a:pathLst>
              <a:path w="2087562" h="2087563">
                <a:moveTo>
                  <a:pt x="0" y="1043782"/>
                </a:moveTo>
                <a:cubicBezTo>
                  <a:pt x="0" y="473610"/>
                  <a:pt x="457538" y="8941"/>
                  <a:pt x="1027641" y="125"/>
                </a:cubicBezTo>
                <a:cubicBezTo>
                  <a:pt x="1597744" y="-8691"/>
                  <a:pt x="2069432" y="441608"/>
                  <a:pt x="2087063" y="1011507"/>
                </a:cubicBezTo>
                <a:lnTo>
                  <a:pt x="2036631" y="1013066"/>
                </a:lnTo>
                <a:cubicBezTo>
                  <a:pt x="2019852" y="470716"/>
                  <a:pt x="1570966" y="42185"/>
                  <a:pt x="1028421" y="50575"/>
                </a:cubicBezTo>
                <a:cubicBezTo>
                  <a:pt x="485877" y="58965"/>
                  <a:pt x="50455" y="501172"/>
                  <a:pt x="50455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8"/>
          <p:cNvSpPr/>
          <p:nvPr/>
        </p:nvSpPr>
        <p:spPr>
          <a:xfrm>
            <a:off x="1763640" y="2643120"/>
            <a:ext cx="58341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938240" y="2557440"/>
            <a:ext cx="55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—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1" descr="logo"/>
          <p:cNvPicPr/>
          <p:nvPr/>
        </p:nvPicPr>
        <p:blipFill>
          <a:blip r:embed="rId1"/>
          <a:stretch/>
        </p:blipFill>
        <p:spPr>
          <a:xfrm>
            <a:off x="3492360" y="987480"/>
            <a:ext cx="2200320" cy="73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4455E-006 L 0 0.19308 E">
                                      <p:cBhvr>
                                        <p:cTn id="6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-106200" y="0"/>
            <a:ext cx="1468440" cy="51436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"/>
          <p:cNvSpPr/>
          <p:nvPr/>
        </p:nvSpPr>
        <p:spPr>
          <a:xfrm>
            <a:off x="2268360" y="915840"/>
            <a:ext cx="388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06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0816E-006 L -2.77778E-007 -1.73115 E">
                                      <p:cBhvr>
                                        <p:cTn id="713" dur="1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9:42Z</dcterms:created>
  <dc:creator>ppt宝藏</dc:creator>
  <dc:description/>
  <dc:language>en-US</dc:language>
  <cp:lastModifiedBy>yu wang</cp:lastModifiedBy>
  <cp:lastPrinted>1899-12-30T00:00:00Z</cp:lastPrinted>
  <dcterms:modified xsi:type="dcterms:W3CDTF">2015-08-03T12:26:01Z</dcterms:modified>
  <cp:revision>5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