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A74-B23E-4214-8ADB-BABC3D2F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40C-BDCA-4AF6-98D5-AD55F7A8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115-AE49-4781-BE35-2C3F844B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AD9-0B29-4BCB-AB53-05154965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E9C8-D91D-447B-87A4-A152AFDB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7309-B3DB-4E97-9E2D-82B52A04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FA25-64CE-4B75-8150-47245846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C202-8950-4DF5-93DE-C565C99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5036-FE97-4690-8CB4-B5DFD1CB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7D8-FBAA-4150-9E81-7FAD5A65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9D9D-EFA5-45B3-8500-803D6A1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DAF-5BF2-423F-91DC-62DA31BE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B5C0-7249-48BF-9AEC-B480FE20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D03D-27EE-4621-992A-EB93C36C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7A3A-9690-4966-BC08-637E116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0FF8-BDD3-4196-9730-A2A992D8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714-FCE6-46DF-B2C2-80C75719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602-720C-4414-BDAB-6586FB9F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591-BC8A-4BC7-968B-2C6FBE02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E2A-0F13-4DA4-9676-6EE432E7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3B4-3A43-4276-A299-A6E3BCF8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2D2-42C7-4A39-BBAE-6A18823B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9BC-0058-4EF7-B01B-E732B03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533-C603-44A7-AE1C-6A1E4AA5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491A81-4E29-455A-9642-830034DE3F0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1D8E04-0016-498B-AA6B-6EEFA0D9BD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/>
          <p:cNvSpPr/>
          <p:nvPr/>
        </p:nvSpPr>
        <p:spPr>
          <a:xfrm>
            <a:off x="3189240" y="1954440"/>
            <a:ext cx="499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黑白双色艺术简洁</a:t>
            </a:r>
            <a:r>
              <a:rPr b="0" lang="en-US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5842800" y="3711240"/>
            <a:ext cx="432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最直观传达汇报主题。附加演讲者、时间、公司等信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36"/>
          <p:cNvGrpSpPr/>
          <p:nvPr/>
        </p:nvGrpSpPr>
        <p:grpSpPr>
          <a:xfrm>
            <a:off x="755640" y="4733280"/>
            <a:ext cx="4363920" cy="110520"/>
            <a:chOff x="755640" y="4733280"/>
            <a:chExt cx="4363920" cy="110520"/>
          </a:xfrm>
        </p:grpSpPr>
        <p:cxnSp>
          <p:nvCxnSpPr>
            <p:cNvPr id="85" name="直接连接符 4"/>
            <p:cNvCxnSpPr/>
            <p:nvPr/>
          </p:nvCxnSpPr>
          <p:spPr>
            <a:xfrm>
              <a:off x="755640" y="47332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86" name="直接连接符 7"/>
            <p:cNvCxnSpPr/>
            <p:nvPr/>
          </p:nvCxnSpPr>
          <p:spPr>
            <a:xfrm>
              <a:off x="755640" y="48438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87" name="直接连接符 8"/>
            <p:cNvCxnSpPr/>
            <p:nvPr/>
          </p:nvCxnSpPr>
          <p:spPr>
            <a:xfrm>
              <a:off x="755640" y="4790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88" name="组合 35"/>
          <p:cNvGrpSpPr/>
          <p:nvPr/>
        </p:nvGrpSpPr>
        <p:grpSpPr>
          <a:xfrm>
            <a:off x="6953040" y="4733280"/>
            <a:ext cx="4363920" cy="110520"/>
            <a:chOff x="6953040" y="4733280"/>
            <a:chExt cx="4363920" cy="110520"/>
          </a:xfrm>
        </p:grpSpPr>
        <p:cxnSp>
          <p:nvCxnSpPr>
            <p:cNvPr id="89" name="直接连接符 32"/>
            <p:cNvCxnSpPr/>
            <p:nvPr/>
          </p:nvCxnSpPr>
          <p:spPr>
            <a:xfrm>
              <a:off x="6953040" y="47332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0" name="直接连接符 33"/>
            <p:cNvCxnSpPr/>
            <p:nvPr/>
          </p:nvCxnSpPr>
          <p:spPr>
            <a:xfrm>
              <a:off x="6953040" y="48438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1" name="直接连接符 34"/>
            <p:cNvCxnSpPr/>
            <p:nvPr/>
          </p:nvCxnSpPr>
          <p:spPr>
            <a:xfrm>
              <a:off x="6953040" y="4790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92" name="图片 37" descr=""/>
          <p:cNvPicPr/>
          <p:nvPr/>
        </p:nvPicPr>
        <p:blipFill>
          <a:blip r:embed="rId1"/>
          <a:stretch/>
        </p:blipFill>
        <p:spPr>
          <a:xfrm>
            <a:off x="5896440" y="4614840"/>
            <a:ext cx="305280" cy="35208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38"/>
          <p:cNvSpPr/>
          <p:nvPr/>
        </p:nvSpPr>
        <p:spPr>
          <a:xfrm>
            <a:off x="5798520" y="540900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臭喷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文本框 39"/>
          <p:cNvSpPr/>
          <p:nvPr/>
        </p:nvSpPr>
        <p:spPr>
          <a:xfrm>
            <a:off x="5653800" y="5691600"/>
            <a:ext cx="790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DEMON CHA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"/>
          <p:cNvSpPr/>
          <p:nvPr/>
        </p:nvSpPr>
        <p:spPr>
          <a:xfrm>
            <a:off x="5664240" y="4971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文本框 16"/>
          <p:cNvSpPr/>
          <p:nvPr/>
        </p:nvSpPr>
        <p:spPr>
          <a:xfrm>
            <a:off x="217044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壹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3528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贰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870012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叁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组合 19"/>
          <p:cNvGrpSpPr/>
          <p:nvPr/>
        </p:nvGrpSpPr>
        <p:grpSpPr>
          <a:xfrm>
            <a:off x="755640" y="1990080"/>
            <a:ext cx="4363920" cy="110520"/>
            <a:chOff x="755640" y="1990080"/>
            <a:chExt cx="4363920" cy="110520"/>
          </a:xfrm>
        </p:grpSpPr>
        <p:cxnSp>
          <p:nvCxnSpPr>
            <p:cNvPr id="101" name="直接连接符 20"/>
            <p:cNvCxnSpPr/>
            <p:nvPr/>
          </p:nvCxnSpPr>
          <p:spPr>
            <a:xfrm>
              <a:off x="755640" y="19900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02" name="直接连接符 21"/>
            <p:cNvCxnSpPr/>
            <p:nvPr/>
          </p:nvCxnSpPr>
          <p:spPr>
            <a:xfrm>
              <a:off x="755640" y="21006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03" name="直接连接符 22"/>
            <p:cNvCxnSpPr/>
            <p:nvPr/>
          </p:nvCxnSpPr>
          <p:spPr>
            <a:xfrm>
              <a:off x="755640" y="20476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104" name="组合 23"/>
          <p:cNvGrpSpPr/>
          <p:nvPr/>
        </p:nvGrpSpPr>
        <p:grpSpPr>
          <a:xfrm>
            <a:off x="6953040" y="1990080"/>
            <a:ext cx="4363920" cy="110520"/>
            <a:chOff x="6953040" y="1990080"/>
            <a:chExt cx="4363920" cy="110520"/>
          </a:xfrm>
        </p:grpSpPr>
        <p:cxnSp>
          <p:nvCxnSpPr>
            <p:cNvPr id="105" name="直接连接符 24"/>
            <p:cNvCxnSpPr/>
            <p:nvPr/>
          </p:nvCxnSpPr>
          <p:spPr>
            <a:xfrm>
              <a:off x="6953040" y="19900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06" name="直接连接符 25"/>
            <p:cNvCxnSpPr/>
            <p:nvPr/>
          </p:nvCxnSpPr>
          <p:spPr>
            <a:xfrm>
              <a:off x="6953040" y="21006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07" name="直接连接符 26"/>
            <p:cNvCxnSpPr/>
            <p:nvPr/>
          </p:nvCxnSpPr>
          <p:spPr>
            <a:xfrm>
              <a:off x="6953040" y="20476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108" name="图片 27" descr=""/>
          <p:cNvPicPr/>
          <p:nvPr/>
        </p:nvPicPr>
        <p:blipFill>
          <a:blip r:embed="rId1"/>
          <a:stretch/>
        </p:blipFill>
        <p:spPr>
          <a:xfrm>
            <a:off x="5896440" y="1871640"/>
            <a:ext cx="305280" cy="35208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8"/>
          <p:cNvSpPr/>
          <p:nvPr/>
        </p:nvSpPr>
        <p:spPr>
          <a:xfrm>
            <a:off x="2614680" y="49431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一目了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文本框 29"/>
          <p:cNvSpPr/>
          <p:nvPr/>
        </p:nvSpPr>
        <p:spPr>
          <a:xfrm>
            <a:off x="5755320" y="4943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理清思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文本框 30"/>
          <p:cNvSpPr/>
          <p:nvPr/>
        </p:nvSpPr>
        <p:spPr>
          <a:xfrm>
            <a:off x="9020160" y="4943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合理框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"/>
          <p:cNvGrpSpPr/>
          <p:nvPr/>
        </p:nvGrpSpPr>
        <p:grpSpPr>
          <a:xfrm>
            <a:off x="4175280" y="3784320"/>
            <a:ext cx="110520" cy="1261800"/>
            <a:chOff x="4175280" y="3784320"/>
            <a:chExt cx="110520" cy="1261800"/>
          </a:xfrm>
        </p:grpSpPr>
        <p:cxnSp>
          <p:nvCxnSpPr>
            <p:cNvPr id="113" name="直接连接符 1"/>
            <p:cNvCxnSpPr/>
            <p:nvPr/>
          </p:nvCxnSpPr>
          <p:spPr>
            <a:xfrm flipV="1">
              <a:off x="417528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14" name="直接连接符 2"/>
            <p:cNvCxnSpPr/>
            <p:nvPr/>
          </p:nvCxnSpPr>
          <p:spPr>
            <a:xfrm flipV="1">
              <a:off x="428580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15" name="直接连接符 3"/>
            <p:cNvCxnSpPr/>
            <p:nvPr/>
          </p:nvCxnSpPr>
          <p:spPr>
            <a:xfrm flipV="1">
              <a:off x="423288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4070520" y="3232440"/>
            <a:ext cx="324360" cy="37404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6"/>
          <p:cNvGrpSpPr/>
          <p:nvPr/>
        </p:nvGrpSpPr>
        <p:grpSpPr>
          <a:xfrm>
            <a:off x="4177800" y="1765080"/>
            <a:ext cx="110160" cy="1261800"/>
            <a:chOff x="4177800" y="1765080"/>
            <a:chExt cx="110160" cy="1261800"/>
          </a:xfrm>
        </p:grpSpPr>
        <p:cxnSp>
          <p:nvCxnSpPr>
            <p:cNvPr id="118" name="直接连接符 7"/>
            <p:cNvCxnSpPr/>
            <p:nvPr/>
          </p:nvCxnSpPr>
          <p:spPr>
            <a:xfrm flipV="1">
              <a:off x="417780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19" name="直接连接符 8"/>
            <p:cNvCxnSpPr/>
            <p:nvPr/>
          </p:nvCxnSpPr>
          <p:spPr>
            <a:xfrm flipV="1">
              <a:off x="428796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20" name="直接连接符 9"/>
            <p:cNvCxnSpPr/>
            <p:nvPr/>
          </p:nvCxnSpPr>
          <p:spPr>
            <a:xfrm flipV="1">
              <a:off x="423504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sp>
        <p:nvSpPr>
          <p:cNvPr id="121" name="文本框 10"/>
          <p:cNvSpPr/>
          <p:nvPr/>
        </p:nvSpPr>
        <p:spPr>
          <a:xfrm>
            <a:off x="1559160" y="216864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0d0d0d"/>
                </a:solidFill>
                <a:latin typeface="华康俪金黑W8"/>
                <a:ea typeface="华康俪金黑W8"/>
              </a:rPr>
              <a:t>壹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1"/>
          <p:cNvSpPr/>
          <p:nvPr/>
        </p:nvSpPr>
        <p:spPr>
          <a:xfrm>
            <a:off x="1842840" y="441540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d0d0d"/>
                </a:solidFill>
                <a:latin typeface="汉仪小隶书简"/>
                <a:ea typeface="汉仪小隶书简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2"/>
          <p:cNvSpPr/>
          <p:nvPr/>
        </p:nvSpPr>
        <p:spPr>
          <a:xfrm>
            <a:off x="8128440" y="3213000"/>
            <a:ext cx="30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d0d0d"/>
                </a:solidFill>
                <a:latin typeface="汉仪小隶书简"/>
                <a:ea typeface="汉仪小隶书简"/>
              </a:rPr>
              <a:t>可参考书籍杂志中的设计，起到承上启下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0"/>
          <p:cNvSpPr/>
          <p:nvPr/>
        </p:nvSpPr>
        <p:spPr>
          <a:xfrm>
            <a:off x="5272560" y="1483560"/>
            <a:ext cx="1552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内容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14"/>
          <p:cNvSpPr/>
          <p:nvPr/>
        </p:nvSpPr>
        <p:spPr>
          <a:xfrm>
            <a:off x="5744880" y="2784960"/>
            <a:ext cx="60768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图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图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保持简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随意发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-234360" y="63133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4"/>
          <p:cNvSpPr/>
          <p:nvPr/>
        </p:nvSpPr>
        <p:spPr>
          <a:xfrm>
            <a:off x="4596840" y="1748880"/>
            <a:ext cx="29242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结束</a:t>
            </a:r>
            <a:endParaRPr b="0" lang="en-US" sz="1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5"/>
          <p:cNvSpPr/>
          <p:nvPr/>
        </p:nvSpPr>
        <p:spPr>
          <a:xfrm>
            <a:off x="5488560" y="46112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呼应首页（封面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组合 6"/>
          <p:cNvGrpSpPr/>
          <p:nvPr/>
        </p:nvGrpSpPr>
        <p:grpSpPr>
          <a:xfrm>
            <a:off x="755640" y="1206360"/>
            <a:ext cx="4363920" cy="110520"/>
            <a:chOff x="755640" y="1206360"/>
            <a:chExt cx="4363920" cy="110520"/>
          </a:xfrm>
        </p:grpSpPr>
        <p:cxnSp>
          <p:nvCxnSpPr>
            <p:cNvPr id="130" name="直接连接符 7"/>
            <p:cNvCxnSpPr/>
            <p:nvPr/>
          </p:nvCxnSpPr>
          <p:spPr>
            <a:xfrm>
              <a:off x="755640" y="12063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31" name="直接连接符 8"/>
            <p:cNvCxnSpPr/>
            <p:nvPr/>
          </p:nvCxnSpPr>
          <p:spPr>
            <a:xfrm>
              <a:off x="755640" y="1316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32" name="直接连接符 9"/>
            <p:cNvCxnSpPr/>
            <p:nvPr/>
          </p:nvCxnSpPr>
          <p:spPr>
            <a:xfrm>
              <a:off x="755640" y="12639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133" name="组合 11"/>
          <p:cNvGrpSpPr/>
          <p:nvPr/>
        </p:nvGrpSpPr>
        <p:grpSpPr>
          <a:xfrm>
            <a:off x="6953040" y="1206360"/>
            <a:ext cx="4363920" cy="110520"/>
            <a:chOff x="6953040" y="1206360"/>
            <a:chExt cx="4363920" cy="110520"/>
          </a:xfrm>
        </p:grpSpPr>
        <p:cxnSp>
          <p:nvCxnSpPr>
            <p:cNvPr id="134" name="直接连接符 12"/>
            <p:cNvCxnSpPr/>
            <p:nvPr/>
          </p:nvCxnSpPr>
          <p:spPr>
            <a:xfrm>
              <a:off x="6953040" y="12063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35" name="直接连接符 13"/>
            <p:cNvCxnSpPr/>
            <p:nvPr/>
          </p:nvCxnSpPr>
          <p:spPr>
            <a:xfrm>
              <a:off x="6953040" y="1316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36" name="直接连接符 15"/>
            <p:cNvCxnSpPr/>
            <p:nvPr/>
          </p:nvCxnSpPr>
          <p:spPr>
            <a:xfrm>
              <a:off x="6953040" y="12639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137" name="图片 16" descr=""/>
          <p:cNvPicPr/>
          <p:nvPr/>
        </p:nvPicPr>
        <p:blipFill>
          <a:blip r:embed="rId1"/>
          <a:stretch/>
        </p:blipFill>
        <p:spPr>
          <a:xfrm>
            <a:off x="5896440" y="1087920"/>
            <a:ext cx="30528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830040" y="6429960"/>
            <a:ext cx="302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授权转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  <Words>237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4:49:54Z</dcterms:created>
  <dc:creator>demon chan</dc:creator>
  <dc:description/>
  <dc:language>en-US</dc:language>
  <cp:lastModifiedBy>yu wang</cp:lastModifiedBy>
  <dcterms:modified xsi:type="dcterms:W3CDTF">2015-08-03T12:25:59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