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7EB2-A3C0-4753-A410-B3D72067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DE6-271C-4CFD-9FE6-3CFBAD4D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F45-2E5F-4C82-9290-9867A640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874-E765-4617-890F-AF8EE7B0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6910-7372-4BCF-B75C-9E725CD9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41F4-71A2-4854-B8E9-D6C293A7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37C2-B88E-487B-AF25-0FE89C6B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2996-6DCA-47B9-8305-97BA3260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36FD-C45B-4633-A012-D91D0DDE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920" y="3567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41E9-0FA6-4B4D-89D5-313954A7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F74A-D58B-468E-B96E-896E7314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8EAF-813C-46C7-8B3D-89475DE8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5526-651D-43D8-ADE6-C332BD18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3915-9842-4DD2-B7E4-52B69F92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47F5-36EC-4B47-ADE2-C9AF00B9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2EDF-5C38-4A11-B291-4834BB13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454C-C59F-4B8E-BEF8-C768AA31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9B6-FF53-4BAC-BE61-DCB554FD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846-8E9F-45FA-BDF7-53E645ED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22A-46C1-4EFB-AD1D-1D5C1402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356760"/>
            <a:ext cx="8229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73C7-65AF-46A6-8092-DC820B04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380-C865-4F36-83C8-B8867458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D1B-7662-4A52-AA61-CE29021C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3F4-C232-43AA-A290-4E6C7FB5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356760"/>
            <a:ext cx="8048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BC5B-90D8-45A9-9514-47BACDF07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2071-973F-4843-99BC-CAE7E02C1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1187280" y="2616120"/>
            <a:ext cx="676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黑体"/>
              </a:rPr>
              <a:t>蝴蝶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黑体"/>
              </a:rPr>
              <a:t>模板完整版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3640" y="356760"/>
            <a:ext cx="8048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4000" y="6434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6"/>
          <p:cNvSpPr/>
          <p:nvPr/>
        </p:nvSpPr>
        <p:spPr>
          <a:xfrm>
            <a:off x="1357200" y="242892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黑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黑体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黑体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黑体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黑体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黑体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黑体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黑体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黑体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黑体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黑体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黑体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黑体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黑体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黑体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黑体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黑体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黑体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黑体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黑体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5:14:07Z</dcterms:created>
  <dc:creator>Administrator</dc:creator>
  <dc:description/>
  <dc:language>en-US</dc:language>
  <cp:lastModifiedBy>yu wang</cp:lastModifiedBy>
  <cp:lastPrinted>1899-12-30T00:00:00Z</cp:lastPrinted>
  <dcterms:modified xsi:type="dcterms:W3CDTF">2015-08-03T12:25:01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6</vt:lpwstr>
  </property>
</Properties>
</file>