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7.png" ContentType="image/png"/>
  <Override PartName="/ppt/media/image37.png" ContentType="image/png"/>
  <Override PartName="/ppt/media/image29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0EDA9-A127-4BBE-8ECD-6ABAE3A6C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1A90C6-7C1E-4353-96EF-09D275090A1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40776D-2AF0-45E5-9FA0-D4DB1C1CED4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616B64-BF21-4EE8-B0CF-536CFEA933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66271-1987-48E2-B915-2FE9FFE11D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5AFE8-7586-45A6-B184-4427991FA6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0BE42-17B2-4449-839A-C53376EE678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8E1FEA-84A0-4A6E-A167-689890E981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9D3ADA-6F4A-4BD5-85FB-9B64D0F912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214AA-5965-4269-8BF9-E7F4989B27E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4FA8B8-3794-45A7-B72B-5D739020F2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F956E6-ABCF-418F-94EF-8DDCDC6A79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8DAB04-1AF8-49B8-A7F7-BA0C1A1506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9BD-7358-4479-AD4B-9471DEB2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890-1CF0-4C20-A2A8-6A31A9BF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44C-F229-443D-BAC6-F3962AFC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CAF-706A-4B35-AD12-B0341F37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3A5-60AB-4D47-8C9D-95C906C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3D6-D890-4C78-AE2F-3F3C3453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C49-7118-40BD-BC09-B786C1B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447-6A30-4769-825D-9488F32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751-317A-44DC-B7EA-28B135B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EB5-439A-49D1-84F2-6E8BAB15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553-8CAF-4267-9FF6-3E30A2BB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980-94B7-43A4-9188-8738108E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3600" spc="-1" strike="noStrike">
                <a:solidFill>
                  <a:srgbClr val="000000"/>
                </a:solidFill>
                <a:latin typeface="나눔고딕"/>
                <a:ea typeface="나눔고딕"/>
              </a:rPr>
              <a:t>마스터 제목 스타일 편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마스터 텍스트 스타일을 편집합니다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둘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셋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넷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다섯째 수준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D70E30-69DA-492E-B49C-EE712BC0BF71}" type="slidenum">
              <a:rPr b="0" lang="en-US" sz="1200" spc="-1" strike="noStrike">
                <a:solidFill>
                  <a:srgbClr val="898989"/>
                </a:solidFill>
                <a:latin typeface="나눔고딕"/>
                <a:ea typeface="나눔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280" cy="168552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6443640" y="1665360"/>
            <a:ext cx="2700000" cy="178092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2987640" y="0"/>
            <a:ext cx="4690800" cy="3428640"/>
          </a:xfrm>
          <a:prstGeom prst="rect">
            <a:avLst/>
          </a:prstGeom>
          <a:ln w="9525">
            <a:noFill/>
          </a:ln>
        </p:spPr>
      </p:pic>
      <p:sp>
        <p:nvSpPr>
          <p:cNvPr id="88" name="직사각형 14"/>
          <p:cNvSpPr/>
          <p:nvPr/>
        </p:nvSpPr>
        <p:spPr>
          <a:xfrm>
            <a:off x="0" y="3429000"/>
            <a:ext cx="9143640" cy="3428640"/>
          </a:xfrm>
          <a:prstGeom prst="rect">
            <a:avLst/>
          </a:prstGeom>
          <a:solidFill>
            <a:srgbClr val="c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2776320" cy="342864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19"/>
          <p:cNvSpPr/>
          <p:nvPr/>
        </p:nvSpPr>
        <p:spPr>
          <a:xfrm>
            <a:off x="179280" y="3573360"/>
            <a:ext cx="8137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나눔고딕"/>
                <a:ea typeface="나눔 고딕"/>
              </a:rPr>
              <a:t>韩国企业</a:t>
            </a:r>
            <a:r>
              <a:rPr b="0" lang="en-US" sz="4000" spc="-1" strike="noStrike">
                <a:solidFill>
                  <a:srgbClr val="ffffff"/>
                </a:solidFill>
                <a:latin typeface="나눔고딕"/>
                <a:ea typeface="나눔 고딕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나눔고딕"/>
                <a:ea typeface="나눔 고딕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7236000" y="3573360"/>
            <a:ext cx="1872720" cy="18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May, 31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5"/>
          <a:stretch/>
        </p:blipFill>
        <p:spPr>
          <a:xfrm>
            <a:off x="2771640" y="0"/>
            <a:ext cx="2304720" cy="173016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6"/>
          <a:stretch/>
        </p:blipFill>
        <p:spPr>
          <a:xfrm>
            <a:off x="2771640" y="1700280"/>
            <a:ext cx="2304720" cy="1728360"/>
          </a:xfrm>
          <a:prstGeom prst="rect">
            <a:avLst/>
          </a:prstGeom>
          <a:ln w="9525">
            <a:noFill/>
          </a:ln>
        </p:spPr>
      </p:pic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208" name="TextBox 11"/>
          <p:cNvSpPr/>
          <p:nvPr/>
        </p:nvSpPr>
        <p:spPr>
          <a:xfrm>
            <a:off x="179640" y="461880"/>
            <a:ext cx="6696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구역 </a:t>
            </a: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: 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Design Plan   |  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nts and Settings\nhn\바탕 화면\이미지소스\도면01.png"/>
          <p:cNvPicPr/>
          <p:nvPr/>
        </p:nvPicPr>
        <p:blipFill>
          <a:blip r:embed="rId1"/>
          <a:stretch/>
        </p:blipFill>
        <p:spPr>
          <a:xfrm>
            <a:off x="324000" y="1387440"/>
            <a:ext cx="8280000" cy="4500360"/>
          </a:xfrm>
          <a:prstGeom prst="rect">
            <a:avLst/>
          </a:prstGeom>
          <a:ln w="9525">
            <a:noFill/>
          </a:ln>
        </p:spPr>
      </p:pic>
      <p:sp>
        <p:nvSpPr>
          <p:cNvPr id="211" name="TextBox 25"/>
          <p:cNvSpPr/>
          <p:nvPr/>
        </p:nvSpPr>
        <p:spPr>
          <a:xfrm>
            <a:off x="971640" y="6021360"/>
            <a:ext cx="151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2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60</a:t>
            </a:r>
            <a:r>
              <a:rPr b="1" lang="ko-KR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 입실 </a:t>
            </a: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x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6"/>
          <p:cNvSpPr/>
          <p:nvPr/>
        </p:nvSpPr>
        <p:spPr>
          <a:xfrm>
            <a:off x="3787560" y="6021360"/>
            <a:ext cx="151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1 Seminar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120</a:t>
            </a:r>
            <a:r>
              <a:rPr b="1" lang="ko-KR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 입실 </a:t>
            </a: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x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6759360" y="6021360"/>
            <a:ext cx="151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Open D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ko-KR" sz="800" spc="-1" strike="noStrike">
                <a:solidFill>
                  <a:srgbClr val="404040"/>
                </a:solidFill>
                <a:latin typeface="나눔고딕"/>
                <a:ea typeface="나눔고딕"/>
              </a:rPr>
              <a:t>마주보고 앉는 형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A664AE2D-C49A-40CF-B196-58C03101577F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Documents and Settings\nhn\바탕 화면\이미지소스\스케치01.png"/>
          <p:cNvPicPr/>
          <p:nvPr/>
        </p:nvPicPr>
        <p:blipFill>
          <a:blip r:embed="rId1"/>
          <a:srcRect l="0" t="0" r="0" b="3521"/>
          <a:stretch/>
        </p:blipFill>
        <p:spPr>
          <a:xfrm>
            <a:off x="971640" y="539640"/>
            <a:ext cx="8137080" cy="5913000"/>
          </a:xfrm>
          <a:prstGeom prst="rect">
            <a:avLst/>
          </a:prstGeom>
          <a:ln w="9525">
            <a:noFill/>
          </a:ln>
        </p:spPr>
      </p:pic>
      <p:sp>
        <p:nvSpPr>
          <p:cNvPr id="216" name="직사각형 8"/>
          <p:cNvSpPr/>
          <p:nvPr/>
        </p:nvSpPr>
        <p:spPr>
          <a:xfrm>
            <a:off x="324000" y="4238640"/>
            <a:ext cx="2796840" cy="2285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8892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cxnSp>
        <p:nvCxnSpPr>
          <p:cNvPr id="21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218" name="TextBox 11"/>
          <p:cNvSpPr/>
          <p:nvPr/>
        </p:nvSpPr>
        <p:spPr>
          <a:xfrm>
            <a:off x="179640" y="461880"/>
            <a:ext cx="3672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구역 </a:t>
            </a: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: 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용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Design Plan   |  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구역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395280" y="4614840"/>
            <a:ext cx="2663640" cy="1788840"/>
          </a:xfrm>
          <a:prstGeom prst="rect">
            <a:avLst/>
          </a:prstGeom>
          <a:ln w="127000">
            <a:noFill/>
          </a:ln>
        </p:spPr>
      </p:pic>
      <p:sp>
        <p:nvSpPr>
          <p:cNvPr id="221" name="직사각형 7"/>
          <p:cNvSpPr/>
          <p:nvPr/>
        </p:nvSpPr>
        <p:spPr>
          <a:xfrm>
            <a:off x="1403280" y="5751360"/>
            <a:ext cx="1593360" cy="597960"/>
          </a:xfrm>
          <a:prstGeom prst="rect">
            <a:avLst/>
          </a:prstGeom>
          <a:noFill/>
          <a:ln w="57150">
            <a:solidFill>
              <a:srgbClr val="c00000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4428000" y="476640"/>
            <a:ext cx="4320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세부 설명 내용은 나눔고딕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R, 9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0.3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줄 간격은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1.5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배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상황에 따라 조정하실 수 있습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1281240" y="6357960"/>
            <a:ext cx="1368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ko-KR" sz="800" spc="-1" strike="noStrike">
                <a:solidFill>
                  <a:srgbClr val="c00000"/>
                </a:solidFill>
                <a:latin typeface="나눔고딕"/>
                <a:ea typeface="나눔 고딕"/>
              </a:rPr>
              <a:t>구역 표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EBA47B16-A5E2-49E6-AC85-1DF13A424E75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직사각형 16"/>
          <p:cNvSpPr/>
          <p:nvPr/>
        </p:nvSpPr>
        <p:spPr>
          <a:xfrm>
            <a:off x="262080" y="1916280"/>
            <a:ext cx="2796840" cy="2285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8892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395280" y="2273400"/>
            <a:ext cx="2663640" cy="1787040"/>
          </a:xfrm>
          <a:prstGeom prst="rect">
            <a:avLst/>
          </a:prstGeom>
          <a:ln w="9525">
            <a:noFill/>
          </a:ln>
        </p:spPr>
      </p:pic>
      <p:cxnSp>
        <p:nvCxnSpPr>
          <p:cNvPr id="22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228" name="TextBox 11"/>
          <p:cNvSpPr/>
          <p:nvPr/>
        </p:nvSpPr>
        <p:spPr>
          <a:xfrm>
            <a:off x="179640" y="461880"/>
            <a:ext cx="4464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18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층 </a:t>
            </a:r>
            <a:r>
              <a:rPr b="0" lang="en-US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: </a:t>
            </a:r>
            <a:r>
              <a:rPr b="0" lang="ko-KR" sz="2400" spc="-32" strike="noStrike">
                <a:solidFill>
                  <a:srgbClr val="c00000"/>
                </a:solidFill>
                <a:latin typeface="나눔고딕"/>
                <a:ea typeface="나눔고딕"/>
              </a:rPr>
              <a:t>회의공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Floor Design Plan   |   18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15"/>
          <p:cNvSpPr/>
          <p:nvPr/>
        </p:nvSpPr>
        <p:spPr>
          <a:xfrm>
            <a:off x="2411280" y="3068640"/>
            <a:ext cx="512280" cy="936360"/>
          </a:xfrm>
          <a:prstGeom prst="rect">
            <a:avLst/>
          </a:prstGeom>
          <a:noFill/>
          <a:ln w="57150">
            <a:solidFill>
              <a:srgbClr val="c00000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나눔 고딕"/>
              <a:ea typeface="나눔 고딕"/>
            </a:endParaRPr>
          </a:p>
        </p:txBody>
      </p:sp>
      <p:pic>
        <p:nvPicPr>
          <p:cNvPr id="231" name="Picture 2" descr="C:\Documents and Settings\nhn\바탕 화면\이미지소스\meetingroom_01.png"/>
          <p:cNvPicPr/>
          <p:nvPr/>
        </p:nvPicPr>
        <p:blipFill>
          <a:blip r:embed="rId2"/>
          <a:srcRect l="18157" t="3704" r="3114" b="767"/>
          <a:stretch/>
        </p:blipFill>
        <p:spPr>
          <a:xfrm>
            <a:off x="250920" y="4327560"/>
            <a:ext cx="2806200" cy="228564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3" descr="C:\Documents and Settings\nhn\바탕 화면\이미지소스\meetingroom_02.png"/>
          <p:cNvPicPr/>
          <p:nvPr/>
        </p:nvPicPr>
        <p:blipFill>
          <a:blip r:embed="rId3"/>
          <a:stretch/>
        </p:blipFill>
        <p:spPr>
          <a:xfrm>
            <a:off x="3170160" y="1916280"/>
            <a:ext cx="2815920" cy="2285640"/>
          </a:xfrm>
          <a:prstGeom prst="rect">
            <a:avLst/>
          </a:prstGeom>
          <a:ln w="9525">
            <a:noFill/>
          </a:ln>
        </p:spPr>
      </p:pic>
      <p:pic>
        <p:nvPicPr>
          <p:cNvPr id="233" name="Picture 4" descr="C:\Documents and Settings\nhn\바탕 화면\이미지소스\meetingroom_03.png"/>
          <p:cNvPicPr/>
          <p:nvPr/>
        </p:nvPicPr>
        <p:blipFill>
          <a:blip r:embed="rId4"/>
          <a:srcRect l="568" t="10714" r="0" b="2683"/>
          <a:stretch/>
        </p:blipFill>
        <p:spPr>
          <a:xfrm>
            <a:off x="6100920" y="1916280"/>
            <a:ext cx="2795400" cy="228564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6" descr="C:\Documents and Settings\nhn\바탕 화면\이미지소스\meetingroom_04.png"/>
          <p:cNvPicPr/>
          <p:nvPr/>
        </p:nvPicPr>
        <p:blipFill>
          <a:blip r:embed="rId5"/>
          <a:stretch/>
        </p:blipFill>
        <p:spPr>
          <a:xfrm>
            <a:off x="3170160" y="4307040"/>
            <a:ext cx="2815920" cy="2306160"/>
          </a:xfrm>
          <a:prstGeom prst="rect">
            <a:avLst/>
          </a:prstGeom>
          <a:ln w="9525">
            <a:noFill/>
          </a:ln>
        </p:spPr>
      </p:pic>
      <p:pic>
        <p:nvPicPr>
          <p:cNvPr id="235" name="Picture 7" descr="C:\Documents and Settings\nhn\바탕 화면\이미지소스\meetingroom_05.png"/>
          <p:cNvPicPr/>
          <p:nvPr/>
        </p:nvPicPr>
        <p:blipFill>
          <a:blip r:embed="rId6"/>
          <a:stretch/>
        </p:blipFill>
        <p:spPr>
          <a:xfrm>
            <a:off x="6100920" y="4307040"/>
            <a:ext cx="2792160" cy="2306160"/>
          </a:xfrm>
          <a:prstGeom prst="rect">
            <a:avLst/>
          </a:prstGeom>
          <a:ln w="9525">
            <a:noFill/>
          </a:ln>
        </p:spPr>
      </p:pic>
      <p:sp>
        <p:nvSpPr>
          <p:cNvPr id="236" name="TextBox 18"/>
          <p:cNvSpPr/>
          <p:nvPr/>
        </p:nvSpPr>
        <p:spPr>
          <a:xfrm>
            <a:off x="4428000" y="476640"/>
            <a:ext cx="4320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구성원의 크리에이티브를 자극하고 활력이 넘치는 공간구성을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원색의 산뜻한 컬러포인트를 각 회의공간마다 부여하되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감각적이면서도 젊은 느낌을 유지하기 위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테이블이나 의자 등의 소품 디자인 및 소재를 디테일하게 신경쓴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2268360" y="4017960"/>
            <a:ext cx="13665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ko-KR" sz="800" spc="-1" strike="noStrike">
                <a:solidFill>
                  <a:srgbClr val="c00000"/>
                </a:solidFill>
                <a:latin typeface="나눔고딕"/>
                <a:ea typeface="나눔 고딕"/>
              </a:rPr>
              <a:t>회의공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53ED8F5E-BC04-4E02-B160-BE3750CF1A5E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나눔고딕"/>
                <a:ea typeface="나눔고딕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나눔고딕"/>
                <a:ea typeface="나눔고딕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9"/>
          <p:cNvSpPr/>
          <p:nvPr/>
        </p:nvSpPr>
        <p:spPr>
          <a:xfrm>
            <a:off x="179640" y="3573000"/>
            <a:ext cx="530388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4800" spc="599" strike="noStrike">
                <a:solidFill>
                  <a:srgbClr val="7e858e"/>
                </a:solidFill>
                <a:latin typeface="나눔고딕"/>
                <a:ea typeface="나눔고딕"/>
              </a:rPr>
              <a:t>INTERI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4800" spc="599" strike="noStrike">
                <a:solidFill>
                  <a:srgbClr val="7e858e"/>
                </a:solidFill>
                <a:latin typeface="나눔고딕"/>
                <a:ea typeface="나눔고딕"/>
              </a:rPr>
              <a:t>DESIG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4800" spc="599" strike="noStrike">
                <a:solidFill>
                  <a:srgbClr val="7e858e"/>
                </a:solidFill>
                <a:latin typeface="나눔고딕"/>
                <a:ea typeface="나눔고딕"/>
              </a:rPr>
              <a:t>PROPOS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0"/>
          <p:cNvSpPr/>
          <p:nvPr/>
        </p:nvSpPr>
        <p:spPr>
          <a:xfrm>
            <a:off x="7092360" y="3501000"/>
            <a:ext cx="1872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r>
              <a:rPr b="1" lang="en-US" sz="800" spc="-1" strike="noStrike">
                <a:solidFill>
                  <a:srgbClr val="68727e"/>
                </a:solidFill>
                <a:latin typeface="나눔고딕"/>
                <a:ea typeface="나눔고딕"/>
              </a:rPr>
              <a:t>2011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직선 연결선 9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360" cy="185400"/>
          </a:xfrm>
          <a:prstGeom prst="rect">
            <a:avLst/>
          </a:prstGeom>
          <a:ln w="9525">
            <a:noFill/>
          </a:ln>
        </p:spPr>
      </p:pic>
      <p:cxnSp>
        <p:nvCxnSpPr>
          <p:cNvPr id="99" name="직선 연결선 11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00" name="직선 연결선 12"/>
          <p:cNvCxnSpPr/>
          <p:nvPr/>
        </p:nvCxnSpPr>
        <p:spPr>
          <a:xfrm>
            <a:off x="250560" y="6534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01" name="TextBox 13"/>
          <p:cNvSpPr/>
          <p:nvPr/>
        </p:nvSpPr>
        <p:spPr>
          <a:xfrm>
            <a:off x="179280" y="6237360"/>
            <a:ext cx="4039920" cy="2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. </a:t>
            </a:r>
            <a:r>
              <a:rPr b="0" lang="ko-KR" sz="700" spc="-1" strike="noStrike" u="sng">
                <a:solidFill>
                  <a:srgbClr val="ff8119"/>
                </a:solidFill>
                <a:uFillTx/>
                <a:latin typeface="나눔고딕"/>
                <a:ea typeface="나눔 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9"/>
          <p:cNvSpPr/>
          <p:nvPr/>
        </p:nvSpPr>
        <p:spPr>
          <a:xfrm>
            <a:off x="107640" y="3429000"/>
            <a:ext cx="655236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4300" spc="-151" strike="noStrike">
                <a:solidFill>
                  <a:srgbClr val="68727e"/>
                </a:solidFill>
                <a:latin typeface="나눔고딕"/>
                <a:ea typeface="나눔고딕"/>
              </a:rPr>
              <a:t>문서의 제목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4300" spc="-151" strike="noStrike">
                <a:solidFill>
                  <a:srgbClr val="68727e"/>
                </a:solidFill>
                <a:latin typeface="나눔고딕"/>
                <a:ea typeface="나눔고딕"/>
              </a:rPr>
              <a:t>작성해 주세요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직선 연결선 9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04" name="직선 연결선 11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05" name="직선 연결선 12"/>
          <p:cNvCxnSpPr/>
          <p:nvPr/>
        </p:nvCxnSpPr>
        <p:spPr>
          <a:xfrm>
            <a:off x="250560" y="653400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360" cy="18540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16"/>
          <p:cNvSpPr/>
          <p:nvPr/>
        </p:nvSpPr>
        <p:spPr>
          <a:xfrm>
            <a:off x="179280" y="6237360"/>
            <a:ext cx="4039920" cy="2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이 문서는 나눔글꼴로 작성되었습니다</a:t>
            </a:r>
            <a:r>
              <a:rPr b="0" lang="en-US" sz="700" spc="-1" strike="noStrike">
                <a:solidFill>
                  <a:srgbClr val="68727e"/>
                </a:solidFill>
                <a:latin typeface="나눔고딕"/>
                <a:ea typeface="나눔 고딕"/>
              </a:rPr>
              <a:t>. </a:t>
            </a:r>
            <a:r>
              <a:rPr b="0" lang="ko-KR" sz="700" spc="-1" strike="noStrike" u="sng">
                <a:solidFill>
                  <a:srgbClr val="ff8119"/>
                </a:solidFill>
                <a:uFillTx/>
                <a:latin typeface="나눔고딕"/>
                <a:ea typeface="나눔 고딕"/>
                <a:hlinkClick r:id="rId2"/>
              </a:rPr>
              <a:t>설치하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7092360" y="3501000"/>
            <a:ext cx="1872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r>
              <a:rPr b="1" lang="en-US" sz="800" spc="-1" strike="noStrike">
                <a:solidFill>
                  <a:srgbClr val="68727e"/>
                </a:solidFill>
                <a:latin typeface="나눔고딕"/>
                <a:ea typeface="나눔고딕"/>
              </a:rPr>
              <a:t>2011.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9"/>
          <p:cNvSpPr/>
          <p:nvPr/>
        </p:nvSpPr>
        <p:spPr>
          <a:xfrm>
            <a:off x="179640" y="3501000"/>
            <a:ext cx="129564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ko-KR" sz="1400" spc="-151" strike="noStrike">
                <a:solidFill>
                  <a:srgbClr val="404040"/>
                </a:solidFill>
                <a:latin typeface="나눔고딕"/>
                <a:ea typeface="나눔고딕"/>
              </a:rPr>
              <a:t>목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직선 연결선 18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1" name="직선 연결선 10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172360" y="434880"/>
            <a:ext cx="720360" cy="185400"/>
          </a:xfrm>
          <a:prstGeom prst="rect">
            <a:avLst/>
          </a:prstGeom>
          <a:ln w="9525">
            <a:noFill/>
          </a:ln>
        </p:spPr>
      </p:pic>
      <p:sp>
        <p:nvSpPr>
          <p:cNvPr id="113" name="TextBox 8"/>
          <p:cNvSpPr/>
          <p:nvPr/>
        </p:nvSpPr>
        <p:spPr>
          <a:xfrm>
            <a:off x="179640" y="420192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85000"/>
              </a:lnSpc>
              <a:buClr>
                <a:srgbClr val="404040"/>
              </a:buClr>
              <a:buFont typeface="StarSymbol"/>
              <a:buAutoNum type="arabicPeriod"/>
            </a:pP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  </a:t>
            </a:r>
            <a:r>
              <a:rPr b="1" lang="ko-KR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꼭지 제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직선 연결선 9"/>
          <p:cNvCxnSpPr/>
          <p:nvPr/>
        </p:nvCxnSpPr>
        <p:spPr>
          <a:xfrm>
            <a:off x="250560" y="443052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5" name="직선 연결선 14"/>
          <p:cNvCxnSpPr/>
          <p:nvPr/>
        </p:nvCxnSpPr>
        <p:spPr>
          <a:xfrm>
            <a:off x="250560" y="468936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6" name="직선 연결선 16"/>
          <p:cNvCxnSpPr/>
          <p:nvPr/>
        </p:nvCxnSpPr>
        <p:spPr>
          <a:xfrm>
            <a:off x="250560" y="494820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7" name="직선 연결선 17"/>
          <p:cNvCxnSpPr/>
          <p:nvPr/>
        </p:nvCxnSpPr>
        <p:spPr>
          <a:xfrm>
            <a:off x="250560" y="520668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8" name="직선 연결선 21"/>
          <p:cNvCxnSpPr/>
          <p:nvPr/>
        </p:nvCxnSpPr>
        <p:spPr>
          <a:xfrm>
            <a:off x="250560" y="546552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9" name="직선 연결선 22"/>
          <p:cNvCxnSpPr/>
          <p:nvPr/>
        </p:nvCxnSpPr>
        <p:spPr>
          <a:xfrm>
            <a:off x="250560" y="572436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20" name="직선 연결선 27"/>
          <p:cNvCxnSpPr/>
          <p:nvPr/>
        </p:nvCxnSpPr>
        <p:spPr>
          <a:xfrm>
            <a:off x="250560" y="4171680"/>
            <a:ext cx="43218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22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23" name="TextBox 11"/>
          <p:cNvSpPr/>
          <p:nvPr/>
        </p:nvSpPr>
        <p:spPr>
          <a:xfrm>
            <a:off x="179640" y="4618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79640" y="2152080"/>
            <a:ext cx="18000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창립 년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1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직원 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Prof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039320" y="2152080"/>
            <a:ext cx="30283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회사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주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총 </a:t>
            </a:r>
            <a:r>
              <a:rPr b="0" lang="en-US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0</a:t>
            </a:r>
            <a:r>
              <a:rPr b="0" lang="ko-KR" sz="9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명 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| 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인테리어 디자이너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명 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|  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프로젝트 매니저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</a:t>
            </a:r>
            <a:r>
              <a:rPr b="0" lang="ko-KR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명  </a:t>
            </a:r>
            <a:r>
              <a:rPr b="0" lang="en-US" sz="800" spc="-21" strike="noStrike">
                <a:solidFill>
                  <a:srgbClr val="404040"/>
                </a:solidFill>
                <a:latin typeface="나눔고딕"/>
                <a:ea typeface="나눔고딕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직선 연결선 9"/>
          <p:cNvCxnSpPr/>
          <p:nvPr/>
        </p:nvCxnSpPr>
        <p:spPr>
          <a:xfrm>
            <a:off x="250560" y="3284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28" name="TextBox 10"/>
          <p:cNvSpPr/>
          <p:nvPr/>
        </p:nvSpPr>
        <p:spPr>
          <a:xfrm>
            <a:off x="179640" y="3291120"/>
            <a:ext cx="180000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en-US" sz="1000" spc="-1" strike="noStrike">
                <a:solidFill>
                  <a:srgbClr val="404040"/>
                </a:solidFill>
                <a:latin typeface="나눔고딕"/>
                <a:ea typeface="나눔고딕"/>
              </a:rPr>
              <a:t>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1039320" y="5446440"/>
            <a:ext cx="1731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OOO</a:t>
            </a: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실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약력을 작성하세요</a:t>
            </a: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0"/>
          <p:cNvSpPr/>
          <p:nvPr/>
        </p:nvSpPr>
        <p:spPr>
          <a:xfrm>
            <a:off x="2843640" y="5446440"/>
            <a:ext cx="1656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OOO</a:t>
            </a: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팀장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약력을 작성하세요</a:t>
            </a: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948B163E-A3A7-451D-9EC1-B3E6F79165D5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nhn\바탕 화면\이미지소스\인테리어\장인성111.jpg"/>
          <p:cNvPicPr/>
          <p:nvPr/>
        </p:nvPicPr>
        <p:blipFill>
          <a:blip r:embed="rId1"/>
          <a:stretch/>
        </p:blipFill>
        <p:spPr>
          <a:xfrm>
            <a:off x="1150920" y="3500280"/>
            <a:ext cx="1439640" cy="187272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3" descr="C:\Documents and Settings\nhn\바탕 화면\이미지소스\인테리어\신현경_04.jpg"/>
          <p:cNvPicPr/>
          <p:nvPr/>
        </p:nvPicPr>
        <p:blipFill>
          <a:blip r:embed="rId2"/>
          <a:stretch/>
        </p:blipFill>
        <p:spPr>
          <a:xfrm>
            <a:off x="2932200" y="3500280"/>
            <a:ext cx="1439640" cy="187272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4" descr="C:\Documents and Settings\nhn\바탕 화면\이미지소스\인테리어\bin.jpg"/>
          <p:cNvPicPr/>
          <p:nvPr/>
        </p:nvPicPr>
        <p:blipFill>
          <a:blip r:embed="rId3"/>
          <a:stretch/>
        </p:blipFill>
        <p:spPr>
          <a:xfrm>
            <a:off x="4711680" y="3502080"/>
            <a:ext cx="1368000" cy="187128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29"/>
          <p:cNvSpPr/>
          <p:nvPr/>
        </p:nvSpPr>
        <p:spPr>
          <a:xfrm>
            <a:off x="4639680" y="5446440"/>
            <a:ext cx="201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OOO</a:t>
            </a:r>
            <a:r>
              <a:rPr b="1" lang="en-US" sz="9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석디자이너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약력을 작성하세요</a:t>
            </a: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nhn\바탕 화면\이미지소스\인테리어\33-그팩-미트27-복사.jpg"/>
          <p:cNvPicPr/>
          <p:nvPr/>
        </p:nvPicPr>
        <p:blipFill>
          <a:blip r:embed="rId1"/>
          <a:stretch/>
        </p:blipFill>
        <p:spPr>
          <a:xfrm>
            <a:off x="250920" y="5222880"/>
            <a:ext cx="1375920" cy="137448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C:\Documents and Settings\nhn\바탕 화면\이미지소스\인테리어\00-엘홀-04.jpg"/>
          <p:cNvPicPr/>
          <p:nvPr/>
        </p:nvPicPr>
        <p:blipFill>
          <a:blip r:embed="rId2"/>
          <a:stretch/>
        </p:blipFill>
        <p:spPr>
          <a:xfrm>
            <a:off x="1704960" y="5229360"/>
            <a:ext cx="1375920" cy="137448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4" descr="C:\Documents and Settings\nhn\바탕 화면\이미지소스\인테리어\00-Meet27-오픈라운지.jpg"/>
          <p:cNvPicPr/>
          <p:nvPr/>
        </p:nvPicPr>
        <p:blipFill>
          <a:blip r:embed="rId3"/>
          <a:stretch/>
        </p:blipFill>
        <p:spPr>
          <a:xfrm>
            <a:off x="3146400" y="5229360"/>
            <a:ext cx="1375920" cy="137448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5" descr="C:\Documents and Settings\nhn\바탕 화면\이미지소스\인테리어\_MG_0145.jpg"/>
          <p:cNvPicPr/>
          <p:nvPr/>
        </p:nvPicPr>
        <p:blipFill>
          <a:blip r:embed="rId4"/>
          <a:stretch/>
        </p:blipFill>
        <p:spPr>
          <a:xfrm>
            <a:off x="4603680" y="5229360"/>
            <a:ext cx="1374480" cy="13744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6" descr="C:\Documents and Settings\nhn\바탕 화면\이미지소스\인테리어\IMG_1835.jpg"/>
          <p:cNvPicPr/>
          <p:nvPr/>
        </p:nvPicPr>
        <p:blipFill>
          <a:blip r:embed="rId5"/>
          <a:stretch/>
        </p:blipFill>
        <p:spPr>
          <a:xfrm>
            <a:off x="7532640" y="5229360"/>
            <a:ext cx="1374480" cy="137448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7" descr="C:\Documents and Settings\nhn\바탕 화면\이미지소스\인테리어\-0126.jpg"/>
          <p:cNvPicPr/>
          <p:nvPr/>
        </p:nvPicPr>
        <p:blipFill>
          <a:blip r:embed="rId6"/>
          <a:stretch/>
        </p:blipFill>
        <p:spPr>
          <a:xfrm>
            <a:off x="6060960" y="5229360"/>
            <a:ext cx="1374480" cy="137448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tretch/>
        </p:blipFill>
        <p:spPr>
          <a:xfrm>
            <a:off x="1704960" y="3713040"/>
            <a:ext cx="137592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8"/>
          <a:stretch/>
        </p:blipFill>
        <p:spPr>
          <a:xfrm>
            <a:off x="3146400" y="3713040"/>
            <a:ext cx="137592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4611600" y="3713040"/>
            <a:ext cx="136656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10"/>
          <a:stretch/>
        </p:blipFill>
        <p:spPr>
          <a:xfrm>
            <a:off x="6060960" y="3713040"/>
            <a:ext cx="137124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7516800" y="3713040"/>
            <a:ext cx="1390320" cy="143460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12"/>
          <a:stretch/>
        </p:blipFill>
        <p:spPr>
          <a:xfrm>
            <a:off x="3146400" y="2203560"/>
            <a:ext cx="139032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13"/>
          <a:stretch/>
        </p:blipFill>
        <p:spPr>
          <a:xfrm>
            <a:off x="4611600" y="2203560"/>
            <a:ext cx="13744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14"/>
          <a:stretch/>
        </p:blipFill>
        <p:spPr>
          <a:xfrm>
            <a:off x="6060960" y="2203560"/>
            <a:ext cx="1382400" cy="142848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15"/>
          <a:stretch/>
        </p:blipFill>
        <p:spPr>
          <a:xfrm>
            <a:off x="7516800" y="2203560"/>
            <a:ext cx="1375920" cy="142848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16"/>
          <a:stretch/>
        </p:blipFill>
        <p:spPr>
          <a:xfrm>
            <a:off x="244440" y="3713040"/>
            <a:ext cx="1387080" cy="143460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17"/>
          <a:stretch/>
        </p:blipFill>
        <p:spPr>
          <a:xfrm>
            <a:off x="1704960" y="2203560"/>
            <a:ext cx="1368000" cy="1428480"/>
          </a:xfrm>
          <a:prstGeom prst="rect">
            <a:avLst/>
          </a:prstGeom>
          <a:ln w="9525">
            <a:noFill/>
          </a:ln>
        </p:spPr>
      </p:pic>
      <p:cxnSp>
        <p:nvCxnSpPr>
          <p:cNvPr id="153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54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55" name="TextBox 11"/>
          <p:cNvSpPr/>
          <p:nvPr/>
        </p:nvSpPr>
        <p:spPr>
          <a:xfrm>
            <a:off x="179640" y="4618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Portfol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8"/>
          <a:stretch/>
        </p:blipFill>
        <p:spPr>
          <a:xfrm>
            <a:off x="244440" y="2203560"/>
            <a:ext cx="1387080" cy="143172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9"/>
          <p:cNvSpPr/>
          <p:nvPr/>
        </p:nvSpPr>
        <p:spPr>
          <a:xfrm>
            <a:off x="210960" y="3444840"/>
            <a:ext cx="10792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1646280" y="344484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098880" y="344484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4572000" y="344484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6006960" y="344484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461360" y="344484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210960" y="4930920"/>
            <a:ext cx="1584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1646280" y="493092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2"/>
          <p:cNvSpPr/>
          <p:nvPr/>
        </p:nvSpPr>
        <p:spPr>
          <a:xfrm>
            <a:off x="3098880" y="493092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4572000" y="493092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006960" y="493092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7461360" y="493092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210960" y="6400800"/>
            <a:ext cx="71892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1646280" y="640080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9"/>
          <p:cNvSpPr/>
          <p:nvPr/>
        </p:nvSpPr>
        <p:spPr>
          <a:xfrm>
            <a:off x="3098880" y="640080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0"/>
          <p:cNvSpPr/>
          <p:nvPr/>
        </p:nvSpPr>
        <p:spPr>
          <a:xfrm>
            <a:off x="4572000" y="640080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1"/>
          <p:cNvSpPr/>
          <p:nvPr/>
        </p:nvSpPr>
        <p:spPr>
          <a:xfrm>
            <a:off x="6006960" y="6400800"/>
            <a:ext cx="139968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2"/>
          <p:cNvSpPr/>
          <p:nvPr/>
        </p:nvSpPr>
        <p:spPr>
          <a:xfrm>
            <a:off x="7461360" y="6400800"/>
            <a:ext cx="1503000" cy="21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ko-KR" sz="700" spc="-1" strike="noStrike">
                <a:solidFill>
                  <a:srgbClr val="ffffff"/>
                </a:solidFill>
                <a:latin typeface="나눔고딕"/>
                <a:ea typeface="나눔 고딕"/>
              </a:rPr>
              <a:t>프로젝트 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EA2411D1-C2A5-4437-8B5F-050845790A0E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7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78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79" name="TextBox 11"/>
          <p:cNvSpPr/>
          <p:nvPr/>
        </p:nvSpPr>
        <p:spPr>
          <a:xfrm>
            <a:off x="179640" y="46188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79640" y="2104560"/>
            <a:ext cx="8712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본문은 나눔고딕 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R, 12pt /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0.2pt /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줄 간격은 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1.2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배를 권장합니다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황에 따라 조절하실 수 있습니다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타원 13"/>
          <p:cNvSpPr/>
          <p:nvPr/>
        </p:nvSpPr>
        <p:spPr>
          <a:xfrm>
            <a:off x="-25236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타원 15"/>
          <p:cNvSpPr/>
          <p:nvPr/>
        </p:nvSpPr>
        <p:spPr>
          <a:xfrm>
            <a:off x="205092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타원 16"/>
          <p:cNvSpPr/>
          <p:nvPr/>
        </p:nvSpPr>
        <p:spPr>
          <a:xfrm>
            <a:off x="435600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타원 17"/>
          <p:cNvSpPr/>
          <p:nvPr/>
        </p:nvSpPr>
        <p:spPr>
          <a:xfrm>
            <a:off x="6659640" y="3068640"/>
            <a:ext cx="2736360" cy="2736360"/>
          </a:xfrm>
          <a:prstGeom prst="ellipse">
            <a:avLst/>
          </a:prstGeom>
          <a:solidFill>
            <a:srgbClr val="c00000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600" spc="-1" strike="noStrike">
                <a:solidFill>
                  <a:srgbClr val="ffffff"/>
                </a:solidFill>
                <a:latin typeface="나눔고딕"/>
                <a:ea typeface="나눔 고딕"/>
              </a:rPr>
              <a:t>내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4428000" y="476640"/>
            <a:ext cx="230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4428000" y="692640"/>
            <a:ext cx="23040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-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404040"/>
              </a:buClr>
              <a:buFont typeface="StarSymbol"/>
              <a:buChar char="-"/>
            </a:pP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404040"/>
              </a:buClr>
              <a:buFont typeface="StarSymbol"/>
              <a:buChar char="-"/>
            </a:pPr>
            <a:r>
              <a:rPr b="0" lang="en-US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ko-KR" sz="1200" spc="-21" strike="noStrike">
                <a:solidFill>
                  <a:srgbClr val="404040"/>
                </a:solidFill>
                <a:latin typeface="나눔고딕"/>
                <a:ea typeface="나눔고딕"/>
              </a:rPr>
              <a:t>상세항목의 내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7"/>
          <p:cNvSpPr/>
          <p:nvPr/>
        </p:nvSpPr>
        <p:spPr>
          <a:xfrm>
            <a:off x="96516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8"/>
          <p:cNvSpPr/>
          <p:nvPr/>
        </p:nvSpPr>
        <p:spPr>
          <a:xfrm>
            <a:off x="325908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9"/>
          <p:cNvSpPr/>
          <p:nvPr/>
        </p:nvSpPr>
        <p:spPr>
          <a:xfrm>
            <a:off x="556524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0"/>
          <p:cNvSpPr/>
          <p:nvPr/>
        </p:nvSpPr>
        <p:spPr>
          <a:xfrm>
            <a:off x="7863840" y="4581360"/>
            <a:ext cx="318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o-KR" sz="900" spc="-1" strike="noStrike">
                <a:solidFill>
                  <a:srgbClr val="262626"/>
                </a:solidFill>
                <a:latin typeface="나눔고딕"/>
                <a:ea typeface="나눔 고딕"/>
              </a:rPr>
              <a:t>내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2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Ti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9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182570DA-3FEA-464D-8AD3-153AB172AE07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3" name="직선 연결선 14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cxnSp>
        <p:nvCxnSpPr>
          <p:cNvPr id="194" name="직선 연결선 18"/>
          <p:cNvCxnSpPr/>
          <p:nvPr/>
        </p:nvCxnSpPr>
        <p:spPr>
          <a:xfrm>
            <a:off x="250560" y="2060280"/>
            <a:ext cx="8642880" cy="360"/>
          </a:xfrm>
          <a:prstGeom prst="straightConnector1">
            <a:avLst/>
          </a:prstGeom>
          <a:ln w="3175">
            <a:solidFill>
              <a:srgbClr val="68727e"/>
            </a:solidFill>
            <a:round/>
          </a:ln>
        </p:spPr>
      </p:cxnSp>
      <p:sp>
        <p:nvSpPr>
          <p:cNvPr id="195" name="TextBox 11"/>
          <p:cNvSpPr/>
          <p:nvPr/>
        </p:nvSpPr>
        <p:spPr>
          <a:xfrm>
            <a:off x="179640" y="461880"/>
            <a:ext cx="223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SPAC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2000" spc="299" strike="noStrike">
                <a:solidFill>
                  <a:srgbClr val="c00000"/>
                </a:solidFill>
                <a:latin typeface="나눔고딕"/>
                <a:ea typeface="나눔고딕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79640" y="2061000"/>
            <a:ext cx="4176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800" spc="-1" strike="noStrike">
                <a:solidFill>
                  <a:srgbClr val="404040"/>
                </a:solidFill>
                <a:latin typeface="나눔고딕"/>
                <a:ea typeface="나눔고딕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나눔고딕"/>
                <a:ea typeface="나눔고딕"/>
              </a:rPr>
              <a:t>Design Concept, 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4428000" y="2061000"/>
            <a:ext cx="4320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내용을 작성하세요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세부 설명 내용은 나눔고딕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R, 9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0.3pt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를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줄 간격은 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1.5</a:t>
            </a: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배를 권장합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ko-KR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상황에 따라 조정하실 수 있습니다</a:t>
            </a:r>
            <a:r>
              <a:rPr b="0" lang="en-US" sz="900" spc="-32" strike="noStrike">
                <a:solidFill>
                  <a:srgbClr val="40404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1"/>
          <p:cNvSpPr/>
          <p:nvPr/>
        </p:nvSpPr>
        <p:spPr>
          <a:xfrm>
            <a:off x="179280" y="92160"/>
            <a:ext cx="23396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Space design conce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Documents and Settings\nhn\바탕 화면\이미지소스\인테리어\gf-33.jpg"/>
          <p:cNvPicPr/>
          <p:nvPr/>
        </p:nvPicPr>
        <p:blipFill>
          <a:blip r:embed="rId1"/>
          <a:stretch/>
        </p:blipFill>
        <p:spPr>
          <a:xfrm>
            <a:off x="250920" y="3719520"/>
            <a:ext cx="4249440" cy="287784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3" descr="C:\Documents and Settings\nhn\바탕 화면\이미지소스\인테리어\green01.jpg"/>
          <p:cNvPicPr/>
          <p:nvPr/>
        </p:nvPicPr>
        <p:blipFill>
          <a:blip r:embed="rId2"/>
          <a:stretch/>
        </p:blipFill>
        <p:spPr>
          <a:xfrm>
            <a:off x="4572000" y="3716280"/>
            <a:ext cx="4293720" cy="2883960"/>
          </a:xfrm>
          <a:prstGeom prst="rect">
            <a:avLst/>
          </a:prstGeom>
          <a:ln w="9525">
            <a:noFill/>
          </a:ln>
        </p:spPr>
      </p:pic>
      <p:sp>
        <p:nvSpPr>
          <p:cNvPr id="201" name="TextBox 13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93EF7325-D1A6-4D5F-89D8-A7C7A7CD64A2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67640" y="66067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9"/>
          <p:cNvSpPr/>
          <p:nvPr/>
        </p:nvSpPr>
        <p:spPr>
          <a:xfrm>
            <a:off x="179640" y="3573000"/>
            <a:ext cx="655236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ko-KR" sz="4000" spc="-151" strike="noStrike">
                <a:solidFill>
                  <a:srgbClr val="404040"/>
                </a:solidFill>
                <a:latin typeface="나눔고딕"/>
                <a:ea typeface="나눔고딕"/>
              </a:rPr>
              <a:t>공간별 디자인계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직선 연결선 18"/>
          <p:cNvCxnSpPr/>
          <p:nvPr/>
        </p:nvCxnSpPr>
        <p:spPr>
          <a:xfrm>
            <a:off x="250560" y="342900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05" name="직선 연결선 10"/>
          <p:cNvCxnSpPr/>
          <p:nvPr/>
        </p:nvCxnSpPr>
        <p:spPr>
          <a:xfrm>
            <a:off x="250560" y="333360"/>
            <a:ext cx="864288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206" name="TextBox 5"/>
          <p:cNvSpPr/>
          <p:nvPr/>
        </p:nvSpPr>
        <p:spPr>
          <a:xfrm>
            <a:off x="6659640" y="92160"/>
            <a:ext cx="23396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0000"/>
              </a:lnSpc>
            </a:pPr>
            <a:fld id="{90C4ECC6-9399-47E0-A330-C92C4BADFAB2}" type="slidenum"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&lt;number&gt;</a:t>
            </a:fld>
            <a:r>
              <a:rPr b="1" lang="en-US" sz="700" spc="-1" strike="noStrike">
                <a:solidFill>
                  <a:srgbClr val="404040"/>
                </a:solidFill>
                <a:latin typeface="나눔고딕"/>
                <a:ea typeface="나눔 고딕"/>
              </a:rPr>
              <a:t>   |  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01_밝은나눔">
  <a:themeElements>
    <a:clrScheme name="사용자 지정 4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59595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01_밝은나눔">
  <a:themeElements>
    <a:clrScheme name="사용자 지정 4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59595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59595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31</Words>
  <Paragraphs>1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7:11:32Z</dcterms:created>
  <dc:creator/>
  <dc:description/>
  <dc:language>en-US</dc:language>
  <cp:lastModifiedBy/>
  <dcterms:modified xsi:type="dcterms:W3CDTF">2015-08-03T12:25:3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