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5BAA-C4D1-4D27-9E39-9595D1518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38B8-DDAA-4E63-ABA8-28C03272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F6E0-7B83-4921-A3E6-3BBC13341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2C73-6B19-4EBC-9129-D67FF8C10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602F-181E-4B2D-AE70-2CE88EF91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7746-6A5E-41FD-85C1-716FBA42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6C97-C4A7-4171-AA76-49AC7EDD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201D-204C-4CEE-BA31-F26DA8D5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098C-E4D2-45F5-A42B-0FBD50A1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38B3-DA5B-4A11-922F-B4849814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4A91-B2A1-490D-9761-0AB6BB2A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6393-B036-49CD-A297-B68AAF1B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5D59-A7DD-4C58-AEFA-59D6F40E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AF08-0718-4118-95EE-FACCB1D4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7AAC-065E-4092-B347-A6028A4A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D51C-FA3D-4F3B-BC9C-BBEAE5161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34F8-5FDE-42E0-8DA0-5ACDE9F2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4CBE-8EA6-496C-A253-4660F07D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40A9-6C4E-4C6A-9C09-61EB3492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C6C1-53BF-4D6A-AF4C-B55FC058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D8B5-B664-4619-9E25-4593AEFC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6CD6-47EE-4004-9F5D-10CCD38B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0F3B-4C71-4CBC-A20E-798C41AE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9366-0623-460F-9F29-3D018B0E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雨荷3"/>
          <p:cNvPicPr/>
          <p:nvPr/>
        </p:nvPicPr>
        <p:blipFill>
          <a:blip r:embed="rId2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雨荷3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79F6-496E-408E-B80A-3234C9ADC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雨荷2"/>
          <p:cNvPicPr/>
          <p:nvPr/>
        </p:nvPicPr>
        <p:blipFill>
          <a:blip r:embed="rId2"/>
          <a:stretch/>
        </p:blipFill>
        <p:spPr>
          <a:xfrm>
            <a:off x="0" y="0"/>
            <a:ext cx="27543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6683-FA84-4DC0-9245-4A893785B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雨荷2"/>
          <p:cNvPicPr/>
          <p:nvPr/>
        </p:nvPicPr>
        <p:blipFill>
          <a:blip r:embed="rId3"/>
          <a:stretch/>
        </p:blipFill>
        <p:spPr>
          <a:xfrm>
            <a:off x="0" y="0"/>
            <a:ext cx="2724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00"/>
                </a:solidFill>
                <a:latin typeface="汉仪行楷简"/>
                <a:ea typeface="汉仪行楷简"/>
              </a:rPr>
              <a:t>荷花古典中国风</a:t>
            </a:r>
            <a:r>
              <a:rPr b="0" lang="en-US" sz="4000" spc="-1" strike="noStrike">
                <a:solidFill>
                  <a:srgbClr val="336600"/>
                </a:solidFill>
                <a:latin typeface="汉仪行楷简"/>
                <a:ea typeface="汉仪行楷简"/>
              </a:rPr>
              <a:t>PPT</a:t>
            </a:r>
            <a:r>
              <a:rPr b="0" lang="zh-CN" sz="4000" spc="-1" strike="noStrike">
                <a:solidFill>
                  <a:srgbClr val="336600"/>
                </a:solidFill>
                <a:latin typeface="汉仪行楷简"/>
                <a:ea typeface="汉仪行楷简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32000" y="189000"/>
            <a:ext cx="5051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16360" y="2133360"/>
            <a:ext cx="5914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8:33:01Z</dcterms:created>
  <dc:creator>微软用户</dc:creator>
  <dc:description/>
  <dc:language>en-US</dc:language>
  <cp:lastModifiedBy>yu wang</cp:lastModifiedBy>
  <dcterms:modified xsi:type="dcterms:W3CDTF">2015-08-03T12:24:50Z</dcterms:modified>
  <cp:revision>5</cp:revision>
  <dc:subject/>
  <dc:title>幻灯片 1</dc:title>
</cp:coreProperties>
</file>