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C259-5603-4DCD-B3E8-FD95A455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F21-7A2F-4B82-A3B1-149F4F6B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2D43-16D3-4B4A-9D8A-058425D8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6A90-B7FE-4B51-AA7B-5D7F2F1F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FAB-9F1E-46A4-9497-8B176CFC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27D-54CC-464F-B414-2654ABC9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9D4B-FC9E-4277-BC88-77C21E6C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62B-A5B4-4155-9060-E890450C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683-9AE3-4AC2-A2FF-0B80385D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CEE0-D18A-404B-A84D-85EBCBC3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0061-12E6-4EEF-8D87-8DB1A880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F599-9884-488B-88FD-01C27E57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2C21-ACD4-4BAA-965F-373A66999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2014200" y="1125360"/>
            <a:ext cx="55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荷花莲子与卷轴画卷水墨中国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209680" y="152280"/>
            <a:ext cx="64706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936720" y="1143000"/>
            <a:ext cx="7902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4924800" y="28195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感谢您的关注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5:52:01Z</dcterms:created>
  <dc:creator>keke</dc:creator>
  <dc:description/>
  <dc:language>en-US</dc:language>
  <cp:lastModifiedBy>yu wang</cp:lastModifiedBy>
  <dcterms:modified xsi:type="dcterms:W3CDTF">2015-08-03T12:24:54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