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588-ED2B-48FA-9D29-9BBFCA9B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275-488B-4EB1-83DC-807835E5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08A-0ECC-44BD-B905-2B85148D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0D7-98A7-456A-9F33-04DE6C47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0AA-A35B-439F-95F3-2A8F1526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8275-83DC-44A4-9F53-52A94A82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E651-8021-4867-8035-5070AD7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EDB-285F-4039-85C1-7960EE05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3BBA-3A1D-422F-A6F6-C139DC23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910-3372-44B8-9C89-6734CC4C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7392-6012-44F6-BC2E-F79DA8C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FD1-BF1C-4608-8576-0E28A4B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93F-787A-405D-8688-3019D9B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82A-2B8A-4872-99A1-646393B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9E4B-C2C3-4B23-934C-BFFDA53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ADF-255B-44FC-A672-B8269FB7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990-6C1B-4F13-BAC9-056B7B89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2AD-03A7-4296-94B5-3893E22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67C-07F6-4FD0-AC13-CF00DD3A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CC0-3386-49F6-8135-7250F6B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A1A-7F09-4985-BCE6-6941EFB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B65-5EB1-44FF-AA3C-1BC1E89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8C5-2C8F-432F-B544-DD5AB2E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E33-21C9-4DB9-BB3C-708B607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-31680" y="0"/>
            <a:ext cx="936792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B23-B9D1-4F37-8399-5D639801D477}" type="slidenum">
              <a: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8B3-D8D2-4B4E-B5B0-DEB70DE28F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3499920"/>
            <a:ext cx="8961480" cy="24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荷花扇子水墨中国风</a:t>
            </a: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17800" y="5014800"/>
            <a:ext cx="40640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3:48:26Z</dcterms:created>
  <dc:creator/>
  <dc:description/>
  <cp:keywords/>
  <dc:language>en-US</dc:language>
  <cp:lastModifiedBy>yu wang</cp:lastModifiedBy>
  <cp:lastPrinted>1899-12-30T00:00:00Z</cp:lastPrinted>
  <dcterms:modified xsi:type="dcterms:W3CDTF">2015-08-03T12:24:5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