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B22-574C-4901-930D-BD462B98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844-8DD2-45EE-8F8A-88BF8941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D38-4C57-4676-A8E8-9CE7196A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2AA-C343-4E21-89FA-CE7E711C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8BA-A8D8-433A-AA44-40AA7DC2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72F-2B6F-4678-93B3-372B7AA8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8B3-7FD2-4186-87E9-263A1BB1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BEA-7020-4E6D-A23C-2B58E923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5C3-77A6-422E-AB09-A7EA22A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384-3C6A-443F-8FA3-922BEFF7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BE2-C1E2-4485-A7E6-E99C455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8BD-698B-4236-B29D-EF002581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44C-3AFD-4A06-934D-6C76F431E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ub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258920" y="300024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4005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468360" y="3284640"/>
            <a:ext cx="8001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2455920" y="2852640"/>
            <a:ext cx="47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航空公司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28320" y="2433600"/>
            <a:ext cx="3990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cc00"/>
                </a:solidFill>
                <a:latin typeface="华文新魏"/>
                <a:ea typeface="华文新魏"/>
              </a:rPr>
              <a:t>谢谢大家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7:22:22Z</dcterms:created>
  <dc:creator>ppt宝藏</dc:creator>
  <dc:description/>
  <dc:language>en-US</dc:language>
  <cp:lastModifiedBy>yu wang</cp:lastModifiedBy>
  <dcterms:modified xsi:type="dcterms:W3CDTF">2015-08-03T12:24:43Z</dcterms:modified>
  <cp:revision>658</cp:revision>
  <dc:subject/>
  <dc:title>www.pptbz.com</dc:title>
</cp:coreProperties>
</file>