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FF3D-F21E-4018-B7B4-E2F3E393F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5280" y="386676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10FC-3D27-4CCD-A96A-5A473AD6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5680" y="11970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5280" y="386676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5680" y="386676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E59C-BCC4-4F2C-9F4D-4E563BEA1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9840" y="11970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1970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5280" y="386676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9840" y="386676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386676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C74C-800E-4BC0-82D5-C41A4F1E6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22FD-7132-46F2-B8FE-CDD48C8CB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95280" y="1197000"/>
            <a:ext cx="8353080" cy="51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9BC6-DE0C-4E60-85C6-381A2E54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353080" cy="51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1F03-7490-4C04-B857-D0EFBB9B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076280" cy="51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5680" y="1197000"/>
            <a:ext cx="4076280" cy="51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5B7C-D83A-46D9-B4A6-F738BA64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2908-1A48-482A-B2ED-142BC167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080" cy="33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2B8E-FFA9-489F-92A4-39E9867C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5680" y="1197000"/>
            <a:ext cx="4076280" cy="51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5280" y="386676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C2CF-92D6-4265-BA0A-1E23E646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5280" y="1197000"/>
            <a:ext cx="8353080" cy="51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7082-91BF-4B97-AD70-837C0796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076280" cy="51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5680" y="11970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5680" y="386676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D5EC-8454-435F-B654-5AB72FB1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5680" y="11970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5280" y="386676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16BA-602B-4C8B-A31B-6EB3D68E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95280" y="386676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9858-6A6E-430A-8970-18BE59BD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5680" y="11970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95280" y="386676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5680" y="386676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C7020-6ADC-438E-B3FA-D5F4B5DE5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9840" y="11970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4040" y="11970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95280" y="386676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9840" y="386676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4040" y="386676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E27F7-DCE5-4115-B615-70475E165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94D84-0AEF-44EF-A2B3-BA5E6DC25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95280" y="1197000"/>
            <a:ext cx="8353080" cy="51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11442-A496-4618-A49E-852B6C33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353080" cy="51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82CEC-0125-41B8-95F3-C1EBE193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076280" cy="51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5680" y="1197000"/>
            <a:ext cx="4076280" cy="51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4B2A1-D4F4-462D-A47F-84B21068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FAF42-2A71-43AE-A40C-1E01895F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353080" cy="51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3DE5-40D5-40FC-B307-86E5D209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080" cy="33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3A1D9-18E1-4A01-B116-5E00AA7B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5680" y="1197000"/>
            <a:ext cx="4076280" cy="51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95280" y="386676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F8D70-4396-4DAA-9766-C9F1D4DD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076280" cy="51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5680" y="11970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5680" y="386676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E9ED8-AFAD-4987-9D50-1F401E28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5680" y="11970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95280" y="386676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2DF18-C111-4C04-9131-83F4DC39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95280" y="386676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C841A-21C6-4F4E-BFF7-EE5B6C24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5680" y="11970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95280" y="386676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5680" y="386676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23B92-A85F-4A0F-8D32-C0CC80D3E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19840" y="11970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44040" y="11970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95280" y="386676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19840" y="386676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44040" y="386676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7FD56-3232-4F56-AFBF-FF6096AC2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076280" cy="51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5680" y="1197000"/>
            <a:ext cx="4076280" cy="51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25A0-4809-427F-8FE8-FB300C12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DCA0-AEF9-4BDF-B8C0-69FAE4D0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080" cy="33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6539-DE0A-46BB-AF68-53BE00DF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680" y="1197000"/>
            <a:ext cx="4076280" cy="51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5280" y="386676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C28B-9524-42E8-9124-934C8219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076280" cy="51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680" y="11970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5680" y="386676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D641-12CF-4881-8C4F-5D7B57D7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5680" y="11970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5280" y="3866760"/>
            <a:ext cx="8353080" cy="24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476D-63F8-404E-9064-EC11576D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" name="图片 8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E56D719C-F77B-4491-98F7-01CE72160D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44" name="图片 8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174760"/>
            <a:ext cx="8353080" cy="749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 cap="all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95280" y="1772640"/>
            <a:ext cx="8353080" cy="401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094976F4-37DA-4094-8CA0-BDBAD9A45C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chemeClr val="accent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95280" y="1197000"/>
            <a:ext cx="8353080" cy="5111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70B3838-9485-4216-84CB-2BA83DEAF44B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395280" y="1989000"/>
            <a:ext cx="8353080" cy="502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algn="r">
              <a:lnSpc>
                <a:spcPct val="100000"/>
              </a:lnSpc>
              <a:spcAft>
                <a:spcPts val="400"/>
              </a:spcAft>
              <a:tabLst>
                <a:tab algn="l" pos="0"/>
              </a:tabLst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点击此处添加幻灯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111111"/>
                </a:solidFill>
                <a:latin typeface="Arial Black"/>
                <a:ea typeface="微软雅黑"/>
              </a:rPr>
              <a:t>河姆渡遗址古典中国风</a:t>
            </a:r>
            <a:r>
              <a:rPr b="1" lang="en-US" sz="4000" spc="-1" strike="noStrike">
                <a:solidFill>
                  <a:srgbClr val="111111"/>
                </a:solidFill>
                <a:latin typeface="Arial Black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111111"/>
                </a:solidFill>
                <a:latin typeface="Arial Black"/>
                <a:ea typeface="微软雅黑"/>
              </a:rPr>
              <a:t>模板</a:t>
            </a:r>
            <a:endParaRPr b="0" lang="en-US" sz="4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0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2174760"/>
            <a:ext cx="8353080" cy="748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 cap="all">
                <a:solidFill>
                  <a:srgbClr val="111111"/>
                </a:solidFill>
                <a:latin typeface="Arial Black"/>
                <a:ea typeface="微软雅黑"/>
              </a:rPr>
              <a:t>点击此处添加幻灯节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353080" cy="401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一节</a:t>
            </a:r>
            <a:endParaRPr b="1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chemeClr val="accent1"/>
                </a:solidFill>
                <a:latin typeface="Arial Black"/>
                <a:ea typeface="微软雅黑"/>
              </a:rPr>
              <a:t>点击此处添加幻灯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353080" cy="5111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点击此处添加幻灯标题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chemeClr val="accent1"/>
                </a:solidFill>
                <a:latin typeface="Arial Black"/>
                <a:ea typeface="微软雅黑"/>
              </a:rPr>
              <a:t>使用规范说明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站点介绍：</a:t>
            </a:r>
            <a:endParaRPr b="1" lang="en-US" sz="105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05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  <a:ea typeface="微软雅黑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  <a:ea typeface="微软雅黑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  <a:ea typeface="微软雅黑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  <a:ea typeface="微软雅黑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  <a:ea typeface="微软雅黑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模板 </a:t>
            </a:r>
            <a:r>
              <a:rPr b="1" lang="en-US" sz="105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 </a:t>
            </a:r>
            <a:endParaRPr b="1" lang="en-US" sz="105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05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特别说明：</a:t>
            </a:r>
            <a:endParaRPr b="1" lang="en-US" sz="105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9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05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栏目推荐：</a:t>
            </a:r>
            <a:endParaRPr b="1" lang="en-US" sz="105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9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3"/>
              </a:rPr>
              <a:t>好看的ppt背景图片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beijing/       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	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           </a:t>
            </a:r>
            <a:r>
              <a:rPr b="1" lang="zh-CN" sz="9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4"/>
              </a:rPr>
              <a:t>动态ppt模板下载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dongtai/</a:t>
            </a:r>
            <a:endParaRPr b="1" lang="en-US" sz="9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en-US" sz="9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5"/>
              </a:rPr>
              <a:t>ppt模板下载 免费完整版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           </a:t>
            </a:r>
            <a:r>
              <a:rPr b="1" lang="en-US" sz="9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6"/>
              </a:rPr>
              <a:t> 毕业设计ppt模板下载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chuangyi/</a:t>
            </a:r>
            <a:endParaRPr b="1" lang="en-US" sz="9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9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7"/>
              </a:rPr>
              <a:t>答辩ppt模板下载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dabian/            </a:t>
            </a:r>
            <a:r>
              <a:rPr b="1" lang="zh-CN" sz="9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8"/>
              </a:rPr>
              <a:t>月总结ppt模板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gongzuo/</a:t>
            </a:r>
            <a:endParaRPr b="1" lang="en-US" sz="9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9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9"/>
              </a:rPr>
              <a:t>精美ppt模板下载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jingpin/            </a:t>
            </a:r>
            <a:r>
              <a:rPr b="1" lang="zh-CN" sz="9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10"/>
              </a:rPr>
              <a:t>说课ppt模板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kejian/</a:t>
            </a:r>
            <a:endParaRPr b="1" lang="en-US" sz="9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9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11"/>
              </a:rPr>
              <a:t>企业介绍ppt模板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qiye/                 </a:t>
            </a:r>
            <a:r>
              <a:rPr b="1" lang="zh-CN" sz="9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12"/>
              </a:rPr>
              <a:t>商务ppt模板下载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shangwu/</a:t>
            </a:r>
            <a:endParaRPr b="1" lang="en-US" sz="9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9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13"/>
              </a:rPr>
              <a:t>市场营销策划ppt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yingxiao/           </a:t>
            </a:r>
            <a:r>
              <a:rPr b="1" lang="en-US" sz="9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14"/>
              </a:rPr>
              <a:t>ppt素材图片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sucai/</a:t>
            </a:r>
            <a:endParaRPr b="1" lang="en-US" sz="9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en-US" sz="9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15"/>
              </a:rPr>
              <a:t>ppt图表下载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tubiao/                                    </a:t>
            </a:r>
            <a:r>
              <a:rPr b="1" lang="zh-CN" sz="9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16"/>
              </a:rPr>
              <a:t>自然风景ppt模板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fengjing/</a:t>
            </a:r>
            <a:endParaRPr b="1" lang="en-US" sz="9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9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17"/>
              </a:rPr>
              <a:t>国外ppt模板下载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guowai/            </a:t>
            </a:r>
            <a:r>
              <a:rPr b="1" lang="zh-CN" sz="9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18"/>
              </a:rPr>
              <a:t>简洁ppt模板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jianjie/</a:t>
            </a:r>
            <a:endParaRPr b="1" lang="en-US" sz="9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9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19"/>
              </a:rPr>
              <a:t>公司会议ppt模板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huiyi/                </a:t>
            </a:r>
            <a:r>
              <a:rPr b="1" lang="zh-CN" sz="9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20"/>
              </a:rPr>
              <a:t>教育教学ppt模板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jiaoyu/</a:t>
            </a:r>
            <a:endParaRPr b="1" lang="en-US" sz="9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9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21"/>
              </a:rPr>
              <a:t>网络科技ppt模板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keji/                  </a:t>
            </a:r>
            <a:r>
              <a:rPr b="1" lang="zh-CN" sz="9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22"/>
              </a:rPr>
              <a:t>论文答辩ppt模板免费下载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lunwen/</a:t>
            </a:r>
            <a:endParaRPr b="1" lang="en-US" sz="9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9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23"/>
              </a:rPr>
              <a:t>通用ppt模板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tongyong/                 </a:t>
            </a:r>
            <a:r>
              <a:rPr b="1" lang="zh-CN" sz="9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rId24"/>
              </a:rPr>
              <a:t>医疗卫生ppt模板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1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yiliao/</a:t>
            </a:r>
            <a:endParaRPr b="1" lang="en-US" sz="9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9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9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9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9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9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9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blank">
  <a:themeElements>
    <a:clrScheme name="UFS-1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6f5514"/>
      </a:accent1>
      <a:accent2>
        <a:srgbClr val="ae8620"/>
      </a:accent2>
      <a:accent3>
        <a:srgbClr val="961d00"/>
      </a:accent3>
      <a:accent4>
        <a:srgbClr val="e60012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blank">
  <a:themeElements>
    <a:clrScheme name="UFS-1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6f5514"/>
      </a:accent1>
      <a:accent2>
        <a:srgbClr val="ae8620"/>
      </a:accent2>
      <a:accent3>
        <a:srgbClr val="961d00"/>
      </a:accent3>
      <a:accent4>
        <a:srgbClr val="e60012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blank">
  <a:themeElements>
    <a:clrScheme name="UFS-1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6f5514"/>
      </a:accent1>
      <a:accent2>
        <a:srgbClr val="ae8620"/>
      </a:accent2>
      <a:accent3>
        <a:srgbClr val="961d00"/>
      </a:accent3>
      <a:accent4>
        <a:srgbClr val="e60012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blank</Template>
  <TotalTime>11</TotalTime>
  <Application>LibreOffice/7.4.7.2$Linux_X86_64 LibreOffice_project/40$Build-2</Application>
  <AppVersion>15.0000</AppVersion>
  <Words>181</Words>
  <Paragraphs>3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UDi-主题模板;TP</cp:category>
  <dcterms:created xsi:type="dcterms:W3CDTF">2012-09-11T05:32:22Z</dcterms:created>
  <dc:creator>田士庆</dc:creator>
  <dc:description/>
  <cp:keywords>XS-普屏 4：3 SC-淡棕色 BG-浅色 DH-静态</cp:keywords>
  <dc:language>en-US</dc:language>
  <cp:lastModifiedBy>yu wang</cp:lastModifiedBy>
  <dcterms:modified xsi:type="dcterms:W3CDTF">2015-08-03T12:23:13Z</dcterms:modified>
  <cp:revision>8</cp:revision>
  <dc:subject>TP-人文风俗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4</vt:r8>
  </property>
</Properties>
</file>