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D1A-ECD1-4963-9671-2B9D5CB3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62D-7460-449A-AF7C-402997D5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4ACCF-00AD-4D61-A000-A3AABD44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91A5-4632-4EB2-AE87-2892AB9D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E3852-731B-4B93-8057-4B39CA03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3979-A8CD-4C9E-BB9B-06C3A61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180C-122F-4470-9F85-93F23C8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51FE7-0CD6-4422-A25C-45CFF24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068BB-1A2B-461B-A9D3-F2886FB8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7547-A133-4022-A515-CFB27AF6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3CFD-22B9-408B-BF79-E868693B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56987-FDC7-4F61-B117-CBB59112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38F-BDC3-44B8-97C8-26629608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6560E-734A-4978-AB97-494ACB1B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E1154-AC90-4F23-848B-00241687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03050-E7C6-4A23-AEB5-817945EF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69ED3-43CF-4DB6-AF1D-9BF68D94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0D6B-4498-4193-A07F-9D0E612B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684CA-177B-4D82-8CA4-E7AF7C4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EC636-17DF-4EF6-8365-59766B6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187C5-1E97-42BE-B48E-BF080F13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77626-51EF-4E87-82AB-373E18F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444A2-636A-4389-8208-8DA30405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EF5-FE86-4CE0-96B1-E81927C2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75874-DAEF-4548-A9E2-911C4D81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4D1A8-5C2A-4951-8647-0D197660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78C5E-89ED-4B86-9986-C6933A9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6A60E-23E9-4692-B682-15F37121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FCF52-B873-4957-AB7B-61DFFAD3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E8D77-0CF1-4CDC-9319-2676025C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2F6D3-875A-49B0-B02B-22AD4D3A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3462A-F693-482C-A904-76A5647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92D6F-8E54-4FA4-A440-F3A072B9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25323-D734-4BDA-B4F0-F6D0E2A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11FC2-BEB2-4203-A50E-908E460A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8FF41-4959-4E03-AC1A-23FA33EA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F0BE6-9948-4F5C-91A4-FA87E278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97ACA-5CC5-49F4-8187-E9C28AD3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2073B-B780-4927-B23F-81F17328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859AF-5EB5-4AE9-94C0-D1FEF4E7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9D39A-2717-401F-912D-643111F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9F769-3424-4349-B901-32DDF9A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EA093-C120-468E-9FC1-01F260D6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65CE2-0653-46A4-9B7B-2ED36EF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F03FB-FE82-493D-AEE1-37EF3707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12574-318B-4FC7-A1CB-1AF98AE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56B4-337C-45C7-BCD2-2F8FBCBB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8D845-CE86-4272-A6DF-F4426D36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49FBD-17F8-4224-89FB-BBD962AD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3EDFE-DAE1-40E7-A9FD-AA811DFB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EDABA-2072-43B2-8C70-952B5641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38E95-5DF6-4BD3-8EBE-ADC41F4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B5F48-1C89-40B6-8AC9-9D797B6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20299-8B4A-4816-8BEF-47311A2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F5A5F-43EA-4DA4-B8E4-C8FD6479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AF15D-9907-4760-8F92-7B095D8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C3BB2-1588-4A4A-ABA9-19F04EC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8D5EA-FFF0-4BBD-A67C-BDAA6D91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9B933-D7FE-4E1E-B3DE-7710AA2A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EE8BE-FF37-480C-967E-1B6880AD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1D874-DB60-418B-8EAA-893E1DEC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EF4-5178-41E9-8574-135CC537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23A-A25A-46AA-950A-9A2C8F52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44C8-6C4E-4F87-881B-84ABF3BB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D97-0BC1-48A1-B2B0-75FFD301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11D-03A4-40D3-8416-54F8EA33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776-5D71-4577-994A-8AF839D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8D9-E206-452B-942F-5F6ECD5E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C7CE-505B-41FE-B7E3-A36251D1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157-A924-4BCF-A9E9-D618559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4A7A-0CD7-4103-ABC1-8259A1C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EB3-E5B3-4034-8713-EC0959C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6392-F8C2-4342-A63A-D0A387EA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2F54-9D77-418E-806A-4AB579C0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9FE-AD5E-4FF3-B5BE-F6A591DA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036D-4930-4A50-899C-FB6CF062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7F92-36FD-4F9C-8E46-D0A5F8DE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7B81-F74D-43C4-B57B-87BE998B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74C-E0FB-41ED-9B0E-CF1F5861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3F90-158B-433C-A6E5-242DE086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F787-26E3-4723-A8F9-4CF2C360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5897-363E-4E45-877D-5BD71244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C2456-784A-492D-8905-601CE19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5B1F-856C-4278-A788-CA142E1C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C5D7-7FF7-4B7A-9E1D-098CF5C7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066E-5701-4C6B-BB44-D05E8CE1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5250-7A82-4FFF-B51D-3D910587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ABAF-FC87-4CCB-939B-C68DF989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8B6E-5BB4-42C5-867A-C7F80DE6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F58-76A7-4973-94B7-13CDE26E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EE57-E737-4925-B0D3-E69CCF6B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A8D5-9A9F-4FBC-8866-09FE00D5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2E02-30E0-493A-9029-67FA703A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36EA-C8B4-442B-9318-1403A778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110E-6C9A-4248-9EAD-328CB8DD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A222-9A14-42CB-BD3A-6E95EDF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838D-A9E4-433D-BDFA-53B7C6C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A66E-E7C8-4330-9E60-C323598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9F4D-1C5F-4154-B071-95DDDB1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74C7-91D7-4673-BA79-66C51302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D38-A55F-4FDD-8C0E-3D91FEF7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9EC8-2150-4F82-9541-52E45855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23CB9-7732-448F-883E-ED4EF962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A40C-D625-4BD0-BF46-C5D2B2EF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52565-6708-471E-93D1-5F42A6C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CD75-F3B0-4DDE-BB69-D00741D1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AD5E-FF6A-42ED-AE5B-029BBAAE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FBE1-59ED-4684-9328-56FB9EAA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4A380-15CB-4F99-8B17-1211A61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0099-12E4-4E0C-B2B4-325D619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EA655-3373-4DFF-9309-6B9CA34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36B-B9BD-4ED2-9D8A-5216C44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9DCFF-EC4D-4E7B-8760-864DE745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4505-ED43-4E07-86C1-3A1D3E87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14E0-6F18-4427-A588-FD4D102A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39D5E-2F87-4FBE-A3CD-371325A0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CEFAA-8819-409F-A5F4-7BDD7C19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CF67-1318-4DB4-8134-161E1AF0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DA36E-7B09-4672-B266-D6CB5BF8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B799-82C8-45E5-AAA3-164C792E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7114-88B2-485F-BE0D-F10E3EFC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6F01-1D25-4539-AC61-4750E3B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16A-1F60-4310-92B4-87CD1DF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C781B-ABE9-4159-926A-A79D271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5ABB8-2E26-42E1-91D4-337E437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F20C-AF1B-4F55-929A-E223130F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5F2B-6EEA-496C-ADAA-0A4D9172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C8297-4255-48AB-9324-70FC3171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C1AB-0F6B-45F2-AC22-9FAA4B89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35A4-DBD7-42ED-B019-1797067B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5B601-6577-4752-A489-EB345A86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6963C-A0DA-4458-B1D6-E264D2C8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4BAC-3896-4478-94E1-46D53DBC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C11-17C2-4225-99C0-229EE31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1B418-02AA-408B-9968-B4B8B351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D7993-5C89-4904-AA8B-7D47B89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FFC53-60D5-4CBF-8FFD-4962541C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4152-214C-4C1C-AA87-8F9B5E7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E864E-76BF-4C3C-9A34-C968CD32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09B2C-99FB-4021-BFCF-11DBBBA4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6BA2-627A-48F3-B111-0CC26860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815C4-D2A8-4998-96B6-35AF3CDD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42D8A-A7F1-44D0-852C-F15AA78F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DABF8-C5B4-4616-9772-8C0B0F40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9858-70E6-439B-BC02-7455529446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903C-F88A-4FE0-89D9-A30FE1C0A5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604-FD6E-4934-8611-AF57DC2FCB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976F-9F2D-47C2-8FCF-971FE6B012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715D-51BA-4AC0-B4F1-62F58BDB23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860D-CE87-438E-9F17-4961D82D51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E04-EBEC-4ED3-B24C-2E2E2DE3D5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92A9-E651-4AF1-AE5C-0D910D8B80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81AC-C1D7-418B-8918-DAE196913A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7C5C-63AA-4510-96AB-10F61DCA03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792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850D-5CB2-4204-BFCE-264238AA32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65A7-3B72-4DFC-87E2-4A31D7F82B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B80C-6963-47B0-AD55-3D01F01D76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6091-9D44-45B2-864F-4A77803559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40D0-6E9A-438E-BDAA-A24F551DED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97C2-8184-4154-836D-DE48B67410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9AA4-0CAE-47E8-B02E-8CFC791308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F230-B586-4230-8D34-3B8BC61465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67F-40C1-4F03-B29A-D0F5133838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48CC-DFF6-407A-ABB7-87539CCE9F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592-153D-40A3-A305-CBCFC475C9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A626-A1CB-47AE-A782-A9B1C68159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D39E-4716-4B99-A137-1DFEB619630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37F4-7E9C-4422-8EA5-8F52979D30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矩形 4"/>
          <p:cNvSpPr/>
          <p:nvPr/>
        </p:nvSpPr>
        <p:spPr>
          <a:xfrm>
            <a:off x="0" y="1628640"/>
            <a:ext cx="9144000" cy="1295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2"/>
          <p:cNvSpPr/>
          <p:nvPr/>
        </p:nvSpPr>
        <p:spPr>
          <a:xfrm>
            <a:off x="2792520" y="4359240"/>
            <a:ext cx="338436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39528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黄色背景论文毕业答辩</a:t>
            </a:r>
            <a:r>
              <a:rPr b="1" lang="en-US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0" y="2318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科生毕业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9" descr=""/>
          <p:cNvPicPr/>
          <p:nvPr/>
        </p:nvPicPr>
        <p:blipFill>
          <a:blip r:embed="rId2"/>
          <a:stretch/>
        </p:blipFill>
        <p:spPr>
          <a:xfrm>
            <a:off x="2482920" y="4221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37" name="矩形 14"/>
          <p:cNvSpPr/>
          <p:nvPr/>
        </p:nvSpPr>
        <p:spPr>
          <a:xfrm>
            <a:off x="2771640" y="5079960"/>
            <a:ext cx="3384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15" descr=""/>
          <p:cNvPicPr/>
          <p:nvPr/>
        </p:nvPicPr>
        <p:blipFill>
          <a:blip r:embed="rId3"/>
          <a:stretch/>
        </p:blipFill>
        <p:spPr>
          <a:xfrm>
            <a:off x="2462040" y="4940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8"/>
          <p:cNvSpPr/>
          <p:nvPr/>
        </p:nvSpPr>
        <p:spPr>
          <a:xfrm>
            <a:off x="2987640" y="4221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汇报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314532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导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12"/>
          <p:cNvSpPr/>
          <p:nvPr/>
        </p:nvSpPr>
        <p:spPr>
          <a:xfrm>
            <a:off x="1332000" y="148428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289080" y="189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9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547" name="矩形 14"/>
          <p:cNvSpPr/>
          <p:nvPr/>
        </p:nvSpPr>
        <p:spPr>
          <a:xfrm>
            <a:off x="1332000" y="246852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15" descr=""/>
          <p:cNvPicPr/>
          <p:nvPr/>
        </p:nvPicPr>
        <p:blipFill>
          <a:blip r:embed="rId3"/>
          <a:stretch/>
        </p:blipFill>
        <p:spPr>
          <a:xfrm>
            <a:off x="826920" y="239724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8"/>
          <p:cNvSpPr/>
          <p:nvPr/>
        </p:nvSpPr>
        <p:spPr>
          <a:xfrm>
            <a:off x="1619280" y="1413000"/>
            <a:ext cx="504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1"/>
          <p:cNvSpPr/>
          <p:nvPr/>
        </p:nvSpPr>
        <p:spPr>
          <a:xfrm>
            <a:off x="1332000" y="345276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13" descr=""/>
          <p:cNvPicPr/>
          <p:nvPr/>
        </p:nvPicPr>
        <p:blipFill>
          <a:blip r:embed="rId4"/>
          <a:stretch/>
        </p:blipFill>
        <p:spPr>
          <a:xfrm>
            <a:off x="826920" y="338148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552" name="矩形 17"/>
          <p:cNvSpPr/>
          <p:nvPr/>
        </p:nvSpPr>
        <p:spPr>
          <a:xfrm>
            <a:off x="1332000" y="443700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18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792360" cy="790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9"/>
          <p:cNvSpPr/>
          <p:nvPr/>
        </p:nvSpPr>
        <p:spPr>
          <a:xfrm>
            <a:off x="1619280" y="240660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谷歌就写不了英语摘要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619280" y="3357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做不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1"/>
          <p:cNvSpPr/>
          <p:nvPr/>
        </p:nvSpPr>
        <p:spPr>
          <a:xfrm>
            <a:off x="1619280" y="4365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知网就写不了论文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2"/>
          <p:cNvSpPr/>
          <p:nvPr/>
        </p:nvSpPr>
        <p:spPr>
          <a:xfrm>
            <a:off x="755640" y="1147680"/>
            <a:ext cx="4500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7"/>
          <p:cNvSpPr/>
          <p:nvPr/>
        </p:nvSpPr>
        <p:spPr>
          <a:xfrm>
            <a:off x="289080" y="18900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 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9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574560" cy="576000"/>
          </a:xfrm>
          <a:prstGeom prst="rect">
            <a:avLst/>
          </a:prstGeom>
          <a:ln w="0">
            <a:noFill/>
          </a:ln>
        </p:spPr>
      </p:pic>
      <p:sp>
        <p:nvSpPr>
          <p:cNvPr id="562" name="TextBox 8"/>
          <p:cNvSpPr/>
          <p:nvPr/>
        </p:nvSpPr>
        <p:spPr>
          <a:xfrm>
            <a:off x="920880" y="1008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标题在此闹个眼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6"/>
          <p:cNvSpPr/>
          <p:nvPr/>
        </p:nvSpPr>
        <p:spPr>
          <a:xfrm>
            <a:off x="611280" y="17161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</a:rPr>
              <a:t>不是说大家，大家搞科研是不是抱个百度搜啊搜，搞个知网抄啊抄，翻译不是有道就是谷歌翻译，那有些人尼玛大段大段翻译，那出来的英语，我靠，中式英语</a:t>
            </a:r>
            <a:r>
              <a:rPr b="0" lang="en-US" sz="2000" spc="-1" strike="noStrike">
                <a:solidFill>
                  <a:srgbClr val="0c0c0c"/>
                </a:solidFill>
                <a:latin typeface="Calibri"/>
              </a:rPr>
              <a:t>enough</a:t>
            </a:r>
            <a:r>
              <a:rPr b="0" lang="zh-CN" sz="2000" spc="-1" strike="noStrike">
                <a:solidFill>
                  <a:srgbClr val="0c0c0c"/>
                </a:solidFill>
                <a:latin typeface="Calibri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</a:rPr>
              <a:t>同样那句话，休得放肆无聊所做，喜欢拿下，不喜欢下下来痛骂一番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图片 23" descr=""/>
          <p:cNvPicPr/>
          <p:nvPr/>
        </p:nvPicPr>
        <p:blipFill>
          <a:blip r:embed="rId3"/>
          <a:stretch/>
        </p:blipFill>
        <p:spPr>
          <a:xfrm>
            <a:off x="7308720" y="5094360"/>
            <a:ext cx="927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24:00Z</dcterms:created>
  <dc:creator>XINYANGMIAN</dc:creator>
  <dc:description/>
  <dc:language>en-US</dc:language>
  <cp:lastModifiedBy>yu wang</cp:lastModifiedBy>
  <cp:lastPrinted>1899-12-30T00:00:00Z</cp:lastPrinted>
  <dcterms:modified xsi:type="dcterms:W3CDTF">2015-08-03T12:25:52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