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BD57-1EE3-4508-9DE5-AC98ED1F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46500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CEDD-426E-4F80-9934-19B25502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091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95E-E68E-41FE-956A-AC43D3C0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144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5796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144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5796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75EE-B77D-483E-B886-3E1925EE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1256-47D8-4C10-8127-B7C5E5C5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6E39-5B8D-48EB-AD16-76AE7EE9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9B8C-AA0D-4A9B-B7CD-1596E783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8D4B-7437-4617-80A0-4B4A868E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E485-54F7-4FF5-A6FD-23559E7D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3D31-BDA1-43E5-9C32-7C6AEA51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0F64-2E23-4000-A7D6-DFD16DC8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028-AA6B-4FD0-86C0-FCFB91D9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091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EA5F-8835-4D27-A295-1F6ECB98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424F-9B03-456C-BB0B-B57CB0EE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46500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65C3-2B78-4B91-8095-AE94276D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091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3994-3659-4030-B89C-B513EB09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8144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5796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8144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5796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F3DD-D6A9-4604-87C1-7A68A5AD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733F-B212-4BCC-BF3B-38568C76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007-3BF4-4493-8D2E-48CD0F3F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B92-BF1F-4072-B610-504A881A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27F-5AF9-494E-A5E2-1A2A327F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F61-65FB-4243-991B-9B0E5A7A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091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D65-0DB7-4190-9242-4AB38CAF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C01-3BB4-4D2E-AB46-4768C110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333333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C4BD-E046-4A49-B481-82E8739009CE}" type="slidenum">
              <a:rPr b="1" lang="zh-CN" sz="1000" spc="-1" strike="noStrike">
                <a:solidFill>
                  <a:srgbClr val="333333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B793-1D94-49E8-8E3C-FD2A77999D3A}" type="slidenum"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2537280" y="112536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灰色海边风景简洁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34747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04920" y="6405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57200" y="2590920"/>
            <a:ext cx="6629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5"/>
          <p:cNvSpPr/>
          <p:nvPr/>
        </p:nvSpPr>
        <p:spPr>
          <a:xfrm>
            <a:off x="7293240" y="94464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4" descr="take_the_beach_home_prt"/>
          <p:cNvPicPr/>
          <p:nvPr/>
        </p:nvPicPr>
        <p:blipFill>
          <a:blip r:embed="rId1"/>
          <a:stretch/>
        </p:blipFill>
        <p:spPr>
          <a:xfrm>
            <a:off x="58672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Picture 85" descr="take_the_beach_home_qx"/>
          <p:cNvPicPr/>
          <p:nvPr/>
        </p:nvPicPr>
        <p:blipFill>
          <a:blip r:embed="rId2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Picture 86" descr="take_the_beach_home_sld"/>
          <p:cNvPicPr/>
          <p:nvPr/>
        </p:nvPicPr>
        <p:blipFill>
          <a:blip r:embed="rId3"/>
          <a:stretch/>
        </p:blipFill>
        <p:spPr>
          <a:xfrm>
            <a:off x="42670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Picture 87" descr="take_the_beach_home_trs"/>
          <p:cNvPicPr/>
          <p:nvPr/>
        </p:nvPicPr>
        <p:blipFill>
          <a:blip r:embed="rId4"/>
          <a:stretch/>
        </p:blipFill>
        <p:spPr>
          <a:xfrm>
            <a:off x="74674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 </a:t>
            </a:r>
            <a:r>
              <a:rPr b="1" lang="zh-CN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1" lang="zh-CN" sz="9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简洁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2:25:26Z</dcterms:created>
  <dc:creator>User</dc:creator>
  <dc:description/>
  <dc:language>en-US</dc:language>
  <cp:lastModifiedBy>yu wang</cp:lastModifiedBy>
  <dcterms:modified xsi:type="dcterms:W3CDTF">2015-08-03T12:23:23Z</dcterms:modified>
  <cp:revision>6</cp:revision>
  <dc:subject/>
  <dc:title>Take the Beach Home</dc:title>
</cp:coreProperties>
</file>