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3DE-3D6A-4117-9589-BC69665A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4836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109760"/>
            <a:ext cx="784836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0B7-2B9F-4FF5-AA39-982221AD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9640" y="190512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10976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9640" y="410976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CDC-1FDD-4D03-B0C2-CBA16090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2684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1640" y="1905120"/>
            <a:ext cx="252684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5200" y="1905120"/>
            <a:ext cx="252684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109760"/>
            <a:ext cx="252684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1640" y="4109760"/>
            <a:ext cx="252684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5200" y="4109760"/>
            <a:ext cx="252684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015-2D37-4509-89CC-2693A543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B8B5-C81D-460E-8BFA-D7C7A778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848360" cy="42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AC34-2BF7-45A1-B81D-D02BD2DD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48360" cy="42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49AA-A1E6-4CFF-86FD-24E13E62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29680" cy="42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59640" y="1905120"/>
            <a:ext cx="3829680" cy="42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2421-2525-419D-B5B6-4322B53C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ACFA-4F59-4DBD-B786-840F31B4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CA55-2E50-47A2-BAAB-909E9B92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9640" y="1905120"/>
            <a:ext cx="3829680" cy="42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10976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6182-F8EC-4668-94AA-E57AE816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848360" cy="42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8A4-3D89-40B2-B33C-70D432B5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29680" cy="42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9640" y="190512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59640" y="410976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2DA4-CA26-4903-AFD6-2C189D84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9640" y="190512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109760"/>
            <a:ext cx="784836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7008-91F0-4DC3-9822-B5ECE26C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4836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109760"/>
            <a:ext cx="784836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E492-1957-496A-BDAD-D6D33CAE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59640" y="190512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10976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59640" y="410976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2845-CF74-4688-AEFC-5AAE99AD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2684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1640" y="1905120"/>
            <a:ext cx="252684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5200" y="1905120"/>
            <a:ext cx="252684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109760"/>
            <a:ext cx="252684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1640" y="4109760"/>
            <a:ext cx="252684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5200" y="4109760"/>
            <a:ext cx="252684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0490-B003-4A68-867C-F3FCF3CB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48360" cy="42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080-A031-46BC-B68A-FBC31833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29680" cy="42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9640" y="1905120"/>
            <a:ext cx="3829680" cy="42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A32-60EE-4B90-8A19-57CF73B9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9D2-243F-4A33-8A92-CC0C9A21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C6ED-EE17-4274-BFA0-1E772406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9640" y="1905120"/>
            <a:ext cx="3829680" cy="42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10976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AF9-A551-431D-BF6B-3226E0FB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29680" cy="42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9640" y="190512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9640" y="410976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0A5-C7DA-4427-91BD-2D2CAA3E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9640" y="1905120"/>
            <a:ext cx="38296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09760"/>
            <a:ext cx="784836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D05-8A58-4FF0-BE45-B29C62DB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990000"/>
                </a:solidFill>
                <a:latin typeface="Century Gothic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E0F8D1-593F-445B-AE50-1D9D252222FE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990000"/>
                </a:solidFill>
                <a:latin typeface="Century Gothic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848360" cy="4220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Century Gothic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Century Gothic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Century Gothic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Century Gothic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entury Gothic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00397C-EDF2-47D9-9086-DF3235F42D1B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990000"/>
                </a:solidFill>
                <a:latin typeface="Century Gothic"/>
                <a:ea typeface="宋体"/>
              </a:rPr>
              <a:t>灰色清爽简洁</a:t>
            </a:r>
            <a:r>
              <a:rPr b="0" lang="en-US" sz="4000" spc="-1" strike="noStrike">
                <a:solidFill>
                  <a:srgbClr val="990000"/>
                </a:solidFill>
                <a:latin typeface="Century Gothic"/>
                <a:ea typeface="宋体"/>
              </a:rPr>
              <a:t>PPT</a:t>
            </a:r>
            <a:r>
              <a:rPr b="0" lang="zh-CN" sz="4000" spc="-1" strike="noStrike">
                <a:solidFill>
                  <a:srgbClr val="990000"/>
                </a:solidFill>
                <a:latin typeface="Century Gothic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990000"/>
                </a:solidFill>
                <a:latin typeface="Century Gothic"/>
                <a:ea typeface="宋体"/>
              </a:rPr>
              <a:t>Topic Goes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48360" cy="4220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Subtopics go he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85800" y="1752480"/>
            <a:ext cx="7772040" cy="146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990000"/>
                </a:solidFill>
                <a:latin typeface="Century Gothic"/>
                <a:ea typeface="宋体"/>
              </a:rPr>
              <a:t>Transition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371600" y="3733920"/>
            <a:ext cx="6400440" cy="175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990000"/>
                </a:solidFill>
                <a:latin typeface="Century Gothic"/>
                <a:ea typeface="宋体"/>
              </a:rPr>
              <a:t>Topic Goes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48360" cy="4220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Subtopics go he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6237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990000"/>
                </a:solidFill>
                <a:latin typeface="Century Gothic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entury Gothic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entury Gothic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entury Gothic"/>
              </a:rPr>
              <a:t> 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entury Gothic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Century Gothic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Century Gothic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Century Gothic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Century Gothic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entury Gothic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locker_life">
  <a:themeElements>
    <a:clrScheme name="Office 主题​​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locker_life">
  <a:themeElements>
    <a:clrScheme name="Office 主题​​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locker_life</Template>
  <TotalTime>5</TotalTime>
  <Application>LibreOffice/7.4.7.2$Linux_X86_64 LibreOffice_project/40$Build-2</Application>
  <AppVersion>15.0000</AppVersion>
  <Words>191</Words>
  <Paragraphs>39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07:29:04Z</dcterms:created>
  <dc:creator>微软中国</dc:creator>
  <dc:description/>
  <dc:language>en-US</dc:language>
  <cp:lastModifiedBy>yu wang</cp:lastModifiedBy>
  <dcterms:modified xsi:type="dcterms:W3CDTF">2015-08-03T12:23:25Z</dcterms:modified>
  <cp:revision>5</cp:revision>
  <dc:subject/>
  <dc:title>Locker Lif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