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510-9795-49F6-8648-31294B43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AB5-FBEC-4D8E-949D-1A34D5BF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A1F-7366-4BA1-99DD-F504CE32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E08-F25F-4F22-A817-D4605F78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026-E757-4AA6-B018-44AB731A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DF6-FACD-4110-97BE-292EB1AC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51A-601E-4BF3-A952-0FCE0616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439-452F-4565-84F3-3A535E5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EDE-D53F-448D-BA8F-55E1A579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5A7-FF24-462F-9439-4B34165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EB5-22FA-4C70-9672-5F30208B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542-A02B-4500-9644-9B0D819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0E97-EE1D-4652-8A1C-E2257290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43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46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49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53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57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61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65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70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08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12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22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87"/>
          <p:cNvSpPr/>
          <p:nvPr/>
        </p:nvSpPr>
        <p:spPr>
          <a:xfrm>
            <a:off x="900000" y="2565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简单动态简洁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版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129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32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35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39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43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47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51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56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94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98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08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HGZ</dc:creator>
  <dc:description/>
  <dc:language>en-US</dc:language>
  <cp:lastModifiedBy>yu wang</cp:lastModifiedBy>
  <dcterms:modified xsi:type="dcterms:W3CDTF">2015-08-03T12:23:41Z</dcterms:modified>
  <cp:revision>6</cp:revision>
  <dc:subject/>
  <dc:title>PPT 动画</dc:title>
</cp:coreProperties>
</file>