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57C-8988-46F5-9098-ED82E0E8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738-19A2-4CB4-9369-D7B71A91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550F-6BAF-4821-9513-EF40A367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71E9-A752-43DC-BD83-0A82BE6B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8FBCA-C51C-4BB7-8C97-9D8E95F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FE65-684B-4990-83DE-168757A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E06ED-FEF5-46DB-A3F9-3956B5A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240E-31D7-4B8C-87D0-F34327D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D64C6-06F1-4ADE-9828-F99B9EC8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41298-E4E2-4BCA-AB52-CECD7B10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AD6F7-8CBE-484D-AD22-4038DE7E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75B42-F8A5-493A-B333-601FD358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99A-94FC-4338-B968-9754799D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F5056-1151-4834-BBA7-9665A18B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3D6D-4C52-4798-908E-16EB5BD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D75C-EAA5-4E31-948C-9B7B511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F0E18-EADF-4311-8AFC-48B80E8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6487D-239C-4B44-8BEE-96902848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764C5-F77E-4680-935F-2C31D43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73D92-170A-4F64-A81D-7D4E363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13224-40FF-4595-A5A2-4AF4EBD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8D2D2-EE9B-47E9-87C9-A18055D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CD6E-1CEE-4C92-9F44-E21BA99E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ED3-A009-4C56-BE4B-06AE8F80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27575-034A-4DE8-8169-D92F98D0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2D00-D106-4300-B125-A4677F52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B8C4-B304-468A-B8DB-9333633C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CF648-E552-4805-933D-0B94516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66B56-EBD4-46AB-BCE2-C93778C0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A654-C67D-4345-8E41-2D4C71F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0D3E7-340F-4BFC-AF05-CC7B98C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BDA2-64F2-426E-9522-31CDB79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374A-E05B-4748-8BB8-C9B3C880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22F26-4D63-4BA8-B45B-BD9040D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8005-C3F0-4BE9-8665-BACC3D34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EC847-0198-4670-AA48-F994796E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D3564-03F7-4E8B-B65B-761E3DCC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3E06-EB44-4404-AE5B-30908751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6E7E1-F696-4F1C-B799-7444B677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85E55-C40B-4CFA-AFF4-AF159764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AC2FF-99B9-4B18-AB9E-C881723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BDC10-B177-4944-925C-EA55EFB0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63AB9-F23F-4481-B42C-3B3707A6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78246-DF63-4C19-B777-5582AC2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A1E15-2D54-411E-8805-E9CC944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CE7A-6628-48CA-A303-2795E86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B2CA1-31A4-4C15-AA16-5DBCF01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423CD-F650-4087-A7C0-51912246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1BD40-37C0-4F71-99A6-F10867C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BEDA3-F484-461F-8A40-46F77B26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FC6C3-ECF4-40CC-A342-3D313856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43278-7655-413F-B563-6EFEDA1C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EE9EB-F32A-4021-AB44-10D66A43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19C0F-A510-493F-88C3-C04881A1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A2E44-3EBE-4D54-BF74-CACABCB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07A81-3332-41C7-AB2F-B6AAF01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9D8-DF35-40F0-902D-A6485A5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7610B-24D1-4EEE-ACEC-9D4FB3A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C7F16-F974-4BB5-B84C-565E0C1E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22422-1242-49E4-8810-A7C0D85D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EB2D9-DE37-4F35-8F95-BB0B3ED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410E7-31AF-4182-AFEF-53224180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7EC0D-9EA3-4B08-85A5-5622BEA8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6B187-A31D-420D-98E4-D4374129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66A-0F17-4F68-9A31-0FBDC2F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73F7-1A72-4332-BA55-1CD3CC0B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E73-9A9D-4FBF-B06B-1FDD161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14E8-CAFC-4170-9902-EFEFEFB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7DB-96CD-418B-936B-0E39540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0E39-BFA7-4932-B3EA-A6E3A6B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A0C-C94B-4B2E-B285-1ED4788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052E-A521-48AA-880A-5886E2E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207-EFCF-488A-924C-14918534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93C1-5958-4342-9BC4-178831F2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95D9-A962-4587-BDD6-1FA1C1A9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CC35-CB07-4047-8FA7-CE8FDD7B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EB73-1957-45B7-9E11-F786ED34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EEBE-9D45-4B78-984B-7714C14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84B1-367E-4592-9461-F777F77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342-0162-43A6-896B-79CEABC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EF0D-5786-4ED8-AE91-89C088F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6737-6D08-4593-853C-400700B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3527-E5BD-4773-8794-15A0B84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08ED-5A48-4CFA-AFCC-CDC6A7B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4ED82-153C-4F0D-8B4B-7C832B5D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397D-DCF6-42E0-9C37-745137BD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8FD8-9147-4DB2-A28C-A789AEE7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92B0-DB08-4CE4-B1E3-19AB3B50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0E48-4E46-4652-96C9-350EFF6D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021A-F1CE-4E49-89C5-828652E1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604-2D8C-499A-9778-B241520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5301-F49B-4493-BCAE-B5766E58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B366-8BC9-4E6D-BE71-F098A82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EF74-5352-4E6E-AAC4-1DC4F2C3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D96F-EBA3-4CA6-B044-214E809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559E-9432-406C-AF2D-386A131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6311-EAE7-4FF0-82AA-817677E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04C17-9ED8-431B-B653-92A842B4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F9AE-6A19-4934-A842-092B1C96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4159-6AEA-493D-8B65-B032D01B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2693-A480-42AF-9DE7-8A535980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E2C-C502-4BAC-B94F-F8235B9E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BCBD-F227-4BC2-A477-EC0E3AC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BA43-60BF-459D-80C0-0855D3E4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460D-0FE5-4D58-9105-6A7F9A7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BC9D-B3CF-4151-9F3F-1D213B47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433C-22B5-46F3-89E2-BE4FE44B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E403-89D3-4F48-9209-17393F6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DB6A-5C01-44E6-BBD8-176D9E0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A23A-845C-411B-B32E-540421A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139F-922C-4980-B424-9B1E94F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8F10-77E4-4D2F-B3E2-696FC6CA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57E-3365-4FCC-812E-EA757B2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43CB-DD1B-4973-A418-81B82949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C7A8C-015B-4E6C-A2F4-AFE7C409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F5DA-34C8-47B3-9E15-4D2FA3D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0F43-3A9F-4041-8F04-9F167F22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49D9-3E31-4F84-916D-0A5A366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30EC-6ECB-4137-AA76-F5C25FC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4E62-57B6-4EDD-9104-F0335C0D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4D63-6A6F-423C-96A9-9E36C66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6313-E808-4ADE-8C4A-95101F32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A0CD-53E7-4E91-B01F-12AD213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583-D996-4624-B4BE-4658DC1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F080-5F86-4681-AFB1-9AEAC80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0226-ECB6-4ACD-9CC5-637E0FA5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3541-FAB3-4630-8A55-A50474DA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8BDD7-5677-41B1-9BB9-B6EC7597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39020-539D-44CF-922E-B081F58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2863E-DA9A-4899-B4F3-ED93D69D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539E7-46F9-4622-B4B2-41B31B9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E7E1A-2F48-42FC-B503-0CCB52E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49043-08D1-43E2-961C-B7858A2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1F81C-641B-44FC-B9DD-30EEED7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C96-EC72-47E5-A4B0-389AE42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67A35-1367-4473-B5CD-4FDFC94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A8AD5-BB62-44CF-9E3D-9A2AD9F4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19C0E-D9F5-4825-AA9D-3A2A15D4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900E1-7C57-4B72-BC84-3B195FAE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86313-CFC0-4962-B073-525F1D5F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0CA98-B85B-4733-A470-5AA535C8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425E-AE2C-4EF7-9372-425C45D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8F54-3FC0-4FAC-878C-189ABF2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3F9B-99B3-47AB-AB8A-7C156CC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F577-5948-490D-8B16-54EA6505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73A-104A-46F6-8F4A-195603C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01F4-74E4-4F32-924A-F10B2C6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5E78D-12D7-4856-8090-0023CC5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79BFB-CDEA-4FD7-BD95-EF58150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31992-8EC0-47A2-B877-08570E2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C3F05-49B2-4F18-B0FD-3CD3634B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C955-DC6A-475A-BA37-90B8AE4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0B5F-FD67-4E6C-8C9F-7F1B260B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35306-89BA-469D-9C59-C9A99912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06361-5192-4653-8564-AA693797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D33EA-F4D3-41A5-ACC9-94B0E8C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43B-DDF8-44FB-B6E8-8308C6D865E9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199-63D8-4C7C-B4CF-D95AE9F63C5C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D3DD-AFA7-48B6-9BC6-37F6CAD92962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175-06FF-43B2-9E6D-38908C614EC6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638-96C9-4688-9B5E-C95E3C437EA1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ED3-F131-4FDA-B61C-5C264399FF4E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687-E5A4-4F99-8A86-9BCE9B620D51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1AA4-6286-474A-8926-CFE48BC50441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8A84-8257-41DA-A138-2CC04CE9796E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82F4-B7AE-41A1-BF9D-05210138C0C0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7AB-9427-4C82-A46E-7A3D4736749F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EE7-0A92-42B9-8D6C-EFA2C31C8AF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08A-E1EB-47EB-8ACC-E51B737C39E4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142-00E0-4048-9453-4952F311646F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02B-C65B-4CD8-A4D1-9C570F5A184B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760B-673F-4D61-83DA-CBE889159AB8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9260-22E7-44B4-91B6-6204FCE1E579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A2E-63E4-4B3F-8AFA-F7E397987B04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2F8-B79B-478B-9033-E46BDB985339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007A-1CD8-4460-8B29-664CA46047ED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5467-F94E-404D-8E38-A265A7E4BB0E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BFC9-E489-407D-A006-6D1BAD74D634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8DE3-A9D7-4FED-8E4D-B2FAAADAB892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BE9-8708-40D2-8EB4-352BF51AE61D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9A96-C4E2-4CE1-93CD-B7CB7B6DFA89}" type="datetime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C915-0990-49E5-A6DD-1AEB31C11547}" type="slidenum">
              <a:rPr b="0" lang="zh-CN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6"/>
          <p:cNvSpPr/>
          <p:nvPr/>
        </p:nvSpPr>
        <p:spPr>
          <a:xfrm>
            <a:off x="376200" y="301680"/>
            <a:ext cx="8425080" cy="30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5318280" y="692280"/>
            <a:ext cx="3231360" cy="2715840"/>
            <a:chOff x="5318280" y="692280"/>
            <a:chExt cx="3231360" cy="2715840"/>
          </a:xfrm>
        </p:grpSpPr>
        <p:sp>
          <p:nvSpPr>
            <p:cNvPr id="557" name="AutoShape 38"/>
            <p:cNvSpPr/>
            <p:nvPr/>
          </p:nvSpPr>
          <p:spPr>
            <a:xfrm>
              <a:off x="8162280" y="2293920"/>
              <a:ext cx="242280" cy="10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1"/>
                  </a:moveTo>
                  <a:lnTo>
                    <a:pt x="3778" y="3871"/>
                  </a:lnTo>
                  <a:lnTo>
                    <a:pt x="5000" y="0"/>
                  </a:lnTo>
                  <a:lnTo>
                    <a:pt x="6222" y="3871"/>
                  </a:lnTo>
                  <a:lnTo>
                    <a:pt x="10000" y="3871"/>
                  </a:lnTo>
                  <a:lnTo>
                    <a:pt x="6889" y="6129"/>
                  </a:lnTo>
                  <a:lnTo>
                    <a:pt x="8111" y="10000"/>
                  </a:lnTo>
                  <a:lnTo>
                    <a:pt x="5000" y="7581"/>
                  </a:lnTo>
                  <a:lnTo>
                    <a:pt x="1889" y="10000"/>
                  </a:lnTo>
                  <a:lnTo>
                    <a:pt x="3111" y="6129"/>
                  </a:lnTo>
                  <a:lnTo>
                    <a:pt x="0" y="38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39"/>
            <p:cNvSpPr/>
            <p:nvPr/>
          </p:nvSpPr>
          <p:spPr>
            <a:xfrm>
              <a:off x="7127640" y="2328120"/>
              <a:ext cx="12924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40"/>
            <p:cNvSpPr/>
            <p:nvPr/>
          </p:nvSpPr>
          <p:spPr>
            <a:xfrm>
              <a:off x="8420400" y="216432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41"/>
            <p:cNvSpPr/>
            <p:nvPr/>
          </p:nvSpPr>
          <p:spPr>
            <a:xfrm>
              <a:off x="5318280" y="2409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42"/>
            <p:cNvSpPr/>
            <p:nvPr/>
          </p:nvSpPr>
          <p:spPr>
            <a:xfrm>
              <a:off x="8291160" y="69228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43"/>
            <p:cNvSpPr/>
            <p:nvPr/>
          </p:nvSpPr>
          <p:spPr>
            <a:xfrm>
              <a:off x="7162920" y="980280"/>
              <a:ext cx="330840" cy="83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8"/>
                  </a:moveTo>
                  <a:lnTo>
                    <a:pt x="3821" y="3878"/>
                  </a:lnTo>
                  <a:lnTo>
                    <a:pt x="5041" y="0"/>
                  </a:lnTo>
                  <a:lnTo>
                    <a:pt x="6179" y="3878"/>
                  </a:lnTo>
                  <a:lnTo>
                    <a:pt x="10000" y="3878"/>
                  </a:lnTo>
                  <a:lnTo>
                    <a:pt x="6911" y="6122"/>
                  </a:lnTo>
                  <a:lnTo>
                    <a:pt x="8130" y="10000"/>
                  </a:lnTo>
                  <a:lnTo>
                    <a:pt x="5041" y="7551"/>
                  </a:lnTo>
                  <a:lnTo>
                    <a:pt x="1870" y="10000"/>
                  </a:lnTo>
                  <a:lnTo>
                    <a:pt x="3089" y="6122"/>
                  </a:lnTo>
                  <a:lnTo>
                    <a:pt x="0" y="38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44"/>
            <p:cNvSpPr/>
            <p:nvPr/>
          </p:nvSpPr>
          <p:spPr>
            <a:xfrm>
              <a:off x="7162920" y="3311280"/>
              <a:ext cx="330840" cy="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0"/>
                  </a:moveTo>
                  <a:lnTo>
                    <a:pt x="3821" y="3860"/>
                  </a:lnTo>
                  <a:lnTo>
                    <a:pt x="5041" y="0"/>
                  </a:lnTo>
                  <a:lnTo>
                    <a:pt x="6179" y="3860"/>
                  </a:lnTo>
                  <a:lnTo>
                    <a:pt x="10000" y="3860"/>
                  </a:lnTo>
                  <a:lnTo>
                    <a:pt x="6911" y="6140"/>
                  </a:lnTo>
                  <a:lnTo>
                    <a:pt x="8130" y="10000"/>
                  </a:lnTo>
                  <a:lnTo>
                    <a:pt x="5041" y="7719"/>
                  </a:lnTo>
                  <a:lnTo>
                    <a:pt x="1870" y="10000"/>
                  </a:lnTo>
                  <a:lnTo>
                    <a:pt x="3089" y="6140"/>
                  </a:lnTo>
                  <a:lnTo>
                    <a:pt x="0" y="38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45"/>
            <p:cNvSpPr/>
            <p:nvPr/>
          </p:nvSpPr>
          <p:spPr>
            <a:xfrm>
              <a:off x="6112800" y="1896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6"/>
            <p:cNvSpPr/>
            <p:nvPr/>
          </p:nvSpPr>
          <p:spPr>
            <a:xfrm>
              <a:off x="8366760" y="2397600"/>
              <a:ext cx="12852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6" name="Picture 12" descr=""/>
          <p:cNvPicPr/>
          <p:nvPr/>
        </p:nvPicPr>
        <p:blipFill>
          <a:blip r:embed="rId1"/>
          <a:srcRect l="26327" t="0" r="29939" b="41745"/>
          <a:stretch/>
        </p:blipFill>
        <p:spPr>
          <a:xfrm>
            <a:off x="7424640" y="1595520"/>
            <a:ext cx="360360" cy="333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611280" y="2836800"/>
            <a:ext cx="1122120" cy="1122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196640" y="3946680"/>
            <a:ext cx="79470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保卫海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2411280" y="2565360"/>
            <a:ext cx="4536000" cy="3599640"/>
            <a:chOff x="2411280" y="2565360"/>
            <a:chExt cx="4536000" cy="3599640"/>
          </a:xfrm>
        </p:grpSpPr>
        <p:sp>
          <p:nvSpPr>
            <p:cNvPr id="571" name="AutoShape 38"/>
            <p:cNvSpPr/>
            <p:nvPr/>
          </p:nvSpPr>
          <p:spPr>
            <a:xfrm>
              <a:off x="6395760" y="4689360"/>
              <a:ext cx="340200" cy="142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778" y="3810"/>
                  </a:lnTo>
                  <a:lnTo>
                    <a:pt x="5000" y="0"/>
                  </a:lnTo>
                  <a:lnTo>
                    <a:pt x="6222" y="3810"/>
                  </a:lnTo>
                  <a:lnTo>
                    <a:pt x="10000" y="3810"/>
                  </a:lnTo>
                  <a:lnTo>
                    <a:pt x="6889" y="6190"/>
                  </a:lnTo>
                  <a:lnTo>
                    <a:pt x="8111" y="10000"/>
                  </a:lnTo>
                  <a:lnTo>
                    <a:pt x="5000" y="7619"/>
                  </a:lnTo>
                  <a:lnTo>
                    <a:pt x="1889" y="10000"/>
                  </a:lnTo>
                  <a:lnTo>
                    <a:pt x="3111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9"/>
            <p:cNvSpPr/>
            <p:nvPr/>
          </p:nvSpPr>
          <p:spPr>
            <a:xfrm>
              <a:off x="4951080" y="4735080"/>
              <a:ext cx="1814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40"/>
            <p:cNvSpPr/>
            <p:nvPr/>
          </p:nvSpPr>
          <p:spPr>
            <a:xfrm>
              <a:off x="6765840" y="45176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2411280" y="484308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6584040" y="256536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43"/>
            <p:cNvSpPr/>
            <p:nvPr/>
          </p:nvSpPr>
          <p:spPr>
            <a:xfrm>
              <a:off x="5004360" y="2951640"/>
              <a:ext cx="468720" cy="117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6"/>
                  </a:moveTo>
                  <a:lnTo>
                    <a:pt x="3790" y="3846"/>
                  </a:lnTo>
                  <a:lnTo>
                    <a:pt x="5000" y="0"/>
                  </a:lnTo>
                  <a:lnTo>
                    <a:pt x="6210" y="3846"/>
                  </a:lnTo>
                  <a:lnTo>
                    <a:pt x="10000" y="3846"/>
                  </a:lnTo>
                  <a:lnTo>
                    <a:pt x="6935" y="6154"/>
                  </a:lnTo>
                  <a:lnTo>
                    <a:pt x="8065" y="10000"/>
                  </a:lnTo>
                  <a:lnTo>
                    <a:pt x="5000" y="7692"/>
                  </a:lnTo>
                  <a:lnTo>
                    <a:pt x="1935" y="10000"/>
                  </a:lnTo>
                  <a:lnTo>
                    <a:pt x="3065" y="6154"/>
                  </a:lnTo>
                  <a:lnTo>
                    <a:pt x="0" y="38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44"/>
            <p:cNvSpPr/>
            <p:nvPr/>
          </p:nvSpPr>
          <p:spPr>
            <a:xfrm>
              <a:off x="5004360" y="6038640"/>
              <a:ext cx="468720" cy="12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50"/>
                  </a:moveTo>
                  <a:lnTo>
                    <a:pt x="3790" y="3750"/>
                  </a:lnTo>
                  <a:lnTo>
                    <a:pt x="5000" y="0"/>
                  </a:lnTo>
                  <a:lnTo>
                    <a:pt x="6210" y="3750"/>
                  </a:lnTo>
                  <a:lnTo>
                    <a:pt x="10000" y="3750"/>
                  </a:lnTo>
                  <a:lnTo>
                    <a:pt x="6935" y="6250"/>
                  </a:lnTo>
                  <a:lnTo>
                    <a:pt x="8065" y="10000"/>
                  </a:lnTo>
                  <a:lnTo>
                    <a:pt x="5000" y="7679"/>
                  </a:lnTo>
                  <a:lnTo>
                    <a:pt x="1935" y="10000"/>
                  </a:lnTo>
                  <a:lnTo>
                    <a:pt x="3065" y="6250"/>
                  </a:lnTo>
                  <a:lnTo>
                    <a:pt x="0" y="3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45"/>
            <p:cNvSpPr/>
            <p:nvPr/>
          </p:nvSpPr>
          <p:spPr>
            <a:xfrm>
              <a:off x="3526560" y="41630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46"/>
            <p:cNvSpPr/>
            <p:nvPr/>
          </p:nvSpPr>
          <p:spPr>
            <a:xfrm>
              <a:off x="6690600" y="4827240"/>
              <a:ext cx="18072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矩形 6"/>
          <p:cNvSpPr/>
          <p:nvPr/>
        </p:nvSpPr>
        <p:spPr>
          <a:xfrm>
            <a:off x="179280" y="260280"/>
            <a:ext cx="878544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矩形 7"/>
          <p:cNvSpPr/>
          <p:nvPr/>
        </p:nvSpPr>
        <p:spPr>
          <a:xfrm>
            <a:off x="179280" y="1636560"/>
            <a:ext cx="8785440" cy="510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83" name="Group 50"/>
          <p:cNvGrpSpPr/>
          <p:nvPr/>
        </p:nvGrpSpPr>
        <p:grpSpPr>
          <a:xfrm>
            <a:off x="2171880" y="2558880"/>
            <a:ext cx="4825800" cy="574920"/>
            <a:chOff x="2171880" y="2558880"/>
            <a:chExt cx="4825800" cy="574920"/>
          </a:xfrm>
        </p:grpSpPr>
        <p:sp>
          <p:nvSpPr>
            <p:cNvPr id="584" name="圆角矩形 5"/>
            <p:cNvSpPr/>
            <p:nvPr/>
          </p:nvSpPr>
          <p:spPr>
            <a:xfrm>
              <a:off x="2455560" y="25588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圆角矩形 6"/>
            <p:cNvSpPr/>
            <p:nvPr/>
          </p:nvSpPr>
          <p:spPr>
            <a:xfrm>
              <a:off x="2171880" y="26305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53"/>
          <p:cNvGrpSpPr/>
          <p:nvPr/>
        </p:nvGrpSpPr>
        <p:grpSpPr>
          <a:xfrm>
            <a:off x="2171880" y="3473280"/>
            <a:ext cx="4825800" cy="574920"/>
            <a:chOff x="2171880" y="3473280"/>
            <a:chExt cx="4825800" cy="574920"/>
          </a:xfrm>
        </p:grpSpPr>
        <p:sp>
          <p:nvSpPr>
            <p:cNvPr id="587" name="圆角矩形 15"/>
            <p:cNvSpPr/>
            <p:nvPr/>
          </p:nvSpPr>
          <p:spPr>
            <a:xfrm>
              <a:off x="2455560" y="34732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圆角矩形 16"/>
            <p:cNvSpPr/>
            <p:nvPr/>
          </p:nvSpPr>
          <p:spPr>
            <a:xfrm>
              <a:off x="2171880" y="35449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Group 56"/>
          <p:cNvGrpSpPr/>
          <p:nvPr/>
        </p:nvGrpSpPr>
        <p:grpSpPr>
          <a:xfrm>
            <a:off x="2171880" y="4387680"/>
            <a:ext cx="4825800" cy="574920"/>
            <a:chOff x="2171880" y="4387680"/>
            <a:chExt cx="4825800" cy="574920"/>
          </a:xfrm>
        </p:grpSpPr>
        <p:sp>
          <p:nvSpPr>
            <p:cNvPr id="590" name="圆角矩形 18"/>
            <p:cNvSpPr/>
            <p:nvPr/>
          </p:nvSpPr>
          <p:spPr>
            <a:xfrm>
              <a:off x="2455560" y="4387680"/>
              <a:ext cx="4210920" cy="57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圆角矩形 19"/>
            <p:cNvSpPr/>
            <p:nvPr/>
          </p:nvSpPr>
          <p:spPr>
            <a:xfrm>
              <a:off x="2171880" y="4459320"/>
              <a:ext cx="4825800" cy="43128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59"/>
          <p:cNvGrpSpPr/>
          <p:nvPr/>
        </p:nvGrpSpPr>
        <p:grpSpPr>
          <a:xfrm>
            <a:off x="2171880" y="5300640"/>
            <a:ext cx="4825800" cy="576360"/>
            <a:chOff x="2171880" y="5300640"/>
            <a:chExt cx="4825800" cy="576360"/>
          </a:xfrm>
        </p:grpSpPr>
        <p:sp>
          <p:nvSpPr>
            <p:cNvPr id="593" name="圆角矩形 21"/>
            <p:cNvSpPr/>
            <p:nvPr/>
          </p:nvSpPr>
          <p:spPr>
            <a:xfrm>
              <a:off x="2455560" y="5300640"/>
              <a:ext cx="421092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22"/>
            <p:cNvSpPr/>
            <p:nvPr/>
          </p:nvSpPr>
          <p:spPr>
            <a:xfrm>
              <a:off x="2171880" y="5372640"/>
              <a:ext cx="4825800" cy="43236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Box 2"/>
          <p:cNvSpPr/>
          <p:nvPr/>
        </p:nvSpPr>
        <p:spPr>
          <a:xfrm>
            <a:off x="3057480" y="26622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23"/>
          <p:cNvSpPr/>
          <p:nvPr/>
        </p:nvSpPr>
        <p:spPr>
          <a:xfrm>
            <a:off x="3057480" y="35766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24"/>
          <p:cNvSpPr/>
          <p:nvPr/>
        </p:nvSpPr>
        <p:spPr>
          <a:xfrm>
            <a:off x="3057480" y="44895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25"/>
          <p:cNvSpPr/>
          <p:nvPr/>
        </p:nvSpPr>
        <p:spPr>
          <a:xfrm>
            <a:off x="3057480" y="54039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2411280" y="2565360"/>
            <a:ext cx="4536000" cy="3599640"/>
            <a:chOff x="2411280" y="2565360"/>
            <a:chExt cx="4536000" cy="3599640"/>
          </a:xfrm>
        </p:grpSpPr>
        <p:sp>
          <p:nvSpPr>
            <p:cNvPr id="600" name="AutoShape 38"/>
            <p:cNvSpPr/>
            <p:nvPr/>
          </p:nvSpPr>
          <p:spPr>
            <a:xfrm>
              <a:off x="6395760" y="4689360"/>
              <a:ext cx="340200" cy="142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778" y="3810"/>
                  </a:lnTo>
                  <a:lnTo>
                    <a:pt x="5000" y="0"/>
                  </a:lnTo>
                  <a:lnTo>
                    <a:pt x="6222" y="3810"/>
                  </a:lnTo>
                  <a:lnTo>
                    <a:pt x="10000" y="3810"/>
                  </a:lnTo>
                  <a:lnTo>
                    <a:pt x="6889" y="6190"/>
                  </a:lnTo>
                  <a:lnTo>
                    <a:pt x="8111" y="10000"/>
                  </a:lnTo>
                  <a:lnTo>
                    <a:pt x="5000" y="7619"/>
                  </a:lnTo>
                  <a:lnTo>
                    <a:pt x="1889" y="10000"/>
                  </a:lnTo>
                  <a:lnTo>
                    <a:pt x="3111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39"/>
            <p:cNvSpPr/>
            <p:nvPr/>
          </p:nvSpPr>
          <p:spPr>
            <a:xfrm>
              <a:off x="4951080" y="4735080"/>
              <a:ext cx="1814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40"/>
            <p:cNvSpPr/>
            <p:nvPr/>
          </p:nvSpPr>
          <p:spPr>
            <a:xfrm>
              <a:off x="6765840" y="45176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41"/>
            <p:cNvSpPr/>
            <p:nvPr/>
          </p:nvSpPr>
          <p:spPr>
            <a:xfrm>
              <a:off x="2411280" y="484308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42"/>
            <p:cNvSpPr/>
            <p:nvPr/>
          </p:nvSpPr>
          <p:spPr>
            <a:xfrm>
              <a:off x="6584040" y="256536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43"/>
            <p:cNvSpPr/>
            <p:nvPr/>
          </p:nvSpPr>
          <p:spPr>
            <a:xfrm>
              <a:off x="5004360" y="2951640"/>
              <a:ext cx="468720" cy="117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46"/>
                  </a:moveTo>
                  <a:lnTo>
                    <a:pt x="3790" y="3846"/>
                  </a:lnTo>
                  <a:lnTo>
                    <a:pt x="5000" y="0"/>
                  </a:lnTo>
                  <a:lnTo>
                    <a:pt x="6210" y="3846"/>
                  </a:lnTo>
                  <a:lnTo>
                    <a:pt x="10000" y="3846"/>
                  </a:lnTo>
                  <a:lnTo>
                    <a:pt x="6935" y="6154"/>
                  </a:lnTo>
                  <a:lnTo>
                    <a:pt x="8065" y="10000"/>
                  </a:lnTo>
                  <a:lnTo>
                    <a:pt x="5000" y="7692"/>
                  </a:lnTo>
                  <a:lnTo>
                    <a:pt x="1935" y="10000"/>
                  </a:lnTo>
                  <a:lnTo>
                    <a:pt x="3065" y="6154"/>
                  </a:lnTo>
                  <a:lnTo>
                    <a:pt x="0" y="38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AutoShape 44"/>
            <p:cNvSpPr/>
            <p:nvPr/>
          </p:nvSpPr>
          <p:spPr>
            <a:xfrm>
              <a:off x="5004360" y="6038640"/>
              <a:ext cx="468720" cy="12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50"/>
                  </a:moveTo>
                  <a:lnTo>
                    <a:pt x="3790" y="3750"/>
                  </a:lnTo>
                  <a:lnTo>
                    <a:pt x="5000" y="0"/>
                  </a:lnTo>
                  <a:lnTo>
                    <a:pt x="6210" y="3750"/>
                  </a:lnTo>
                  <a:lnTo>
                    <a:pt x="10000" y="3750"/>
                  </a:lnTo>
                  <a:lnTo>
                    <a:pt x="6935" y="6250"/>
                  </a:lnTo>
                  <a:lnTo>
                    <a:pt x="8065" y="10000"/>
                  </a:lnTo>
                  <a:lnTo>
                    <a:pt x="5000" y="7679"/>
                  </a:lnTo>
                  <a:lnTo>
                    <a:pt x="1935" y="10000"/>
                  </a:lnTo>
                  <a:lnTo>
                    <a:pt x="3065" y="6250"/>
                  </a:lnTo>
                  <a:lnTo>
                    <a:pt x="0" y="3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5"/>
            <p:cNvSpPr/>
            <p:nvPr/>
          </p:nvSpPr>
          <p:spPr>
            <a:xfrm>
              <a:off x="3526560" y="4163040"/>
              <a:ext cx="18144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6"/>
            <p:cNvSpPr/>
            <p:nvPr/>
          </p:nvSpPr>
          <p:spPr>
            <a:xfrm>
              <a:off x="6690600" y="4827240"/>
              <a:ext cx="18072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矩形 6"/>
          <p:cNvSpPr/>
          <p:nvPr/>
        </p:nvSpPr>
        <p:spPr>
          <a:xfrm>
            <a:off x="179280" y="260280"/>
            <a:ext cx="878544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矩形 7"/>
          <p:cNvSpPr/>
          <p:nvPr/>
        </p:nvSpPr>
        <p:spPr>
          <a:xfrm>
            <a:off x="179280" y="1636560"/>
            <a:ext cx="8785440" cy="510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过渡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12" name="Group 50"/>
          <p:cNvGrpSpPr/>
          <p:nvPr/>
        </p:nvGrpSpPr>
        <p:grpSpPr>
          <a:xfrm>
            <a:off x="2147760" y="3789360"/>
            <a:ext cx="4824720" cy="576360"/>
            <a:chOff x="2147760" y="3789360"/>
            <a:chExt cx="4824720" cy="576360"/>
          </a:xfrm>
        </p:grpSpPr>
        <p:sp>
          <p:nvSpPr>
            <p:cNvPr id="613" name="圆角矩形 7"/>
            <p:cNvSpPr/>
            <p:nvPr/>
          </p:nvSpPr>
          <p:spPr>
            <a:xfrm>
              <a:off x="2431440" y="3789360"/>
              <a:ext cx="420984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圆角矩形 8"/>
            <p:cNvSpPr/>
            <p:nvPr/>
          </p:nvSpPr>
          <p:spPr>
            <a:xfrm>
              <a:off x="2147760" y="3861360"/>
              <a:ext cx="4824720" cy="432360"/>
            </a:xfrm>
            <a:prstGeom prst="roundRect">
              <a:avLst>
                <a:gd name="adj" fmla="val 16667"/>
              </a:avLst>
            </a:prstGeom>
            <a:solidFill>
              <a:srgbClr val="f5b901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TextBox 9"/>
          <p:cNvSpPr/>
          <p:nvPr/>
        </p:nvSpPr>
        <p:spPr>
          <a:xfrm>
            <a:off x="2940120" y="389268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9ba"/>
                </a:solidFill>
                <a:latin typeface="Franklin Gothic Medium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6"/>
          <p:cNvSpPr/>
          <p:nvPr/>
        </p:nvSpPr>
        <p:spPr>
          <a:xfrm>
            <a:off x="395280" y="476280"/>
            <a:ext cx="8424720" cy="309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5318280" y="692280"/>
            <a:ext cx="3231360" cy="2715840"/>
            <a:chOff x="5318280" y="692280"/>
            <a:chExt cx="3231360" cy="2715840"/>
          </a:xfrm>
        </p:grpSpPr>
        <p:sp>
          <p:nvSpPr>
            <p:cNvPr id="618" name="AutoShape 38"/>
            <p:cNvSpPr/>
            <p:nvPr/>
          </p:nvSpPr>
          <p:spPr>
            <a:xfrm>
              <a:off x="8162280" y="2293920"/>
              <a:ext cx="242280" cy="105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1"/>
                  </a:moveTo>
                  <a:lnTo>
                    <a:pt x="3778" y="3871"/>
                  </a:lnTo>
                  <a:lnTo>
                    <a:pt x="5000" y="0"/>
                  </a:lnTo>
                  <a:lnTo>
                    <a:pt x="6222" y="3871"/>
                  </a:lnTo>
                  <a:lnTo>
                    <a:pt x="10000" y="3871"/>
                  </a:lnTo>
                  <a:lnTo>
                    <a:pt x="6889" y="6129"/>
                  </a:lnTo>
                  <a:lnTo>
                    <a:pt x="8111" y="10000"/>
                  </a:lnTo>
                  <a:lnTo>
                    <a:pt x="5000" y="7581"/>
                  </a:lnTo>
                  <a:lnTo>
                    <a:pt x="1889" y="10000"/>
                  </a:lnTo>
                  <a:lnTo>
                    <a:pt x="3111" y="6129"/>
                  </a:lnTo>
                  <a:lnTo>
                    <a:pt x="0" y="38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39"/>
            <p:cNvSpPr/>
            <p:nvPr/>
          </p:nvSpPr>
          <p:spPr>
            <a:xfrm>
              <a:off x="7127640" y="2328120"/>
              <a:ext cx="12924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40"/>
            <p:cNvSpPr/>
            <p:nvPr/>
          </p:nvSpPr>
          <p:spPr>
            <a:xfrm>
              <a:off x="8420400" y="216432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41"/>
            <p:cNvSpPr/>
            <p:nvPr/>
          </p:nvSpPr>
          <p:spPr>
            <a:xfrm>
              <a:off x="5318280" y="2409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42"/>
            <p:cNvSpPr/>
            <p:nvPr/>
          </p:nvSpPr>
          <p:spPr>
            <a:xfrm>
              <a:off x="8291160" y="69228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AutoShape 43"/>
            <p:cNvSpPr/>
            <p:nvPr/>
          </p:nvSpPr>
          <p:spPr>
            <a:xfrm>
              <a:off x="7162920" y="980280"/>
              <a:ext cx="330840" cy="83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78"/>
                  </a:moveTo>
                  <a:lnTo>
                    <a:pt x="3821" y="3878"/>
                  </a:lnTo>
                  <a:lnTo>
                    <a:pt x="5041" y="0"/>
                  </a:lnTo>
                  <a:lnTo>
                    <a:pt x="6179" y="3878"/>
                  </a:lnTo>
                  <a:lnTo>
                    <a:pt x="10000" y="3878"/>
                  </a:lnTo>
                  <a:lnTo>
                    <a:pt x="6911" y="6122"/>
                  </a:lnTo>
                  <a:lnTo>
                    <a:pt x="8130" y="10000"/>
                  </a:lnTo>
                  <a:lnTo>
                    <a:pt x="5041" y="7551"/>
                  </a:lnTo>
                  <a:lnTo>
                    <a:pt x="1870" y="10000"/>
                  </a:lnTo>
                  <a:lnTo>
                    <a:pt x="3089" y="6122"/>
                  </a:lnTo>
                  <a:lnTo>
                    <a:pt x="0" y="38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AutoShape 44"/>
            <p:cNvSpPr/>
            <p:nvPr/>
          </p:nvSpPr>
          <p:spPr>
            <a:xfrm>
              <a:off x="7162920" y="3311280"/>
              <a:ext cx="330840" cy="96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60"/>
                  </a:moveTo>
                  <a:lnTo>
                    <a:pt x="3821" y="3860"/>
                  </a:lnTo>
                  <a:lnTo>
                    <a:pt x="5041" y="0"/>
                  </a:lnTo>
                  <a:lnTo>
                    <a:pt x="6179" y="3860"/>
                  </a:lnTo>
                  <a:lnTo>
                    <a:pt x="10000" y="3860"/>
                  </a:lnTo>
                  <a:lnTo>
                    <a:pt x="6911" y="6140"/>
                  </a:lnTo>
                  <a:lnTo>
                    <a:pt x="8130" y="10000"/>
                  </a:lnTo>
                  <a:lnTo>
                    <a:pt x="5041" y="7719"/>
                  </a:lnTo>
                  <a:lnTo>
                    <a:pt x="1870" y="10000"/>
                  </a:lnTo>
                  <a:lnTo>
                    <a:pt x="3089" y="6140"/>
                  </a:lnTo>
                  <a:lnTo>
                    <a:pt x="0" y="38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45"/>
            <p:cNvSpPr/>
            <p:nvPr/>
          </p:nvSpPr>
          <p:spPr>
            <a:xfrm>
              <a:off x="6112800" y="1896840"/>
              <a:ext cx="12924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46"/>
            <p:cNvSpPr/>
            <p:nvPr/>
          </p:nvSpPr>
          <p:spPr>
            <a:xfrm>
              <a:off x="8366760" y="2397600"/>
              <a:ext cx="128520" cy="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7" name="Picture 12" descr=""/>
          <p:cNvPicPr/>
          <p:nvPr/>
        </p:nvPicPr>
        <p:blipFill>
          <a:blip r:embed="rId1"/>
          <a:srcRect l="26327" t="0" r="29939" b="41745"/>
          <a:stretch/>
        </p:blipFill>
        <p:spPr>
          <a:xfrm>
            <a:off x="7424640" y="1595520"/>
            <a:ext cx="360360" cy="333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611280" y="2836800"/>
            <a:ext cx="1122120" cy="11224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7600" y="3905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Franklin Gothic Book"/>
              </a:rPr>
              <a:t>谢谢收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2184480" y="489240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c8c3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Franklin Gothic Book"/>
              </a:rPr>
              <a:t>使用规范说明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c8c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2:23:00Z</dcterms:created>
  <dc:creator>ppt宝藏</dc:creator>
  <dc:description/>
  <dc:language>en-US</dc:language>
  <cp:lastModifiedBy>yu wang</cp:lastModifiedBy>
  <cp:lastPrinted>1899-12-30T00:00:00Z</cp:lastPrinted>
  <dcterms:modified xsi:type="dcterms:W3CDTF">2015-08-03T12:23:46Z</dcterms:modified>
  <cp:revision>8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