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6.wmf" ContentType="image/x-wmf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2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5.wmf" ContentType="image/x-wmf"/>
  <Override PartName="/ppt/media/image23.jpeg" ContentType="image/jpeg"/>
  <Override PartName="/ppt/media/image22.wmf" ContentType="image/x-wmf"/>
  <Override PartName="/ppt/media/image21.png" ContentType="image/png"/>
  <Override PartName="/ppt/media/image19.gif" ContentType="image/gif"/>
  <Override PartName="/ppt/media/image1.jpeg" ContentType="image/jpeg"/>
  <Override PartName="/ppt/media/image17.gif" ContentType="image/gif"/>
  <Override PartName="/ppt/media/image15.png" ContentType="image/png"/>
  <Override PartName="/ppt/media/image24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D20D-D997-4941-AB51-A0011644D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受地理位置因素影响较大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繁华路段可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看报纸的人，多数都是闲人，有稳定收入的人，或者是公务员，或者是白领，农村人很少看报纸的，大学生也很少看报纸的，看报纸的人的消费能力都很不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受地理位置因素影响较大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繁华路段可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受地理位置因素影响较大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繁华路段可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良好的企业形象会为我们赢得更多的客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个客户都是我们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金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品牌让客户信任我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什么最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信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今社会的现状：质优价廉的好商品，实在太多了；顾客早已无从选择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们决策的依据，已经从商品，转移到了“信任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俗讲就是对您“品牌”的信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越是竞争激烈的市场里，“</a:t>
            </a:r>
            <a:r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信任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”就越是“珍贵”，直白点说，就是“值钱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example: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同一个工厂生产的运动鞋，挂上  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Nike 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的商标，就卖  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500 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块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挂上普通的品牌，就只能卖  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50  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块！</a:t>
            </a:r>
            <a:br>
              <a:rPr sz="1400"/>
            </a:b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真正让“运动鞋”增值的部分是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信任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今社会的现状：质优价廉的好商品，实在太多了；顾客早已无从选择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们决策的依据，已经从商品，转移到了“信任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俗讲就是对您“品牌”的信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B8E2-E9C4-4042-B546-4C1E97E7D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EB35-8178-43FB-8DC6-9BEDA0923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FCC3-83BE-4E30-8087-06CBFF146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4C84C-F7CE-4A12-9617-7A6B76B85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E1AC4-1998-4262-B05F-A9E4B928CE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05388-9645-410E-AE63-401E512AE3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30933-718D-4A56-B68C-A971E0C2D4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6E6A1-7BE9-435E-AA44-82D7DA7262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0553-2387-44A2-B6CE-18972C770F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9972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9344C-CB58-4BC9-A5FF-D495D560E4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916E6-D74F-4FDE-858E-F1A60E5151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9BBF-9BE6-430D-8CCE-15A43B104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0ED41-5537-49F9-BC66-B234E5FE91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3ECA2-5A00-4C89-A4E8-5CB96F69BC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BEB71-45B5-4FCE-8E24-E1B0F82D8A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1743C-718F-4E3A-87A0-D02E85FD55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432F2-B895-47BF-820A-E8D0CD4B77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C61D-6379-4491-86CF-6A5B93058A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68000" y="9972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23BD-1DE0-4633-9862-0C68105D8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CDF88-7354-4B64-B84F-EF9D96011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9972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F964-DD39-4DA3-96E8-FA709903F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DA4C-1656-420F-BD77-ADEED3C89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01C5-87ED-437C-BFFA-F4E992406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EC3E-7778-478D-9E09-E5CD0C345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42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152B42C8-A93B-440F-A065-59AD74382C31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7" descr="logo"/>
          <p:cNvPicPr/>
          <p:nvPr/>
        </p:nvPicPr>
        <p:blipFill>
          <a:blip r:embed="rId3"/>
          <a:srcRect l="27823" t="0" r="0" b="-7835"/>
          <a:stretch/>
        </p:blipFill>
        <p:spPr>
          <a:xfrm>
            <a:off x="7270920" y="117360"/>
            <a:ext cx="1581120" cy="56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42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B54B1A28-C7C9-4E3C-AA57-D774D9B03112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logo"/>
          <p:cNvPicPr/>
          <p:nvPr/>
        </p:nvPicPr>
        <p:blipFill>
          <a:blip r:embed="rId3"/>
          <a:srcRect l="27823" t="0" r="0" b="-7835"/>
          <a:stretch/>
        </p:blipFill>
        <p:spPr>
          <a:xfrm>
            <a:off x="7270920" y="117360"/>
            <a:ext cx="1581120" cy="56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logo"/>
          <p:cNvPicPr/>
          <p:nvPr/>
        </p:nvPicPr>
        <p:blipFill>
          <a:blip r:embed="rId3"/>
          <a:stretch/>
        </p:blipFill>
        <p:spPr>
          <a:xfrm>
            <a:off x="2482920" y="2276640"/>
            <a:ext cx="2190600" cy="523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42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hyperlink" Target="http://gb.cri.cn/27824/2009/09/14/1845s2621025.htm" TargetMode="External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21.png"/><Relationship Id="rId3" Type="http://schemas.openxmlformats.org/officeDocument/2006/relationships/hyperlink" Target="http://news.sina.com.cn/c/2010-01-04/164219396344.shtml" TargetMode="External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094200"/>
            <a:ext cx="8497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解决方案企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26920" y="417312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787680" y="6519960"/>
            <a:ext cx="1829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80BFDC7C-E825-408E-80AE-A0746408957D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宣传要花多少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69800" y="1195560"/>
          <a:ext cx="8059680" cy="5065560"/>
        </p:xfrm>
        <a:graphic>
          <a:graphicData uri="http://schemas.openxmlformats.org/drawingml/2006/table">
            <a:tbl>
              <a:tblPr/>
              <a:tblGrid>
                <a:gridCol w="1611360"/>
                <a:gridCol w="1611360"/>
                <a:gridCol w="2022480"/>
                <a:gridCol w="1201680"/>
                <a:gridCol w="1612800"/>
              </a:tblGrid>
              <a:tr h="423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经典圆体简"/>
                        </a:rPr>
                        <a:t>宣传方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经典圆体简"/>
                        </a:rPr>
                        <a:t>参考报价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经典圆体简"/>
                        </a:rPr>
                        <a:t>宣传效果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经典圆体简"/>
                        </a:rPr>
                        <a:t>影响力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经典圆体简"/>
                        </a:rPr>
                        <a:t>综合评价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</a:tr>
              <a:tr h="5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333333"/>
                          </a:solidFill>
                          <a:latin typeface="黑体"/>
                          <a:ea typeface="黑体"/>
                        </a:rPr>
                        <a:t>电视广告 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</a:t>
                      </a:r>
                      <a:r>
                        <a:rPr b="0" i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山东卫视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)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4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月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根据收视率和时间段不同而定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非常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覆盖范围较广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但宣价格较高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71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333333"/>
                          </a:solidFill>
                          <a:latin typeface="黑体"/>
                          <a:ea typeface="黑体"/>
                        </a:rPr>
                        <a:t>户外广告牌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5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月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根据地理位置和特定路段不同而定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较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受地理位置及路段影响较大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费用高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333333"/>
                          </a:solidFill>
                          <a:latin typeface="黑体"/>
                          <a:ea typeface="黑体"/>
                        </a:rPr>
                        <a:t>报纸杂志广告</a:t>
                      </a:r>
                      <a:br>
                        <a:rPr sz="1400"/>
                      </a:br>
                      <a:r>
                        <a:rPr b="0" i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齐鲁晚报</a:t>
                      </a:r>
                      <a:br>
                        <a:rPr sz="1400"/>
                      </a:br>
                      <a:r>
                        <a:rPr b="0" i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金牌专栏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7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厘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×4.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厘米）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根据版面位置和所发行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城市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认可度不同而定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非常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阅读者一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消费能力较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但宣传费用较高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79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333333"/>
                          </a:solidFill>
                          <a:latin typeface="黑体"/>
                          <a:ea typeface="黑体"/>
                        </a:rPr>
                        <a:t>企业宣传册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设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:300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印刷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50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可综合展示企业形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企业产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宣传效果非常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非常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可综合展示企业形象但需要设计印刷并派发给指定客户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9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333333"/>
                          </a:solidFill>
                          <a:latin typeface="黑体"/>
                          <a:ea typeface="黑体"/>
                        </a:rPr>
                        <a:t>地铁车站海报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333333"/>
                          </a:solidFill>
                          <a:latin typeface="黑体"/>
                          <a:ea typeface="黑体"/>
                        </a:rPr>
                        <a:t>210mm*285mm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4/16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开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根据客流量不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影响力较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较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黄金位置已被广告公司占据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他位置效果不明显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333333"/>
                          </a:solidFill>
                          <a:latin typeface="黑体"/>
                          <a:ea typeface="黑体"/>
                        </a:rPr>
                        <a:t>网络宣传推广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月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可综合展示企业形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企业产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可通过互联网直接下订单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非常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覆盖全球互联网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企业可量身订做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7x24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小时宣传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性价比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较高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29020324-2B7D-4897-828B-B012BB86EBD5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宣传效果横向对比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Object 3"/>
          <p:cNvGraphicFramePr/>
          <p:nvPr/>
        </p:nvGraphicFramePr>
        <p:xfrm>
          <a:off x="325440" y="765000"/>
          <a:ext cx="8494560" cy="403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765000"/>
                    <a:ext cx="8494560" cy="40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4"/>
          <p:cNvSpPr/>
          <p:nvPr/>
        </p:nvSpPr>
        <p:spPr>
          <a:xfrm>
            <a:off x="3419640" y="4726080"/>
            <a:ext cx="25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宣传方式横向对比图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403280" y="5302080"/>
          <a:ext cx="6400800" cy="952560"/>
        </p:xfrm>
        <a:graphic>
          <a:graphicData uri="http://schemas.openxmlformats.org/drawingml/2006/table">
            <a:tbl>
              <a:tblPr/>
              <a:tblGrid>
                <a:gridCol w="2133720"/>
                <a:gridCol w="2131920"/>
                <a:gridCol w="2135160"/>
              </a:tblGrid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冠  军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亚  军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季  军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电视广告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993e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网络宣传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993e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报纸广告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993e3c"/>
                    </a:solidFill>
                  </a:tcPr>
                </a:tc>
              </a:tr>
            </a:tbl>
          </a:graphicData>
        </a:graphic>
      </p:graphicFrame>
      <p:pic>
        <p:nvPicPr>
          <p:cNvPr id="260" name="Picture 21" descr="t73"/>
          <p:cNvPicPr/>
          <p:nvPr/>
        </p:nvPicPr>
        <p:blipFill>
          <a:blip r:embed="rId3"/>
          <a:stretch/>
        </p:blipFill>
        <p:spPr>
          <a:xfrm>
            <a:off x="3203640" y="4871880"/>
            <a:ext cx="2379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灯片编号占位符 5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CA03CEF6-4C59-431A-BC91-8B7CD1A04EB4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宣传方式纵向对比图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性价比图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Object 3"/>
          <p:cNvGraphicFramePr/>
          <p:nvPr/>
        </p:nvGraphicFramePr>
        <p:xfrm>
          <a:off x="372960" y="765000"/>
          <a:ext cx="837576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765000"/>
                    <a:ext cx="837576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4"/>
          <p:cNvSpPr/>
          <p:nvPr/>
        </p:nvSpPr>
        <p:spPr>
          <a:xfrm>
            <a:off x="3348000" y="4726080"/>
            <a:ext cx="24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宣传方式性价比图表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403280" y="5302080"/>
          <a:ext cx="6400800" cy="952560"/>
        </p:xfrm>
        <a:graphic>
          <a:graphicData uri="http://schemas.openxmlformats.org/drawingml/2006/table">
            <a:tbl>
              <a:tblPr/>
              <a:tblGrid>
                <a:gridCol w="2133720"/>
                <a:gridCol w="2131920"/>
                <a:gridCol w="2135160"/>
              </a:tblGrid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冠  军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亚  军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季  军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网络宣传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993e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企业宣传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993e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车站海报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993e3c"/>
                    </a:solidFill>
                  </a:tcPr>
                </a:tc>
              </a:tr>
            </a:tbl>
          </a:graphicData>
        </a:graphic>
      </p:graphicFrame>
      <p:pic>
        <p:nvPicPr>
          <p:cNvPr id="267" name="Picture 21" descr="0134"/>
          <p:cNvPicPr/>
          <p:nvPr/>
        </p:nvPicPr>
        <p:blipFill>
          <a:blip r:embed="rId3"/>
          <a:stretch/>
        </p:blipFill>
        <p:spPr>
          <a:xfrm>
            <a:off x="3132000" y="4797360"/>
            <a:ext cx="238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灯片编号占位符 4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9A04BCAD-C320-4641-93E5-EA5CE6389832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电视广告宣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3"/>
          <p:cNvGrpSpPr/>
          <p:nvPr/>
        </p:nvGrpSpPr>
        <p:grpSpPr>
          <a:xfrm>
            <a:off x="395280" y="765000"/>
            <a:ext cx="6912000" cy="2043000"/>
            <a:chOff x="395280" y="765000"/>
            <a:chExt cx="6912000" cy="2043000"/>
          </a:xfrm>
        </p:grpSpPr>
        <p:sp>
          <p:nvSpPr>
            <p:cNvPr id="271" name="Rectangle 4"/>
            <p:cNvSpPr/>
            <p:nvPr/>
          </p:nvSpPr>
          <p:spPr>
            <a:xfrm>
              <a:off x="395280" y="1233360"/>
              <a:ext cx="6912000" cy="12841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5"/>
            <p:cNvSpPr/>
            <p:nvPr/>
          </p:nvSpPr>
          <p:spPr>
            <a:xfrm>
              <a:off x="682560" y="765000"/>
              <a:ext cx="2376720" cy="128412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6"/>
            <p:cNvSpPr/>
            <p:nvPr/>
          </p:nvSpPr>
          <p:spPr>
            <a:xfrm>
              <a:off x="395280" y="2517480"/>
              <a:ext cx="6912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WordArt 7"/>
            <p:cNvSpPr txBox="1"/>
            <p:nvPr/>
          </p:nvSpPr>
          <p:spPr>
            <a:xfrm>
              <a:off x="806400" y="1279440"/>
              <a:ext cx="216072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  </a:t>
              </a: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电视广告宣传  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275" name="Rectangle 8"/>
            <p:cNvSpPr/>
            <p:nvPr/>
          </p:nvSpPr>
          <p:spPr>
            <a:xfrm>
              <a:off x="3059280" y="1233360"/>
              <a:ext cx="4248000" cy="12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村村通”工程已使中国广播电视人口覆盖率达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9"/>
            <p:cNvSpPr/>
            <p:nvPr/>
          </p:nvSpPr>
          <p:spPr>
            <a:xfrm>
              <a:off x="395280" y="252072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0"/>
            <p:cNvSpPr/>
            <p:nvPr/>
          </p:nvSpPr>
          <p:spPr>
            <a:xfrm>
              <a:off x="682560" y="206208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Picture 11" descr="0134"/>
          <p:cNvPicPr/>
          <p:nvPr/>
        </p:nvPicPr>
        <p:blipFill>
          <a:blip r:embed="rId1"/>
          <a:stretch/>
        </p:blipFill>
        <p:spPr>
          <a:xfrm>
            <a:off x="396720" y="1268280"/>
            <a:ext cx="244800" cy="435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2" descr="QQ截图未命名"/>
          <p:cNvPicPr/>
          <p:nvPr/>
        </p:nvPicPr>
        <p:blipFill>
          <a:blip r:embed="rId2"/>
          <a:srcRect l="0" t="0" r="0" b="3647"/>
          <a:stretch/>
        </p:blipFill>
        <p:spPr>
          <a:xfrm>
            <a:off x="684360" y="2205000"/>
            <a:ext cx="5770440" cy="39099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3"/>
          <p:cNvSpPr/>
          <p:nvPr/>
        </p:nvSpPr>
        <p:spPr>
          <a:xfrm>
            <a:off x="900000" y="6094440"/>
            <a:ext cx="528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baseline="-25000">
                <a:solidFill>
                  <a:srgbClr val="000000"/>
                </a:solidFill>
                <a:latin typeface="Arial"/>
              </a:rPr>
              <a:t>原文地址</a:t>
            </a:r>
            <a:r>
              <a:rPr b="0" i="1" lang="zh-CN" sz="1800" spc="-1" strike="noStrike" baseline="-25000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800" spc="-1" strike="noStrike" u="sng" baseline="-25000">
                <a:solidFill>
                  <a:srgbClr val="26420a"/>
                </a:solidFill>
                <a:uFillTx/>
                <a:latin typeface="Arial"/>
                <a:hlinkClick r:id="rId3"/>
              </a:rPr>
              <a:t>http://gb.cri.cn/27824/2009/09/14/1845s2621025.ht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4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CE285B80-6512-4F27-8232-C54FCFB49528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互联网宣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3"/>
          <p:cNvGrpSpPr/>
          <p:nvPr/>
        </p:nvGrpSpPr>
        <p:grpSpPr>
          <a:xfrm>
            <a:off x="324000" y="765000"/>
            <a:ext cx="6912000" cy="2043000"/>
            <a:chOff x="324000" y="765000"/>
            <a:chExt cx="6912000" cy="2043000"/>
          </a:xfrm>
        </p:grpSpPr>
        <p:sp>
          <p:nvSpPr>
            <p:cNvPr id="284" name="Rectangle 4"/>
            <p:cNvSpPr/>
            <p:nvPr/>
          </p:nvSpPr>
          <p:spPr>
            <a:xfrm>
              <a:off x="324000" y="1233360"/>
              <a:ext cx="6912000" cy="12841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>
              <a:off x="611280" y="765000"/>
              <a:ext cx="2376720" cy="128412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"/>
            <p:cNvSpPr/>
            <p:nvPr/>
          </p:nvSpPr>
          <p:spPr>
            <a:xfrm>
              <a:off x="324000" y="2517480"/>
              <a:ext cx="6912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WordArt 7"/>
            <p:cNvSpPr txBox="1"/>
            <p:nvPr/>
          </p:nvSpPr>
          <p:spPr>
            <a:xfrm>
              <a:off x="735120" y="1279440"/>
              <a:ext cx="216072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  </a:t>
              </a: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互联网宣传  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2988000" y="1233360"/>
              <a:ext cx="4248000" cy="12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互联网覆盖率已经接近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99%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9"/>
            <p:cNvSpPr/>
            <p:nvPr/>
          </p:nvSpPr>
          <p:spPr>
            <a:xfrm>
              <a:off x="324000" y="252072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10"/>
            <p:cNvSpPr/>
            <p:nvPr/>
          </p:nvSpPr>
          <p:spPr>
            <a:xfrm>
              <a:off x="611280" y="206208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1" name="Picture 11" descr="t73"/>
          <p:cNvPicPr/>
          <p:nvPr/>
        </p:nvPicPr>
        <p:blipFill>
          <a:blip r:embed="rId1"/>
          <a:stretch/>
        </p:blipFill>
        <p:spPr>
          <a:xfrm>
            <a:off x="322200" y="1268280"/>
            <a:ext cx="244440" cy="4352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QQ截图未命名"/>
          <p:cNvPicPr/>
          <p:nvPr/>
        </p:nvPicPr>
        <p:blipFill>
          <a:blip r:embed="rId2"/>
          <a:stretch/>
        </p:blipFill>
        <p:spPr>
          <a:xfrm>
            <a:off x="1187280" y="2709720"/>
            <a:ext cx="5810400" cy="30369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3"/>
          <p:cNvSpPr/>
          <p:nvPr/>
        </p:nvSpPr>
        <p:spPr>
          <a:xfrm>
            <a:off x="971640" y="6094440"/>
            <a:ext cx="528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baseline="-25000">
                <a:solidFill>
                  <a:srgbClr val="000000"/>
                </a:solidFill>
                <a:latin typeface="Arial"/>
              </a:rPr>
              <a:t>原文地址</a:t>
            </a:r>
            <a:r>
              <a:rPr b="0" i="1" lang="zh-CN" sz="1800" spc="-1" strike="noStrike" baseline="-25000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800" spc="-1" strike="noStrike" u="sng" baseline="-25000">
                <a:solidFill>
                  <a:srgbClr val="26420a"/>
                </a:solidFill>
                <a:uFillTx/>
                <a:latin typeface="Arial"/>
                <a:hlinkClick r:id="rId3"/>
              </a:rPr>
              <a:t>http://news.sina.com.cn/c/2010-01-04/164219396344.shtm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4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21B4DA47-BF79-47C0-981D-65F1FF81CDF7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只求最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不求最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Group 3"/>
          <p:cNvGrpSpPr/>
          <p:nvPr/>
        </p:nvGrpSpPr>
        <p:grpSpPr>
          <a:xfrm>
            <a:off x="1187280" y="1341360"/>
            <a:ext cx="6912000" cy="2043000"/>
            <a:chOff x="1187280" y="1341360"/>
            <a:chExt cx="6912000" cy="2043000"/>
          </a:xfrm>
        </p:grpSpPr>
        <p:sp>
          <p:nvSpPr>
            <p:cNvPr id="297" name="Rectangle 4"/>
            <p:cNvSpPr/>
            <p:nvPr/>
          </p:nvSpPr>
          <p:spPr>
            <a:xfrm>
              <a:off x="1187280" y="1809720"/>
              <a:ext cx="6912000" cy="12841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5"/>
            <p:cNvSpPr/>
            <p:nvPr/>
          </p:nvSpPr>
          <p:spPr>
            <a:xfrm>
              <a:off x="1474560" y="1341360"/>
              <a:ext cx="2376720" cy="128412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6"/>
            <p:cNvSpPr/>
            <p:nvPr/>
          </p:nvSpPr>
          <p:spPr>
            <a:xfrm>
              <a:off x="1187280" y="3093840"/>
              <a:ext cx="6912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WordArt 7"/>
            <p:cNvSpPr txBox="1"/>
            <p:nvPr/>
          </p:nvSpPr>
          <p:spPr>
            <a:xfrm>
              <a:off x="1598400" y="1855800"/>
              <a:ext cx="216072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  </a:t>
              </a: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电视广告宣传  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301" name="Rectangle 8"/>
            <p:cNvSpPr/>
            <p:nvPr/>
          </p:nvSpPr>
          <p:spPr>
            <a:xfrm>
              <a:off x="3851280" y="1809720"/>
              <a:ext cx="4248000" cy="12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覆盖率高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效果较好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价格不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9"/>
            <p:cNvSpPr/>
            <p:nvPr/>
          </p:nvSpPr>
          <p:spPr>
            <a:xfrm>
              <a:off x="1187280" y="309708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10"/>
            <p:cNvSpPr/>
            <p:nvPr/>
          </p:nvSpPr>
          <p:spPr>
            <a:xfrm>
              <a:off x="1474560" y="263844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1"/>
          <p:cNvGrpSpPr/>
          <p:nvPr/>
        </p:nvGrpSpPr>
        <p:grpSpPr>
          <a:xfrm>
            <a:off x="1189080" y="3718080"/>
            <a:ext cx="6912000" cy="2043000"/>
            <a:chOff x="1189080" y="3718080"/>
            <a:chExt cx="6912000" cy="2043000"/>
          </a:xfrm>
        </p:grpSpPr>
        <p:sp>
          <p:nvSpPr>
            <p:cNvPr id="305" name="Rectangle 12"/>
            <p:cNvSpPr/>
            <p:nvPr/>
          </p:nvSpPr>
          <p:spPr>
            <a:xfrm>
              <a:off x="1189080" y="4186440"/>
              <a:ext cx="6912000" cy="12841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3"/>
            <p:cNvSpPr/>
            <p:nvPr/>
          </p:nvSpPr>
          <p:spPr>
            <a:xfrm>
              <a:off x="1476360" y="3718080"/>
              <a:ext cx="2376720" cy="128412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4"/>
            <p:cNvSpPr/>
            <p:nvPr/>
          </p:nvSpPr>
          <p:spPr>
            <a:xfrm>
              <a:off x="1189080" y="5470560"/>
              <a:ext cx="6912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WordArt 15"/>
            <p:cNvSpPr txBox="1"/>
            <p:nvPr/>
          </p:nvSpPr>
          <p:spPr>
            <a:xfrm>
              <a:off x="1600200" y="4232520"/>
              <a:ext cx="216072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  </a:t>
              </a: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互联网宣传  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309" name="Rectangle 16"/>
            <p:cNvSpPr/>
            <p:nvPr/>
          </p:nvSpPr>
          <p:spPr>
            <a:xfrm>
              <a:off x="3853080" y="4186440"/>
              <a:ext cx="4248000" cy="12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覆盖率高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效果好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性价比高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7"/>
            <p:cNvSpPr/>
            <p:nvPr/>
          </p:nvSpPr>
          <p:spPr>
            <a:xfrm>
              <a:off x="1189080" y="547380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18"/>
            <p:cNvSpPr/>
            <p:nvPr/>
          </p:nvSpPr>
          <p:spPr>
            <a:xfrm>
              <a:off x="1476360" y="501516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2" name="Picture 19" descr="t73"/>
          <p:cNvPicPr/>
          <p:nvPr/>
        </p:nvPicPr>
        <p:blipFill>
          <a:blip r:embed="rId1"/>
          <a:stretch/>
        </p:blipFill>
        <p:spPr>
          <a:xfrm>
            <a:off x="1187280" y="4221000"/>
            <a:ext cx="244800" cy="4352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0" descr="0134"/>
          <p:cNvPicPr/>
          <p:nvPr/>
        </p:nvPicPr>
        <p:blipFill>
          <a:blip r:embed="rId2"/>
          <a:stretch/>
        </p:blipFill>
        <p:spPr>
          <a:xfrm>
            <a:off x="1187280" y="1844640"/>
            <a:ext cx="244800" cy="43488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21"/>
          <p:cNvSpPr/>
          <p:nvPr/>
        </p:nvSpPr>
        <p:spPr>
          <a:xfrm>
            <a:off x="2916360" y="3213000"/>
            <a:ext cx="377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宣传效果相差无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价格相差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倍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!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D52D3C25-81AB-4C1C-A967-57A6BB5A9443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2"/>
          <p:cNvGraphicFramePr/>
          <p:nvPr/>
        </p:nvGraphicFramePr>
        <p:xfrm>
          <a:off x="2266920" y="2349360"/>
          <a:ext cx="4610160" cy="25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349360"/>
                    <a:ext cx="461016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Line 3"/>
          <p:cNvSpPr/>
          <p:nvPr/>
        </p:nvSpPr>
        <p:spPr>
          <a:xfrm>
            <a:off x="4667400" y="5111640"/>
            <a:ext cx="310356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design_05"/>
          <p:cNvPicPr/>
          <p:nvPr/>
        </p:nvPicPr>
        <p:blipFill>
          <a:blip r:embed="rId3"/>
          <a:srcRect l="0" t="0" r="0" b="1836"/>
          <a:stretch/>
        </p:blipFill>
        <p:spPr>
          <a:xfrm>
            <a:off x="250920" y="720720"/>
            <a:ext cx="864216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078FB318-815A-4BFB-9921-C0F828CE1A24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0" i="1" lang="zh-CN" sz="36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光”的魔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WordArt 3"/>
          <p:cNvSpPr txBox="1"/>
          <p:nvPr/>
        </p:nvSpPr>
        <p:spPr>
          <a:xfrm>
            <a:off x="5229360" y="1433520"/>
            <a:ext cx="1996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95280" y="1125360"/>
            <a:ext cx="4102200" cy="62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有一种网站设计理念，它能够让人一眼就能感受到一种视觉震撼；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有一种网站设计理念，它的设计风格属于海外顶级设计师的专利；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有一种网站设计理念，它深受跨国名企所追捧；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有一种网站设计理念，它可以为您企业形象的提升锦上添花；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个“它”，就是真诚的我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--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兄弟互动联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视觉时代的来临，将怂恿我们努力把“光”的运用技巧，“光”的迷人魔力升华到极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您愿意尝试一下吗？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5"/>
          <p:cNvSpPr/>
          <p:nvPr/>
        </p:nvSpPr>
        <p:spPr>
          <a:xfrm>
            <a:off x="4500720" y="4778280"/>
            <a:ext cx="3744720" cy="162000"/>
          </a:xfrm>
          <a:custGeom>
            <a:avLst/>
            <a:gdLst>
              <a:gd name="textAreaLeft" fmla="*/ 405000 w 3744720"/>
              <a:gd name="textAreaRight" fmla="*/ 3339720 w 3744720"/>
              <a:gd name="textAreaTop" fmla="*/ 17280 h 162000"/>
              <a:gd name="textAreaBottom" fmla="*/ 144720 h 16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service_pic100"/>
          <p:cNvPicPr/>
          <p:nvPr/>
        </p:nvPicPr>
        <p:blipFill>
          <a:blip r:embed="rId1"/>
          <a:stretch/>
        </p:blipFill>
        <p:spPr>
          <a:xfrm>
            <a:off x="4443480" y="1208160"/>
            <a:ext cx="430524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Line 2"/>
          <p:cNvSpPr/>
          <p:nvPr/>
        </p:nvSpPr>
        <p:spPr>
          <a:xfrm>
            <a:off x="7172280" y="2290680"/>
            <a:ext cx="0" cy="2000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3"/>
          <p:cNvGraphicFramePr/>
          <p:nvPr/>
        </p:nvGraphicFramePr>
        <p:xfrm>
          <a:off x="3929040" y="1557360"/>
          <a:ext cx="3968640" cy="35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9040" y="1557360"/>
                    <a:ext cx="396864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9" name="Picture 4" descr="Usa"/>
          <p:cNvPicPr/>
          <p:nvPr/>
        </p:nvPicPr>
        <p:blipFill>
          <a:blip r:embed="rId3"/>
          <a:stretch/>
        </p:blipFill>
        <p:spPr>
          <a:xfrm>
            <a:off x="8035920" y="242424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China"/>
          <p:cNvPicPr/>
          <p:nvPr/>
        </p:nvPicPr>
        <p:blipFill>
          <a:blip r:embed="rId4"/>
          <a:stretch/>
        </p:blipFill>
        <p:spPr>
          <a:xfrm>
            <a:off x="8039160" y="193212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682560" y="1754280"/>
            <a:ext cx="2987640" cy="361800"/>
          </a:xfrm>
          <a:prstGeom prst="roundRect">
            <a:avLst>
              <a:gd name="adj" fmla="val 13125"/>
            </a:avLst>
          </a:prstGeom>
          <a:solidFill>
            <a:srgbClr val="4f7913"/>
          </a:solidFill>
          <a:ln w="3240">
            <a:solidFill>
              <a:srgbClr val="c0c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8"/>
          <p:cNvSpPr/>
          <p:nvPr/>
        </p:nvSpPr>
        <p:spPr>
          <a:xfrm>
            <a:off x="682560" y="1754280"/>
            <a:ext cx="2995560" cy="366480"/>
          </a:xfrm>
          <a:prstGeom prst="roundRect">
            <a:avLst>
              <a:gd name="adj" fmla="val 11255"/>
            </a:avLst>
          </a:prstGeom>
          <a:gradFill rotWithShape="0">
            <a:gsLst>
              <a:gs pos="0">
                <a:srgbClr val="6fc01e"/>
              </a:gs>
              <a:gs pos="100000">
                <a:srgbClr val="4f7913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互联网使用人数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9"/>
          <p:cNvSpPr/>
          <p:nvPr/>
        </p:nvSpPr>
        <p:spPr>
          <a:xfrm>
            <a:off x="682560" y="2185920"/>
            <a:ext cx="3003480" cy="3125880"/>
          </a:xfrm>
          <a:custGeom>
            <a:avLst/>
            <a:gdLst>
              <a:gd name="textAreaLeft" fmla="*/ 23040 w 3003480"/>
              <a:gd name="textAreaRight" fmla="*/ 2980440 w 3003480"/>
              <a:gd name="textAreaTop" fmla="*/ 23040 h 3125880"/>
              <a:gd name="textAreaBottom" fmla="*/ 3102840 h 3125880"/>
            </a:gdLst>
            <a:ahLst/>
            <a:rect l="textAreaLeft" t="textAreaTop" r="textAreaRight" b="textAreaBottom"/>
            <a:pathLst>
              <a:path w="21600" h="22480">
                <a:moveTo>
                  <a:pt x="571" y="0"/>
                </a:moveTo>
                <a:arcTo wR="571" hR="571" stAng="16200000" swAng="-5400000"/>
                <a:lnTo>
                  <a:pt x="0" y="21909"/>
                </a:lnTo>
                <a:arcTo wR="571" hR="571" stAng="10800000" swAng="-5400000"/>
                <a:lnTo>
                  <a:pt x="21029" y="22480"/>
                </a:lnTo>
                <a:arcTo wR="571" hR="571" stAng="5400000" swAng="-5400000"/>
                <a:lnTo>
                  <a:pt x="21600" y="571"/>
                </a:lnTo>
                <a:arcTo wR="571" hR="57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根据国外最权威统计机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NPD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发布的数据显示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中国互联网使用人数首次超越美国成为全球第一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选择了互联网宣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形之中选择了一个几亿人口的市场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!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F10116F6-5FA6-4246-A300-943394D464CD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我们都在和时间赛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1042920" y="1844640"/>
            <a:ext cx="3943080" cy="3233520"/>
            <a:chOff x="1042920" y="1844640"/>
            <a:chExt cx="3943080" cy="3233520"/>
          </a:xfrm>
        </p:grpSpPr>
        <p:sp>
          <p:nvSpPr>
            <p:cNvPr id="338" name="Oval 4"/>
            <p:cNvSpPr/>
            <p:nvPr/>
          </p:nvSpPr>
          <p:spPr>
            <a:xfrm>
              <a:off x="1042920" y="4285080"/>
              <a:ext cx="3943080" cy="79308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1502640" y="1844640"/>
              <a:ext cx="3008160" cy="2985840"/>
            </a:xfrm>
            <a:custGeom>
              <a:avLst/>
              <a:gdLst>
                <a:gd name="textAreaLeft" fmla="*/ 0 w 3008160"/>
                <a:gd name="textAreaRight" fmla="*/ 3008520 w 3008160"/>
                <a:gd name="textAreaTop" fmla="*/ 0 h 2985840"/>
                <a:gd name="textAreaBottom" fmla="*/ 2986200 h 2985840"/>
              </a:gdLst>
              <a:ahLst/>
              <a:rect l="textAreaLeft" t="textAreaTop" r="textAreaRight" b="textAreaBottom"/>
              <a:pathLst>
                <a:path w="187" h="186">
                  <a:moveTo>
                    <a:pt x="173" y="45"/>
                  </a:moveTo>
                  <a:cubicBezTo>
                    <a:pt x="175" y="48"/>
                    <a:pt x="176" y="50"/>
                    <a:pt x="178" y="53"/>
                  </a:cubicBezTo>
                  <a:cubicBezTo>
                    <a:pt x="177" y="54"/>
                    <a:pt x="177" y="55"/>
                    <a:pt x="177" y="55"/>
                  </a:cubicBezTo>
                  <a:cubicBezTo>
                    <a:pt x="182" y="67"/>
                    <a:pt x="185" y="80"/>
                    <a:pt x="185" y="93"/>
                  </a:cubicBezTo>
                  <a:cubicBezTo>
                    <a:pt x="185" y="144"/>
                    <a:pt x="144" y="185"/>
                    <a:pt x="94" y="185"/>
                  </a:cubicBezTo>
                  <a:cubicBezTo>
                    <a:pt x="43" y="185"/>
                    <a:pt x="2" y="144"/>
                    <a:pt x="2" y="93"/>
                  </a:cubicBezTo>
                  <a:cubicBezTo>
                    <a:pt x="2" y="83"/>
                    <a:pt x="3" y="73"/>
                    <a:pt x="6" y="64"/>
                  </a:cubicBezTo>
                  <a:cubicBezTo>
                    <a:pt x="6" y="64"/>
                    <a:pt x="6" y="63"/>
                    <a:pt x="6" y="62"/>
                  </a:cubicBezTo>
                  <a:cubicBezTo>
                    <a:pt x="2" y="72"/>
                    <a:pt x="0" y="82"/>
                    <a:pt x="0" y="93"/>
                  </a:cubicBezTo>
                  <a:cubicBezTo>
                    <a:pt x="0" y="144"/>
                    <a:pt x="42" y="186"/>
                    <a:pt x="94" y="186"/>
                  </a:cubicBezTo>
                  <a:cubicBezTo>
                    <a:pt x="145" y="186"/>
                    <a:pt x="187" y="144"/>
                    <a:pt x="187" y="93"/>
                  </a:cubicBezTo>
                  <a:cubicBezTo>
                    <a:pt x="187" y="76"/>
                    <a:pt x="182" y="59"/>
                    <a:pt x="173" y="45"/>
                  </a:cubicBezTo>
                  <a:close/>
                  <a:moveTo>
                    <a:pt x="173" y="44"/>
                  </a:moveTo>
                  <a:cubicBezTo>
                    <a:pt x="173" y="45"/>
                    <a:pt x="173" y="45"/>
                    <a:pt x="173" y="45"/>
                  </a:cubicBezTo>
                  <a:cubicBezTo>
                    <a:pt x="173" y="45"/>
                    <a:pt x="173" y="45"/>
                    <a:pt x="173" y="44"/>
                  </a:cubicBezTo>
                  <a:close/>
                  <a:moveTo>
                    <a:pt x="173" y="44"/>
                  </a:moveTo>
                  <a:cubicBezTo>
                    <a:pt x="173" y="44"/>
                    <a:pt x="173" y="44"/>
                    <a:pt x="173" y="44"/>
                  </a:cubicBezTo>
                  <a:cubicBezTo>
                    <a:pt x="173" y="44"/>
                    <a:pt x="173" y="44"/>
                    <a:pt x="173" y="44"/>
                  </a:cubicBezTo>
                  <a:close/>
                  <a:moveTo>
                    <a:pt x="59" y="6"/>
                  </a:move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  <a:moveTo>
                    <a:pt x="61" y="6"/>
                  </a:moveTo>
                  <a:cubicBezTo>
                    <a:pt x="60" y="6"/>
                    <a:pt x="60" y="6"/>
                    <a:pt x="60" y="6"/>
                  </a:cubicBezTo>
                  <a:cubicBezTo>
                    <a:pt x="60" y="6"/>
                    <a:pt x="60" y="6"/>
                    <a:pt x="61" y="6"/>
                  </a:cubicBezTo>
                  <a:close/>
                  <a:moveTo>
                    <a:pt x="125" y="5"/>
                  </a:moveTo>
                  <a:cubicBezTo>
                    <a:pt x="126" y="5"/>
                    <a:pt x="126" y="6"/>
                    <a:pt x="126" y="6"/>
                  </a:cubicBezTo>
                  <a:cubicBezTo>
                    <a:pt x="126" y="6"/>
                    <a:pt x="126" y="5"/>
                    <a:pt x="125" y="5"/>
                  </a:cubicBezTo>
                  <a:close/>
                  <a:moveTo>
                    <a:pt x="124" y="5"/>
                  </a:moveTo>
                  <a:cubicBezTo>
                    <a:pt x="125" y="5"/>
                    <a:pt x="125" y="5"/>
                    <a:pt x="125" y="5"/>
                  </a:cubicBezTo>
                  <a:cubicBezTo>
                    <a:pt x="125" y="5"/>
                    <a:pt x="125" y="5"/>
                    <a:pt x="124" y="5"/>
                  </a:cubicBezTo>
                  <a:close/>
                  <a:moveTo>
                    <a:pt x="94" y="0"/>
                  </a:moveTo>
                  <a:cubicBezTo>
                    <a:pt x="82" y="0"/>
                    <a:pt x="71" y="2"/>
                    <a:pt x="61" y="6"/>
                  </a:cubicBezTo>
                  <a:cubicBezTo>
                    <a:pt x="71" y="2"/>
                    <a:pt x="82" y="0"/>
                    <a:pt x="94" y="0"/>
                  </a:cubicBezTo>
                  <a:cubicBezTo>
                    <a:pt x="104" y="0"/>
                    <a:pt x="114" y="2"/>
                    <a:pt x="124" y="5"/>
                  </a:cubicBezTo>
                  <a:cubicBezTo>
                    <a:pt x="115" y="2"/>
                    <a:pt x="104" y="0"/>
                    <a:pt x="9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47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1533960" y="2728080"/>
              <a:ext cx="2942640" cy="2086200"/>
            </a:xfrm>
            <a:custGeom>
              <a:avLst/>
              <a:gdLst>
                <a:gd name="textAreaLeft" fmla="*/ 0 w 2942640"/>
                <a:gd name="textAreaRight" fmla="*/ 2942640 w 2942640"/>
                <a:gd name="textAreaTop" fmla="*/ 0 h 2086200"/>
                <a:gd name="textAreaBottom" fmla="*/ 2086560 h 2086200"/>
              </a:gdLst>
              <a:ahLst/>
              <a:rect l="textAreaLeft" t="textAreaTop" r="textAreaRight" b="textAreaBottom"/>
              <a:pathLst>
                <a:path w="183" h="130">
                  <a:moveTo>
                    <a:pt x="175" y="0"/>
                  </a:moveTo>
                  <a:cubicBezTo>
                    <a:pt x="175" y="2"/>
                    <a:pt x="174" y="3"/>
                    <a:pt x="174" y="5"/>
                  </a:cubicBezTo>
                  <a:cubicBezTo>
                    <a:pt x="178" y="15"/>
                    <a:pt x="180" y="26"/>
                    <a:pt x="180" y="38"/>
                  </a:cubicBezTo>
                  <a:cubicBezTo>
                    <a:pt x="180" y="87"/>
                    <a:pt x="140" y="127"/>
                    <a:pt x="92" y="127"/>
                  </a:cubicBezTo>
                  <a:cubicBezTo>
                    <a:pt x="42" y="127"/>
                    <a:pt x="3" y="87"/>
                    <a:pt x="3" y="38"/>
                  </a:cubicBezTo>
                  <a:cubicBezTo>
                    <a:pt x="3" y="30"/>
                    <a:pt x="4" y="21"/>
                    <a:pt x="6" y="14"/>
                  </a:cubicBezTo>
                  <a:cubicBezTo>
                    <a:pt x="5" y="12"/>
                    <a:pt x="5" y="11"/>
                    <a:pt x="4" y="9"/>
                  </a:cubicBezTo>
                  <a:cubicBezTo>
                    <a:pt x="1" y="18"/>
                    <a:pt x="0" y="28"/>
                    <a:pt x="0" y="38"/>
                  </a:cubicBezTo>
                  <a:cubicBezTo>
                    <a:pt x="0" y="89"/>
                    <a:pt x="41" y="130"/>
                    <a:pt x="92" y="130"/>
                  </a:cubicBezTo>
                  <a:cubicBezTo>
                    <a:pt x="142" y="130"/>
                    <a:pt x="183" y="89"/>
                    <a:pt x="183" y="38"/>
                  </a:cubicBezTo>
                  <a:cubicBezTo>
                    <a:pt x="183" y="25"/>
                    <a:pt x="180" y="12"/>
                    <a:pt x="17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69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1599120" y="1925640"/>
              <a:ext cx="2685960" cy="91440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67" h="57">
                  <a:moveTo>
                    <a:pt x="167" y="40"/>
                  </a:moveTo>
                  <a:cubicBezTo>
                    <a:pt x="167" y="40"/>
                    <a:pt x="167" y="40"/>
                    <a:pt x="167" y="40"/>
                  </a:cubicBezTo>
                  <a:cubicBezTo>
                    <a:pt x="167" y="40"/>
                    <a:pt x="167" y="40"/>
                    <a:pt x="167" y="40"/>
                  </a:cubicBezTo>
                  <a:close/>
                  <a:moveTo>
                    <a:pt x="167" y="39"/>
                  </a:moveTo>
                  <a:cubicBezTo>
                    <a:pt x="167" y="39"/>
                    <a:pt x="167" y="39"/>
                    <a:pt x="167" y="39"/>
                  </a:cubicBezTo>
                  <a:cubicBezTo>
                    <a:pt x="167" y="39"/>
                    <a:pt x="167" y="39"/>
                    <a:pt x="167" y="39"/>
                  </a:cubicBezTo>
                  <a:close/>
                  <a:moveTo>
                    <a:pt x="53" y="1"/>
                  </a:moveTo>
                  <a:cubicBezTo>
                    <a:pt x="40" y="6"/>
                    <a:pt x="28" y="15"/>
                    <a:pt x="18" y="26"/>
                  </a:cubicBezTo>
                  <a:cubicBezTo>
                    <a:pt x="10" y="35"/>
                    <a:pt x="3" y="46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8" y="32"/>
                    <a:pt x="28" y="11"/>
                    <a:pt x="53" y="1"/>
                  </a:cubicBezTo>
                  <a:close/>
                  <a:moveTo>
                    <a:pt x="54" y="1"/>
                  </a:moveTo>
                  <a:cubicBezTo>
                    <a:pt x="54" y="1"/>
                    <a:pt x="54" y="1"/>
                    <a:pt x="53" y="1"/>
                  </a:cubicBezTo>
                  <a:cubicBezTo>
                    <a:pt x="54" y="1"/>
                    <a:pt x="54" y="1"/>
                    <a:pt x="54" y="1"/>
                  </a:cubicBezTo>
                  <a:close/>
                  <a:moveTo>
                    <a:pt x="55" y="1"/>
                  </a:moveTo>
                  <a:cubicBezTo>
                    <a:pt x="55" y="1"/>
                    <a:pt x="55" y="1"/>
                    <a:pt x="55" y="1"/>
                  </a:cubicBezTo>
                  <a:cubicBezTo>
                    <a:pt x="55" y="1"/>
                    <a:pt x="55" y="1"/>
                    <a:pt x="55" y="1"/>
                  </a:cubicBezTo>
                  <a:close/>
                  <a:moveTo>
                    <a:pt x="120" y="1"/>
                  </a:moveTo>
                  <a:cubicBezTo>
                    <a:pt x="139" y="8"/>
                    <a:pt x="156" y="21"/>
                    <a:pt x="167" y="39"/>
                  </a:cubicBezTo>
                  <a:cubicBezTo>
                    <a:pt x="162" y="31"/>
                    <a:pt x="156" y="25"/>
                    <a:pt x="150" y="19"/>
                  </a:cubicBezTo>
                  <a:cubicBezTo>
                    <a:pt x="141" y="11"/>
                    <a:pt x="130" y="5"/>
                    <a:pt x="120" y="1"/>
                  </a:cubicBezTo>
                  <a:close/>
                  <a:moveTo>
                    <a:pt x="119" y="0"/>
                  </a:moveTo>
                  <a:cubicBezTo>
                    <a:pt x="119" y="0"/>
                    <a:pt x="119" y="0"/>
                    <a:pt x="119" y="0"/>
                  </a:cubicBezTo>
                  <a:cubicBezTo>
                    <a:pt x="119" y="0"/>
                    <a:pt x="119" y="0"/>
                    <a:pt x="119" y="0"/>
                  </a:cubicBezTo>
                  <a:close/>
                  <a:moveTo>
                    <a:pt x="118" y="0"/>
                  </a:moveTo>
                  <a:cubicBezTo>
                    <a:pt x="118" y="0"/>
                    <a:pt x="118" y="0"/>
                    <a:pt x="118" y="0"/>
                  </a:cubicBezTo>
                  <a:cubicBezTo>
                    <a:pt x="118" y="0"/>
                    <a:pt x="118" y="0"/>
                    <a:pt x="1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1599120" y="1844640"/>
              <a:ext cx="2764800" cy="1027440"/>
            </a:xfrm>
            <a:custGeom>
              <a:avLst/>
              <a:gdLst>
                <a:gd name="textAreaLeft" fmla="*/ 0 w 2764800"/>
                <a:gd name="textAreaRight" fmla="*/ 2765160 w 2764800"/>
                <a:gd name="textAreaTop" fmla="*/ 0 h 1027440"/>
                <a:gd name="textAreaBottom" fmla="*/ 1027800 h 1027440"/>
              </a:gdLst>
              <a:ahLst/>
              <a:rect l="textAreaLeft" t="textAreaTop" r="textAreaRight" b="textAreaBottom"/>
              <a:pathLst>
                <a:path w="172" h="64">
                  <a:moveTo>
                    <a:pt x="88" y="0"/>
                  </a:moveTo>
                  <a:cubicBezTo>
                    <a:pt x="76" y="0"/>
                    <a:pt x="65" y="2"/>
                    <a:pt x="55" y="6"/>
                  </a:cubicBezTo>
                  <a:cubicBezTo>
                    <a:pt x="55" y="6"/>
                    <a:pt x="55" y="6"/>
                    <a:pt x="55" y="6"/>
                  </a:cubicBezTo>
                  <a:cubicBezTo>
                    <a:pt x="54" y="6"/>
                    <a:pt x="54" y="6"/>
                    <a:pt x="54" y="6"/>
                  </a:cubicBezTo>
                  <a:cubicBezTo>
                    <a:pt x="54" y="6"/>
                    <a:pt x="54" y="6"/>
                    <a:pt x="53" y="6"/>
                  </a:cubicBezTo>
                  <a:cubicBezTo>
                    <a:pt x="53" y="6"/>
                    <a:pt x="53" y="6"/>
                    <a:pt x="53" y="6"/>
                  </a:cubicBezTo>
                  <a:cubicBezTo>
                    <a:pt x="28" y="16"/>
                    <a:pt x="8" y="37"/>
                    <a:pt x="0" y="62"/>
                  </a:cubicBezTo>
                  <a:cubicBezTo>
                    <a:pt x="0" y="63"/>
                    <a:pt x="0" y="64"/>
                    <a:pt x="0" y="64"/>
                  </a:cubicBezTo>
                  <a:cubicBezTo>
                    <a:pt x="12" y="28"/>
                    <a:pt x="47" y="1"/>
                    <a:pt x="88" y="1"/>
                  </a:cubicBezTo>
                  <a:cubicBezTo>
                    <a:pt x="125" y="1"/>
                    <a:pt x="157" y="23"/>
                    <a:pt x="171" y="55"/>
                  </a:cubicBezTo>
                  <a:cubicBezTo>
                    <a:pt x="171" y="55"/>
                    <a:pt x="171" y="54"/>
                    <a:pt x="172" y="53"/>
                  </a:cubicBezTo>
                  <a:cubicBezTo>
                    <a:pt x="170" y="50"/>
                    <a:pt x="169" y="48"/>
                    <a:pt x="167" y="45"/>
                  </a:cubicBezTo>
                  <a:cubicBezTo>
                    <a:pt x="167" y="45"/>
                    <a:pt x="167" y="45"/>
                    <a:pt x="167" y="45"/>
                  </a:cubicBezTo>
                  <a:cubicBezTo>
                    <a:pt x="167" y="45"/>
                    <a:pt x="167" y="45"/>
                    <a:pt x="167" y="44"/>
                  </a:cubicBezTo>
                  <a:cubicBezTo>
                    <a:pt x="167" y="44"/>
                    <a:pt x="167" y="44"/>
                    <a:pt x="167" y="44"/>
                  </a:cubicBezTo>
                  <a:cubicBezTo>
                    <a:pt x="167" y="44"/>
                    <a:pt x="167" y="44"/>
                    <a:pt x="167" y="44"/>
                  </a:cubicBezTo>
                  <a:cubicBezTo>
                    <a:pt x="156" y="26"/>
                    <a:pt x="139" y="13"/>
                    <a:pt x="120" y="6"/>
                  </a:cubicBezTo>
                  <a:cubicBezTo>
                    <a:pt x="120" y="6"/>
                    <a:pt x="120" y="5"/>
                    <a:pt x="119" y="5"/>
                  </a:cubicBezTo>
                  <a:cubicBezTo>
                    <a:pt x="119" y="5"/>
                    <a:pt x="119" y="5"/>
                    <a:pt x="119" y="5"/>
                  </a:cubicBezTo>
                  <a:cubicBezTo>
                    <a:pt x="119" y="5"/>
                    <a:pt x="119" y="5"/>
                    <a:pt x="118" y="5"/>
                  </a:cubicBezTo>
                  <a:cubicBezTo>
                    <a:pt x="118" y="5"/>
                    <a:pt x="118" y="5"/>
                    <a:pt x="118" y="5"/>
                  </a:cubicBezTo>
                  <a:cubicBezTo>
                    <a:pt x="108" y="2"/>
                    <a:pt x="98" y="0"/>
                    <a:pt x="8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1599120" y="1860480"/>
              <a:ext cx="2748960" cy="1092960"/>
            </a:xfrm>
            <a:custGeom>
              <a:avLst/>
              <a:gdLst>
                <a:gd name="textAreaLeft" fmla="*/ 0 w 2748960"/>
                <a:gd name="textAreaRight" fmla="*/ 2749320 w 2748960"/>
                <a:gd name="textAreaTop" fmla="*/ 0 h 1092960"/>
                <a:gd name="textAreaBottom" fmla="*/ 1093320 h 1092960"/>
              </a:gdLst>
              <a:ahLst/>
              <a:rect l="textAreaLeft" t="textAreaTop" r="textAreaRight" b="textAreaBottom"/>
              <a:pathLst>
                <a:path w="171" h="68">
                  <a:moveTo>
                    <a:pt x="88" y="0"/>
                  </a:moveTo>
                  <a:cubicBezTo>
                    <a:pt x="47" y="0"/>
                    <a:pt x="12" y="27"/>
                    <a:pt x="0" y="63"/>
                  </a:cubicBezTo>
                  <a:cubicBezTo>
                    <a:pt x="1" y="65"/>
                    <a:pt x="1" y="66"/>
                    <a:pt x="2" y="68"/>
                  </a:cubicBezTo>
                  <a:cubicBezTo>
                    <a:pt x="13" y="30"/>
                    <a:pt x="47" y="3"/>
                    <a:pt x="88" y="3"/>
                  </a:cubicBezTo>
                  <a:cubicBezTo>
                    <a:pt x="125" y="3"/>
                    <a:pt x="157" y="26"/>
                    <a:pt x="170" y="59"/>
                  </a:cubicBezTo>
                  <a:cubicBezTo>
                    <a:pt x="170" y="57"/>
                    <a:pt x="171" y="56"/>
                    <a:pt x="171" y="54"/>
                  </a:cubicBezTo>
                  <a:cubicBezTo>
                    <a:pt x="157" y="22"/>
                    <a:pt x="125" y="0"/>
                    <a:pt x="8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a5a5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1583280" y="1909800"/>
              <a:ext cx="2846160" cy="2854800"/>
            </a:xfrm>
            <a:custGeom>
              <a:avLst/>
              <a:gdLst>
                <a:gd name="textAreaLeft" fmla="*/ 0 w 2846160"/>
                <a:gd name="textAreaRight" fmla="*/ 2846520 w 2846160"/>
                <a:gd name="textAreaTop" fmla="*/ 0 h 2854800"/>
                <a:gd name="textAreaBottom" fmla="*/ 2854800 h 2854800"/>
              </a:gdLst>
              <a:ahLst/>
              <a:rect l="textAreaLeft" t="textAreaTop" r="textAreaRight" b="textAreaBottom"/>
              <a:pathLst>
                <a:path w="177" h="178">
                  <a:moveTo>
                    <a:pt x="2" y="89"/>
                  </a:moveTo>
                  <a:cubicBezTo>
                    <a:pt x="2" y="89"/>
                    <a:pt x="2" y="89"/>
                    <a:pt x="2" y="89"/>
                  </a:cubicBezTo>
                  <a:cubicBezTo>
                    <a:pt x="2" y="41"/>
                    <a:pt x="41" y="2"/>
                    <a:pt x="89" y="2"/>
                  </a:cubicBezTo>
                  <a:cubicBezTo>
                    <a:pt x="136" y="2"/>
                    <a:pt x="175" y="41"/>
                    <a:pt x="175" y="89"/>
                  </a:cubicBezTo>
                  <a:cubicBezTo>
                    <a:pt x="175" y="89"/>
                    <a:pt x="175" y="89"/>
                    <a:pt x="175" y="89"/>
                  </a:cubicBezTo>
                  <a:cubicBezTo>
                    <a:pt x="175" y="89"/>
                    <a:pt x="175" y="89"/>
                    <a:pt x="175" y="89"/>
                  </a:cubicBezTo>
                  <a:cubicBezTo>
                    <a:pt x="175" y="137"/>
                    <a:pt x="136" y="176"/>
                    <a:pt x="89" y="176"/>
                  </a:cubicBezTo>
                  <a:cubicBezTo>
                    <a:pt x="41" y="176"/>
                    <a:pt x="2" y="137"/>
                    <a:pt x="2" y="89"/>
                  </a:cubicBezTo>
                  <a:cubicBezTo>
                    <a:pt x="2" y="89"/>
                    <a:pt x="2" y="89"/>
                    <a:pt x="2" y="89"/>
                  </a:cubicBezTo>
                  <a:close/>
                  <a:moveTo>
                    <a:pt x="89" y="0"/>
                  </a:moveTo>
                  <a:cubicBezTo>
                    <a:pt x="48" y="0"/>
                    <a:pt x="14" y="27"/>
                    <a:pt x="3" y="65"/>
                  </a:cubicBezTo>
                  <a:cubicBezTo>
                    <a:pt x="1" y="72"/>
                    <a:pt x="0" y="81"/>
                    <a:pt x="0" y="89"/>
                  </a:cubicBezTo>
                  <a:cubicBezTo>
                    <a:pt x="0" y="138"/>
                    <a:pt x="39" y="178"/>
                    <a:pt x="89" y="178"/>
                  </a:cubicBezTo>
                  <a:cubicBezTo>
                    <a:pt x="137" y="178"/>
                    <a:pt x="177" y="138"/>
                    <a:pt x="177" y="89"/>
                  </a:cubicBezTo>
                  <a:cubicBezTo>
                    <a:pt x="177" y="77"/>
                    <a:pt x="175" y="66"/>
                    <a:pt x="171" y="56"/>
                  </a:cubicBezTo>
                  <a:cubicBezTo>
                    <a:pt x="158" y="23"/>
                    <a:pt x="126" y="0"/>
                    <a:pt x="8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a5a5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1614960" y="2004480"/>
              <a:ext cx="2782800" cy="2728800"/>
            </a:xfrm>
            <a:custGeom>
              <a:avLst/>
              <a:gdLst>
                <a:gd name="textAreaLeft" fmla="*/ 0 w 2782800"/>
                <a:gd name="textAreaRight" fmla="*/ 2782800 w 278280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73" h="170">
                  <a:moveTo>
                    <a:pt x="137" y="55"/>
                  </a:moveTo>
                  <a:cubicBezTo>
                    <a:pt x="91" y="82"/>
                    <a:pt x="91" y="82"/>
                    <a:pt x="91" y="82"/>
                  </a:cubicBezTo>
                  <a:cubicBezTo>
                    <a:pt x="91" y="82"/>
                    <a:pt x="91" y="82"/>
                    <a:pt x="91" y="82"/>
                  </a:cubicBezTo>
                  <a:cubicBezTo>
                    <a:pt x="137" y="55"/>
                    <a:pt x="137" y="55"/>
                    <a:pt x="137" y="55"/>
                  </a:cubicBezTo>
                  <a:cubicBezTo>
                    <a:pt x="137" y="55"/>
                    <a:pt x="137" y="55"/>
                    <a:pt x="137" y="55"/>
                  </a:cubicBezTo>
                  <a:close/>
                  <a:moveTo>
                    <a:pt x="6" y="66"/>
                  </a:moveTo>
                  <a:cubicBezTo>
                    <a:pt x="13" y="29"/>
                    <a:pt x="47" y="0"/>
                    <a:pt x="87" y="0"/>
                  </a:cubicBezTo>
                  <a:cubicBezTo>
                    <a:pt x="126" y="0"/>
                    <a:pt x="160" y="29"/>
                    <a:pt x="167" y="67"/>
                  </a:cubicBezTo>
                  <a:cubicBezTo>
                    <a:pt x="161" y="62"/>
                    <a:pt x="152" y="59"/>
                    <a:pt x="141" y="56"/>
                  </a:cubicBezTo>
                  <a:cubicBezTo>
                    <a:pt x="92" y="84"/>
                    <a:pt x="92" y="84"/>
                    <a:pt x="92" y="84"/>
                  </a:cubicBezTo>
                  <a:cubicBezTo>
                    <a:pt x="92" y="84"/>
                    <a:pt x="92" y="85"/>
                    <a:pt x="92" y="85"/>
                  </a:cubicBezTo>
                  <a:cubicBezTo>
                    <a:pt x="92" y="86"/>
                    <a:pt x="92" y="86"/>
                    <a:pt x="92" y="86"/>
                  </a:cubicBezTo>
                  <a:cubicBezTo>
                    <a:pt x="106" y="94"/>
                    <a:pt x="106" y="94"/>
                    <a:pt x="106" y="94"/>
                  </a:cubicBezTo>
                  <a:cubicBezTo>
                    <a:pt x="104" y="97"/>
                    <a:pt x="104" y="97"/>
                    <a:pt x="104" y="97"/>
                  </a:cubicBezTo>
                  <a:cubicBezTo>
                    <a:pt x="90" y="89"/>
                    <a:pt x="90" y="89"/>
                    <a:pt x="90" y="89"/>
                  </a:cubicBezTo>
                  <a:cubicBezTo>
                    <a:pt x="90" y="90"/>
                    <a:pt x="89" y="90"/>
                    <a:pt x="88" y="9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87" y="160"/>
                    <a:pt x="87" y="160"/>
                    <a:pt x="87" y="160"/>
                  </a:cubicBezTo>
                  <a:cubicBezTo>
                    <a:pt x="87" y="90"/>
                    <a:pt x="87" y="90"/>
                    <a:pt x="87" y="90"/>
                  </a:cubicBezTo>
                  <a:cubicBezTo>
                    <a:pt x="86" y="90"/>
                    <a:pt x="85" y="89"/>
                    <a:pt x="84" y="89"/>
                  </a:cubicBezTo>
                  <a:cubicBezTo>
                    <a:pt x="70" y="97"/>
                    <a:pt x="70" y="97"/>
                    <a:pt x="70" y="97"/>
                  </a:cubicBezTo>
                  <a:cubicBezTo>
                    <a:pt x="69" y="94"/>
                    <a:pt x="69" y="94"/>
                    <a:pt x="69" y="94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83" y="87"/>
                    <a:pt x="83" y="86"/>
                    <a:pt x="83" y="86"/>
                  </a:cubicBezTo>
                  <a:cubicBezTo>
                    <a:pt x="69" y="94"/>
                    <a:pt x="69" y="94"/>
                    <a:pt x="69" y="94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82" y="84"/>
                    <a:pt x="82" y="84"/>
                    <a:pt x="82" y="84"/>
                  </a:cubicBezTo>
                  <a:cubicBezTo>
                    <a:pt x="50" y="66"/>
                    <a:pt x="50" y="66"/>
                    <a:pt x="50" y="66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84" y="82"/>
                    <a:pt x="84" y="82"/>
                    <a:pt x="84" y="82"/>
                  </a:cubicBezTo>
                  <a:cubicBezTo>
                    <a:pt x="85" y="81"/>
                    <a:pt x="86" y="81"/>
                    <a:pt x="87" y="81"/>
                  </a:cubicBezTo>
                  <a:cubicBezTo>
                    <a:pt x="87" y="76"/>
                    <a:pt x="87" y="76"/>
                    <a:pt x="87" y="76"/>
                  </a:cubicBezTo>
                  <a:cubicBezTo>
                    <a:pt x="88" y="76"/>
                    <a:pt x="88" y="76"/>
                    <a:pt x="88" y="76"/>
                  </a:cubicBezTo>
                  <a:cubicBezTo>
                    <a:pt x="88" y="81"/>
                    <a:pt x="88" y="81"/>
                    <a:pt x="88" y="81"/>
                  </a:cubicBezTo>
                  <a:cubicBezTo>
                    <a:pt x="88" y="81"/>
                    <a:pt x="88" y="81"/>
                    <a:pt x="88" y="81"/>
                  </a:cubicBezTo>
                  <a:cubicBezTo>
                    <a:pt x="134" y="54"/>
                    <a:pt x="134" y="54"/>
                    <a:pt x="134" y="54"/>
                  </a:cubicBezTo>
                  <a:cubicBezTo>
                    <a:pt x="120" y="51"/>
                    <a:pt x="104" y="50"/>
                    <a:pt x="86" y="50"/>
                  </a:cubicBezTo>
                  <a:cubicBezTo>
                    <a:pt x="52" y="50"/>
                    <a:pt x="22" y="56"/>
                    <a:pt x="6" y="66"/>
                  </a:cubicBezTo>
                  <a:close/>
                  <a:moveTo>
                    <a:pt x="87" y="0"/>
                  </a:moveTo>
                  <a:cubicBezTo>
                    <a:pt x="39" y="0"/>
                    <a:pt x="1" y="38"/>
                    <a:pt x="0" y="85"/>
                  </a:cubicBezTo>
                  <a:cubicBezTo>
                    <a:pt x="0" y="84"/>
                    <a:pt x="0" y="84"/>
                    <a:pt x="0" y="83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131"/>
                    <a:pt x="39" y="170"/>
                    <a:pt x="87" y="170"/>
                  </a:cubicBezTo>
                  <a:cubicBezTo>
                    <a:pt x="134" y="170"/>
                    <a:pt x="173" y="131"/>
                    <a:pt x="173" y="83"/>
                  </a:cubicBezTo>
                  <a:cubicBezTo>
                    <a:pt x="173" y="83"/>
                    <a:pt x="173" y="83"/>
                    <a:pt x="173" y="83"/>
                  </a:cubicBezTo>
                  <a:cubicBezTo>
                    <a:pt x="173" y="84"/>
                    <a:pt x="173" y="84"/>
                    <a:pt x="173" y="85"/>
                  </a:cubicBezTo>
                  <a:cubicBezTo>
                    <a:pt x="172" y="38"/>
                    <a:pt x="134" y="0"/>
                    <a:pt x="8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7d0d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1614960" y="1941480"/>
              <a:ext cx="2782800" cy="1428120"/>
            </a:xfrm>
            <a:custGeom>
              <a:avLst/>
              <a:gdLst>
                <a:gd name="textAreaLeft" fmla="*/ 0 w 2782800"/>
                <a:gd name="textAreaRight" fmla="*/ 2782800 w 2782800"/>
                <a:gd name="textAreaTop" fmla="*/ 0 h 1428120"/>
                <a:gd name="textAreaBottom" fmla="*/ 1428480 h 1428120"/>
              </a:gdLst>
              <a:ahLst/>
              <a:rect l="textAreaLeft" t="textAreaTop" r="textAreaRight" b="textAreaBottom"/>
              <a:pathLst>
                <a:path w="173" h="89">
                  <a:moveTo>
                    <a:pt x="87" y="0"/>
                  </a:moveTo>
                  <a:cubicBezTo>
                    <a:pt x="39" y="0"/>
                    <a:pt x="0" y="39"/>
                    <a:pt x="0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8"/>
                    <a:pt x="0" y="88"/>
                    <a:pt x="0" y="89"/>
                  </a:cubicBezTo>
                  <a:cubicBezTo>
                    <a:pt x="1" y="42"/>
                    <a:pt x="39" y="4"/>
                    <a:pt x="87" y="4"/>
                  </a:cubicBezTo>
                  <a:cubicBezTo>
                    <a:pt x="134" y="4"/>
                    <a:pt x="172" y="42"/>
                    <a:pt x="173" y="89"/>
                  </a:cubicBezTo>
                  <a:cubicBezTo>
                    <a:pt x="173" y="88"/>
                    <a:pt x="173" y="88"/>
                    <a:pt x="173" y="87"/>
                  </a:cubicBezTo>
                  <a:cubicBezTo>
                    <a:pt x="173" y="87"/>
                    <a:pt x="173" y="87"/>
                    <a:pt x="173" y="87"/>
                  </a:cubicBezTo>
                  <a:cubicBezTo>
                    <a:pt x="173" y="39"/>
                    <a:pt x="134" y="0"/>
                    <a:pt x="8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4aeae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998800" y="2037960"/>
              <a:ext cx="15840" cy="38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7" h="171">
                  <a:moveTo>
                    <a:pt x="7" y="171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171"/>
                  </a:lnTo>
                  <a:lnTo>
                    <a:pt x="7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4"/>
            <p:cNvSpPr/>
            <p:nvPr/>
          </p:nvSpPr>
          <p:spPr>
            <a:xfrm>
              <a:off x="2998800" y="4235400"/>
              <a:ext cx="15840" cy="38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354040" y="2214000"/>
              <a:ext cx="112680" cy="175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50" h="78">
                  <a:moveTo>
                    <a:pt x="50" y="71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3" y="78"/>
                  </a:lnTo>
                  <a:lnTo>
                    <a:pt x="5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3544200" y="4285080"/>
              <a:ext cx="112320" cy="1756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50" h="78">
                  <a:moveTo>
                    <a:pt x="50" y="71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3" y="78"/>
                  </a:lnTo>
                  <a:lnTo>
                    <a:pt x="5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1872000" y="2680560"/>
              <a:ext cx="193320" cy="1101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6" h="49">
                  <a:moveTo>
                    <a:pt x="86" y="42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79" y="49"/>
                  </a:lnTo>
                  <a:lnTo>
                    <a:pt x="8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947040" y="3884040"/>
              <a:ext cx="175680" cy="11232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8" h="50">
                  <a:moveTo>
                    <a:pt x="78" y="42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78" y="50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9"/>
            <p:cNvSpPr/>
            <p:nvPr/>
          </p:nvSpPr>
          <p:spPr>
            <a:xfrm>
              <a:off x="1712160" y="3320280"/>
              <a:ext cx="385200" cy="1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0"/>
            <p:cNvSpPr/>
            <p:nvPr/>
          </p:nvSpPr>
          <p:spPr>
            <a:xfrm>
              <a:off x="3913560" y="3320280"/>
              <a:ext cx="387000" cy="1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1872000" y="3884040"/>
              <a:ext cx="193320" cy="11232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86" h="50">
                  <a:moveTo>
                    <a:pt x="79" y="0"/>
                  </a:moveTo>
                  <a:lnTo>
                    <a:pt x="0" y="42"/>
                  </a:lnTo>
                  <a:lnTo>
                    <a:pt x="7" y="50"/>
                  </a:lnTo>
                  <a:lnTo>
                    <a:pt x="86" y="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947040" y="2680560"/>
              <a:ext cx="175680" cy="110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78" h="49">
                  <a:moveTo>
                    <a:pt x="78" y="0"/>
                  </a:moveTo>
                  <a:lnTo>
                    <a:pt x="0" y="42"/>
                  </a:lnTo>
                  <a:lnTo>
                    <a:pt x="7" y="49"/>
                  </a:lnTo>
                  <a:lnTo>
                    <a:pt x="78" y="7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2354040" y="4285080"/>
              <a:ext cx="112680" cy="175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50" h="78">
                  <a:moveTo>
                    <a:pt x="43" y="0"/>
                  </a:moveTo>
                  <a:lnTo>
                    <a:pt x="0" y="71"/>
                  </a:lnTo>
                  <a:lnTo>
                    <a:pt x="7" y="78"/>
                  </a:lnTo>
                  <a:lnTo>
                    <a:pt x="5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544200" y="2214000"/>
              <a:ext cx="112320" cy="1756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50" h="78">
                  <a:moveTo>
                    <a:pt x="43" y="0"/>
                  </a:moveTo>
                  <a:lnTo>
                    <a:pt x="0" y="71"/>
                  </a:lnTo>
                  <a:lnTo>
                    <a:pt x="7" y="78"/>
                  </a:lnTo>
                  <a:lnTo>
                    <a:pt x="5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2419200" y="2887920"/>
              <a:ext cx="1462320" cy="1685160"/>
            </a:xfrm>
            <a:custGeom>
              <a:avLst/>
              <a:gdLst>
                <a:gd name="textAreaLeft" fmla="*/ 0 w 1462320"/>
                <a:gd name="textAreaRight" fmla="*/ 1462680 w 1462320"/>
                <a:gd name="textAreaTop" fmla="*/ 0 h 1685160"/>
                <a:gd name="textAreaBottom" fmla="*/ 1685520 h 1685160"/>
              </a:gdLst>
              <a:ahLst/>
              <a:rect l="textAreaLeft" t="textAreaTop" r="textAreaRight" b="textAreaBottom"/>
              <a:pathLst>
                <a:path w="91" h="105">
                  <a:moveTo>
                    <a:pt x="2" y="8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32" y="29"/>
                    <a:pt x="32" y="29"/>
                    <a:pt x="32" y="29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1"/>
                    <a:pt x="38" y="21"/>
                    <a:pt x="38" y="21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7" y="26"/>
                    <a:pt x="37" y="26"/>
                    <a:pt x="37" y="26"/>
                  </a:cubicBezTo>
                  <a:cubicBezTo>
                    <a:pt x="36" y="26"/>
                    <a:pt x="35" y="26"/>
                    <a:pt x="34" y="27"/>
                  </a:cubicBezTo>
                  <a:cubicBezTo>
                    <a:pt x="2" y="8"/>
                    <a:pt x="2" y="8"/>
                    <a:pt x="2" y="8"/>
                  </a:cubicBezTo>
                  <a:close/>
                  <a:moveTo>
                    <a:pt x="87" y="0"/>
                  </a:moveTo>
                  <a:cubicBezTo>
                    <a:pt x="41" y="27"/>
                    <a:pt x="41" y="27"/>
                    <a:pt x="41" y="2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33" y="31"/>
                    <a:pt x="33" y="31"/>
                    <a:pt x="33" y="31"/>
                  </a:cubicBezTo>
                  <a:cubicBezTo>
                    <a:pt x="33" y="31"/>
                    <a:pt x="33" y="32"/>
                    <a:pt x="33" y="32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6" y="35"/>
                    <a:pt x="37" y="35"/>
                  </a:cubicBezTo>
                  <a:cubicBezTo>
                    <a:pt x="37" y="105"/>
                    <a:pt x="37" y="105"/>
                    <a:pt x="37" y="105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8" y="35"/>
                    <a:pt x="38" y="35"/>
                    <a:pt x="38" y="35"/>
                  </a:cubicBezTo>
                  <a:cubicBezTo>
                    <a:pt x="39" y="35"/>
                    <a:pt x="40" y="35"/>
                    <a:pt x="40" y="34"/>
                  </a:cubicBezTo>
                  <a:cubicBezTo>
                    <a:pt x="54" y="42"/>
                    <a:pt x="54" y="42"/>
                    <a:pt x="54" y="42"/>
                  </a:cubicBezTo>
                  <a:cubicBezTo>
                    <a:pt x="56" y="39"/>
                    <a:pt x="56" y="39"/>
                    <a:pt x="56" y="39"/>
                  </a:cubicBezTo>
                  <a:cubicBezTo>
                    <a:pt x="42" y="31"/>
                    <a:pt x="42" y="31"/>
                    <a:pt x="42" y="31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2" y="30"/>
                    <a:pt x="42" y="29"/>
                    <a:pt x="42" y="29"/>
                  </a:cubicBezTo>
                  <a:cubicBezTo>
                    <a:pt x="91" y="1"/>
                    <a:pt x="91" y="1"/>
                    <a:pt x="91" y="1"/>
                  </a:cubicBezTo>
                  <a:cubicBezTo>
                    <a:pt x="90" y="1"/>
                    <a:pt x="88" y="0"/>
                    <a:pt x="8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5ae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2707920" y="2712240"/>
              <a:ext cx="1351800" cy="802080"/>
            </a:xfrm>
            <a:custGeom>
              <a:avLst/>
              <a:gdLst>
                <a:gd name="textAreaLeft" fmla="*/ 0 w 1351800"/>
                <a:gd name="textAreaRight" fmla="*/ 1352160 w 135180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600" h="356">
                  <a:moveTo>
                    <a:pt x="7" y="356"/>
                  </a:moveTo>
                  <a:lnTo>
                    <a:pt x="600" y="14"/>
                  </a:lnTo>
                  <a:lnTo>
                    <a:pt x="593" y="0"/>
                  </a:lnTo>
                  <a:lnTo>
                    <a:pt x="0" y="342"/>
                  </a:lnTo>
                  <a:lnTo>
                    <a:pt x="7" y="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2403360" y="2968560"/>
              <a:ext cx="899280" cy="560880"/>
            </a:xfrm>
            <a:custGeom>
              <a:avLst/>
              <a:gdLst>
                <a:gd name="textAreaLeft" fmla="*/ 0 w 899280"/>
                <a:gd name="textAreaRight" fmla="*/ 899640 w 899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399" h="249">
                  <a:moveTo>
                    <a:pt x="399" y="228"/>
                  </a:moveTo>
                  <a:lnTo>
                    <a:pt x="14" y="0"/>
                  </a:lnTo>
                  <a:lnTo>
                    <a:pt x="0" y="21"/>
                  </a:lnTo>
                  <a:lnTo>
                    <a:pt x="385" y="249"/>
                  </a:lnTo>
                  <a:lnTo>
                    <a:pt x="399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8"/>
            <p:cNvSpPr/>
            <p:nvPr/>
          </p:nvSpPr>
          <p:spPr>
            <a:xfrm>
              <a:off x="2998800" y="3192120"/>
              <a:ext cx="15840" cy="1334160"/>
            </a:xfrm>
            <a:prstGeom prst="rect">
              <a:avLst/>
            </a:prstGeom>
            <a:solidFill>
              <a:srgbClr val="e8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29"/>
            <p:cNvSpPr/>
            <p:nvPr/>
          </p:nvSpPr>
          <p:spPr>
            <a:xfrm>
              <a:off x="2917440" y="3257280"/>
              <a:ext cx="159840" cy="159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1712160" y="2004480"/>
              <a:ext cx="2588400" cy="1077120"/>
            </a:xfrm>
            <a:custGeom>
              <a:avLst/>
              <a:gdLst>
                <a:gd name="textAreaLeft" fmla="*/ 0 w 2588400"/>
                <a:gd name="textAreaRight" fmla="*/ 2588760 w 2588400"/>
                <a:gd name="textAreaTop" fmla="*/ 0 h 1077120"/>
                <a:gd name="textAreaBottom" fmla="*/ 1077480 h 1077120"/>
              </a:gdLst>
              <a:ahLst/>
              <a:rect l="textAreaLeft" t="textAreaTop" r="textAreaRight" b="textAreaBottom"/>
              <a:pathLst>
                <a:path w="161" h="67">
                  <a:moveTo>
                    <a:pt x="21" y="49"/>
                  </a:moveTo>
                  <a:cubicBezTo>
                    <a:pt x="10" y="43"/>
                    <a:pt x="10" y="43"/>
                    <a:pt x="10" y="43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1" y="49"/>
                    <a:pt x="21" y="49"/>
                    <a:pt x="21" y="49"/>
                  </a:cubicBezTo>
                  <a:close/>
                  <a:moveTo>
                    <a:pt x="46" y="24"/>
                  </a:moveTo>
                  <a:cubicBezTo>
                    <a:pt x="40" y="13"/>
                    <a:pt x="40" y="13"/>
                    <a:pt x="40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7" y="23"/>
                    <a:pt x="47" y="23"/>
                    <a:pt x="47" y="23"/>
                  </a:cubicBezTo>
                  <a:cubicBezTo>
                    <a:pt x="46" y="24"/>
                    <a:pt x="46" y="24"/>
                    <a:pt x="46" y="24"/>
                  </a:cubicBezTo>
                  <a:close/>
                  <a:moveTo>
                    <a:pt x="115" y="24"/>
                  </a:moveTo>
                  <a:cubicBezTo>
                    <a:pt x="114" y="23"/>
                    <a:pt x="114" y="23"/>
                    <a:pt x="114" y="23"/>
                  </a:cubicBezTo>
                  <a:cubicBezTo>
                    <a:pt x="120" y="13"/>
                    <a:pt x="120" y="13"/>
                    <a:pt x="120" y="13"/>
                  </a:cubicBezTo>
                  <a:cubicBezTo>
                    <a:pt x="121" y="13"/>
                    <a:pt x="121" y="13"/>
                    <a:pt x="121" y="13"/>
                  </a:cubicBezTo>
                  <a:cubicBezTo>
                    <a:pt x="115" y="24"/>
                    <a:pt x="115" y="24"/>
                    <a:pt x="115" y="24"/>
                  </a:cubicBezTo>
                  <a:close/>
                  <a:moveTo>
                    <a:pt x="80" y="26"/>
                  </a:moveTo>
                  <a:cubicBezTo>
                    <a:pt x="80" y="2"/>
                    <a:pt x="80" y="2"/>
                    <a:pt x="80" y="2"/>
                  </a:cubicBezTo>
                  <a:cubicBezTo>
                    <a:pt x="81" y="2"/>
                    <a:pt x="81" y="2"/>
                    <a:pt x="81" y="2"/>
                  </a:cubicBezTo>
                  <a:cubicBezTo>
                    <a:pt x="81" y="26"/>
                    <a:pt x="81" y="26"/>
                    <a:pt x="81" y="26"/>
                  </a:cubicBezTo>
                  <a:cubicBezTo>
                    <a:pt x="80" y="26"/>
                    <a:pt x="80" y="26"/>
                    <a:pt x="80" y="26"/>
                  </a:cubicBezTo>
                  <a:close/>
                  <a:moveTo>
                    <a:pt x="81" y="0"/>
                  </a:moveTo>
                  <a:cubicBezTo>
                    <a:pt x="41" y="0"/>
                    <a:pt x="7" y="29"/>
                    <a:pt x="0" y="66"/>
                  </a:cubicBezTo>
                  <a:cubicBezTo>
                    <a:pt x="16" y="56"/>
                    <a:pt x="46" y="50"/>
                    <a:pt x="80" y="50"/>
                  </a:cubicBezTo>
                  <a:cubicBezTo>
                    <a:pt x="98" y="50"/>
                    <a:pt x="114" y="51"/>
                    <a:pt x="128" y="54"/>
                  </a:cubicBezTo>
                  <a:cubicBezTo>
                    <a:pt x="145" y="44"/>
                    <a:pt x="145" y="44"/>
                    <a:pt x="145" y="44"/>
                  </a:cubicBezTo>
                  <a:cubicBezTo>
                    <a:pt x="145" y="45"/>
                    <a:pt x="145" y="45"/>
                    <a:pt x="145" y="45"/>
                  </a:cubicBezTo>
                  <a:cubicBezTo>
                    <a:pt x="150" y="42"/>
                    <a:pt x="150" y="42"/>
                    <a:pt x="150" y="42"/>
                  </a:cubicBezTo>
                  <a:cubicBezTo>
                    <a:pt x="150" y="43"/>
                    <a:pt x="150" y="43"/>
                    <a:pt x="150" y="43"/>
                  </a:cubicBezTo>
                  <a:cubicBezTo>
                    <a:pt x="146" y="46"/>
                    <a:pt x="146" y="46"/>
                    <a:pt x="146" y="46"/>
                  </a:cubicBezTo>
                  <a:cubicBezTo>
                    <a:pt x="146" y="46"/>
                    <a:pt x="146" y="46"/>
                    <a:pt x="146" y="46"/>
                  </a:cubicBezTo>
                  <a:cubicBezTo>
                    <a:pt x="131" y="55"/>
                    <a:pt x="131" y="55"/>
                    <a:pt x="131" y="55"/>
                  </a:cubicBezTo>
                  <a:cubicBezTo>
                    <a:pt x="131" y="55"/>
                    <a:pt x="131" y="55"/>
                    <a:pt x="131" y="55"/>
                  </a:cubicBezTo>
                  <a:cubicBezTo>
                    <a:pt x="146" y="47"/>
                    <a:pt x="146" y="47"/>
                    <a:pt x="146" y="47"/>
                  </a:cubicBezTo>
                  <a:cubicBezTo>
                    <a:pt x="147" y="49"/>
                    <a:pt x="147" y="49"/>
                    <a:pt x="147" y="49"/>
                  </a:cubicBezTo>
                  <a:cubicBezTo>
                    <a:pt x="135" y="56"/>
                    <a:pt x="135" y="56"/>
                    <a:pt x="135" y="56"/>
                  </a:cubicBezTo>
                  <a:cubicBezTo>
                    <a:pt x="146" y="59"/>
                    <a:pt x="155" y="62"/>
                    <a:pt x="161" y="67"/>
                  </a:cubicBezTo>
                  <a:cubicBezTo>
                    <a:pt x="154" y="29"/>
                    <a:pt x="120" y="0"/>
                    <a:pt x="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7e7"/>
                </a:gs>
                <a:gs pos="50000">
                  <a:srgbClr val="ffffff"/>
                </a:gs>
                <a:gs pos="100000">
                  <a:srgbClr val="e5e7e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2998800" y="2037960"/>
              <a:ext cx="15840" cy="38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7" h="171">
                  <a:moveTo>
                    <a:pt x="7" y="0"/>
                  </a:moveTo>
                  <a:lnTo>
                    <a:pt x="0" y="0"/>
                  </a:lnTo>
                  <a:lnTo>
                    <a:pt x="0" y="171"/>
                  </a:lnTo>
                  <a:lnTo>
                    <a:pt x="7" y="17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2354040" y="2214000"/>
              <a:ext cx="112680" cy="175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50" h="78">
                  <a:moveTo>
                    <a:pt x="7" y="0"/>
                  </a:moveTo>
                  <a:lnTo>
                    <a:pt x="0" y="0"/>
                  </a:lnTo>
                  <a:lnTo>
                    <a:pt x="43" y="78"/>
                  </a:lnTo>
                  <a:lnTo>
                    <a:pt x="50" y="7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1872000" y="2680560"/>
              <a:ext cx="193320" cy="1101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6" h="49">
                  <a:moveTo>
                    <a:pt x="7" y="0"/>
                  </a:moveTo>
                  <a:lnTo>
                    <a:pt x="0" y="7"/>
                  </a:lnTo>
                  <a:lnTo>
                    <a:pt x="79" y="49"/>
                  </a:lnTo>
                  <a:lnTo>
                    <a:pt x="86" y="4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044240" y="2680560"/>
              <a:ext cx="78480" cy="6264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35" h="28">
                  <a:moveTo>
                    <a:pt x="35" y="0"/>
                  </a:moveTo>
                  <a:lnTo>
                    <a:pt x="0" y="21"/>
                  </a:lnTo>
                  <a:lnTo>
                    <a:pt x="7" y="28"/>
                  </a:lnTo>
                  <a:lnTo>
                    <a:pt x="35" y="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3544200" y="2214000"/>
              <a:ext cx="112320" cy="1756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50" h="78">
                  <a:moveTo>
                    <a:pt x="43" y="0"/>
                  </a:moveTo>
                  <a:lnTo>
                    <a:pt x="0" y="71"/>
                  </a:lnTo>
                  <a:lnTo>
                    <a:pt x="7" y="78"/>
                  </a:lnTo>
                  <a:lnTo>
                    <a:pt x="5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3818880" y="2759040"/>
              <a:ext cx="256320" cy="14436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" h="9">
                  <a:moveTo>
                    <a:pt x="15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3" y="9"/>
                    <a:pt x="4" y="9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0"/>
                    <a:pt x="15" y="0"/>
                    <a:pt x="1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5ae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3769200" y="2712240"/>
              <a:ext cx="290520" cy="17568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18" h="11">
                  <a:moveTo>
                    <a:pt x="17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1"/>
                    <a:pt x="2" y="11"/>
                    <a:pt x="3" y="11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38"/>
          <p:cNvGrpSpPr/>
          <p:nvPr/>
        </p:nvGrpSpPr>
        <p:grpSpPr>
          <a:xfrm>
            <a:off x="5075280" y="1484280"/>
            <a:ext cx="2995560" cy="361800"/>
            <a:chOff x="5075280" y="1484280"/>
            <a:chExt cx="2995560" cy="361800"/>
          </a:xfrm>
        </p:grpSpPr>
        <p:sp>
          <p:nvSpPr>
            <p:cNvPr id="373" name="AutoShape 39"/>
            <p:cNvSpPr/>
            <p:nvPr/>
          </p:nvSpPr>
          <p:spPr>
            <a:xfrm>
              <a:off x="5075280" y="1484280"/>
              <a:ext cx="2987640" cy="361800"/>
            </a:xfrm>
            <a:prstGeom prst="roundRect">
              <a:avLst>
                <a:gd name="adj" fmla="val 13125"/>
              </a:avLst>
            </a:prstGeom>
            <a:solidFill>
              <a:srgbClr val="4f7913"/>
            </a:solidFill>
            <a:ln w="3240">
              <a:solidFill>
                <a:srgbClr val="c0c0c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40"/>
            <p:cNvSpPr/>
            <p:nvPr/>
          </p:nvSpPr>
          <p:spPr>
            <a:xfrm rot="10800000">
              <a:off x="5092560" y="1498680"/>
              <a:ext cx="2950920" cy="201600"/>
            </a:xfrm>
            <a:prstGeom prst="roundRect">
              <a:avLst>
                <a:gd name="adj" fmla="val 10236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39215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41"/>
            <p:cNvSpPr/>
            <p:nvPr/>
          </p:nvSpPr>
          <p:spPr>
            <a:xfrm>
              <a:off x="5075280" y="1484280"/>
              <a:ext cx="299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Time = Money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AutoShape 42"/>
          <p:cNvSpPr/>
          <p:nvPr/>
        </p:nvSpPr>
        <p:spPr>
          <a:xfrm>
            <a:off x="5075280" y="1916280"/>
            <a:ext cx="3003480" cy="3125520"/>
          </a:xfrm>
          <a:custGeom>
            <a:avLst/>
            <a:gdLst>
              <a:gd name="textAreaLeft" fmla="*/ 23040 w 3003480"/>
              <a:gd name="textAreaRight" fmla="*/ 2980440 w 3003480"/>
              <a:gd name="textAreaTop" fmla="*/ 23040 h 3125520"/>
              <a:gd name="textAreaBottom" fmla="*/ 3102480 h 3125520"/>
            </a:gdLst>
            <a:ahLst/>
            <a:rect l="textAreaLeft" t="textAreaTop" r="textAreaRight" b="textAreaBottom"/>
            <a:pathLst>
              <a:path w="21600" h="22478">
                <a:moveTo>
                  <a:pt x="571" y="0"/>
                </a:moveTo>
                <a:arcTo wR="571" hR="571" stAng="16200000" swAng="-5400000"/>
                <a:lnTo>
                  <a:pt x="0" y="21907"/>
                </a:lnTo>
                <a:arcTo wR="571" hR="571" stAng="10800000" swAng="-5400000"/>
                <a:lnTo>
                  <a:pt x="21029" y="22478"/>
                </a:lnTo>
                <a:arcTo wR="571" hR="571" stAng="5400000" swAng="-5400000"/>
                <a:lnTo>
                  <a:pt x="21600" y="571"/>
                </a:lnTo>
                <a:arcTo wR="571" hR="571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时间紧迫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要抢在竞争对手前面抢占互联网这个大市场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要让客户第一时间了解我们的最新产品和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要第一时间建立自己的网络宣传平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越早建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你的对手就越难超越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75A864F6-28F2-459A-952F-7275110C1777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企业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无形资产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 rot="5400000">
            <a:off x="442800" y="2412720"/>
            <a:ext cx="2912760" cy="2144880"/>
          </a:xfrm>
          <a:custGeom>
            <a:avLst/>
            <a:gdLst>
              <a:gd name="textAreaLeft" fmla="*/ 389520 w 2912760"/>
              <a:gd name="textAreaRight" fmla="*/ 2523240 w 2912760"/>
              <a:gd name="textAreaTop" fmla="*/ 286920 h 2144880"/>
              <a:gd name="textAreaBottom" fmla="*/ 1857960 h 214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 rot="16200000">
            <a:off x="1662120" y="3358800"/>
            <a:ext cx="2901960" cy="279720"/>
          </a:xfrm>
          <a:custGeom>
            <a:avLst/>
            <a:gdLst>
              <a:gd name="textAreaLeft" fmla="*/ 357840 w 2901960"/>
              <a:gd name="textAreaRight" fmla="*/ 2544120 w 2901960"/>
              <a:gd name="textAreaTop" fmla="*/ 34200 h 279720"/>
              <a:gd name="textAreaBottom" fmla="*/ 245520 h 27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 rot="5400000">
            <a:off x="3071880" y="2412720"/>
            <a:ext cx="2912760" cy="2144880"/>
          </a:xfrm>
          <a:custGeom>
            <a:avLst/>
            <a:gdLst>
              <a:gd name="textAreaLeft" fmla="*/ 389520 w 2912760"/>
              <a:gd name="textAreaRight" fmla="*/ 2523240 w 2912760"/>
              <a:gd name="textAreaTop" fmla="*/ 286920 h 2144880"/>
              <a:gd name="textAreaBottom" fmla="*/ 1857960 h 214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8989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 rot="16200000">
            <a:off x="4276440" y="3334680"/>
            <a:ext cx="2901960" cy="279360"/>
          </a:xfrm>
          <a:custGeom>
            <a:avLst/>
            <a:gdLst>
              <a:gd name="textAreaLeft" fmla="*/ 357840 w 2901960"/>
              <a:gd name="textAreaRight" fmla="*/ 2544120 w 2901960"/>
              <a:gd name="textAreaTop" fmla="*/ 34200 h 279360"/>
              <a:gd name="textAreaBottom" fmla="*/ 245160 h 27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25098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 rot="5400000">
            <a:off x="5721840" y="2413800"/>
            <a:ext cx="2912760" cy="2143080"/>
          </a:xfrm>
          <a:custGeom>
            <a:avLst/>
            <a:gdLst>
              <a:gd name="textAreaLeft" fmla="*/ 389520 w 2912760"/>
              <a:gd name="textAreaRight" fmla="*/ 2523240 w 2912760"/>
              <a:gd name="textAreaTop" fmla="*/ 286560 h 2143080"/>
              <a:gd name="textAreaBottom" fmla="*/ 185652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103151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 rot="16200000">
            <a:off x="6941880" y="3334680"/>
            <a:ext cx="2901960" cy="279360"/>
          </a:xfrm>
          <a:custGeom>
            <a:avLst/>
            <a:gdLst>
              <a:gd name="textAreaLeft" fmla="*/ 357840 w 2901960"/>
              <a:gd name="textAreaRight" fmla="*/ 2544120 w 2901960"/>
              <a:gd name="textAreaTop" fmla="*/ 34200 h 279360"/>
              <a:gd name="textAreaBottom" fmla="*/ 245160 h 27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25098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 rot="21300000">
            <a:off x="1187280" y="2628720"/>
            <a:ext cx="1400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形 象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imag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 rot="21420000">
            <a:off x="3549240" y="2565000"/>
            <a:ext cx="1806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  <a:ea typeface="黑体"/>
              </a:rPr>
              <a:t>客 户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  <a:ea typeface="黑体"/>
              </a:rPr>
              <a:t>custome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 rot="21540000">
            <a:off x="6600600" y="2491920"/>
            <a:ext cx="111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品 牌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bran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4573440" y="3624120"/>
            <a:ext cx="10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7145280" y="3624120"/>
            <a:ext cx="10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1933560" y="3624120"/>
            <a:ext cx="10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8F11C116-13D1-4435-828A-DFF1B39CD344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选择我们服务有什么优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2719440" y="1773360"/>
            <a:ext cx="3887640" cy="3859200"/>
            <a:chOff x="2719440" y="1773360"/>
            <a:chExt cx="3887640" cy="3859200"/>
          </a:xfrm>
        </p:grpSpPr>
        <p:sp>
          <p:nvSpPr>
            <p:cNvPr id="380" name="未知"/>
            <p:cNvSpPr/>
            <p:nvPr/>
          </p:nvSpPr>
          <p:spPr>
            <a:xfrm>
              <a:off x="3440160" y="1773360"/>
              <a:ext cx="2414520" cy="1692360"/>
            </a:xfrm>
            <a:custGeom>
              <a:avLst/>
              <a:gdLst/>
              <a:ahLst/>
              <a:rect l="l" t="t" r="r" b="b"/>
              <a:pathLst>
                <a:path w="1339" h="937">
                  <a:moveTo>
                    <a:pt x="679" y="937"/>
                  </a:moveTo>
                  <a:cubicBezTo>
                    <a:pt x="792" y="850"/>
                    <a:pt x="933" y="798"/>
                    <a:pt x="1087" y="798"/>
                  </a:cubicBezTo>
                  <a:cubicBezTo>
                    <a:pt x="1168" y="798"/>
                    <a:pt x="1245" y="812"/>
                    <a:pt x="1317" y="839"/>
                  </a:cubicBezTo>
                  <a:cubicBezTo>
                    <a:pt x="1331" y="785"/>
                    <a:pt x="1339" y="728"/>
                    <a:pt x="1339" y="669"/>
                  </a:cubicBezTo>
                  <a:cubicBezTo>
                    <a:pt x="1339" y="300"/>
                    <a:pt x="1039" y="0"/>
                    <a:pt x="669" y="0"/>
                  </a:cubicBezTo>
                  <a:cubicBezTo>
                    <a:pt x="299" y="0"/>
                    <a:pt x="0" y="300"/>
                    <a:pt x="0" y="669"/>
                  </a:cubicBezTo>
                  <a:cubicBezTo>
                    <a:pt x="0" y="730"/>
                    <a:pt x="8" y="789"/>
                    <a:pt x="23" y="845"/>
                  </a:cubicBezTo>
                  <a:cubicBezTo>
                    <a:pt x="100" y="815"/>
                    <a:pt x="183" y="798"/>
                    <a:pt x="271" y="798"/>
                  </a:cubicBezTo>
                  <a:cubicBezTo>
                    <a:pt x="424" y="798"/>
                    <a:pt x="566" y="850"/>
                    <a:pt x="679" y="937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73737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2719440" y="3299040"/>
              <a:ext cx="1944720" cy="233352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2333520"/>
                <a:gd name="textAreaBottom" fmla="*/ 2333880 h 2333520"/>
              </a:gdLst>
              <a:ahLst/>
              <a:rect l="textAreaLeft" t="textAreaTop" r="textAreaRight" b="textAreaBottom"/>
              <a:pathLst>
                <a:path w="1078" h="1292">
                  <a:moveTo>
                    <a:pt x="816" y="623"/>
                  </a:moveTo>
                  <a:cubicBezTo>
                    <a:pt x="816" y="564"/>
                    <a:pt x="823" y="507"/>
                    <a:pt x="838" y="453"/>
                  </a:cubicBezTo>
                  <a:cubicBezTo>
                    <a:pt x="635" y="379"/>
                    <a:pt x="479" y="210"/>
                    <a:pt x="422" y="0"/>
                  </a:cubicBezTo>
                  <a:cubicBezTo>
                    <a:pt x="175" y="99"/>
                    <a:pt x="0" y="340"/>
                    <a:pt x="0" y="623"/>
                  </a:cubicBezTo>
                  <a:cubicBezTo>
                    <a:pt x="0" y="992"/>
                    <a:pt x="300" y="1292"/>
                    <a:pt x="670" y="1292"/>
                  </a:cubicBezTo>
                  <a:cubicBezTo>
                    <a:pt x="823" y="1292"/>
                    <a:pt x="965" y="1241"/>
                    <a:pt x="1078" y="1154"/>
                  </a:cubicBezTo>
                  <a:cubicBezTo>
                    <a:pt x="919" y="1031"/>
                    <a:pt x="816" y="839"/>
                    <a:pt x="816" y="62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664160" y="3289320"/>
              <a:ext cx="1942920" cy="2343240"/>
            </a:xfrm>
            <a:custGeom>
              <a:avLst/>
              <a:gdLst/>
              <a:ahLst/>
              <a:rect l="l" t="t" r="r" b="b"/>
              <a:pathLst>
                <a:path w="1077" h="1298">
                  <a:moveTo>
                    <a:pt x="638" y="0"/>
                  </a:moveTo>
                  <a:cubicBezTo>
                    <a:pt x="584" y="207"/>
                    <a:pt x="434" y="375"/>
                    <a:pt x="238" y="453"/>
                  </a:cubicBezTo>
                  <a:cubicBezTo>
                    <a:pt x="253" y="509"/>
                    <a:pt x="261" y="568"/>
                    <a:pt x="261" y="629"/>
                  </a:cubicBezTo>
                  <a:cubicBezTo>
                    <a:pt x="261" y="845"/>
                    <a:pt x="159" y="1037"/>
                    <a:pt x="0" y="1160"/>
                  </a:cubicBezTo>
                  <a:cubicBezTo>
                    <a:pt x="113" y="1247"/>
                    <a:pt x="254" y="1298"/>
                    <a:pt x="408" y="1298"/>
                  </a:cubicBezTo>
                  <a:cubicBezTo>
                    <a:pt x="777" y="1298"/>
                    <a:pt x="1077" y="998"/>
                    <a:pt x="1077" y="629"/>
                  </a:cubicBezTo>
                  <a:cubicBezTo>
                    <a:pt x="1077" y="340"/>
                    <a:pt x="894" y="94"/>
                    <a:pt x="6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fc01e"/>
                </a:gs>
                <a:gs pos="100000">
                  <a:srgbClr val="26420a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4373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191120" y="4106880"/>
              <a:ext cx="944640" cy="12765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1276560"/>
                <a:gd name="textAreaBottom" fmla="*/ 1276920 h 1276560"/>
              </a:gdLst>
              <a:ahLst/>
              <a:rect l="textAreaLeft" t="textAreaTop" r="textAreaRight" b="textAreaBottom"/>
              <a:pathLst>
                <a:path w="523" h="707">
                  <a:moveTo>
                    <a:pt x="523" y="176"/>
                  </a:moveTo>
                  <a:cubicBezTo>
                    <a:pt x="523" y="115"/>
                    <a:pt x="515" y="56"/>
                    <a:pt x="500" y="0"/>
                  </a:cubicBezTo>
                  <a:cubicBezTo>
                    <a:pt x="423" y="30"/>
                    <a:pt x="340" y="47"/>
                    <a:pt x="252" y="47"/>
                  </a:cubicBezTo>
                  <a:cubicBezTo>
                    <a:pt x="171" y="47"/>
                    <a:pt x="93" y="33"/>
                    <a:pt x="22" y="6"/>
                  </a:cubicBezTo>
                  <a:cubicBezTo>
                    <a:pt x="7" y="60"/>
                    <a:pt x="0" y="117"/>
                    <a:pt x="0" y="176"/>
                  </a:cubicBezTo>
                  <a:cubicBezTo>
                    <a:pt x="0" y="392"/>
                    <a:pt x="103" y="584"/>
                    <a:pt x="262" y="707"/>
                  </a:cubicBezTo>
                  <a:cubicBezTo>
                    <a:pt x="421" y="584"/>
                    <a:pt x="523" y="392"/>
                    <a:pt x="523" y="176"/>
                  </a:cubicBezTo>
                  <a:close/>
                </a:path>
              </a:pathLst>
            </a:custGeom>
            <a:gradFill rotWithShape="0">
              <a:gsLst>
                <a:gs pos="0">
                  <a:srgbClr val="7bd520"/>
                </a:gs>
                <a:gs pos="100000">
                  <a:srgbClr val="4f7913">
                    <a:alpha val="60000"/>
                  </a:srgbClr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3481560" y="3213360"/>
              <a:ext cx="1182600" cy="903240"/>
            </a:xfrm>
            <a:custGeom>
              <a:avLst/>
              <a:gdLst>
                <a:gd name="textAreaLeft" fmla="*/ 0 w 1182600"/>
                <a:gd name="textAreaRight" fmla="*/ 1182960 w 1182600"/>
                <a:gd name="textAreaTop" fmla="*/ 0 h 903240"/>
                <a:gd name="textAreaBottom" fmla="*/ 903600 h 903240"/>
              </a:gdLst>
              <a:ahLst/>
              <a:rect l="textAreaLeft" t="textAreaTop" r="textAreaRight" b="textAreaBottom"/>
              <a:pathLst>
                <a:path w="656" h="500">
                  <a:moveTo>
                    <a:pt x="416" y="500"/>
                  </a:moveTo>
                  <a:cubicBezTo>
                    <a:pt x="454" y="354"/>
                    <a:pt x="540" y="228"/>
                    <a:pt x="656" y="139"/>
                  </a:cubicBezTo>
                  <a:cubicBezTo>
                    <a:pt x="543" y="52"/>
                    <a:pt x="401" y="0"/>
                    <a:pt x="248" y="0"/>
                  </a:cubicBezTo>
                  <a:cubicBezTo>
                    <a:pt x="160" y="0"/>
                    <a:pt x="77" y="17"/>
                    <a:pt x="0" y="47"/>
                  </a:cubicBezTo>
                  <a:cubicBezTo>
                    <a:pt x="57" y="257"/>
                    <a:pt x="213" y="426"/>
                    <a:pt x="416" y="5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664160" y="3213360"/>
              <a:ext cx="1150920" cy="893520"/>
            </a:xfrm>
            <a:custGeom>
              <a:avLst/>
              <a:gdLst>
                <a:gd name="textAreaLeft" fmla="*/ 0 w 1150920"/>
                <a:gd name="textAreaRight" fmla="*/ 1150920 w 115092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638" h="494">
                  <a:moveTo>
                    <a:pt x="0" y="139"/>
                  </a:moveTo>
                  <a:cubicBezTo>
                    <a:pt x="114" y="227"/>
                    <a:pt x="199" y="351"/>
                    <a:pt x="238" y="494"/>
                  </a:cubicBezTo>
                  <a:cubicBezTo>
                    <a:pt x="434" y="416"/>
                    <a:pt x="584" y="248"/>
                    <a:pt x="638" y="41"/>
                  </a:cubicBezTo>
                  <a:cubicBezTo>
                    <a:pt x="566" y="14"/>
                    <a:pt x="489" y="0"/>
                    <a:pt x="408" y="0"/>
                  </a:cubicBezTo>
                  <a:cubicBezTo>
                    <a:pt x="254" y="0"/>
                    <a:pt x="113" y="52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7bd520"/>
                </a:gs>
                <a:gs pos="100000">
                  <a:srgbClr val="4f7913">
                    <a:alpha val="60000"/>
                  </a:srgbClr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Line 10"/>
          <p:cNvSpPr/>
          <p:nvPr/>
        </p:nvSpPr>
        <p:spPr>
          <a:xfrm flipH="1">
            <a:off x="6032160" y="2390760"/>
            <a:ext cx="2693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1"/>
          <p:cNvSpPr/>
          <p:nvPr/>
        </p:nvSpPr>
        <p:spPr>
          <a:xfrm flipH="1">
            <a:off x="558720" y="3255840"/>
            <a:ext cx="2694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827640" y="285444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我们的优势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E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3"/>
          <p:cNvSpPr/>
          <p:nvPr/>
        </p:nvSpPr>
        <p:spPr>
          <a:xfrm>
            <a:off x="1155960" y="3357720"/>
            <a:ext cx="14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网站排名找我们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没错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4"/>
          <p:cNvSpPr/>
          <p:nvPr/>
        </p:nvSpPr>
        <p:spPr>
          <a:xfrm>
            <a:off x="6786000" y="203184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我们制作的网站是最具竞争力的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5"/>
          <p:cNvSpPr/>
          <p:nvPr/>
        </p:nvSpPr>
        <p:spPr>
          <a:xfrm>
            <a:off x="7341480" y="24940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品牌形象全方位展示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6"/>
          <p:cNvSpPr/>
          <p:nvPr/>
        </p:nvSpPr>
        <p:spPr>
          <a:xfrm>
            <a:off x="7052760" y="3832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7913"/>
                </a:solidFill>
                <a:latin typeface="Arial"/>
              </a:rPr>
              <a:t>我们不仅给您做网站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7341480" y="42210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7913"/>
                </a:solidFill>
                <a:latin typeface="Arial"/>
              </a:rPr>
              <a:t>我们主要帮您卖产品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8"/>
          <p:cNvSpPr/>
          <p:nvPr/>
        </p:nvSpPr>
        <p:spPr>
          <a:xfrm flipH="1">
            <a:off x="6001920" y="4208400"/>
            <a:ext cx="2693880" cy="0"/>
          </a:xfrm>
          <a:prstGeom prst="line">
            <a:avLst/>
          </a:prstGeom>
          <a:ln w="9360">
            <a:solidFill>
              <a:srgbClr val="2642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未知"/>
          <p:cNvSpPr/>
          <p:nvPr/>
        </p:nvSpPr>
        <p:spPr>
          <a:xfrm>
            <a:off x="4232160" y="3465360"/>
            <a:ext cx="860400" cy="727200"/>
          </a:xfrm>
          <a:custGeom>
            <a:avLst/>
            <a:gdLst>
              <a:gd name="textAreaLeft" fmla="*/ 0 w 860400"/>
              <a:gd name="textAreaRight" fmla="*/ 860760 w 86040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478" h="402">
                <a:moveTo>
                  <a:pt x="240" y="0"/>
                </a:moveTo>
                <a:cubicBezTo>
                  <a:pt x="124" y="89"/>
                  <a:pt x="38" y="215"/>
                  <a:pt x="0" y="361"/>
                </a:cubicBezTo>
                <a:cubicBezTo>
                  <a:pt x="71" y="388"/>
                  <a:pt x="149" y="402"/>
                  <a:pt x="230" y="402"/>
                </a:cubicBezTo>
                <a:cubicBezTo>
                  <a:pt x="318" y="402"/>
                  <a:pt x="401" y="385"/>
                  <a:pt x="478" y="355"/>
                </a:cubicBezTo>
                <a:cubicBezTo>
                  <a:pt x="439" y="212"/>
                  <a:pt x="354" y="88"/>
                  <a:pt x="240" y="0"/>
                </a:cubicBezTo>
                <a:close/>
              </a:path>
            </a:pathLst>
          </a:custGeom>
          <a:solidFill>
            <a:srgbClr val="7bd52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0"/>
          <p:cNvSpPr/>
          <p:nvPr/>
        </p:nvSpPr>
        <p:spPr>
          <a:xfrm>
            <a:off x="4239720" y="2463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网站平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1"/>
          <p:cNvSpPr/>
          <p:nvPr/>
        </p:nvSpPr>
        <p:spPr>
          <a:xfrm>
            <a:off x="3276000" y="4335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排名优化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2"/>
          <p:cNvSpPr/>
          <p:nvPr/>
        </p:nvSpPr>
        <p:spPr>
          <a:xfrm>
            <a:off x="5436720" y="4335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网络营销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3"/>
          <p:cNvSpPr/>
          <p:nvPr/>
        </p:nvSpPr>
        <p:spPr>
          <a:xfrm>
            <a:off x="4285080" y="27813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4"/>
          <p:cNvSpPr/>
          <p:nvPr/>
        </p:nvSpPr>
        <p:spPr>
          <a:xfrm>
            <a:off x="3288240" y="47149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SE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5"/>
          <p:cNvSpPr/>
          <p:nvPr/>
        </p:nvSpPr>
        <p:spPr>
          <a:xfrm>
            <a:off x="5455440" y="47736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SE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bg3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3"/>
          <p:cNvSpPr/>
          <p:nvPr/>
        </p:nvSpPr>
        <p:spPr>
          <a:xfrm>
            <a:off x="3564000" y="2852640"/>
            <a:ext cx="388944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26420a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26420a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2A4F43C2-FC35-4563-A7EE-8C724F75FD25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依存关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 rot="7200000">
            <a:off x="2756520" y="1986480"/>
            <a:ext cx="3708360" cy="3208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fc01e"/>
              </a:gs>
              <a:gs pos="100000">
                <a:srgbClr val="33580e"/>
              </a:gs>
            </a:gsLst>
            <a:lin ang="14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 flipH="1" flipV="1" rot="7200000">
            <a:off x="1084320" y="2363400"/>
            <a:ext cx="3745080" cy="54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fc01e">
                  <a:alpha val="40000"/>
                </a:srgbClr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5"/>
          <p:cNvSpPr txBox="1"/>
          <p:nvPr/>
        </p:nvSpPr>
        <p:spPr>
          <a:xfrm rot="18000000">
            <a:off x="3059640" y="2807640"/>
            <a:ext cx="8892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9000000"/>
                </a:gradFill>
                <a:latin typeface="黑体"/>
              </a:rPr>
              <a:t>形 象</a:t>
            </a:r>
            <a:endParaRPr b="0" i="1" lang="en-US" sz="2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9000000"/>
              </a:gradFill>
              <a:latin typeface="黑体"/>
              <a:ea typeface="黑体"/>
            </a:endParaRPr>
          </a:p>
        </p:txBody>
      </p:sp>
      <p:sp>
        <p:nvSpPr>
          <p:cNvPr id="151" name="AutoShape 6"/>
          <p:cNvSpPr/>
          <p:nvPr/>
        </p:nvSpPr>
        <p:spPr>
          <a:xfrm rot="14400000">
            <a:off x="2683440" y="1986120"/>
            <a:ext cx="3708360" cy="3208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00000"/>
              </a:gs>
              <a:gs pos="100000">
                <a:srgbClr val="ff9900"/>
              </a:gs>
            </a:gsLst>
            <a:lin ang="45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2717640" y="1916280"/>
            <a:ext cx="3708720" cy="3208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3146400" y="1933560"/>
            <a:ext cx="2851200" cy="2467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 flipV="1">
            <a:off x="2717640" y="5120640"/>
            <a:ext cx="3708720" cy="75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66ff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325440" y="2062080"/>
            <a:ext cx="26622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33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良好的形象能让客户认可我们的企业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良好的形象能提高企业在同行业中的竞争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良好的企业形象会为我们赢得更多的客户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 flipV="1" rot="14400000">
            <a:off x="4316040" y="2361960"/>
            <a:ext cx="3745080" cy="547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9900">
                  <a:alpha val="40000"/>
                </a:srgbClr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12"/>
          <p:cNvSpPr txBox="1"/>
          <p:nvPr/>
        </p:nvSpPr>
        <p:spPr>
          <a:xfrm rot="3600000">
            <a:off x="5050800" y="2662920"/>
            <a:ext cx="88884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800000"/>
                </a:gradFill>
                <a:latin typeface="黑体"/>
              </a:rPr>
              <a:t>品 牌</a:t>
            </a:r>
            <a:endParaRPr b="0" i="1" lang="en-US" sz="2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800000"/>
              </a:gradFill>
              <a:latin typeface="黑体"/>
              <a:ea typeface="黑体"/>
            </a:endParaRPr>
          </a:p>
        </p:txBody>
      </p:sp>
      <p:sp>
        <p:nvSpPr>
          <p:cNvPr id="158" name="WordArt 13"/>
          <p:cNvSpPr txBox="1"/>
          <p:nvPr/>
        </p:nvSpPr>
        <p:spPr>
          <a:xfrm>
            <a:off x="3995640" y="4581360"/>
            <a:ext cx="12445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客   户</a:t>
            </a:r>
            <a:endParaRPr b="0" i="1" lang="en-US" sz="2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6229440" y="2060640"/>
            <a:ext cx="280836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33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市场竞争力的提升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品牌效应容易赢得客户</a:t>
            </a:r>
            <a:r>
              <a:rPr b="0" lang="zh-CN" sz="1400" spc="-1" strike="noStrike" u="sng">
                <a:solidFill>
                  <a:srgbClr val="333333"/>
                </a:solidFill>
                <a:uFillTx/>
                <a:latin typeface="黑体"/>
                <a:ea typeface="黑体"/>
              </a:rPr>
              <a:t>信任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越是竞争激烈的市场里，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信任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”就越是“珍贵”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2970360" y="5229360"/>
            <a:ext cx="354636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客户名单，就是你的存款！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客户数据库，就是你的小金库！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客户对你的信赖，就是你永续的财富！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6"/>
          <p:cNvSpPr/>
          <p:nvPr/>
        </p:nvSpPr>
        <p:spPr>
          <a:xfrm flipH="1">
            <a:off x="3672000" y="2602080"/>
            <a:ext cx="768240" cy="133020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7"/>
          <p:cNvSpPr/>
          <p:nvPr/>
        </p:nvSpPr>
        <p:spPr>
          <a:xfrm>
            <a:off x="3830760" y="4149720"/>
            <a:ext cx="1600200" cy="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8"/>
          <p:cNvSpPr/>
          <p:nvPr/>
        </p:nvSpPr>
        <p:spPr>
          <a:xfrm>
            <a:off x="4730760" y="2602080"/>
            <a:ext cx="768240" cy="133020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4284720" y="3139920"/>
            <a:ext cx="7189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经典繁淡古"/>
              </a:rPr>
              <a:t>信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1F197E06-3413-45FF-B734-FDF8A8B1A89A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企业如何管理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无形资产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 rot="5400000">
            <a:off x="379440" y="2333520"/>
            <a:ext cx="2912760" cy="2303280"/>
          </a:xfrm>
          <a:custGeom>
            <a:avLst/>
            <a:gdLst>
              <a:gd name="textAreaLeft" fmla="*/ 389520 w 2912760"/>
              <a:gd name="textAreaRight" fmla="*/ 2523240 w 2912760"/>
              <a:gd name="textAreaTop" fmla="*/ 307800 h 2303280"/>
              <a:gd name="textAreaBottom" fmla="*/ 199548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fc01e"/>
              </a:gs>
              <a:gs pos="100000">
                <a:srgbClr val="4f79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 rot="16200000">
            <a:off x="1676160" y="3334680"/>
            <a:ext cx="2901960" cy="279360"/>
          </a:xfrm>
          <a:custGeom>
            <a:avLst/>
            <a:gdLst>
              <a:gd name="textAreaLeft" fmla="*/ 357840 w 2901960"/>
              <a:gd name="textAreaRight" fmla="*/ 2544120 w 2901960"/>
              <a:gd name="textAreaTop" fmla="*/ 34200 h 279360"/>
              <a:gd name="textAreaBottom" fmla="*/ 245160 h 27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fc01e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 rot="5400000">
            <a:off x="2990520" y="2280960"/>
            <a:ext cx="3024000" cy="2297160"/>
          </a:xfrm>
          <a:custGeom>
            <a:avLst/>
            <a:gdLst>
              <a:gd name="textAreaLeft" fmla="*/ 404280 w 3024000"/>
              <a:gd name="textAreaRight" fmla="*/ 2619720 w 3024000"/>
              <a:gd name="textAreaTop" fmla="*/ 307080 h 2297160"/>
              <a:gd name="textAreaBottom" fmla="*/ 1990080 h 22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 rot="16200000">
            <a:off x="4280760" y="3288600"/>
            <a:ext cx="3024000" cy="279360"/>
          </a:xfrm>
          <a:custGeom>
            <a:avLst/>
            <a:gdLst>
              <a:gd name="textAreaLeft" fmla="*/ 372960 w 3024000"/>
              <a:gd name="textAreaRight" fmla="*/ 2651040 w 3024000"/>
              <a:gd name="textAreaTop" fmla="*/ 34200 h 279360"/>
              <a:gd name="textAreaBottom" fmla="*/ 245160 h 27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9ff">
                  <a:alpha val="25098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 rot="5400000">
            <a:off x="5738040" y="2284920"/>
            <a:ext cx="3097080" cy="2216160"/>
          </a:xfrm>
          <a:custGeom>
            <a:avLst/>
            <a:gdLst>
              <a:gd name="textAreaLeft" fmla="*/ 414000 w 3097080"/>
              <a:gd name="textAreaRight" fmla="*/ 2683080 w 3097080"/>
              <a:gd name="textAreaTop" fmla="*/ 296280 h 2216160"/>
              <a:gd name="textAreaBottom" fmla="*/ 1919880 h 221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620000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 rot="16200000">
            <a:off x="6996960" y="3245040"/>
            <a:ext cx="3081240" cy="279720"/>
          </a:xfrm>
          <a:custGeom>
            <a:avLst/>
            <a:gdLst>
              <a:gd name="textAreaLeft" fmla="*/ 380160 w 3081240"/>
              <a:gd name="textAreaRight" fmla="*/ 2701080 w 3081240"/>
              <a:gd name="textAreaTop" fmla="*/ 34200 h 279720"/>
              <a:gd name="textAreaBottom" fmla="*/ 245520 h 27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0000">
                  <a:alpha val="25098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 rot="21480000">
            <a:off x="539640" y="2639880"/>
            <a:ext cx="2479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企业形象设计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 rot="21420000">
            <a:off x="3305160" y="2533680"/>
            <a:ext cx="2346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客户关系管理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 rot="21540000">
            <a:off x="6124680" y="2420640"/>
            <a:ext cx="2479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网络展示平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4645080" y="362412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7381800" y="3624120"/>
            <a:ext cx="10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2049480" y="3624120"/>
            <a:ext cx="10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539640" y="5273640"/>
            <a:ext cx="29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良好的企业形象会为我们赢得更多的客户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3624120" y="5222880"/>
            <a:ext cx="199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维持和管理好我们的客户就是保住了我们的小金库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6186600" y="5237280"/>
            <a:ext cx="199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全方位展示</a:t>
            </a:r>
            <a:r>
              <a:rPr b="0" i="1" lang="zh-CN" sz="1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0" i="1" lang="zh-CN" sz="1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品牌</a:t>
            </a:r>
            <a:r>
              <a:rPr b="0" i="1" lang="zh-CN" sz="1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0" i="1" lang="zh-CN" sz="1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和形象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3895560" y="3139920"/>
            <a:ext cx="1009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CRM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1260360" y="321300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VI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6732720" y="306864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79308363-E9B3-4BA0-9196-D90FF413FDF6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我能为您和您的企业做什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878040" y="2421000"/>
            <a:ext cx="7439040" cy="803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行业软件解决方案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7308720" y="2637000"/>
            <a:ext cx="595440" cy="517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870120" y="4425840"/>
            <a:ext cx="7438680" cy="803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企业级数据恢复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7346880" y="4518000"/>
            <a:ext cx="5954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870120" y="3421080"/>
            <a:ext cx="7438680" cy="8049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企业网站设计维护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7346880" y="3587760"/>
            <a:ext cx="595440" cy="5191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878040" y="1413000"/>
            <a:ext cx="7439040" cy="803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6fc01e"/>
              </a:gs>
              <a:gs pos="100000">
                <a:srgbClr val="4f7913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企业形象设计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7308720" y="1628640"/>
            <a:ext cx="5954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6fc01e"/>
              </a:gs>
              <a:gs pos="100000">
                <a:srgbClr val="4f7913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BDBBA4FE-8F87-41A1-BE4F-6ECD17E7B1C1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2010051312450429"/>
          <p:cNvPicPr/>
          <p:nvPr/>
        </p:nvPicPr>
        <p:blipFill>
          <a:blip r:embed="rId1"/>
          <a:stretch/>
        </p:blipFill>
        <p:spPr>
          <a:xfrm>
            <a:off x="5292720" y="855720"/>
            <a:ext cx="2879640" cy="14209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企业</a:t>
            </a:r>
            <a:r>
              <a:rPr b="0" i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I(</a:t>
            </a:r>
            <a:r>
              <a:rPr b="0" i="1" lang="zh-CN" sz="2400" spc="-1" strike="noStrike">
                <a:solidFill>
                  <a:srgbClr val="ffffff"/>
                </a:solidFill>
                <a:latin typeface="Arial"/>
              </a:rPr>
              <a:t>视觉识别系统</a:t>
            </a:r>
            <a:r>
              <a:rPr b="0" i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设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6993000" y="362412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2010051312440580"/>
          <p:cNvPicPr/>
          <p:nvPr/>
        </p:nvPicPr>
        <p:blipFill>
          <a:blip r:embed="rId2"/>
          <a:stretch/>
        </p:blipFill>
        <p:spPr>
          <a:xfrm>
            <a:off x="5292720" y="3578400"/>
            <a:ext cx="2879640" cy="1434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2010051312441467"/>
          <p:cNvPicPr/>
          <p:nvPr/>
        </p:nvPicPr>
        <p:blipFill>
          <a:blip r:embed="rId3"/>
          <a:stretch/>
        </p:blipFill>
        <p:spPr>
          <a:xfrm>
            <a:off x="5292720" y="2206800"/>
            <a:ext cx="2879640" cy="143964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 rot="16200000">
            <a:off x="5539320" y="3468960"/>
            <a:ext cx="5545080" cy="279360"/>
          </a:xfrm>
          <a:custGeom>
            <a:avLst/>
            <a:gdLst>
              <a:gd name="textAreaLeft" fmla="*/ 684000 w 5545080"/>
              <a:gd name="textAreaRight" fmla="*/ 4861080 w 5545080"/>
              <a:gd name="textAreaTop" fmla="*/ 34200 h 279360"/>
              <a:gd name="textAreaBottom" fmla="*/ 245160 h 27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25098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2010051312445436"/>
          <p:cNvPicPr/>
          <p:nvPr/>
        </p:nvPicPr>
        <p:blipFill>
          <a:blip r:embed="rId4"/>
          <a:stretch/>
        </p:blipFill>
        <p:spPr>
          <a:xfrm>
            <a:off x="5297400" y="4943520"/>
            <a:ext cx="2879640" cy="143496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9"/>
          <p:cNvSpPr/>
          <p:nvPr/>
        </p:nvSpPr>
        <p:spPr>
          <a:xfrm rot="5400000">
            <a:off x="515160" y="2412000"/>
            <a:ext cx="2912760" cy="2146320"/>
          </a:xfrm>
          <a:custGeom>
            <a:avLst/>
            <a:gdLst>
              <a:gd name="textAreaLeft" fmla="*/ 389520 w 2912760"/>
              <a:gd name="textAreaRight" fmla="*/ 2523240 w 2912760"/>
              <a:gd name="textAreaTop" fmla="*/ 286920 h 2146320"/>
              <a:gd name="textAreaBottom" fmla="*/ 1859400 h 214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 rot="16200000">
            <a:off x="1747800" y="3333240"/>
            <a:ext cx="2901960" cy="279360"/>
          </a:xfrm>
          <a:custGeom>
            <a:avLst/>
            <a:gdLst>
              <a:gd name="textAreaLeft" fmla="*/ 357840 w 2901960"/>
              <a:gd name="textAreaRight" fmla="*/ 2544120 w 2901960"/>
              <a:gd name="textAreaTop" fmla="*/ 34200 h 279360"/>
              <a:gd name="textAreaBottom" fmla="*/ 245160 h 27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0000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268360" y="3645000"/>
            <a:ext cx="6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 rot="21240000">
            <a:off x="907200" y="263628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baseline="-25000">
                <a:solidFill>
                  <a:srgbClr val="ffffff"/>
                </a:solidFill>
                <a:latin typeface="Arial"/>
                <a:ea typeface="经典细空黑"/>
              </a:rPr>
              <a:t>企业形象设计大师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468360" y="5302080"/>
            <a:ext cx="46083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提升您的企业形象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让品牌脱颖而出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1B548778-C128-461F-9288-5F60804FC7C4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企业</a:t>
            </a:r>
            <a:r>
              <a:rPr b="0" i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I</a:t>
            </a:r>
            <a:r>
              <a:rPr b="0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设计包含什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3" descr="003"/>
          <p:cNvPicPr/>
          <p:nvPr/>
        </p:nvPicPr>
        <p:blipFill>
          <a:blip r:embed="rId1"/>
          <a:stretch/>
        </p:blipFill>
        <p:spPr>
          <a:xfrm>
            <a:off x="250920" y="2925720"/>
            <a:ext cx="5143320" cy="3314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004"/>
          <p:cNvPicPr/>
          <p:nvPr/>
        </p:nvPicPr>
        <p:blipFill>
          <a:blip r:embed="rId2"/>
          <a:srcRect l="2023" t="0" r="0" b="0"/>
          <a:stretch/>
        </p:blipFill>
        <p:spPr>
          <a:xfrm>
            <a:off x="250920" y="693720"/>
            <a:ext cx="5186160" cy="2219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001"/>
          <p:cNvPicPr/>
          <p:nvPr/>
        </p:nvPicPr>
        <p:blipFill>
          <a:blip r:embed="rId3"/>
          <a:stretch/>
        </p:blipFill>
        <p:spPr>
          <a:xfrm>
            <a:off x="5483160" y="765000"/>
            <a:ext cx="3409920" cy="194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002"/>
          <p:cNvPicPr/>
          <p:nvPr/>
        </p:nvPicPr>
        <p:blipFill>
          <a:blip r:embed="rId4"/>
          <a:srcRect l="3468" t="0" r="3142" b="0"/>
          <a:stretch/>
        </p:blipFill>
        <p:spPr>
          <a:xfrm>
            <a:off x="5508720" y="2924280"/>
            <a:ext cx="3311280" cy="19540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5653080" y="5229360"/>
            <a:ext cx="2951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经典细空黑"/>
                <a:ea typeface="经典细空黑"/>
              </a:rPr>
              <a:t>提升您的企业形象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经典细空黑"/>
                <a:ea typeface="经典细空黑"/>
              </a:rPr>
              <a:t>        </a:t>
            </a:r>
            <a:r>
              <a:rPr b="1" i="1" lang="zh-CN" sz="2800" spc="-1" strike="noStrike">
                <a:solidFill>
                  <a:srgbClr val="000000"/>
                </a:solidFill>
                <a:latin typeface="经典细空黑"/>
                <a:ea typeface="经典细空黑"/>
              </a:rPr>
              <a:t>让品牌脱颖而出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073C907F-642F-4BD5-BC51-9F687A4A8211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这些企业都有自己的</a:t>
            </a:r>
            <a:r>
              <a:rPr b="0" i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 rot="21240000">
            <a:off x="907200" y="263628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baseline="-25000">
                <a:solidFill>
                  <a:srgbClr val="ffffff"/>
                </a:solidFill>
                <a:latin typeface="Arial"/>
                <a:ea typeface="经典细空黑"/>
              </a:rPr>
              <a:t>企业形象设计大师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204027230_1713388"/>
          <p:cNvPicPr/>
          <p:nvPr/>
        </p:nvPicPr>
        <p:blipFill>
          <a:blip r:embed="rId1"/>
          <a:stretch/>
        </p:blipFill>
        <p:spPr>
          <a:xfrm>
            <a:off x="395280" y="836640"/>
            <a:ext cx="4932360" cy="547200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5"/>
          <p:cNvSpPr/>
          <p:nvPr/>
        </p:nvSpPr>
        <p:spPr>
          <a:xfrm rot="5400000">
            <a:off x="5411160" y="2090520"/>
            <a:ext cx="2913120" cy="2144520"/>
          </a:xfrm>
          <a:custGeom>
            <a:avLst/>
            <a:gdLst>
              <a:gd name="textAreaLeft" fmla="*/ 389520 w 2913120"/>
              <a:gd name="textAreaRight" fmla="*/ 2523600 w 2913120"/>
              <a:gd name="textAreaTop" fmla="*/ 286560 h 2144520"/>
              <a:gd name="textAreaBottom" fmla="*/ 1857960 h 214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 rot="16200000">
            <a:off x="6643440" y="3011040"/>
            <a:ext cx="2901960" cy="279360"/>
          </a:xfrm>
          <a:custGeom>
            <a:avLst/>
            <a:gdLst>
              <a:gd name="textAreaLeft" fmla="*/ 357840 w 2901960"/>
              <a:gd name="textAreaRight" fmla="*/ 2544120 w 2901960"/>
              <a:gd name="textAreaTop" fmla="*/ 34200 h 279360"/>
              <a:gd name="textAreaBottom" fmla="*/ 245160 h 27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0000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7165800" y="3322800"/>
            <a:ext cx="6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 rot="21240000">
            <a:off x="5803200" y="227736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baseline="-25000">
                <a:solidFill>
                  <a:srgbClr val="ffffff"/>
                </a:solidFill>
                <a:latin typeface="Arial"/>
                <a:ea typeface="经典细空黑"/>
              </a:rPr>
              <a:t>企业形象设计大师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5364000" y="522936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识别系统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让品牌脱颖而出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84360" y="6622920"/>
            <a:ext cx="5827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i="1" lang="zh-CN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 baseline="-25000">
                <a:solidFill>
                  <a:srgbClr val="26420a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67B86D3E-7916-4E65-84F5-2E9EF6ED293D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企业如何宣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660240" y="1249200"/>
            <a:ext cx="2305080" cy="563760"/>
            <a:chOff x="660240" y="1249200"/>
            <a:chExt cx="2305080" cy="563760"/>
          </a:xfrm>
        </p:grpSpPr>
        <p:sp>
          <p:nvSpPr>
            <p:cNvPr id="228" name="Rectangle 4"/>
            <p:cNvSpPr/>
            <p:nvPr/>
          </p:nvSpPr>
          <p:spPr>
            <a:xfrm>
              <a:off x="660240" y="1249200"/>
              <a:ext cx="2305080" cy="45684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5"/>
            <p:cNvSpPr/>
            <p:nvPr/>
          </p:nvSpPr>
          <p:spPr>
            <a:xfrm>
              <a:off x="660240" y="1710720"/>
              <a:ext cx="2305080" cy="102240"/>
            </a:xfrm>
            <a:custGeom>
              <a:avLst/>
              <a:gdLst>
                <a:gd name="textAreaLeft" fmla="*/ 249120 w 2305080"/>
                <a:gd name="textAreaRight" fmla="*/ 2055960 w 2305080"/>
                <a:gd name="textAreaTop" fmla="*/ 11160 h 102240"/>
                <a:gd name="textAreaBottom" fmla="*/ 91080 h 10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WordArt 6"/>
          <p:cNvSpPr txBox="1"/>
          <p:nvPr/>
        </p:nvSpPr>
        <p:spPr>
          <a:xfrm>
            <a:off x="922320" y="1320840"/>
            <a:ext cx="1787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哪些宣传方式最常用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421080" y="2400480"/>
            <a:ext cx="2305080" cy="2744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8"/>
          <p:cNvGrpSpPr/>
          <p:nvPr/>
        </p:nvGrpSpPr>
        <p:grpSpPr>
          <a:xfrm>
            <a:off x="3467160" y="1249200"/>
            <a:ext cx="2305080" cy="563760"/>
            <a:chOff x="3467160" y="1249200"/>
            <a:chExt cx="2305080" cy="563760"/>
          </a:xfrm>
        </p:grpSpPr>
        <p:sp>
          <p:nvSpPr>
            <p:cNvPr id="233" name="Rectangle 9"/>
            <p:cNvSpPr/>
            <p:nvPr/>
          </p:nvSpPr>
          <p:spPr>
            <a:xfrm>
              <a:off x="3467160" y="1249200"/>
              <a:ext cx="2305080" cy="45684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>
              <a:off x="3467160" y="1710720"/>
              <a:ext cx="2305080" cy="102240"/>
            </a:xfrm>
            <a:custGeom>
              <a:avLst/>
              <a:gdLst>
                <a:gd name="textAreaLeft" fmla="*/ 249120 w 2305080"/>
                <a:gd name="textAreaRight" fmla="*/ 2055960 w 2305080"/>
                <a:gd name="textAreaTop" fmla="*/ 11160 h 102240"/>
                <a:gd name="textAreaBottom" fmla="*/ 91080 h 10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WordArt 11"/>
          <p:cNvSpPr txBox="1"/>
          <p:nvPr/>
        </p:nvSpPr>
        <p:spPr>
          <a:xfrm>
            <a:off x="3728880" y="1320840"/>
            <a:ext cx="178776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企业宣传的目的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236" name="Group 12"/>
          <p:cNvGrpSpPr/>
          <p:nvPr/>
        </p:nvGrpSpPr>
        <p:grpSpPr>
          <a:xfrm>
            <a:off x="6229440" y="1249200"/>
            <a:ext cx="2305080" cy="563760"/>
            <a:chOff x="6229440" y="1249200"/>
            <a:chExt cx="2305080" cy="563760"/>
          </a:xfrm>
        </p:grpSpPr>
        <p:sp>
          <p:nvSpPr>
            <p:cNvPr id="237" name="Rectangle 13"/>
            <p:cNvSpPr/>
            <p:nvPr/>
          </p:nvSpPr>
          <p:spPr>
            <a:xfrm>
              <a:off x="6229440" y="1249200"/>
              <a:ext cx="2305080" cy="45684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4"/>
            <p:cNvSpPr/>
            <p:nvPr/>
          </p:nvSpPr>
          <p:spPr>
            <a:xfrm>
              <a:off x="6229440" y="1710720"/>
              <a:ext cx="2305080" cy="102240"/>
            </a:xfrm>
            <a:custGeom>
              <a:avLst/>
              <a:gdLst>
                <a:gd name="textAreaLeft" fmla="*/ 249120 w 2305080"/>
                <a:gd name="textAreaRight" fmla="*/ 2055960 w 2305080"/>
                <a:gd name="textAreaTop" fmla="*/ 11160 h 102240"/>
                <a:gd name="textAreaBottom" fmla="*/ 91080 h 10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WordArt 15"/>
          <p:cNvSpPr txBox="1"/>
          <p:nvPr/>
        </p:nvSpPr>
        <p:spPr>
          <a:xfrm>
            <a:off x="6491160" y="1320840"/>
            <a:ext cx="178776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宣传要花多少钱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240" name="Group 16"/>
          <p:cNvGrpSpPr/>
          <p:nvPr/>
        </p:nvGrpSpPr>
        <p:grpSpPr>
          <a:xfrm>
            <a:off x="6206760" y="2036520"/>
            <a:ext cx="2471760" cy="3460680"/>
            <a:chOff x="6206760" y="2036520"/>
            <a:chExt cx="2471760" cy="3460680"/>
          </a:xfrm>
        </p:grpSpPr>
        <p:sp>
          <p:nvSpPr>
            <p:cNvPr id="241" name="AutoShape 17"/>
            <p:cNvSpPr/>
            <p:nvPr/>
          </p:nvSpPr>
          <p:spPr>
            <a:xfrm rot="5400000">
              <a:off x="5561280" y="2682000"/>
              <a:ext cx="3460320" cy="2169720"/>
            </a:xfrm>
            <a:custGeom>
              <a:avLst/>
              <a:gdLst>
                <a:gd name="textAreaLeft" fmla="*/ 462240 w 3460320"/>
                <a:gd name="textAreaRight" fmla="*/ 2998080 w 3460320"/>
                <a:gd name="textAreaTop" fmla="*/ 290520 h 2169720"/>
                <a:gd name="textAreaBottom" fmla="*/ 1879200 h 21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78" y="21600"/>
                  </a:lnTo>
                  <a:lnTo>
                    <a:pt x="1942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18"/>
            <p:cNvSpPr/>
            <p:nvPr/>
          </p:nvSpPr>
          <p:spPr>
            <a:xfrm rot="16200000">
              <a:off x="6808320" y="3614040"/>
              <a:ext cx="3447720" cy="292320"/>
            </a:xfrm>
            <a:custGeom>
              <a:avLst/>
              <a:gdLst>
                <a:gd name="textAreaLeft" fmla="*/ 425880 w 3447720"/>
                <a:gd name="textAreaRight" fmla="*/ 3021840 w 3447720"/>
                <a:gd name="textAreaTop" fmla="*/ 35280 h 292320"/>
                <a:gd name="textAreaBottom" fmla="*/ 2570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19"/>
          <p:cNvSpPr/>
          <p:nvPr/>
        </p:nvSpPr>
        <p:spPr>
          <a:xfrm>
            <a:off x="6229440" y="2753640"/>
            <a:ext cx="221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最省钱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?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VS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最有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?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20"/>
          <p:cNvGrpSpPr/>
          <p:nvPr/>
        </p:nvGrpSpPr>
        <p:grpSpPr>
          <a:xfrm>
            <a:off x="468720" y="2041200"/>
            <a:ext cx="2471760" cy="3460680"/>
            <a:chOff x="468720" y="2041200"/>
            <a:chExt cx="2471760" cy="3460680"/>
          </a:xfrm>
        </p:grpSpPr>
        <p:sp>
          <p:nvSpPr>
            <p:cNvPr id="245" name="AutoShape 21"/>
            <p:cNvSpPr/>
            <p:nvPr/>
          </p:nvSpPr>
          <p:spPr>
            <a:xfrm flipH="1" rot="16200000">
              <a:off x="124920" y="2686680"/>
              <a:ext cx="3460320" cy="2169720"/>
            </a:xfrm>
            <a:custGeom>
              <a:avLst/>
              <a:gdLst>
                <a:gd name="textAreaLeft" fmla="*/ 462240 w 3460320"/>
                <a:gd name="textAreaRight" fmla="*/ 2998080 w 3460320"/>
                <a:gd name="textAreaTop" fmla="*/ 290520 h 2169720"/>
                <a:gd name="textAreaBottom" fmla="*/ 1879200 h 21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78" y="21600"/>
                  </a:lnTo>
                  <a:lnTo>
                    <a:pt x="1942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22"/>
            <p:cNvSpPr/>
            <p:nvPr/>
          </p:nvSpPr>
          <p:spPr>
            <a:xfrm flipH="1" rot="5400000">
              <a:off x="-1108800" y="3618720"/>
              <a:ext cx="3447720" cy="292320"/>
            </a:xfrm>
            <a:custGeom>
              <a:avLst/>
              <a:gdLst>
                <a:gd name="textAreaLeft" fmla="*/ 425880 w 3447720"/>
                <a:gd name="textAreaRight" fmla="*/ 3021840 w 3447720"/>
                <a:gd name="textAreaTop" fmla="*/ 35280 h 292320"/>
                <a:gd name="textAreaBottom" fmla="*/ 2570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23"/>
          <p:cNvSpPr/>
          <p:nvPr/>
        </p:nvSpPr>
        <p:spPr>
          <a:xfrm rot="60000">
            <a:off x="682560" y="2205360"/>
            <a:ext cx="2219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电视广告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户外广告牌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报纸杂志广告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企业宣传册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地铁车站海报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车体灯箱广告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网络宣传推广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4"/>
          <p:cNvSpPr/>
          <p:nvPr/>
        </p:nvSpPr>
        <p:spPr>
          <a:xfrm>
            <a:off x="3492360" y="2493360"/>
            <a:ext cx="2219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展示企业形象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提高行业竞争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扩大产品知名度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让客户认识我们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树立品牌效应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让客户认可我们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5" descr="6"/>
          <p:cNvPicPr/>
          <p:nvPr/>
        </p:nvPicPr>
        <p:blipFill>
          <a:blip r:embed="rId1"/>
          <a:stretch/>
        </p:blipFill>
        <p:spPr>
          <a:xfrm>
            <a:off x="5562720" y="387972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6" descr="图片1"/>
          <p:cNvPicPr/>
          <p:nvPr/>
        </p:nvPicPr>
        <p:blipFill>
          <a:blip r:embed="rId2"/>
          <a:srcRect l="0" t="0" r="0" b="44387"/>
          <a:stretch/>
        </p:blipFill>
        <p:spPr>
          <a:xfrm>
            <a:off x="2733840" y="4033800"/>
            <a:ext cx="98100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Administrator</dc:creator>
  <dc:description/>
  <dc:language>en-US</dc:language>
  <cp:lastModifiedBy>yu wang</cp:lastModifiedBy>
  <cp:lastPrinted>1899-12-30T00:00:00Z</cp:lastPrinted>
  <dcterms:modified xsi:type="dcterms:W3CDTF">2015-08-03T12:25:06Z</dcterms:modified>
  <cp:revision>226</cp:revision>
  <dc:subject/>
  <dc:title>企业软件解决方案提供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