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E2BC1F-0A36-42DE-8A30-DEF4473B4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85C8A2-FE4E-4A88-840D-D5ED420BBD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6F8-92AD-42C7-920E-97DF47E6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640" y="374400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A6E-5874-4D3A-A18B-1E931168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728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234-2632-4D87-ABC4-1002DB5F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104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80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64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104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80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C03-A95B-4230-82DF-EA2593BE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0CB7-0D74-4F6D-B9DD-57A72F5E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8BBF-BC1E-4AF1-8697-07E31282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1141-879F-4ECC-8F9E-D76BE74B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FE01-D923-4FD7-B37A-F024D1FA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92A5-BE93-42AF-BD95-3CAA669B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116640"/>
            <a:ext cx="67813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0097-3F28-4561-9548-A813CAD7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1475-2385-4D8A-95D9-83351A27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36E-CF22-452C-B909-8A753C3E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728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3CE2-8DDD-452F-B2B9-33E974EA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561F-D5A8-461F-9963-1B5959C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640" y="374400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9E12-1FAF-4428-A5E4-387E77A3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728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C0D0-20B2-4FFA-B69C-0ACF32F2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104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80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64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104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80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37BA-594E-4BE9-A5C9-E3C0583D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E74-763E-41DD-B237-14FF786E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AB9-D438-4A25-8426-98B9C1DE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557-1A0C-4686-88BE-A854532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280" y="116640"/>
            <a:ext cx="67813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346-6D7F-48E3-890C-F2D14F49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411-6811-43DC-B19C-33ACBBF3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728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78B-C9CF-4F6E-A2D3-3AE3681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F6F-E0FE-4B17-AD2A-E8EC59BE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PPP_SENVI_TXT_Fresh_Spring_Day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5" descr="PPP_SENVI_TLE_Fresh_Spring_Day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640" y="1556640"/>
            <a:ext cx="4680000" cy="129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602320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47600" y="640224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224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772320" y="640224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E0F5F8-C9F5-4438-ADEE-78AB26C6D11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0" descr="PPP_SENVI_TXT_Fresh_Spring_Day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602320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320" y="6553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553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62E605-12EF-4B7B-9B34-500ADBD30B6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640" y="692640"/>
            <a:ext cx="6696360" cy="129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602320"/>
                </a:solidFill>
                <a:latin typeface="Arial Black"/>
                <a:ea typeface="微软雅黑"/>
              </a:rPr>
              <a:t>简洁房产物业</a:t>
            </a:r>
            <a:r>
              <a:rPr b="0" lang="en-US" sz="4000" spc="-1" strike="noStrike">
                <a:solidFill>
                  <a:srgbClr val="602320"/>
                </a:solidFill>
                <a:latin typeface="Arial Black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602320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640" y="2925000"/>
            <a:ext cx="4680000" cy="93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  <a:ea typeface="微软雅黑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dissolve/>
      </p:transition>
    </mc:Choice>
    <mc:Fallback>
      <p:transition>
        <p:dissolv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602320"/>
              </a:solidFill>
              <a:latin typeface="Arial Black"/>
              <a:ea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p14:dur="250">
        <p:dissolve/>
      </p:transition>
    </mc:Choice>
    <mc:Fallback>
      <p:transition>
        <p:dissolv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602320"/>
                </a:solidFill>
                <a:latin typeface="Arial Black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dissolve/>
      </p:transition>
    </mc:Choice>
    <mc:Fallback>
      <p:transition>
        <p:dissolve/>
      </p:transition>
    </mc:Fallback>
  </mc:AlternateContent>
</p:sld>
</file>

<file path=ppt/theme/theme1.xml><?xml version="1.0" encoding="utf-8"?>
<a:theme xmlns:a="http://schemas.openxmlformats.org/drawingml/2006/main" name="Simple 04">
  <a:themeElements>
    <a:clrScheme name="PWC-Maroon">
      <a:dk1>
        <a:srgbClr val="000000"/>
      </a:dk1>
      <a:lt1>
        <a:srgbClr val="ffffff"/>
      </a:lt1>
      <a:dk2>
        <a:srgbClr val="602320"/>
      </a:dk2>
      <a:lt2>
        <a:srgbClr val="ffffff"/>
      </a:lt2>
      <a:accent1>
        <a:srgbClr val="602320"/>
      </a:accent1>
      <a:accent2>
        <a:srgbClr val="e27588"/>
      </a:accent2>
      <a:accent3>
        <a:srgbClr val="a32020"/>
      </a:accent3>
      <a:accent4>
        <a:srgbClr val="e0301e"/>
      </a:accent4>
      <a:accent5>
        <a:srgbClr val="dc6900"/>
      </a:accent5>
      <a:accent6>
        <a:srgbClr val="ffb600"/>
      </a:accent6>
      <a:hlink>
        <a:srgbClr val="0000ff"/>
      </a:hlink>
      <a:folHlink>
        <a:srgbClr val="00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04">
  <a:themeElements>
    <a:clrScheme name="PWC-Maroon">
      <a:dk1>
        <a:srgbClr val="000000"/>
      </a:dk1>
      <a:lt1>
        <a:srgbClr val="ffffff"/>
      </a:lt1>
      <a:dk2>
        <a:srgbClr val="602320"/>
      </a:dk2>
      <a:lt2>
        <a:srgbClr val="ffffff"/>
      </a:lt2>
      <a:accent1>
        <a:srgbClr val="602320"/>
      </a:accent1>
      <a:accent2>
        <a:srgbClr val="e27588"/>
      </a:accent2>
      <a:accent3>
        <a:srgbClr val="a32020"/>
      </a:accent3>
      <a:accent4>
        <a:srgbClr val="e0301e"/>
      </a:accent4>
      <a:accent5>
        <a:srgbClr val="dc6900"/>
      </a:accent5>
      <a:accent6>
        <a:srgbClr val="ffb600"/>
      </a:accent6>
      <a:hlink>
        <a:srgbClr val="0000ff"/>
      </a:hlink>
      <a:folHlink>
        <a:srgbClr val="00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02320"/>
      </a:dk2>
      <a:lt2>
        <a:srgbClr val="ffffff"/>
      </a:lt2>
      <a:accent1>
        <a:srgbClr val="602320"/>
      </a:accent1>
      <a:accent2>
        <a:srgbClr val="e27588"/>
      </a:accent2>
      <a:accent3>
        <a:srgbClr val="a32020"/>
      </a:accent3>
      <a:accent4>
        <a:srgbClr val="e0301e"/>
      </a:accent4>
      <a:accent5>
        <a:srgbClr val="dc6900"/>
      </a:accent5>
      <a:accent6>
        <a:srgbClr val="ffb600"/>
      </a:accent6>
      <a:hlink>
        <a:srgbClr val="0000ff"/>
      </a:hlink>
      <a:folHlink>
        <a:srgbClr val="00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156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4:20:17Z</dcterms:created>
  <dc:creator>ilovePPT.ORG</dc:creator>
  <dc:description/>
  <dc:language>en-US</dc:language>
  <cp:lastModifiedBy>yu wang</cp:lastModifiedBy>
  <dcterms:modified xsi:type="dcterms:W3CDTF">2015-08-03T12:23:50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</Properties>
</file>