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6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gradFill rotWithShape="0">
            <a:gsLst>
              <a:gs pos="0">
                <a:srgbClr val="f95626"/>
              </a:gs>
              <a:gs pos="100000">
                <a:srgbClr val="f9862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9"/>
          <p:cNvGrpSpPr/>
          <p:nvPr/>
        </p:nvGrpSpPr>
        <p:grpSpPr>
          <a:xfrm>
            <a:off x="6588000" y="87480"/>
            <a:ext cx="2556000" cy="533160"/>
            <a:chOff x="6588000" y="87480"/>
            <a:chExt cx="2556000" cy="533160"/>
          </a:xfrm>
        </p:grpSpPr>
        <p:sp>
          <p:nvSpPr>
            <p:cNvPr id="3" name="Rectangle 10"/>
            <p:cNvSpPr/>
            <p:nvPr/>
          </p:nvSpPr>
          <p:spPr>
            <a:xfrm>
              <a:off x="6588000" y="87480"/>
              <a:ext cx="601920" cy="533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 flipH="1">
              <a:off x="7238880" y="87480"/>
              <a:ext cx="601920" cy="5331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7889760" y="87480"/>
              <a:ext cx="601920" cy="533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8542440" y="87480"/>
              <a:ext cx="601560" cy="5331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Rectangle 14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808080"/>
              </a:gs>
              <a:gs pos="100000">
                <a:srgbClr val="dbdb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6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6080" y="2924280"/>
            <a:ext cx="2509920" cy="1009440"/>
          </a:xfrm>
          <a:prstGeom prst="rect">
            <a:avLst/>
          </a:prstGeom>
          <a:gradFill rotWithShape="0">
            <a:gsLst>
              <a:gs pos="0">
                <a:srgbClr val="f95626"/>
              </a:gs>
              <a:gs pos="100000">
                <a:srgbClr val="f9862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627280" y="2924280"/>
            <a:ext cx="1513080" cy="10094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 flipH="1">
            <a:off x="4264200" y="2924280"/>
            <a:ext cx="1512720" cy="1009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5902200" y="2924280"/>
            <a:ext cx="1513080" cy="1009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540560" y="2924280"/>
            <a:ext cx="1513080" cy="100944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5"/>
          <p:cNvSpPr/>
          <p:nvPr/>
        </p:nvSpPr>
        <p:spPr>
          <a:xfrm>
            <a:off x="5651640" y="5084640"/>
            <a:ext cx="3052800" cy="6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2433240" y="76500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洁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5"/>
          <p:cNvSpPr/>
          <p:nvPr/>
        </p:nvSpPr>
        <p:spPr>
          <a:xfrm>
            <a:off x="324000" y="115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684360" y="1268280"/>
            <a:ext cx="7920000" cy="4897440"/>
          </a:xfrm>
          <a:prstGeom prst="rect">
            <a:avLst/>
          </a:prstGeom>
          <a:gradFill rotWithShape="0">
            <a:gsLst>
              <a:gs pos="0">
                <a:srgbClr val="fdfdfd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2"/>
          <p:cNvGrpSpPr/>
          <p:nvPr/>
        </p:nvGrpSpPr>
        <p:grpSpPr>
          <a:xfrm>
            <a:off x="1619280" y="1844640"/>
            <a:ext cx="5832000" cy="647640"/>
            <a:chOff x="1619280" y="1844640"/>
            <a:chExt cx="5832000" cy="647640"/>
          </a:xfrm>
        </p:grpSpPr>
        <p:sp>
          <p:nvSpPr>
            <p:cNvPr id="92" name="AutoShape 20"/>
            <p:cNvSpPr/>
            <p:nvPr/>
          </p:nvSpPr>
          <p:spPr>
            <a:xfrm>
              <a:off x="1619280" y="184464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732812"/>
                </a:gs>
                <a:gs pos="50000">
                  <a:srgbClr val="f95626"/>
                </a:gs>
                <a:gs pos="100000">
                  <a:srgbClr val="732812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95341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1"/>
            <p:cNvSpPr/>
            <p:nvPr/>
          </p:nvSpPr>
          <p:spPr>
            <a:xfrm>
              <a:off x="2050920" y="2481120"/>
              <a:ext cx="54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3"/>
          <p:cNvGrpSpPr/>
          <p:nvPr/>
        </p:nvGrpSpPr>
        <p:grpSpPr>
          <a:xfrm>
            <a:off x="1619280" y="2709720"/>
            <a:ext cx="5832000" cy="647640"/>
            <a:chOff x="1619280" y="2709720"/>
            <a:chExt cx="5832000" cy="647640"/>
          </a:xfrm>
        </p:grpSpPr>
        <p:sp>
          <p:nvSpPr>
            <p:cNvPr id="95" name="AutoShape 24"/>
            <p:cNvSpPr/>
            <p:nvPr/>
          </p:nvSpPr>
          <p:spPr>
            <a:xfrm>
              <a:off x="1619280" y="270972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732812"/>
                </a:gs>
                <a:gs pos="50000">
                  <a:srgbClr val="f95626"/>
                </a:gs>
                <a:gs pos="100000">
                  <a:srgbClr val="732812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95341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5"/>
            <p:cNvSpPr/>
            <p:nvPr/>
          </p:nvSpPr>
          <p:spPr>
            <a:xfrm>
              <a:off x="2050920" y="3346200"/>
              <a:ext cx="54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6"/>
          <p:cNvGrpSpPr/>
          <p:nvPr/>
        </p:nvGrpSpPr>
        <p:grpSpPr>
          <a:xfrm>
            <a:off x="1617840" y="3575160"/>
            <a:ext cx="5832000" cy="647640"/>
            <a:chOff x="1617840" y="3575160"/>
            <a:chExt cx="5832000" cy="647640"/>
          </a:xfrm>
        </p:grpSpPr>
        <p:sp>
          <p:nvSpPr>
            <p:cNvPr id="98" name="AutoShape 27"/>
            <p:cNvSpPr/>
            <p:nvPr/>
          </p:nvSpPr>
          <p:spPr>
            <a:xfrm>
              <a:off x="1617840" y="357516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732812"/>
                </a:gs>
                <a:gs pos="50000">
                  <a:srgbClr val="f95626"/>
                </a:gs>
                <a:gs pos="100000">
                  <a:srgbClr val="732812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95341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8"/>
            <p:cNvSpPr/>
            <p:nvPr/>
          </p:nvSpPr>
          <p:spPr>
            <a:xfrm>
              <a:off x="2049480" y="4211640"/>
              <a:ext cx="54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9"/>
          <p:cNvGrpSpPr/>
          <p:nvPr/>
        </p:nvGrpSpPr>
        <p:grpSpPr>
          <a:xfrm>
            <a:off x="1617840" y="4440240"/>
            <a:ext cx="5832000" cy="647640"/>
            <a:chOff x="1617840" y="4440240"/>
            <a:chExt cx="5832000" cy="647640"/>
          </a:xfrm>
        </p:grpSpPr>
        <p:sp>
          <p:nvSpPr>
            <p:cNvPr id="101" name="AutoShape 30"/>
            <p:cNvSpPr/>
            <p:nvPr/>
          </p:nvSpPr>
          <p:spPr>
            <a:xfrm>
              <a:off x="1617840" y="444024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732812"/>
                </a:gs>
                <a:gs pos="50000">
                  <a:srgbClr val="f95626"/>
                </a:gs>
                <a:gs pos="100000">
                  <a:srgbClr val="732812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95341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1"/>
            <p:cNvSpPr/>
            <p:nvPr/>
          </p:nvSpPr>
          <p:spPr>
            <a:xfrm>
              <a:off x="2049480" y="5076720"/>
              <a:ext cx="54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33"/>
          <p:cNvSpPr/>
          <p:nvPr/>
        </p:nvSpPr>
        <p:spPr>
          <a:xfrm>
            <a:off x="4263840" y="191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概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4"/>
          <p:cNvSpPr/>
          <p:nvPr/>
        </p:nvSpPr>
        <p:spPr>
          <a:xfrm>
            <a:off x="4298760" y="285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方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5"/>
          <p:cNvSpPr/>
          <p:nvPr/>
        </p:nvSpPr>
        <p:spPr>
          <a:xfrm>
            <a:off x="4298760" y="371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6"/>
          <p:cNvSpPr/>
          <p:nvPr/>
        </p:nvSpPr>
        <p:spPr>
          <a:xfrm>
            <a:off x="4262040" y="45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成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5"/>
          <p:cNvSpPr/>
          <p:nvPr/>
        </p:nvSpPr>
        <p:spPr>
          <a:xfrm>
            <a:off x="2268360" y="2781360"/>
            <a:ext cx="648000" cy="647640"/>
          </a:xfrm>
          <a:prstGeom prst="diamond">
            <a:avLst/>
          </a:prstGeom>
          <a:gradFill rotWithShape="0">
            <a:gsLst>
              <a:gs pos="0">
                <a:srgbClr val="732812"/>
              </a:gs>
              <a:gs pos="50000">
                <a:srgbClr val="f95626"/>
              </a:gs>
              <a:gs pos="100000">
                <a:srgbClr val="732812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534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3798720" y="2604960"/>
            <a:ext cx="15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概    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24000" y="115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  概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075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企业概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1:18:12Z</dcterms:created>
  <dc:creator>aying</dc:creator>
  <dc:description/>
  <dc:language>en-US</dc:language>
  <cp:lastModifiedBy>yu wang</cp:lastModifiedBy>
  <dcterms:modified xsi:type="dcterms:W3CDTF">2015-08-03T12:23:43Z</dcterms:modified>
  <cp:revision>8</cp:revision>
  <dc:subject/>
  <dc:title>幻灯片 1</dc:title>
</cp:coreProperties>
</file>