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8E6-03B1-40C0-85C6-059A02BC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E9B-8F05-4695-BDEE-0F86AC14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822-7CD6-4778-B50C-C5253AD6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F6B-914F-4986-A65F-C4497E80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21D-D118-4005-A25A-911E6BCB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410-3C9A-401F-844C-F37CDD1E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F6E-246E-4B85-BE40-BE6D294B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717-1DB7-4E07-8812-1CB10FF1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9D0-25F0-4D87-87FE-DE38955F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7A9-23F5-4893-9875-A63D1E8C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1D0-EA1D-4A53-BC83-349A548C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74D-803D-4625-AF82-0AD6D8EB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3E04-3BD5-415D-8E99-0E3004A342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美毕业论文答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1:16:03Z</dcterms:created>
  <dc:creator>jaming1314</dc:creator>
  <dc:description/>
  <cp:keywords/>
  <dc:language>en-US</dc:language>
  <cp:lastModifiedBy>yu wang</cp:lastModifiedBy>
  <cp:lastPrinted>1899-12-30T00:00:00Z</cp:lastPrinted>
  <dcterms:modified xsi:type="dcterms:W3CDTF">2015-08-03T12:24:17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