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2.png" ContentType="image/png"/>
  <Override PartName="/ppt/media/audio1.wav" ContentType="audio/x-wav"/>
  <Override PartName="/ppt/media/image44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29.png" ContentType="image/png"/>
  <Override PartName="/ppt/media/image30.png" ContentType="image/png"/>
  <Override PartName="/ppt/media/image31.jpeg" ContentType="image/jpeg"/>
  <Override PartName="/ppt/media/image41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media17.WAV" ContentType="audio/x-wav"/>
  <Override PartName="/ppt/media/image6.png" ContentType="image/png"/>
  <Override PartName="/ppt/media/image36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9BEC-59F3-466C-BF47-80052CD3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600"/>
            <a:ext cx="822924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BA48-494D-4C41-ABB8-DEA51346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60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60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47A-533D-4986-85A3-4C69D58A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600"/>
            <a:ext cx="2649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600"/>
            <a:ext cx="2649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600"/>
            <a:ext cx="2649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1F57-0010-41F4-BEEA-6F2A6500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DE50-DA0F-404C-BA10-5B7833EC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3E38-1256-4841-B7AA-D78B7BE5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8FC9-FD98-4360-A5D5-E1CD5C57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5443-3B4D-4635-8A80-CF523764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710C-56F9-411F-962F-33ADE22E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37DC-34FC-4BB3-8E61-DB55D644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60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7FF2-7850-4A95-8B49-510C567F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B19C-048E-499C-9137-5D6EC30E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60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216C-D85D-4D64-AE4B-CA217C36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600"/>
            <a:ext cx="822924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097D-64B4-407E-A9AA-9417C3C3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600"/>
            <a:ext cx="822924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1EDD-432F-454C-B769-8E2FC943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60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60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6AF2-FEF9-49BC-871F-237A50AF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600"/>
            <a:ext cx="2649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600"/>
            <a:ext cx="2649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600"/>
            <a:ext cx="2649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B49A-E08F-4FC3-86EE-609F6EA9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FFADD-DCD2-4DF2-AC51-5B69B53F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85AB7-82CD-4D87-B93E-1E7E39BA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012C5-EFEB-43D3-B7E6-2A2E5AD0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2EE83-31B2-4F8C-95EF-99C973B3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BBD9A-B1B7-41C3-A1C0-1019D598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E775-8214-46C2-AC3B-024F3EDF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0FCCE-9404-487C-9C4F-56AC0233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60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A58CE-67E2-459B-AE0E-EA1EFA45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60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45EFE-B4E0-44E8-B4E0-7B1F8416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600"/>
            <a:ext cx="822924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9CF45-A91B-41A5-9B76-4768C311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600"/>
            <a:ext cx="822924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67F66-0911-46A1-9199-24338667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60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60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91862-838E-41F6-BE16-88EE5B3C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600"/>
            <a:ext cx="2649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600"/>
            <a:ext cx="2649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600"/>
            <a:ext cx="2649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CD7A1-3C5A-4334-A382-68F5DEF3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2F1A3-1C64-41BB-A2D7-CFA9402E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7CBBB-A9F3-4313-B751-BBDE3B0A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88E40-13A5-4B33-81E3-651F0782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F529-5FDA-4483-8A8B-E4CF4C34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E69DE-8B59-4CCA-A8B7-3F8DE2CA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A980C-F975-4998-8F8E-52C4E165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1E39A-EA4A-4D10-8E42-E2B74806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60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F42F3-04B7-426C-99BA-A2444DB5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60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0920A-9BE6-4B50-9074-CDB791B5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600"/>
            <a:ext cx="822924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514E7-5D80-4E69-B4F8-025FE53D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600"/>
            <a:ext cx="822924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DAB1D-3F33-4911-ACA5-FB571B25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60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60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44308-574A-4DEF-8A96-2B756B34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600"/>
            <a:ext cx="2649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600"/>
            <a:ext cx="2649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600"/>
            <a:ext cx="2649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EDEEF-F988-41C4-B5DF-62A80506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71EB-B334-4FB7-AA00-D857E5E0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888-F592-4D0E-8D98-BAA77534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60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C7E0-5AC4-4C6A-8E96-86AE3348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60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905F-7BF4-46FE-8BE4-EF224CFC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600"/>
            <a:ext cx="822924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39AA-EE62-427C-9ADD-4A43AD40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78120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684680"/>
            <a:ext cx="2133360" cy="356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120" cy="356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684680"/>
            <a:ext cx="2133360" cy="356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40571B-1384-4416-83B8-1DDB6523B4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BE0A15-01D8-406F-886D-9921847079A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4684680"/>
            <a:ext cx="2133360" cy="356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4684680"/>
            <a:ext cx="2895120" cy="356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4684680"/>
            <a:ext cx="2133360" cy="356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153029-F35E-47BC-BAD8-4D711F3268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4684680"/>
            <a:ext cx="2133360" cy="356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4680"/>
            <a:ext cx="2895120" cy="356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4684680"/>
            <a:ext cx="2133360" cy="356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2C4A8A-BF15-4EE3-8372-9AA3F4C98C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png"/><Relationship Id="rId4" Type="http://schemas.openxmlformats.org/officeDocument/2006/relationships/slide" Target="slide12.xml"/><Relationship Id="rId5" Type="http://schemas.openxmlformats.org/officeDocument/2006/relationships/image" Target="../media/image3.png"/><Relationship Id="rId6" Type="http://schemas.openxmlformats.org/officeDocument/2006/relationships/slide" Target="slide11.xml"/><Relationship Id="rId7" Type="http://schemas.openxmlformats.org/officeDocument/2006/relationships/image" Target="../media/image4.png"/><Relationship Id="rId8" Type="http://schemas.openxmlformats.org/officeDocument/2006/relationships/slide" Target="slide6.xml"/><Relationship Id="rId9" Type="http://schemas.openxmlformats.org/officeDocument/2006/relationships/image" Target="../media/image5.png"/><Relationship Id="rId10" Type="http://schemas.openxmlformats.org/officeDocument/2006/relationships/slide" Target="slide10.xm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2.png"/><Relationship Id="rId8" Type="http://schemas.openxmlformats.org/officeDocument/2006/relationships/slide" Target="slide11.xml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3.png"/><Relationship Id="rId5" Type="http://schemas.openxmlformats.org/officeDocument/2006/relationships/image" Target="../media/image40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slide" Target="slide1.xml"/><Relationship Id="rId11" Type="http://schemas.openxmlformats.org/officeDocument/2006/relationships/image" Target="../media/image46.jpeg"/><Relationship Id="rId12" Type="http://schemas.openxmlformats.org/officeDocument/2006/relationships/image" Target="../media/image47.jpeg"/><Relationship Id="rId1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1.xml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image" Target="../media/image8.png"/><Relationship Id="rId6" Type="http://schemas.openxmlformats.org/officeDocument/2006/relationships/slide" Target="slide6.xml"/><Relationship Id="rId7" Type="http://schemas.openxmlformats.org/officeDocument/2006/relationships/image" Target="../media/image9.png"/><Relationship Id="rId8" Type="http://schemas.openxmlformats.org/officeDocument/2006/relationships/slide" Target="slide12.xml"/><Relationship Id="rId9" Type="http://schemas.openxmlformats.org/officeDocument/2006/relationships/image" Target="../media/image3.png"/><Relationship Id="rId10" Type="http://schemas.openxmlformats.org/officeDocument/2006/relationships/slide" Target="slide11.xml"/><Relationship Id="rId11" Type="http://schemas.openxmlformats.org/officeDocument/2006/relationships/image" Target="../media/image4.png"/><Relationship Id="rId12" Type="http://schemas.openxmlformats.org/officeDocument/2006/relationships/slide" Target="slide10.xml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image" Target="../media/image10.png"/><Relationship Id="rId6" Type="http://schemas.openxmlformats.org/officeDocument/2006/relationships/slide" Target="slide10.xml"/><Relationship Id="rId7" Type="http://schemas.openxmlformats.org/officeDocument/2006/relationships/image" Target="../media/image9.png"/><Relationship Id="rId8" Type="http://schemas.openxmlformats.org/officeDocument/2006/relationships/slide" Target="slide12.xml"/><Relationship Id="rId9" Type="http://schemas.openxmlformats.org/officeDocument/2006/relationships/image" Target="../media/image3.png"/><Relationship Id="rId10" Type="http://schemas.openxmlformats.org/officeDocument/2006/relationships/slide" Target="slide11.xml"/><Relationship Id="rId11" Type="http://schemas.openxmlformats.org/officeDocument/2006/relationships/image" Target="../media/image4.png"/><Relationship Id="rId12" Type="http://schemas.openxmlformats.org/officeDocument/2006/relationships/slide" Target="slide6.xml"/><Relationship Id="rId13" Type="http://schemas.openxmlformats.org/officeDocument/2006/relationships/image" Target="../media/image5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slide" Target="slide12.xml"/><Relationship Id="rId8" Type="http://schemas.openxmlformats.org/officeDocument/2006/relationships/image" Target="../media/image3.png"/><Relationship Id="rId9" Type="http://schemas.openxmlformats.org/officeDocument/2006/relationships/slide" Target="slide6.xml"/><Relationship Id="rId10" Type="http://schemas.openxmlformats.org/officeDocument/2006/relationships/image" Target="../media/image5.png"/><Relationship Id="rId11" Type="http://schemas.openxmlformats.org/officeDocument/2006/relationships/slide" Target="slide10.xm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png"/><Relationship Id="rId4" Type="http://schemas.openxmlformats.org/officeDocument/2006/relationships/slide" Target="slide12.xml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slide" Target="slide11.xml"/><Relationship Id="rId8" Type="http://schemas.openxmlformats.org/officeDocument/2006/relationships/image" Target="../media/image4.png"/><Relationship Id="rId9" Type="http://schemas.openxmlformats.org/officeDocument/2006/relationships/slide" Target="slide6.xml"/><Relationship Id="rId10" Type="http://schemas.openxmlformats.org/officeDocument/2006/relationships/image" Target="../media/image5.png"/><Relationship Id="rId11" Type="http://schemas.openxmlformats.org/officeDocument/2006/relationships/slide" Target="slide10.xm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slide" Target="slide1.xml"/><Relationship Id="rId20" Type="http://schemas.openxmlformats.org/officeDocument/2006/relationships/audio" Target="../media/media17.WAV"/><Relationship Id="rId21" Type="http://schemas.microsoft.com/office/2007/relationships/media" Target="../media/media17.WAV"/><Relationship Id="rId22" Type="http://schemas.openxmlformats.org/officeDocument/2006/relationships/image" Target="../media/image18.png"/><Relationship Id="rId23" Type="http://schemas.openxmlformats.org/officeDocument/2006/relationships/audio" Target="../media/audio1.wav"/><Relationship Id="rId2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slide" Target="slide1.xml"/><Relationship Id="rId20" Type="http://schemas.openxmlformats.org/officeDocument/2006/relationships/audio" Target="../media/audio1.wav"/><Relationship Id="rId2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image" Target="../media/image9.png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9.png"/><Relationship Id="rId19" Type="http://schemas.openxmlformats.org/officeDocument/2006/relationships/image" Target="../media/image19.png"/><Relationship Id="rId20" Type="http://schemas.openxmlformats.org/officeDocument/2006/relationships/image" Target="../media/image19.png"/><Relationship Id="rId21" Type="http://schemas.openxmlformats.org/officeDocument/2006/relationships/image" Target="../media/image19.png"/><Relationship Id="rId22" Type="http://schemas.openxmlformats.org/officeDocument/2006/relationships/image" Target="../media/image19.png"/><Relationship Id="rId23" Type="http://schemas.openxmlformats.org/officeDocument/2006/relationships/image" Target="../media/image19.png"/><Relationship Id="rId24" Type="http://schemas.openxmlformats.org/officeDocument/2006/relationships/image" Target="../media/image19.png"/><Relationship Id="rId25" Type="http://schemas.openxmlformats.org/officeDocument/2006/relationships/image" Target="../media/image19.png"/><Relationship Id="rId26" Type="http://schemas.openxmlformats.org/officeDocument/2006/relationships/image" Target="../media/image19.png"/><Relationship Id="rId27" Type="http://schemas.openxmlformats.org/officeDocument/2006/relationships/image" Target="../media/image20.png"/><Relationship Id="rId28" Type="http://schemas.openxmlformats.org/officeDocument/2006/relationships/image" Target="../media/image21.png"/><Relationship Id="rId29" Type="http://schemas.openxmlformats.org/officeDocument/2006/relationships/image" Target="../media/image22.png"/><Relationship Id="rId30" Type="http://schemas.openxmlformats.org/officeDocument/2006/relationships/image" Target="../media/image23.png"/><Relationship Id="rId31" Type="http://schemas.openxmlformats.org/officeDocument/2006/relationships/image" Target="../media/image24.png"/><Relationship Id="rId32" Type="http://schemas.openxmlformats.org/officeDocument/2006/relationships/image" Target="../media/image25.png"/><Relationship Id="rId33" Type="http://schemas.openxmlformats.org/officeDocument/2006/relationships/slide" Target="slide1.xml"/><Relationship Id="rId3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28.png"/><Relationship Id="rId20" Type="http://schemas.openxmlformats.org/officeDocument/2006/relationships/image" Target="../media/image19.png"/><Relationship Id="rId21" Type="http://schemas.openxmlformats.org/officeDocument/2006/relationships/image" Target="../media/image19.png"/><Relationship Id="rId22" Type="http://schemas.openxmlformats.org/officeDocument/2006/relationships/image" Target="../media/image19.png"/><Relationship Id="rId23" Type="http://schemas.openxmlformats.org/officeDocument/2006/relationships/image" Target="../media/image19.png"/><Relationship Id="rId24" Type="http://schemas.openxmlformats.org/officeDocument/2006/relationships/image" Target="../media/image19.png"/><Relationship Id="rId25" Type="http://schemas.openxmlformats.org/officeDocument/2006/relationships/image" Target="../media/image19.png"/><Relationship Id="rId26" Type="http://schemas.openxmlformats.org/officeDocument/2006/relationships/image" Target="../media/image19.png"/><Relationship Id="rId27" Type="http://schemas.openxmlformats.org/officeDocument/2006/relationships/image" Target="../media/image19.png"/><Relationship Id="rId28" Type="http://schemas.openxmlformats.org/officeDocument/2006/relationships/image" Target="../media/image19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slide" Target="slide1.xml"/><Relationship Id="rId3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df">
            <a:hlinkClick r:id="rId2" action="ppaction://hlinksldjump"/>
          </p:cNvPr>
          <p:cNvPicPr/>
          <p:nvPr/>
        </p:nvPicPr>
        <p:blipFill>
          <a:blip r:embed="rId3"/>
          <a:srcRect l="50880" t="0" r="0" b="0"/>
          <a:stretch/>
        </p:blipFill>
        <p:spPr>
          <a:xfrm>
            <a:off x="4429080" y="-150840"/>
            <a:ext cx="4489200" cy="513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未标题-5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39200" y="123840"/>
            <a:ext cx="1523520" cy="128556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166" name="Picture 8" descr="未标题-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289560" y="312840"/>
            <a:ext cx="1472760" cy="167436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167" name="Picture 9" descr="ji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060720" y="2571840"/>
            <a:ext cx="2222280" cy="217944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168" name="Picture 10" descr="工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341960" y="1149480"/>
            <a:ext cx="1947600" cy="185400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sp>
        <p:nvSpPr>
          <p:cNvPr id="169" name="AutoShape 6"/>
          <p:cNvSpPr/>
          <p:nvPr/>
        </p:nvSpPr>
        <p:spPr>
          <a:xfrm>
            <a:off x="2340000" y="3606840"/>
            <a:ext cx="75960" cy="78840"/>
          </a:xfrm>
          <a:prstGeom prst="chevron">
            <a:avLst>
              <a:gd name="adj" fmla="val 60000"/>
            </a:avLst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170" name="Picture 11" descr=""/>
          <p:cNvPicPr/>
          <p:nvPr/>
        </p:nvPicPr>
        <p:blipFill>
          <a:blip r:embed="rId12"/>
          <a:stretch/>
        </p:blipFill>
        <p:spPr>
          <a:xfrm>
            <a:off x="676800" y="312840"/>
            <a:ext cx="1950480" cy="30290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2"/>
          <p:cNvSpPr/>
          <p:nvPr/>
        </p:nvSpPr>
        <p:spPr>
          <a:xfrm>
            <a:off x="614880" y="732600"/>
            <a:ext cx="587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1">
                    <a:lumMod val="50000"/>
                  </a:schemeClr>
                </a:solidFill>
                <a:latin typeface="Arial"/>
                <a:ea typeface="黑体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1197360" y="766800"/>
            <a:ext cx="1365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  <a:ea typeface="黑体"/>
              </a:rPr>
              <a:t>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"/>
          <p:cNvSpPr/>
          <p:nvPr/>
        </p:nvSpPr>
        <p:spPr>
          <a:xfrm>
            <a:off x="1288080" y="142560"/>
            <a:ext cx="4763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精美创意的个人简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2"/>
          <p:cNvSpPr/>
          <p:nvPr/>
        </p:nvSpPr>
        <p:spPr>
          <a:xfrm>
            <a:off x="332280" y="4677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共"/>
          <p:cNvPicPr/>
          <p:nvPr/>
        </p:nvPicPr>
        <p:blipFill>
          <a:blip r:embed="rId1"/>
          <a:srcRect l="44204" t="0" r="4270" b="45474"/>
          <a:stretch/>
        </p:blipFill>
        <p:spPr>
          <a:xfrm>
            <a:off x="-30240" y="0"/>
            <a:ext cx="4142880" cy="28033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共"/>
          <p:cNvPicPr/>
          <p:nvPr/>
        </p:nvPicPr>
        <p:blipFill>
          <a:blip r:embed="rId2"/>
          <a:srcRect l="45747" t="0" r="4270" b="45474"/>
          <a:stretch/>
        </p:blipFill>
        <p:spPr>
          <a:xfrm>
            <a:off x="4067280" y="0"/>
            <a:ext cx="4025520" cy="28033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共"/>
          <p:cNvPicPr/>
          <p:nvPr/>
        </p:nvPicPr>
        <p:blipFill>
          <a:blip r:embed="rId3"/>
          <a:srcRect l="45747" t="0" r="4270" b="45474"/>
          <a:stretch/>
        </p:blipFill>
        <p:spPr>
          <a:xfrm>
            <a:off x="5475240" y="0"/>
            <a:ext cx="4025520" cy="28033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共"/>
          <p:cNvPicPr/>
          <p:nvPr/>
        </p:nvPicPr>
        <p:blipFill>
          <a:blip r:embed="rId4"/>
          <a:srcRect l="45747" t="2615" r="4270" b="45474"/>
          <a:stretch/>
        </p:blipFill>
        <p:spPr>
          <a:xfrm>
            <a:off x="5334120" y="2494080"/>
            <a:ext cx="4025520" cy="26697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共"/>
          <p:cNvPicPr/>
          <p:nvPr/>
        </p:nvPicPr>
        <p:blipFill>
          <a:blip r:embed="rId5"/>
          <a:srcRect l="45747" t="2416" r="4270" b="45474"/>
          <a:stretch/>
        </p:blipFill>
        <p:spPr>
          <a:xfrm>
            <a:off x="2374920" y="2484360"/>
            <a:ext cx="4025520" cy="2679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共"/>
          <p:cNvPicPr/>
          <p:nvPr/>
        </p:nvPicPr>
        <p:blipFill>
          <a:blip r:embed="rId6"/>
          <a:srcRect l="45747" t="2761" r="4270" b="45474"/>
          <a:stretch/>
        </p:blipFill>
        <p:spPr>
          <a:xfrm>
            <a:off x="-41400" y="2502000"/>
            <a:ext cx="4017600" cy="26618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6197760" y="1780200"/>
            <a:ext cx="2118960" cy="2087280"/>
          </a:xfrm>
          <a:prstGeom prst="rect">
            <a:avLst/>
          </a:prstGeom>
          <a:ln w="47625">
            <a:solidFill>
              <a:srgbClr val="969696"/>
            </a:solidFill>
            <a:miter/>
          </a:ln>
        </p:spPr>
      </p:pic>
      <p:pic>
        <p:nvPicPr>
          <p:cNvPr id="383" name="Picture 9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27640" y="1780200"/>
            <a:ext cx="2118960" cy="2087280"/>
          </a:xfrm>
          <a:prstGeom prst="rect">
            <a:avLst/>
          </a:prstGeom>
          <a:ln w="47625">
            <a:solidFill>
              <a:srgbClr val="969696"/>
            </a:solidFill>
            <a:miter/>
          </a:ln>
        </p:spPr>
      </p:pic>
      <p:pic>
        <p:nvPicPr>
          <p:cNvPr id="384" name="Picture 10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3508200" y="1780200"/>
            <a:ext cx="2120400" cy="2087280"/>
          </a:xfrm>
          <a:prstGeom prst="rect">
            <a:avLst/>
          </a:prstGeom>
          <a:ln w="47625">
            <a:solidFill>
              <a:srgbClr val="969696"/>
            </a:solidFill>
            <a:miter/>
          </a:ln>
        </p:spPr>
      </p:pic>
      <p:pic>
        <p:nvPicPr>
          <p:cNvPr id="385" name="Picture 11" descr="op"/>
          <p:cNvPicPr/>
          <p:nvPr/>
        </p:nvPicPr>
        <p:blipFill>
          <a:blip r:embed="rId11"/>
          <a:stretch/>
        </p:blipFill>
        <p:spPr>
          <a:xfrm>
            <a:off x="1116000" y="0"/>
            <a:ext cx="6533640" cy="9712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2" descr="工"/>
          <p:cNvPicPr/>
          <p:nvPr/>
        </p:nvPicPr>
        <p:blipFill>
          <a:blip r:embed="rId12"/>
          <a:stretch/>
        </p:blipFill>
        <p:spPr>
          <a:xfrm>
            <a:off x="3635280" y="-14400"/>
            <a:ext cx="1522080" cy="132696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13"/>
          <p:cNvSpPr/>
          <p:nvPr/>
        </p:nvSpPr>
        <p:spPr>
          <a:xfrm>
            <a:off x="514440" y="3554280"/>
            <a:ext cx="764820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6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88" name="Text Box 14"/>
          <p:cNvSpPr/>
          <p:nvPr/>
        </p:nvSpPr>
        <p:spPr>
          <a:xfrm>
            <a:off x="-13566600" y="411120"/>
            <a:ext cx="30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389" name="Group 16"/>
          <p:cNvGrpSpPr/>
          <p:nvPr/>
        </p:nvGrpSpPr>
        <p:grpSpPr>
          <a:xfrm>
            <a:off x="395640" y="4540320"/>
            <a:ext cx="1033200" cy="333000"/>
            <a:chOff x="395640" y="4540320"/>
            <a:chExt cx="1033200" cy="333000"/>
          </a:xfrm>
        </p:grpSpPr>
        <p:sp>
          <p:nvSpPr>
            <p:cNvPr id="390" name="Text Box 17"/>
            <p:cNvSpPr/>
            <p:nvPr/>
          </p:nvSpPr>
          <p:spPr>
            <a:xfrm>
              <a:off x="395640" y="4540320"/>
              <a:ext cx="778320" cy="333000"/>
            </a:xfrm>
            <a:prstGeom prst="rect">
              <a:avLst/>
            </a:prstGeom>
            <a:noFill/>
            <a:ln w="0">
              <a:noFill/>
            </a:ln>
            <a:effectLst>
              <a:outerShdw algn="ctr" dir="2437228" dist="116673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18">
              <a:hlinkClick r:id="rId13" action="ppaction://hlinksldjump"/>
            </p:cNvPr>
            <p:cNvSpPr/>
            <p:nvPr/>
          </p:nvSpPr>
          <p:spPr>
            <a:xfrm rot="5400000">
              <a:off x="1197360" y="4624560"/>
              <a:ext cx="209160" cy="253800"/>
            </a:xfrm>
            <a:custGeom>
              <a:avLst/>
              <a:gdLst>
                <a:gd name="textAreaLeft" fmla="*/ 0 w 209160"/>
                <a:gd name="textAreaRight" fmla="*/ 59040 w 209160"/>
                <a:gd name="textAreaTop" fmla="*/ 9756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Arial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04"/>
          <p:cNvPicPr/>
          <p:nvPr/>
        </p:nvPicPr>
        <p:blipFill>
          <a:blip r:embed="rId1"/>
          <a:srcRect l="0" t="0" r="0" b="-82"/>
          <a:stretch/>
        </p:blipFill>
        <p:spPr>
          <a:xfrm>
            <a:off x="-22320" y="-87480"/>
            <a:ext cx="9129240" cy="54496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3"/>
          <p:cNvSpPr/>
          <p:nvPr/>
        </p:nvSpPr>
        <p:spPr>
          <a:xfrm>
            <a:off x="264960" y="120600"/>
            <a:ext cx="8411760" cy="4827240"/>
          </a:xfrm>
          <a:prstGeom prst="rect">
            <a:avLst/>
          </a:prstGeom>
          <a:noFill/>
          <a:ln w="22225">
            <a:solidFill>
              <a:srgbClr val="85777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pic>
        <p:nvPicPr>
          <p:cNvPr id="394" name="Picture 4" descr="未标题-3"/>
          <p:cNvPicPr/>
          <p:nvPr/>
        </p:nvPicPr>
        <p:blipFill>
          <a:blip r:embed="rId2"/>
          <a:stretch/>
        </p:blipFill>
        <p:spPr>
          <a:xfrm>
            <a:off x="7631280" y="-158760"/>
            <a:ext cx="1472760" cy="166824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sp>
        <p:nvSpPr>
          <p:cNvPr id="395" name="Text Box 5"/>
          <p:cNvSpPr/>
          <p:nvPr/>
        </p:nvSpPr>
        <p:spPr>
          <a:xfrm>
            <a:off x="479520" y="755640"/>
            <a:ext cx="72734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参与制作电动车项目开发申请专利，获全国科技创新一等奖， 参与棋类制作项目研发并申请专利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参加模特之星大赛，获得最佳表演奖；参加浐霸房产代言人选拔前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参加大学生广告艺术大赛学院奖，独立制作汉王绘图板策划，获得西北赛区三等奖，平面水墨篇获西北赛区三等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参加大学生艺术团并担任外宣部社长，策划多次纳新活动，迎春晚会，迎新生晚会，和外校联谊活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参加中国策大赛，制作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kappa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策划；参加全国大学生广告大赛，与同学共同制作宝达鞋业策划，七度空间平面，获全国佳作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获得全国网卡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ID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设计全国佳作奖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成为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+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广告社社长，将社员发展到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80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余人，带领组织同学参加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01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年广告节进行广告交流，参加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oneshow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，金犊，学院奖等多项大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6"/>
          <p:cNvGrpSpPr/>
          <p:nvPr/>
        </p:nvGrpSpPr>
        <p:grpSpPr>
          <a:xfrm>
            <a:off x="395640" y="4540320"/>
            <a:ext cx="1033200" cy="333000"/>
            <a:chOff x="395640" y="4540320"/>
            <a:chExt cx="1033200" cy="333000"/>
          </a:xfrm>
        </p:grpSpPr>
        <p:sp>
          <p:nvSpPr>
            <p:cNvPr id="397" name="Text Box 7"/>
            <p:cNvSpPr/>
            <p:nvPr/>
          </p:nvSpPr>
          <p:spPr>
            <a:xfrm>
              <a:off x="395640" y="4540320"/>
              <a:ext cx="778320" cy="333000"/>
            </a:xfrm>
            <a:prstGeom prst="rect">
              <a:avLst/>
            </a:prstGeom>
            <a:noFill/>
            <a:ln w="0">
              <a:noFill/>
            </a:ln>
            <a:effectLst>
              <a:outerShdw algn="ctr" dir="2437228" dist="116673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8">
              <a:hlinkClick r:id="rId3" action="ppaction://hlinksldjump"/>
            </p:cNvPr>
            <p:cNvSpPr/>
            <p:nvPr/>
          </p:nvSpPr>
          <p:spPr>
            <a:xfrm rot="5400000">
              <a:off x="1197360" y="4624560"/>
              <a:ext cx="209160" cy="253800"/>
            </a:xfrm>
            <a:custGeom>
              <a:avLst/>
              <a:gdLst>
                <a:gd name="textAreaLeft" fmla="*/ 0 w 209160"/>
                <a:gd name="textAreaRight" fmla="*/ 59040 w 209160"/>
                <a:gd name="textAreaTop" fmla="*/ 9756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Arial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未标题-1"/>
          <p:cNvPicPr/>
          <p:nvPr/>
        </p:nvPicPr>
        <p:blipFill>
          <a:blip r:embed="rId1"/>
          <a:stretch/>
        </p:blipFill>
        <p:spPr>
          <a:xfrm>
            <a:off x="-755640" y="-434880"/>
            <a:ext cx="10659600" cy="581472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3"/>
          <p:cNvSpPr/>
          <p:nvPr/>
        </p:nvSpPr>
        <p:spPr>
          <a:xfrm>
            <a:off x="0" y="0"/>
            <a:ext cx="9143640" cy="5143320"/>
          </a:xfrm>
          <a:prstGeom prst="rect">
            <a:avLst/>
          </a:prstGeom>
          <a:solidFill>
            <a:schemeClr val="bg1">
              <a:alpha val="3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2808360" y="0"/>
            <a:ext cx="5963760" cy="22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技能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熟练掌握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WORD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EXCEL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等办公软件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熟练掌握设计软件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PS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AI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PT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3D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，并掌握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2DCG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插画，游戏场景设计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熟练掌握摄影技术，后期修图及相册制作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服装表演经验丰富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仿制古代印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4251600" y="2139840"/>
            <a:ext cx="63828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爱好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看书、旅行、绘画、摄影、音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6" descr="_MG_1204副本"/>
          <p:cNvPicPr/>
          <p:nvPr/>
        </p:nvPicPr>
        <p:blipFill>
          <a:blip r:embed="rId2"/>
          <a:stretch/>
        </p:blipFill>
        <p:spPr>
          <a:xfrm>
            <a:off x="0" y="3281400"/>
            <a:ext cx="1402920" cy="880560"/>
          </a:xfrm>
          <a:prstGeom prst="rect">
            <a:avLst/>
          </a:prstGeom>
          <a:ln w="0">
            <a:noFill/>
          </a:ln>
        </p:spPr>
      </p:pic>
      <p:sp>
        <p:nvSpPr>
          <p:cNvPr id="404" name="AutoShape 7"/>
          <p:cNvSpPr/>
          <p:nvPr/>
        </p:nvSpPr>
        <p:spPr>
          <a:xfrm>
            <a:off x="3240" y="2933640"/>
            <a:ext cx="5636880" cy="2477880"/>
          </a:xfrm>
          <a:prstGeom prst="roundRect">
            <a:avLst>
              <a:gd name="adj" fmla="val 16667"/>
            </a:avLst>
          </a:prstGeom>
          <a:solidFill>
            <a:schemeClr val="bg2">
              <a:alpha val="82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pic>
        <p:nvPicPr>
          <p:cNvPr id="405" name="Picture 8" descr="yiyi"/>
          <p:cNvPicPr/>
          <p:nvPr/>
        </p:nvPicPr>
        <p:blipFill>
          <a:blip r:embed="rId3"/>
          <a:stretch/>
        </p:blipFill>
        <p:spPr>
          <a:xfrm>
            <a:off x="1440" y="4084560"/>
            <a:ext cx="1415520" cy="8856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9" descr="未标题-5"/>
          <p:cNvPicPr/>
          <p:nvPr/>
        </p:nvPicPr>
        <p:blipFill>
          <a:blip r:embed="rId4"/>
          <a:stretch/>
        </p:blipFill>
        <p:spPr>
          <a:xfrm>
            <a:off x="534960" y="266760"/>
            <a:ext cx="2273040" cy="191880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sp>
        <p:nvSpPr>
          <p:cNvPr id="407" name="AutoShape 10"/>
          <p:cNvSpPr/>
          <p:nvPr/>
        </p:nvSpPr>
        <p:spPr>
          <a:xfrm>
            <a:off x="5632560" y="2943360"/>
            <a:ext cx="3512880" cy="2461680"/>
          </a:xfrm>
          <a:prstGeom prst="roundRect">
            <a:avLst>
              <a:gd name="adj" fmla="val 16667"/>
            </a:avLst>
          </a:prstGeom>
          <a:solidFill>
            <a:schemeClr val="bg2">
              <a:alpha val="76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pic>
        <p:nvPicPr>
          <p:cNvPr id="408" name="Picture 11" descr="_MG_1204副本"/>
          <p:cNvPicPr/>
          <p:nvPr/>
        </p:nvPicPr>
        <p:blipFill>
          <a:blip r:embed="rId5"/>
          <a:stretch/>
        </p:blipFill>
        <p:spPr>
          <a:xfrm>
            <a:off x="0" y="3289320"/>
            <a:ext cx="1402920" cy="8805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2" descr="DSC00392"/>
          <p:cNvPicPr/>
          <p:nvPr/>
        </p:nvPicPr>
        <p:blipFill>
          <a:blip r:embed="rId6"/>
          <a:stretch/>
        </p:blipFill>
        <p:spPr>
          <a:xfrm>
            <a:off x="8097840" y="3289320"/>
            <a:ext cx="1082160" cy="1717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3" descr="娱乐至死"/>
          <p:cNvPicPr/>
          <p:nvPr/>
        </p:nvPicPr>
        <p:blipFill>
          <a:blip r:embed="rId7"/>
          <a:stretch/>
        </p:blipFill>
        <p:spPr>
          <a:xfrm>
            <a:off x="1403280" y="3292560"/>
            <a:ext cx="1333080" cy="17143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4" descr="未命名-1"/>
          <p:cNvPicPr/>
          <p:nvPr/>
        </p:nvPicPr>
        <p:blipFill>
          <a:blip r:embed="rId8"/>
          <a:stretch/>
        </p:blipFill>
        <p:spPr>
          <a:xfrm>
            <a:off x="2720880" y="3292560"/>
            <a:ext cx="950400" cy="1714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5" descr="作品"/>
          <p:cNvPicPr/>
          <p:nvPr/>
        </p:nvPicPr>
        <p:blipFill>
          <a:blip r:embed="rId9"/>
          <a:stretch/>
        </p:blipFill>
        <p:spPr>
          <a:xfrm>
            <a:off x="4699080" y="3289320"/>
            <a:ext cx="952200" cy="1717200"/>
          </a:xfrm>
          <a:prstGeom prst="rect">
            <a:avLst/>
          </a:prstGeom>
          <a:ln w="0">
            <a:noFill/>
          </a:ln>
        </p:spPr>
      </p:pic>
      <p:grpSp>
        <p:nvGrpSpPr>
          <p:cNvPr id="413" name="Group 16"/>
          <p:cNvGrpSpPr/>
          <p:nvPr/>
        </p:nvGrpSpPr>
        <p:grpSpPr>
          <a:xfrm>
            <a:off x="395640" y="4540320"/>
            <a:ext cx="1033200" cy="333000"/>
            <a:chOff x="395640" y="4540320"/>
            <a:chExt cx="1033200" cy="333000"/>
          </a:xfrm>
        </p:grpSpPr>
        <p:sp>
          <p:nvSpPr>
            <p:cNvPr id="414" name="Text Box 17"/>
            <p:cNvSpPr/>
            <p:nvPr/>
          </p:nvSpPr>
          <p:spPr>
            <a:xfrm>
              <a:off x="395640" y="4540320"/>
              <a:ext cx="778320" cy="333000"/>
            </a:xfrm>
            <a:prstGeom prst="rect">
              <a:avLst/>
            </a:prstGeom>
            <a:noFill/>
            <a:ln w="0">
              <a:noFill/>
            </a:ln>
            <a:effectLst>
              <a:outerShdw algn="ctr" dir="2437228" dist="116673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18">
              <a:hlinkClick r:id="rId10" action="ppaction://hlinksldjump"/>
            </p:cNvPr>
            <p:cNvSpPr/>
            <p:nvPr/>
          </p:nvSpPr>
          <p:spPr>
            <a:xfrm rot="5400000">
              <a:off x="1197360" y="4624560"/>
              <a:ext cx="209160" cy="253800"/>
            </a:xfrm>
            <a:custGeom>
              <a:avLst/>
              <a:gdLst>
                <a:gd name="textAreaLeft" fmla="*/ 0 w 209160"/>
                <a:gd name="textAreaRight" fmla="*/ 59040 w 209160"/>
                <a:gd name="textAreaTop" fmla="*/ 9756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Arial"/>
                <a:ea typeface="黑体"/>
              </a:endParaRPr>
            </a:p>
          </p:txBody>
        </p:sp>
      </p:grpSp>
      <p:pic>
        <p:nvPicPr>
          <p:cNvPr id="416" name="Picture 19" descr="clare-500x706"/>
          <p:cNvPicPr/>
          <p:nvPr/>
        </p:nvPicPr>
        <p:blipFill>
          <a:blip r:embed="rId11"/>
          <a:srcRect l="0" t="0" r="-3278" b="0"/>
          <a:stretch/>
        </p:blipFill>
        <p:spPr>
          <a:xfrm>
            <a:off x="3672000" y="3289320"/>
            <a:ext cx="1083960" cy="17172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0" descr="_MG_6994"/>
          <p:cNvPicPr/>
          <p:nvPr/>
        </p:nvPicPr>
        <p:blipFill>
          <a:blip r:embed="rId12"/>
          <a:stretch/>
        </p:blipFill>
        <p:spPr>
          <a:xfrm>
            <a:off x="5635800" y="3289320"/>
            <a:ext cx="2464920" cy="171720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21"/>
          <p:cNvSpPr/>
          <p:nvPr/>
        </p:nvSpPr>
        <p:spPr>
          <a:xfrm>
            <a:off x="395280" y="2933640"/>
            <a:ext cx="123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作品展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2"/>
          <p:cNvSpPr/>
          <p:nvPr/>
        </p:nvSpPr>
        <p:spPr>
          <a:xfrm>
            <a:off x="395280" y="2943360"/>
            <a:ext cx="123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作品展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3"/>
          <p:cNvSpPr/>
          <p:nvPr/>
        </p:nvSpPr>
        <p:spPr>
          <a:xfrm>
            <a:off x="5889600" y="2955960"/>
            <a:ext cx="123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作品展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4"/>
          <p:cNvSpPr/>
          <p:nvPr/>
        </p:nvSpPr>
        <p:spPr>
          <a:xfrm>
            <a:off x="2808360" y="266760"/>
            <a:ext cx="6156000" cy="2520720"/>
          </a:xfrm>
          <a:prstGeom prst="rect">
            <a:avLst/>
          </a:prstGeom>
          <a:noFill/>
          <a:ln w="19050">
            <a:solidFill>
              <a:srgbClr val="6952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422" name="Text Box 25"/>
          <p:cNvSpPr/>
          <p:nvPr/>
        </p:nvSpPr>
        <p:spPr>
          <a:xfrm>
            <a:off x="5905440" y="2955960"/>
            <a:ext cx="123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作品展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200" cy="513036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3"/>
          <p:cNvSpPr/>
          <p:nvPr/>
        </p:nvSpPr>
        <p:spPr>
          <a:xfrm>
            <a:off x="1187280" y="1911240"/>
            <a:ext cx="5598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ANK  YO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395640" y="4540320"/>
            <a:ext cx="1033200" cy="333000"/>
            <a:chOff x="395640" y="4540320"/>
            <a:chExt cx="1033200" cy="333000"/>
          </a:xfrm>
        </p:grpSpPr>
        <p:sp>
          <p:nvSpPr>
            <p:cNvPr id="426" name="Text Box 5"/>
            <p:cNvSpPr/>
            <p:nvPr/>
          </p:nvSpPr>
          <p:spPr>
            <a:xfrm>
              <a:off x="395640" y="4540320"/>
              <a:ext cx="778320" cy="333000"/>
            </a:xfrm>
            <a:prstGeom prst="rect">
              <a:avLst/>
            </a:prstGeom>
            <a:noFill/>
            <a:ln w="0">
              <a:noFill/>
            </a:ln>
            <a:effectLst>
              <a:outerShdw algn="ctr" dir="2437228" dist="116673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AutoShape 6">
              <a:hlinkClick r:id="rId3" action="ppaction://hlinksldjump"/>
            </p:cNvPr>
            <p:cNvSpPr/>
            <p:nvPr/>
          </p:nvSpPr>
          <p:spPr>
            <a:xfrm rot="5400000">
              <a:off x="1197360" y="4624560"/>
              <a:ext cx="209160" cy="253800"/>
            </a:xfrm>
            <a:custGeom>
              <a:avLst/>
              <a:gdLst>
                <a:gd name="textAreaLeft" fmla="*/ 0 w 209160"/>
                <a:gd name="textAreaRight" fmla="*/ 59040 w 209160"/>
                <a:gd name="textAreaTop" fmla="*/ 9756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Arial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94360" y="14184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宋体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宋体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宋体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宋体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 </a:t>
            </a:r>
            <a:r>
              <a:rPr b="1" lang="en-US" sz="105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         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6607800" y="25020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df">
            <a:hlinkClick r:id="rId2" action="ppaction://hlinksldjump"/>
          </p:cNvPr>
          <p:cNvPicPr/>
          <p:nvPr/>
        </p:nvPicPr>
        <p:blipFill>
          <a:blip r:embed="rId3"/>
          <a:srcRect l="50880" t="0" r="0" b="0"/>
          <a:stretch/>
        </p:blipFill>
        <p:spPr>
          <a:xfrm>
            <a:off x="4429080" y="-150840"/>
            <a:ext cx="4489200" cy="5130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ji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060720" y="2571840"/>
            <a:ext cx="2464920" cy="241884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177" name="Picture 8" descr="xv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046400" y="4211640"/>
            <a:ext cx="588600" cy="767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未标题-5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639200" y="123840"/>
            <a:ext cx="1523520" cy="128556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179" name="Picture 10" descr="未标题-3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289560" y="312840"/>
            <a:ext cx="1472760" cy="167436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180" name="Picture 11" descr="工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341960" y="1149480"/>
            <a:ext cx="1947600" cy="185400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181" name="Picture 12" descr=""/>
          <p:cNvPicPr/>
          <p:nvPr/>
        </p:nvPicPr>
        <p:blipFill>
          <a:blip r:embed="rId14"/>
          <a:stretch/>
        </p:blipFill>
        <p:spPr>
          <a:xfrm>
            <a:off x="676800" y="312840"/>
            <a:ext cx="1950480" cy="30290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3"/>
          <p:cNvSpPr/>
          <p:nvPr/>
        </p:nvSpPr>
        <p:spPr>
          <a:xfrm>
            <a:off x="614880" y="732600"/>
            <a:ext cx="587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1">
                    <a:lumMod val="50000"/>
                  </a:schemeClr>
                </a:solidFill>
                <a:latin typeface="Arial"/>
                <a:ea typeface="黑体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4"/>
          <p:cNvSpPr/>
          <p:nvPr/>
        </p:nvSpPr>
        <p:spPr>
          <a:xfrm>
            <a:off x="1197360" y="766800"/>
            <a:ext cx="1365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  <a:ea typeface="黑体"/>
              </a:rPr>
              <a:t>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df">
            <a:hlinkClick r:id="rId2" action="ppaction://hlinksldjump"/>
          </p:cNvPr>
          <p:cNvPicPr/>
          <p:nvPr/>
        </p:nvPicPr>
        <p:blipFill>
          <a:blip r:embed="rId3"/>
          <a:srcRect l="50880" t="0" r="0" b="0"/>
          <a:stretch/>
        </p:blipFill>
        <p:spPr>
          <a:xfrm>
            <a:off x="4429080" y="-150840"/>
            <a:ext cx="4489200" cy="5130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工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341960" y="1149480"/>
            <a:ext cx="2134800" cy="203148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186" name="Picture 8" descr="xv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148360" y="2571840"/>
            <a:ext cx="588600" cy="767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未标题-5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639200" y="123840"/>
            <a:ext cx="1523520" cy="128556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188" name="Picture 10" descr="未标题-3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289560" y="312840"/>
            <a:ext cx="1472760" cy="167436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189" name="Picture 11" descr="ji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060720" y="2571840"/>
            <a:ext cx="2222280" cy="217944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190" name="Picture 1" descr=""/>
          <p:cNvPicPr/>
          <p:nvPr/>
        </p:nvPicPr>
        <p:blipFill>
          <a:blip r:embed="rId14"/>
          <a:stretch/>
        </p:blipFill>
        <p:spPr>
          <a:xfrm>
            <a:off x="676800" y="312840"/>
            <a:ext cx="1950480" cy="3029040"/>
          </a:xfrm>
          <a:prstGeom prst="rect">
            <a:avLst/>
          </a:prstGeom>
          <a:ln w="0">
            <a:noFill/>
          </a:ln>
        </p:spPr>
      </p:pic>
      <p:sp>
        <p:nvSpPr>
          <p:cNvPr id="191" name="TextBox 2"/>
          <p:cNvSpPr/>
          <p:nvPr/>
        </p:nvSpPr>
        <p:spPr>
          <a:xfrm>
            <a:off x="614880" y="732600"/>
            <a:ext cx="587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1">
                    <a:lumMod val="50000"/>
                  </a:schemeClr>
                </a:solidFill>
                <a:latin typeface="Arial"/>
                <a:ea typeface="黑体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1197360" y="766800"/>
            <a:ext cx="1365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  <a:ea typeface="黑体"/>
              </a:rPr>
              <a:t>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df">
            <a:hlinkClick r:id="rId2" action="ppaction://hlinksldjump"/>
          </p:cNvPr>
          <p:cNvPicPr/>
          <p:nvPr/>
        </p:nvPicPr>
        <p:blipFill>
          <a:blip r:embed="rId3"/>
          <a:srcRect l="50880" t="0" r="0" b="0"/>
          <a:stretch/>
        </p:blipFill>
        <p:spPr>
          <a:xfrm>
            <a:off x="4429080" y="-150840"/>
            <a:ext cx="4489200" cy="5130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未标题-3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289560" y="314280"/>
            <a:ext cx="1606320" cy="182520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195" name="Picture 8" descr="xv"/>
          <p:cNvPicPr/>
          <p:nvPr/>
        </p:nvPicPr>
        <p:blipFill>
          <a:blip r:embed="rId6"/>
          <a:stretch/>
        </p:blipFill>
        <p:spPr>
          <a:xfrm>
            <a:off x="6804000" y="1635120"/>
            <a:ext cx="590040" cy="767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未标题-5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647120" y="123840"/>
            <a:ext cx="1523520" cy="128556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197" name="Picture 10" descr="ji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068640" y="2571840"/>
            <a:ext cx="2222280" cy="217944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198" name="Picture 11" descr="工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341960" y="1149480"/>
            <a:ext cx="1947600" cy="185400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199" name="Picture 12" descr=""/>
          <p:cNvPicPr/>
          <p:nvPr/>
        </p:nvPicPr>
        <p:blipFill>
          <a:blip r:embed="rId13"/>
          <a:stretch/>
        </p:blipFill>
        <p:spPr>
          <a:xfrm>
            <a:off x="676800" y="312840"/>
            <a:ext cx="1950480" cy="30290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3"/>
          <p:cNvSpPr/>
          <p:nvPr/>
        </p:nvSpPr>
        <p:spPr>
          <a:xfrm>
            <a:off x="614880" y="732600"/>
            <a:ext cx="587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1">
                    <a:lumMod val="50000"/>
                  </a:schemeClr>
                </a:solidFill>
                <a:latin typeface="Arial"/>
                <a:ea typeface="黑体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4"/>
          <p:cNvSpPr/>
          <p:nvPr/>
        </p:nvSpPr>
        <p:spPr>
          <a:xfrm>
            <a:off x="1197360" y="766800"/>
            <a:ext cx="1365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  <a:ea typeface="黑体"/>
              </a:rPr>
              <a:t>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df">
            <a:hlinkClick r:id="rId2" action="ppaction://hlinksldjump"/>
          </p:cNvPr>
          <p:cNvPicPr/>
          <p:nvPr/>
        </p:nvPicPr>
        <p:blipFill>
          <a:blip r:embed="rId3"/>
          <a:srcRect l="50880" t="0" r="0" b="0"/>
          <a:stretch/>
        </p:blipFill>
        <p:spPr>
          <a:xfrm>
            <a:off x="4429080" y="-150840"/>
            <a:ext cx="4489200" cy="5130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未标题-5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23200" y="0"/>
            <a:ext cx="1720440" cy="145224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204" name="Picture 8" descr="xv"/>
          <p:cNvPicPr/>
          <p:nvPr/>
        </p:nvPicPr>
        <p:blipFill>
          <a:blip r:embed="rId6"/>
          <a:stretch/>
        </p:blipFill>
        <p:spPr>
          <a:xfrm>
            <a:off x="7956720" y="1068480"/>
            <a:ext cx="588600" cy="767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未标题-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281640" y="312840"/>
            <a:ext cx="1472760" cy="167436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206" name="Picture 10" descr="ji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060720" y="2571840"/>
            <a:ext cx="2222280" cy="217944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207" name="Picture 11" descr="工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341960" y="1149480"/>
            <a:ext cx="1947600" cy="185400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sp>
        <p:nvSpPr>
          <p:cNvPr id="208" name="AutoShape 6"/>
          <p:cNvSpPr/>
          <p:nvPr/>
        </p:nvSpPr>
        <p:spPr>
          <a:xfrm>
            <a:off x="2340000" y="3606840"/>
            <a:ext cx="75960" cy="78840"/>
          </a:xfrm>
          <a:prstGeom prst="chevron">
            <a:avLst>
              <a:gd name="adj" fmla="val 60000"/>
            </a:avLst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209" name="Picture 12" descr=""/>
          <p:cNvPicPr/>
          <p:nvPr/>
        </p:nvPicPr>
        <p:blipFill>
          <a:blip r:embed="rId13"/>
          <a:stretch/>
        </p:blipFill>
        <p:spPr>
          <a:xfrm>
            <a:off x="676800" y="312840"/>
            <a:ext cx="1950480" cy="30290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3"/>
          <p:cNvSpPr/>
          <p:nvPr/>
        </p:nvSpPr>
        <p:spPr>
          <a:xfrm>
            <a:off x="614880" y="732600"/>
            <a:ext cx="587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1">
                    <a:lumMod val="50000"/>
                  </a:schemeClr>
                </a:solidFill>
                <a:latin typeface="Arial"/>
                <a:ea typeface="黑体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4"/>
          <p:cNvSpPr/>
          <p:nvPr/>
        </p:nvSpPr>
        <p:spPr>
          <a:xfrm>
            <a:off x="1197360" y="766800"/>
            <a:ext cx="1365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  <a:ea typeface="黑体"/>
              </a:rPr>
              <a:t>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200" cy="5130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df"/>
          <p:cNvPicPr/>
          <p:nvPr/>
        </p:nvPicPr>
        <p:blipFill>
          <a:blip r:embed="rId3"/>
          <a:stretch/>
        </p:blipFill>
        <p:spPr>
          <a:xfrm>
            <a:off x="-744480" y="312840"/>
            <a:ext cx="4138200" cy="5254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未标题-3"/>
          <p:cNvPicPr/>
          <p:nvPr/>
        </p:nvPicPr>
        <p:blipFill>
          <a:blip r:embed="rId4"/>
          <a:stretch/>
        </p:blipFill>
        <p:spPr>
          <a:xfrm>
            <a:off x="6145200" y="312840"/>
            <a:ext cx="1472760" cy="1674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ji"/>
          <p:cNvPicPr/>
          <p:nvPr/>
        </p:nvPicPr>
        <p:blipFill>
          <a:blip r:embed="rId5"/>
          <a:stretch/>
        </p:blipFill>
        <p:spPr>
          <a:xfrm>
            <a:off x="2916360" y="2571840"/>
            <a:ext cx="2222280" cy="2179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工"/>
          <p:cNvPicPr/>
          <p:nvPr/>
        </p:nvPicPr>
        <p:blipFill>
          <a:blip r:embed="rId6"/>
          <a:stretch/>
        </p:blipFill>
        <p:spPr>
          <a:xfrm>
            <a:off x="4197240" y="1149480"/>
            <a:ext cx="1947600" cy="1854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未标题-5"/>
          <p:cNvPicPr/>
          <p:nvPr/>
        </p:nvPicPr>
        <p:blipFill>
          <a:blip r:embed="rId7"/>
          <a:stretch/>
        </p:blipFill>
        <p:spPr>
          <a:xfrm>
            <a:off x="7486560" y="123840"/>
            <a:ext cx="1523520" cy="128556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218" name="Picture 8" descr="xv"/>
          <p:cNvPicPr/>
          <p:nvPr/>
        </p:nvPicPr>
        <p:blipFill>
          <a:blip r:embed="rId8"/>
          <a:stretch/>
        </p:blipFill>
        <p:spPr>
          <a:xfrm>
            <a:off x="5556240" y="3828960"/>
            <a:ext cx="588600" cy="7678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9"/>
          <p:cNvSpPr/>
          <p:nvPr/>
        </p:nvSpPr>
        <p:spPr>
          <a:xfrm>
            <a:off x="755640" y="3581280"/>
            <a:ext cx="3995280" cy="1425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宋体"/>
              </a:rPr>
              <a:t>CATACT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2286000" y="3564000"/>
            <a:ext cx="355320" cy="159840"/>
          </a:xfrm>
          <a:prstGeom prst="ellipse">
            <a:avLst/>
          </a:prstGeom>
          <a:gradFill rotWithShape="0">
            <a:gsLst>
              <a:gs pos="0">
                <a:srgbClr val="a6acad"/>
              </a:gs>
              <a:gs pos="100000">
                <a:srgbClr val="eef7f8"/>
              </a:gs>
            </a:gsLst>
            <a:lin ang="5400000"/>
          </a:gradFill>
          <a:ln w="9525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221" name="AutoShape 11"/>
          <p:cNvSpPr/>
          <p:nvPr/>
        </p:nvSpPr>
        <p:spPr>
          <a:xfrm>
            <a:off x="2340000" y="3608280"/>
            <a:ext cx="167760" cy="77400"/>
          </a:xfrm>
          <a:prstGeom prst="chevron">
            <a:avLst>
              <a:gd name="adj" fmla="val 129797"/>
            </a:avLst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222" name="Picture 12" descr="未标题-3"/>
          <p:cNvPicPr/>
          <p:nvPr/>
        </p:nvPicPr>
        <p:blipFill>
          <a:blip r:embed="rId9"/>
          <a:stretch/>
        </p:blipFill>
        <p:spPr>
          <a:xfrm>
            <a:off x="6137280" y="312840"/>
            <a:ext cx="1472760" cy="167436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223" name="Picture 13" descr="工"/>
          <p:cNvPicPr/>
          <p:nvPr/>
        </p:nvPicPr>
        <p:blipFill>
          <a:blip r:embed="rId10"/>
          <a:stretch/>
        </p:blipFill>
        <p:spPr>
          <a:xfrm>
            <a:off x="4189320" y="1149480"/>
            <a:ext cx="1947600" cy="185400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224" name="Picture 14" descr="ji"/>
          <p:cNvPicPr/>
          <p:nvPr/>
        </p:nvPicPr>
        <p:blipFill>
          <a:blip r:embed="rId11"/>
          <a:stretch/>
        </p:blipFill>
        <p:spPr>
          <a:xfrm>
            <a:off x="-38160" y="-9360"/>
            <a:ext cx="9919800" cy="5495400"/>
          </a:xfrm>
          <a:prstGeom prst="rect">
            <a:avLst/>
          </a:prstGeom>
          <a:ln w="0">
            <a:noFill/>
          </a:ln>
          <a:effectLst>
            <a:outerShdw algn="ctr" dir="13237229" dist="116673" rotWithShape="0">
              <a:srgbClr val="808080">
                <a:alpha val="50000"/>
              </a:srgbClr>
            </a:outerShdw>
          </a:effectLst>
        </p:spPr>
      </p:pic>
      <p:grpSp>
        <p:nvGrpSpPr>
          <p:cNvPr id="225" name="Group 15"/>
          <p:cNvGrpSpPr/>
          <p:nvPr/>
        </p:nvGrpSpPr>
        <p:grpSpPr>
          <a:xfrm>
            <a:off x="-38160" y="4316400"/>
            <a:ext cx="6914880" cy="826560"/>
            <a:chOff x="-38160" y="4316400"/>
            <a:chExt cx="6914880" cy="826560"/>
          </a:xfrm>
        </p:grpSpPr>
        <p:pic>
          <p:nvPicPr>
            <p:cNvPr id="226" name="Picture 16" descr="ji"/>
            <p:cNvPicPr/>
            <p:nvPr/>
          </p:nvPicPr>
          <p:blipFill>
            <a:blip r:embed="rId12"/>
            <a:stretch/>
          </p:blipFill>
          <p:spPr>
            <a:xfrm>
              <a:off x="-38160" y="4316400"/>
              <a:ext cx="847440" cy="82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17" descr="ji"/>
            <p:cNvPicPr/>
            <p:nvPr/>
          </p:nvPicPr>
          <p:blipFill>
            <a:blip r:embed="rId13"/>
            <a:stretch/>
          </p:blipFill>
          <p:spPr>
            <a:xfrm>
              <a:off x="740520" y="4316400"/>
              <a:ext cx="3331440" cy="8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18" descr="ji"/>
            <p:cNvPicPr/>
            <p:nvPr/>
          </p:nvPicPr>
          <p:blipFill>
            <a:blip r:embed="rId14"/>
            <a:stretch/>
          </p:blipFill>
          <p:spPr>
            <a:xfrm>
              <a:off x="3545280" y="4316400"/>
              <a:ext cx="3331440" cy="80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Group 19"/>
          <p:cNvGrpSpPr/>
          <p:nvPr/>
        </p:nvGrpSpPr>
        <p:grpSpPr>
          <a:xfrm>
            <a:off x="8426880" y="-82440"/>
            <a:ext cx="825120" cy="6914880"/>
            <a:chOff x="8426880" y="-82440"/>
            <a:chExt cx="825120" cy="6914880"/>
          </a:xfrm>
        </p:grpSpPr>
        <p:pic>
          <p:nvPicPr>
            <p:cNvPr id="230" name="Picture 20" descr="ji"/>
            <p:cNvPicPr/>
            <p:nvPr/>
          </p:nvPicPr>
          <p:blipFill>
            <a:blip r:embed="rId15"/>
            <a:stretch/>
          </p:blipFill>
          <p:spPr>
            <a:xfrm rot="5400000">
              <a:off x="8415720" y="-71280"/>
              <a:ext cx="847440" cy="82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21" descr="ji"/>
            <p:cNvPicPr/>
            <p:nvPr/>
          </p:nvPicPr>
          <p:blipFill>
            <a:blip r:embed="rId16"/>
            <a:stretch/>
          </p:blipFill>
          <p:spPr>
            <a:xfrm rot="5400000">
              <a:off x="7184520" y="1960200"/>
              <a:ext cx="3331440" cy="8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22" descr="ji"/>
            <p:cNvPicPr/>
            <p:nvPr/>
          </p:nvPicPr>
          <p:blipFill>
            <a:blip r:embed="rId17"/>
            <a:stretch/>
          </p:blipFill>
          <p:spPr>
            <a:xfrm rot="5400000">
              <a:off x="7184520" y="4764960"/>
              <a:ext cx="3331440" cy="80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3" name="Picture 23" descr="ji"/>
          <p:cNvPicPr/>
          <p:nvPr/>
        </p:nvPicPr>
        <p:blipFill>
          <a:blip r:embed="rId18"/>
          <a:stretch/>
        </p:blipFill>
        <p:spPr>
          <a:xfrm>
            <a:off x="6516720" y="2736720"/>
            <a:ext cx="3219120" cy="315864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sp>
        <p:nvSpPr>
          <p:cNvPr id="234" name="Text Box 24"/>
          <p:cNvSpPr/>
          <p:nvPr/>
        </p:nvSpPr>
        <p:spPr>
          <a:xfrm>
            <a:off x="755640" y="312840"/>
            <a:ext cx="426600" cy="11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755640" y="482760"/>
            <a:ext cx="7035480" cy="1186920"/>
          </a:xfrm>
          <a:prstGeom prst="rect">
            <a:avLst/>
          </a:prstGeom>
          <a:solidFill>
            <a:schemeClr val="accent1">
              <a:alpha val="41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姓名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年龄：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性别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工作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755640" y="2016000"/>
            <a:ext cx="56257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教育背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1" lang="en-US" sz="1400" spc="-1" strike="noStrike">
                <a:solidFill>
                  <a:srgbClr val="ffffff"/>
                </a:solidFill>
                <a:latin typeface="黑体"/>
                <a:ea typeface="黑体"/>
              </a:rPr>
              <a:t>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学习内容包括平面设计</a:t>
            </a:r>
            <a:r>
              <a:rPr b="1" lang="en-US" sz="1400" spc="-1" strike="noStrike">
                <a:solidFill>
                  <a:srgbClr val="ffffff"/>
                </a:solidFill>
                <a:latin typeface="黑体"/>
                <a:ea typeface="黑体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英语程度是专业八级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普通话水平一级甲等</a:t>
            </a:r>
            <a:r>
              <a:rPr b="1" lang="en-US" sz="1400" spc="-1" strike="noStrike">
                <a:solidFill>
                  <a:srgbClr val="ffffff"/>
                </a:solidFill>
                <a:latin typeface="黑体"/>
                <a:ea typeface="黑体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1" lang="en-US" sz="1400" spc="-1" strike="noStrike">
                <a:solidFill>
                  <a:srgbClr val="ffffff"/>
                </a:solidFill>
                <a:latin typeface="黑体"/>
                <a:ea typeface="黑体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27"/>
          <p:cNvGrpSpPr/>
          <p:nvPr/>
        </p:nvGrpSpPr>
        <p:grpSpPr>
          <a:xfrm>
            <a:off x="395640" y="4540320"/>
            <a:ext cx="1033200" cy="333000"/>
            <a:chOff x="395640" y="4540320"/>
            <a:chExt cx="1033200" cy="333000"/>
          </a:xfrm>
        </p:grpSpPr>
        <p:sp>
          <p:nvSpPr>
            <p:cNvPr id="238" name="Text Box 28"/>
            <p:cNvSpPr/>
            <p:nvPr/>
          </p:nvSpPr>
          <p:spPr>
            <a:xfrm>
              <a:off x="395640" y="4540320"/>
              <a:ext cx="778320" cy="333000"/>
            </a:xfrm>
            <a:prstGeom prst="rect">
              <a:avLst/>
            </a:prstGeom>
            <a:noFill/>
            <a:ln w="0">
              <a:noFill/>
            </a:ln>
            <a:effectLst>
              <a:outerShdw algn="ctr" dir="2437228" dist="116673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29">
              <a:hlinkClick r:id="rId19" action="ppaction://hlinksldjump"/>
            </p:cNvPr>
            <p:cNvSpPr/>
            <p:nvPr/>
          </p:nvSpPr>
          <p:spPr>
            <a:xfrm rot="5400000">
              <a:off x="1197360" y="4624560"/>
              <a:ext cx="209160" cy="253800"/>
            </a:xfrm>
            <a:custGeom>
              <a:avLst/>
              <a:gdLst>
                <a:gd name="textAreaLeft" fmla="*/ 0 w 209160"/>
                <a:gd name="textAreaRight" fmla="*/ 59040 w 209160"/>
                <a:gd name="textAreaTop" fmla="*/ 9756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Arial"/>
                <a:ea typeface="黑体"/>
              </a:endParaRPr>
            </a:p>
          </p:txBody>
        </p:sp>
      </p:grpSp>
      <p:pic>
        <p:nvPicPr>
          <p:cNvPr id="240" name="" descr="">
            <a:hlinkClick r:id="" action="ppaction://media"/>
          </p:cNvPr>
          <p:cNvPicPr/>
          <p:nvPr>
            <a:audioFile r:link="rId20"/>
            <p:extLst>
              <p:ext uri="{DAA4B4D4-6D71-4841-9C94-3DE7FCFB9230}">
                <p14:media r:embed="rId21"/>
              </p:ext>
            </p:extLst>
          </p:nvPr>
        </p:nvPicPr>
        <p:blipFill>
          <a:blip r:embed="rId22"/>
          <a:stretch>
            <a:fillRect/>
          </a:stretch>
        </p:blipFill>
        <p:spPr>
          <a:xfrm>
            <a:off x="-608040" y="3398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"/>
          <p:cNvSpPr/>
          <p:nvPr/>
        </p:nvSpPr>
        <p:spPr>
          <a:xfrm>
            <a:off x="6660360" y="482760"/>
            <a:ext cx="957960" cy="11887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chemeClr val="accent5">
                    <a:lumMod val="75000"/>
                  </a:schemeClr>
                </a:solidFill>
                <a:latin typeface="Arial"/>
                <a:ea typeface="黑体"/>
              </a:rPr>
              <a:t>照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23" name="audio1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>
                  <p:stCondLst>
                    <p:cond delay="indefinite"/>
                  </p:stCondLst>
                  <p:endCondLst>
                    <p:cond delay="0" evt="onPrev"/>
                    <p:cond delay="0" evt="onStopAudio"/>
                  </p:endCondLst>
                </p:cTn>
                <p:tgtEl>
                  <p:spTgt spid="240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200" cy="5130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df"/>
          <p:cNvPicPr/>
          <p:nvPr/>
        </p:nvPicPr>
        <p:blipFill>
          <a:blip r:embed="rId3"/>
          <a:stretch/>
        </p:blipFill>
        <p:spPr>
          <a:xfrm>
            <a:off x="-744480" y="312840"/>
            <a:ext cx="4138200" cy="52542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未标题-3"/>
          <p:cNvPicPr/>
          <p:nvPr/>
        </p:nvPicPr>
        <p:blipFill>
          <a:blip r:embed="rId4"/>
          <a:stretch/>
        </p:blipFill>
        <p:spPr>
          <a:xfrm>
            <a:off x="6145200" y="312840"/>
            <a:ext cx="1472760" cy="1674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ji"/>
          <p:cNvPicPr/>
          <p:nvPr/>
        </p:nvPicPr>
        <p:blipFill>
          <a:blip r:embed="rId5"/>
          <a:stretch/>
        </p:blipFill>
        <p:spPr>
          <a:xfrm>
            <a:off x="2916360" y="2571840"/>
            <a:ext cx="2222280" cy="2179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工"/>
          <p:cNvPicPr/>
          <p:nvPr/>
        </p:nvPicPr>
        <p:blipFill>
          <a:blip r:embed="rId6"/>
          <a:stretch/>
        </p:blipFill>
        <p:spPr>
          <a:xfrm>
            <a:off x="4197240" y="1149480"/>
            <a:ext cx="1947600" cy="1854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未标题-5"/>
          <p:cNvPicPr/>
          <p:nvPr/>
        </p:nvPicPr>
        <p:blipFill>
          <a:blip r:embed="rId7"/>
          <a:stretch/>
        </p:blipFill>
        <p:spPr>
          <a:xfrm>
            <a:off x="7486560" y="123840"/>
            <a:ext cx="1523520" cy="128556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248" name="Picture 8" descr="xv"/>
          <p:cNvPicPr/>
          <p:nvPr/>
        </p:nvPicPr>
        <p:blipFill>
          <a:blip r:embed="rId8"/>
          <a:stretch/>
        </p:blipFill>
        <p:spPr>
          <a:xfrm>
            <a:off x="5556240" y="3828960"/>
            <a:ext cx="588600" cy="7678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9"/>
          <p:cNvSpPr/>
          <p:nvPr/>
        </p:nvSpPr>
        <p:spPr>
          <a:xfrm>
            <a:off x="755640" y="3581280"/>
            <a:ext cx="3995280" cy="1425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宋体"/>
              </a:rPr>
              <a:t>CATACT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0"/>
          <p:cNvSpPr/>
          <p:nvPr/>
        </p:nvSpPr>
        <p:spPr>
          <a:xfrm>
            <a:off x="2286000" y="3564000"/>
            <a:ext cx="355320" cy="159840"/>
          </a:xfrm>
          <a:prstGeom prst="ellipse">
            <a:avLst/>
          </a:prstGeom>
          <a:gradFill rotWithShape="0">
            <a:gsLst>
              <a:gs pos="0">
                <a:srgbClr val="a6acad"/>
              </a:gs>
              <a:gs pos="100000">
                <a:srgbClr val="eef7f8"/>
              </a:gs>
            </a:gsLst>
            <a:lin ang="5400000"/>
          </a:gradFill>
          <a:ln w="9525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251" name="AutoShape 11"/>
          <p:cNvSpPr/>
          <p:nvPr/>
        </p:nvSpPr>
        <p:spPr>
          <a:xfrm>
            <a:off x="2340000" y="3608280"/>
            <a:ext cx="167760" cy="77400"/>
          </a:xfrm>
          <a:prstGeom prst="chevron">
            <a:avLst>
              <a:gd name="adj" fmla="val 129797"/>
            </a:avLst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252" name="Picture 12" descr="未标题-3"/>
          <p:cNvPicPr/>
          <p:nvPr/>
        </p:nvPicPr>
        <p:blipFill>
          <a:blip r:embed="rId9"/>
          <a:stretch/>
        </p:blipFill>
        <p:spPr>
          <a:xfrm>
            <a:off x="6137280" y="312840"/>
            <a:ext cx="1472760" cy="167436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253" name="Picture 13" descr="工"/>
          <p:cNvPicPr/>
          <p:nvPr/>
        </p:nvPicPr>
        <p:blipFill>
          <a:blip r:embed="rId10"/>
          <a:stretch/>
        </p:blipFill>
        <p:spPr>
          <a:xfrm>
            <a:off x="4189320" y="1149480"/>
            <a:ext cx="1947600" cy="185400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254" name="Picture 14" descr="ji"/>
          <p:cNvPicPr/>
          <p:nvPr/>
        </p:nvPicPr>
        <p:blipFill>
          <a:blip r:embed="rId11"/>
          <a:stretch/>
        </p:blipFill>
        <p:spPr>
          <a:xfrm>
            <a:off x="0" y="0"/>
            <a:ext cx="9923040" cy="5501880"/>
          </a:xfrm>
          <a:prstGeom prst="rect">
            <a:avLst/>
          </a:prstGeom>
          <a:ln w="0">
            <a:noFill/>
          </a:ln>
          <a:effectLst>
            <a:outerShdw algn="ctr" dir="13237229" dist="116673" rotWithShape="0">
              <a:srgbClr val="808080">
                <a:alpha val="50000"/>
              </a:srgbClr>
            </a:outerShdw>
          </a:effectLst>
        </p:spPr>
      </p:pic>
      <p:grpSp>
        <p:nvGrpSpPr>
          <p:cNvPr id="255" name="Group 15"/>
          <p:cNvGrpSpPr/>
          <p:nvPr/>
        </p:nvGrpSpPr>
        <p:grpSpPr>
          <a:xfrm>
            <a:off x="-38160" y="4316400"/>
            <a:ext cx="6914880" cy="826560"/>
            <a:chOff x="-38160" y="4316400"/>
            <a:chExt cx="6914880" cy="826560"/>
          </a:xfrm>
        </p:grpSpPr>
        <p:pic>
          <p:nvPicPr>
            <p:cNvPr id="256" name="Picture 16" descr="ji"/>
            <p:cNvPicPr/>
            <p:nvPr/>
          </p:nvPicPr>
          <p:blipFill>
            <a:blip r:embed="rId12"/>
            <a:stretch/>
          </p:blipFill>
          <p:spPr>
            <a:xfrm>
              <a:off x="-38160" y="4316400"/>
              <a:ext cx="847440" cy="82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17" descr="ji"/>
            <p:cNvPicPr/>
            <p:nvPr/>
          </p:nvPicPr>
          <p:blipFill>
            <a:blip r:embed="rId13"/>
            <a:stretch/>
          </p:blipFill>
          <p:spPr>
            <a:xfrm>
              <a:off x="740520" y="4316400"/>
              <a:ext cx="3331440" cy="8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18" descr="ji"/>
            <p:cNvPicPr/>
            <p:nvPr/>
          </p:nvPicPr>
          <p:blipFill>
            <a:blip r:embed="rId14"/>
            <a:stretch/>
          </p:blipFill>
          <p:spPr>
            <a:xfrm>
              <a:off x="3545280" y="4316400"/>
              <a:ext cx="3331440" cy="80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9" name="Group 19"/>
          <p:cNvGrpSpPr/>
          <p:nvPr/>
        </p:nvGrpSpPr>
        <p:grpSpPr>
          <a:xfrm>
            <a:off x="8426880" y="-82440"/>
            <a:ext cx="825120" cy="6914880"/>
            <a:chOff x="8426880" y="-82440"/>
            <a:chExt cx="825120" cy="6914880"/>
          </a:xfrm>
        </p:grpSpPr>
        <p:pic>
          <p:nvPicPr>
            <p:cNvPr id="260" name="Picture 20" descr="ji"/>
            <p:cNvPicPr/>
            <p:nvPr/>
          </p:nvPicPr>
          <p:blipFill>
            <a:blip r:embed="rId15"/>
            <a:stretch/>
          </p:blipFill>
          <p:spPr>
            <a:xfrm rot="5400000">
              <a:off x="8415720" y="-71280"/>
              <a:ext cx="847440" cy="82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21" descr="ji"/>
            <p:cNvPicPr/>
            <p:nvPr/>
          </p:nvPicPr>
          <p:blipFill>
            <a:blip r:embed="rId16"/>
            <a:stretch/>
          </p:blipFill>
          <p:spPr>
            <a:xfrm rot="5400000">
              <a:off x="7184520" y="1960200"/>
              <a:ext cx="3331440" cy="8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22" descr="ji"/>
            <p:cNvPicPr/>
            <p:nvPr/>
          </p:nvPicPr>
          <p:blipFill>
            <a:blip r:embed="rId17"/>
            <a:stretch/>
          </p:blipFill>
          <p:spPr>
            <a:xfrm rot="5400000">
              <a:off x="7184520" y="4764960"/>
              <a:ext cx="3331440" cy="80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3" name="Picture 23" descr="ji"/>
          <p:cNvPicPr/>
          <p:nvPr/>
        </p:nvPicPr>
        <p:blipFill>
          <a:blip r:embed="rId18"/>
          <a:stretch/>
        </p:blipFill>
        <p:spPr>
          <a:xfrm>
            <a:off x="6516720" y="2736720"/>
            <a:ext cx="3219120" cy="315864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sp>
        <p:nvSpPr>
          <p:cNvPr id="264" name="Text Box 24"/>
          <p:cNvSpPr/>
          <p:nvPr/>
        </p:nvSpPr>
        <p:spPr>
          <a:xfrm>
            <a:off x="755640" y="312840"/>
            <a:ext cx="426600" cy="11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-1832040" y="339840"/>
            <a:ext cx="642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en-US" sz="44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66" name="Text Box 26"/>
          <p:cNvSpPr/>
          <p:nvPr/>
        </p:nvSpPr>
        <p:spPr>
          <a:xfrm>
            <a:off x="493560" y="1101600"/>
            <a:ext cx="9241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性格开朗，擅长与人交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27"/>
          <p:cNvGrpSpPr/>
          <p:nvPr/>
        </p:nvGrpSpPr>
        <p:grpSpPr>
          <a:xfrm>
            <a:off x="-1844640" y="-14400"/>
            <a:ext cx="8461440" cy="786600"/>
            <a:chOff x="-1844640" y="-14400"/>
            <a:chExt cx="8461440" cy="786600"/>
          </a:xfrm>
        </p:grpSpPr>
        <p:sp>
          <p:nvSpPr>
            <p:cNvPr id="268" name="Text Box 28"/>
            <p:cNvSpPr/>
            <p:nvPr/>
          </p:nvSpPr>
          <p:spPr>
            <a:xfrm>
              <a:off x="184320" y="-14400"/>
              <a:ext cx="64324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306a66"/>
                  </a:solidFill>
                  <a:latin typeface="黑体"/>
                  <a:ea typeface="黑体"/>
                </a:rPr>
                <a:t>自我评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9"/>
            <p:cNvSpPr/>
            <p:nvPr/>
          </p:nvSpPr>
          <p:spPr>
            <a:xfrm>
              <a:off x="-1844640" y="12240"/>
              <a:ext cx="64206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自我评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 Box 30"/>
          <p:cNvSpPr/>
          <p:nvPr/>
        </p:nvSpPr>
        <p:spPr>
          <a:xfrm>
            <a:off x="3236400" y="192420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洞察力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1"/>
          <p:cNvSpPr/>
          <p:nvPr/>
        </p:nvSpPr>
        <p:spPr>
          <a:xfrm>
            <a:off x="1505880" y="2778120"/>
            <a:ext cx="26499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工作积极主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办事靠谱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32"/>
          <p:cNvGrpSpPr/>
          <p:nvPr/>
        </p:nvGrpSpPr>
        <p:grpSpPr>
          <a:xfrm>
            <a:off x="395640" y="4540320"/>
            <a:ext cx="1033200" cy="333000"/>
            <a:chOff x="395640" y="4540320"/>
            <a:chExt cx="1033200" cy="333000"/>
          </a:xfrm>
        </p:grpSpPr>
        <p:sp>
          <p:nvSpPr>
            <p:cNvPr id="273" name="Text Box 33"/>
            <p:cNvSpPr/>
            <p:nvPr/>
          </p:nvSpPr>
          <p:spPr>
            <a:xfrm>
              <a:off x="395640" y="4540320"/>
              <a:ext cx="778320" cy="333000"/>
            </a:xfrm>
            <a:prstGeom prst="rect">
              <a:avLst/>
            </a:prstGeom>
            <a:noFill/>
            <a:ln w="0">
              <a:noFill/>
            </a:ln>
            <a:effectLst>
              <a:outerShdw algn="ctr" dir="2437228" dist="116673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34">
              <a:hlinkClick r:id="rId19" action="ppaction://hlinksldjump"/>
            </p:cNvPr>
            <p:cNvSpPr/>
            <p:nvPr/>
          </p:nvSpPr>
          <p:spPr>
            <a:xfrm rot="5400000">
              <a:off x="1197360" y="4624560"/>
              <a:ext cx="209160" cy="253800"/>
            </a:xfrm>
            <a:custGeom>
              <a:avLst/>
              <a:gdLst>
                <a:gd name="textAreaLeft" fmla="*/ 0 w 209160"/>
                <a:gd name="textAreaRight" fmla="*/ 59040 w 209160"/>
                <a:gd name="textAreaTop" fmla="*/ 9756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Arial"/>
                <a:ea typeface="黑体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xit" presetID="37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1"/>
                            </p:stCondLst>
                            <p:childTnLst>
                              <p:par>
                                <p:cTn id="71" nodeType="after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4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20">
                                      <p:cBhvr>
                                        <p:cTn id="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20">
                                      <p:cBhvr>
                                        <p:cTn id="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651"/>
                            </p:stCondLst>
                            <p:childTnLst>
                              <p:par>
                                <p:cTn id="82" nodeType="afterEffect" fill="hold" presetClass="path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-0.33333 E">
                                      <p:cBhvr>
                                        <p:cTn id="83" dur="5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7151"/>
                            </p:stCondLst>
                            <p:childTnLst>
                              <p:par>
                                <p:cTn id="85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df"/>
          <p:cNvPicPr/>
          <p:nvPr/>
        </p:nvPicPr>
        <p:blipFill>
          <a:blip r:embed="rId1"/>
          <a:srcRect l="50880" t="0" r="0" b="0"/>
          <a:stretch/>
        </p:blipFill>
        <p:spPr>
          <a:xfrm>
            <a:off x="4429080" y="-268200"/>
            <a:ext cx="4489200" cy="5130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df"/>
          <p:cNvPicPr/>
          <p:nvPr/>
        </p:nvPicPr>
        <p:blipFill>
          <a:blip r:embed="rId2"/>
          <a:stretch/>
        </p:blipFill>
        <p:spPr>
          <a:xfrm>
            <a:off x="-744480" y="195120"/>
            <a:ext cx="4136760" cy="52542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未标题-3"/>
          <p:cNvPicPr/>
          <p:nvPr/>
        </p:nvPicPr>
        <p:blipFill>
          <a:blip r:embed="rId3"/>
          <a:stretch/>
        </p:blipFill>
        <p:spPr>
          <a:xfrm>
            <a:off x="6145200" y="195120"/>
            <a:ext cx="1472760" cy="1674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ji"/>
          <p:cNvPicPr/>
          <p:nvPr/>
        </p:nvPicPr>
        <p:blipFill>
          <a:blip r:embed="rId4"/>
          <a:stretch/>
        </p:blipFill>
        <p:spPr>
          <a:xfrm>
            <a:off x="2916360" y="2454120"/>
            <a:ext cx="2222280" cy="2179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工"/>
          <p:cNvPicPr/>
          <p:nvPr/>
        </p:nvPicPr>
        <p:blipFill>
          <a:blip r:embed="rId5"/>
          <a:stretch/>
        </p:blipFill>
        <p:spPr>
          <a:xfrm>
            <a:off x="4197240" y="1031760"/>
            <a:ext cx="1947600" cy="1854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未标题-5"/>
          <p:cNvPicPr/>
          <p:nvPr/>
        </p:nvPicPr>
        <p:blipFill>
          <a:blip r:embed="rId6"/>
          <a:stretch/>
        </p:blipFill>
        <p:spPr>
          <a:xfrm>
            <a:off x="7486560" y="6480"/>
            <a:ext cx="1523520" cy="128556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281" name="Picture 8" descr="xv"/>
          <p:cNvPicPr/>
          <p:nvPr/>
        </p:nvPicPr>
        <p:blipFill>
          <a:blip r:embed="rId7"/>
          <a:stretch/>
        </p:blipFill>
        <p:spPr>
          <a:xfrm>
            <a:off x="5556240" y="3711600"/>
            <a:ext cx="588600" cy="7678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9"/>
          <p:cNvSpPr/>
          <p:nvPr/>
        </p:nvSpPr>
        <p:spPr>
          <a:xfrm>
            <a:off x="755640" y="3463920"/>
            <a:ext cx="3995280" cy="1425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eeece1"/>
                </a:solidFill>
                <a:latin typeface="Arial"/>
                <a:ea typeface="宋体"/>
              </a:rPr>
              <a:t>CATACT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2286000" y="3446640"/>
            <a:ext cx="355320" cy="159840"/>
          </a:xfrm>
          <a:prstGeom prst="ellipse">
            <a:avLst/>
          </a:prstGeom>
          <a:gradFill rotWithShape="0">
            <a:gsLst>
              <a:gs pos="0">
                <a:srgbClr val="a6acad"/>
              </a:gs>
              <a:gs pos="100000">
                <a:srgbClr val="eef7f8"/>
              </a:gs>
            </a:gsLst>
            <a:lin ang="5400000"/>
          </a:gradFill>
          <a:ln w="9525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284" name="AutoShape 11"/>
          <p:cNvSpPr/>
          <p:nvPr/>
        </p:nvSpPr>
        <p:spPr>
          <a:xfrm>
            <a:off x="2340000" y="3490920"/>
            <a:ext cx="167760" cy="77400"/>
          </a:xfrm>
          <a:prstGeom prst="chevron">
            <a:avLst>
              <a:gd name="adj" fmla="val 129797"/>
            </a:avLst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285" name="Picture 12" descr="未标题-3"/>
          <p:cNvPicPr/>
          <p:nvPr/>
        </p:nvPicPr>
        <p:blipFill>
          <a:blip r:embed="rId8"/>
          <a:stretch/>
        </p:blipFill>
        <p:spPr>
          <a:xfrm>
            <a:off x="6137280" y="195120"/>
            <a:ext cx="1472760" cy="167436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286" name="Picture 13" descr="工"/>
          <p:cNvPicPr/>
          <p:nvPr/>
        </p:nvPicPr>
        <p:blipFill>
          <a:blip r:embed="rId9"/>
          <a:stretch/>
        </p:blipFill>
        <p:spPr>
          <a:xfrm>
            <a:off x="4189320" y="1031760"/>
            <a:ext cx="1947600" cy="185400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287" name="Picture 14" descr="ji"/>
          <p:cNvPicPr/>
          <p:nvPr/>
        </p:nvPicPr>
        <p:blipFill>
          <a:blip r:embed="rId10"/>
          <a:stretch/>
        </p:blipFill>
        <p:spPr>
          <a:xfrm>
            <a:off x="0" y="22320"/>
            <a:ext cx="9923040" cy="5501880"/>
          </a:xfrm>
          <a:prstGeom prst="rect">
            <a:avLst/>
          </a:prstGeom>
          <a:ln w="0">
            <a:noFill/>
          </a:ln>
          <a:effectLst>
            <a:outerShdw algn="ctr" dir="13237229" dist="116673" rotWithShape="0">
              <a:srgbClr val="808080">
                <a:alpha val="50000"/>
              </a:srgbClr>
            </a:outerShdw>
          </a:effectLst>
        </p:spPr>
      </p:pic>
      <p:grpSp>
        <p:nvGrpSpPr>
          <p:cNvPr id="288" name="Group 15"/>
          <p:cNvGrpSpPr/>
          <p:nvPr/>
        </p:nvGrpSpPr>
        <p:grpSpPr>
          <a:xfrm>
            <a:off x="-38160" y="4199040"/>
            <a:ext cx="6913440" cy="826560"/>
            <a:chOff x="-38160" y="4199040"/>
            <a:chExt cx="6913440" cy="826560"/>
          </a:xfrm>
        </p:grpSpPr>
        <p:pic>
          <p:nvPicPr>
            <p:cNvPr id="289" name="Picture 16" descr="ji"/>
            <p:cNvPicPr/>
            <p:nvPr/>
          </p:nvPicPr>
          <p:blipFill>
            <a:blip r:embed="rId11"/>
            <a:stretch/>
          </p:blipFill>
          <p:spPr>
            <a:xfrm>
              <a:off x="-38160" y="4199040"/>
              <a:ext cx="847440" cy="82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17" descr="ji"/>
            <p:cNvPicPr/>
            <p:nvPr/>
          </p:nvPicPr>
          <p:blipFill>
            <a:blip r:embed="rId12"/>
            <a:stretch/>
          </p:blipFill>
          <p:spPr>
            <a:xfrm>
              <a:off x="740520" y="4199040"/>
              <a:ext cx="3330720" cy="8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18" descr="ji"/>
            <p:cNvPicPr/>
            <p:nvPr/>
          </p:nvPicPr>
          <p:blipFill>
            <a:blip r:embed="rId13"/>
            <a:stretch/>
          </p:blipFill>
          <p:spPr>
            <a:xfrm>
              <a:off x="3544560" y="4199040"/>
              <a:ext cx="3330720" cy="80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2" name="Group 19"/>
          <p:cNvGrpSpPr/>
          <p:nvPr/>
        </p:nvGrpSpPr>
        <p:grpSpPr>
          <a:xfrm>
            <a:off x="8423640" y="-200160"/>
            <a:ext cx="825120" cy="6914880"/>
            <a:chOff x="8423640" y="-200160"/>
            <a:chExt cx="825120" cy="6914880"/>
          </a:xfrm>
        </p:grpSpPr>
        <p:pic>
          <p:nvPicPr>
            <p:cNvPr id="293" name="Picture 20" descr="ji"/>
            <p:cNvPicPr/>
            <p:nvPr/>
          </p:nvPicPr>
          <p:blipFill>
            <a:blip r:embed="rId14"/>
            <a:stretch/>
          </p:blipFill>
          <p:spPr>
            <a:xfrm rot="5400000">
              <a:off x="8412480" y="-189000"/>
              <a:ext cx="847440" cy="82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21" descr="ji"/>
            <p:cNvPicPr/>
            <p:nvPr/>
          </p:nvPicPr>
          <p:blipFill>
            <a:blip r:embed="rId15"/>
            <a:stretch/>
          </p:blipFill>
          <p:spPr>
            <a:xfrm rot="5400000">
              <a:off x="7181280" y="1842480"/>
              <a:ext cx="3331440" cy="8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22" descr="ji"/>
            <p:cNvPicPr/>
            <p:nvPr/>
          </p:nvPicPr>
          <p:blipFill>
            <a:blip r:embed="rId16"/>
            <a:stretch/>
          </p:blipFill>
          <p:spPr>
            <a:xfrm rot="5400000">
              <a:off x="7181280" y="4647240"/>
              <a:ext cx="3331440" cy="80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6" name="Picture 23" descr="ji"/>
          <p:cNvPicPr/>
          <p:nvPr/>
        </p:nvPicPr>
        <p:blipFill>
          <a:blip r:embed="rId17"/>
          <a:stretch/>
        </p:blipFill>
        <p:spPr>
          <a:xfrm>
            <a:off x="6516720" y="2619360"/>
            <a:ext cx="3219120" cy="315864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sp>
        <p:nvSpPr>
          <p:cNvPr id="297" name="Text Box 24"/>
          <p:cNvSpPr/>
          <p:nvPr/>
        </p:nvSpPr>
        <p:spPr>
          <a:xfrm>
            <a:off x="755640" y="195120"/>
            <a:ext cx="426600" cy="11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8" name="矩形 7"/>
          <p:cNvSpPr/>
          <p:nvPr/>
        </p:nvSpPr>
        <p:spPr>
          <a:xfrm>
            <a:off x="0" y="0"/>
            <a:ext cx="914364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18"/>
          <a:stretch/>
        </p:blipFill>
        <p:spPr>
          <a:xfrm>
            <a:off x="1920960" y="1851120"/>
            <a:ext cx="437760" cy="11901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"/>
          <p:cNvPicPr/>
          <p:nvPr/>
        </p:nvPicPr>
        <p:blipFill>
          <a:blip r:embed="rId19"/>
          <a:stretch/>
        </p:blipFill>
        <p:spPr>
          <a:xfrm>
            <a:off x="2527200" y="1851120"/>
            <a:ext cx="437760" cy="11901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8" descr=""/>
          <p:cNvPicPr/>
          <p:nvPr/>
        </p:nvPicPr>
        <p:blipFill>
          <a:blip r:embed="rId20"/>
          <a:stretch/>
        </p:blipFill>
        <p:spPr>
          <a:xfrm>
            <a:off x="3135240" y="1851120"/>
            <a:ext cx="437760" cy="11901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"/>
          <p:cNvPicPr/>
          <p:nvPr/>
        </p:nvPicPr>
        <p:blipFill>
          <a:blip r:embed="rId21"/>
          <a:stretch/>
        </p:blipFill>
        <p:spPr>
          <a:xfrm>
            <a:off x="3743280" y="1851120"/>
            <a:ext cx="437760" cy="11901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0" descr=""/>
          <p:cNvPicPr/>
          <p:nvPr/>
        </p:nvPicPr>
        <p:blipFill>
          <a:blip r:embed="rId22"/>
          <a:stretch/>
        </p:blipFill>
        <p:spPr>
          <a:xfrm>
            <a:off x="4351320" y="1851120"/>
            <a:ext cx="437760" cy="119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1" descr=""/>
          <p:cNvPicPr/>
          <p:nvPr/>
        </p:nvPicPr>
        <p:blipFill>
          <a:blip r:embed="rId23"/>
          <a:stretch/>
        </p:blipFill>
        <p:spPr>
          <a:xfrm>
            <a:off x="4959360" y="1851120"/>
            <a:ext cx="437760" cy="1190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2" descr=""/>
          <p:cNvPicPr/>
          <p:nvPr/>
        </p:nvPicPr>
        <p:blipFill>
          <a:blip r:embed="rId24"/>
          <a:stretch/>
        </p:blipFill>
        <p:spPr>
          <a:xfrm>
            <a:off x="5567400" y="1851120"/>
            <a:ext cx="437760" cy="11901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3" descr=""/>
          <p:cNvPicPr/>
          <p:nvPr/>
        </p:nvPicPr>
        <p:blipFill>
          <a:blip r:embed="rId25"/>
          <a:stretch/>
        </p:blipFill>
        <p:spPr>
          <a:xfrm>
            <a:off x="6175440" y="1851120"/>
            <a:ext cx="437760" cy="11901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4" descr=""/>
          <p:cNvPicPr/>
          <p:nvPr/>
        </p:nvPicPr>
        <p:blipFill>
          <a:blip r:embed="rId26"/>
          <a:stretch/>
        </p:blipFill>
        <p:spPr>
          <a:xfrm>
            <a:off x="6775560" y="1851120"/>
            <a:ext cx="437760" cy="1190160"/>
          </a:xfrm>
          <a:prstGeom prst="rect">
            <a:avLst/>
          </a:prstGeom>
          <a:ln w="0">
            <a:noFill/>
          </a:ln>
        </p:spPr>
      </p:pic>
      <p:sp>
        <p:nvSpPr>
          <p:cNvPr id="308" name="TextBox 16"/>
          <p:cNvSpPr/>
          <p:nvPr/>
        </p:nvSpPr>
        <p:spPr>
          <a:xfrm>
            <a:off x="3345480" y="339840"/>
            <a:ext cx="2452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有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众人之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6"/>
          <p:cNvSpPr/>
          <p:nvPr/>
        </p:nvSpPr>
        <p:spPr>
          <a:xfrm rot="1033200">
            <a:off x="7277040" y="1409400"/>
            <a:ext cx="250560" cy="429840"/>
          </a:xfrm>
          <a:custGeom>
            <a:avLst/>
            <a:gdLst>
              <a:gd name="textAreaLeft" fmla="*/ 0 w 250560"/>
              <a:gd name="textAreaRight" fmla="*/ 250920 w 250560"/>
              <a:gd name="textAreaTop" fmla="*/ 0 h 429840"/>
              <a:gd name="textAreaBottom" fmla="*/ 430200 h 429840"/>
            </a:gdLst>
            <a:ahLst/>
            <a:rect l="textAreaLeft" t="textAreaTop" r="textAreaRight" b="textAreaBottom"/>
            <a:pathLst>
              <a:path w="279" h="476">
                <a:moveTo>
                  <a:pt x="98" y="359"/>
                </a:moveTo>
                <a:cubicBezTo>
                  <a:pt x="90" y="359"/>
                  <a:pt x="82" y="356"/>
                  <a:pt x="76" y="349"/>
                </a:cubicBezTo>
                <a:cubicBezTo>
                  <a:pt x="70" y="343"/>
                  <a:pt x="67" y="336"/>
                  <a:pt x="67" y="327"/>
                </a:cubicBezTo>
                <a:cubicBezTo>
                  <a:pt x="67" y="313"/>
                  <a:pt x="80" y="296"/>
                  <a:pt x="106" y="275"/>
                </a:cubicBezTo>
                <a:cubicBezTo>
                  <a:pt x="179" y="220"/>
                  <a:pt x="179" y="220"/>
                  <a:pt x="179" y="220"/>
                </a:cubicBezTo>
                <a:cubicBezTo>
                  <a:pt x="206" y="197"/>
                  <a:pt x="219" y="176"/>
                  <a:pt x="219" y="158"/>
                </a:cubicBezTo>
                <a:cubicBezTo>
                  <a:pt x="219" y="134"/>
                  <a:pt x="208" y="112"/>
                  <a:pt x="185" y="92"/>
                </a:cubicBezTo>
                <a:cubicBezTo>
                  <a:pt x="164" y="72"/>
                  <a:pt x="141" y="63"/>
                  <a:pt x="117" y="63"/>
                </a:cubicBezTo>
                <a:cubicBezTo>
                  <a:pt x="104" y="63"/>
                  <a:pt x="88" y="69"/>
                  <a:pt x="68" y="83"/>
                </a:cubicBezTo>
                <a:cubicBezTo>
                  <a:pt x="48" y="96"/>
                  <a:pt x="36" y="102"/>
                  <a:pt x="31" y="102"/>
                </a:cubicBezTo>
                <a:cubicBezTo>
                  <a:pt x="23" y="102"/>
                  <a:pt x="15" y="99"/>
                  <a:pt x="9" y="92"/>
                </a:cubicBezTo>
                <a:cubicBezTo>
                  <a:pt x="3" y="85"/>
                  <a:pt x="0" y="78"/>
                  <a:pt x="0" y="70"/>
                </a:cubicBezTo>
                <a:cubicBezTo>
                  <a:pt x="0" y="53"/>
                  <a:pt x="16" y="37"/>
                  <a:pt x="47" y="21"/>
                </a:cubicBezTo>
                <a:cubicBezTo>
                  <a:pt x="75" y="7"/>
                  <a:pt x="98" y="0"/>
                  <a:pt x="117" y="0"/>
                </a:cubicBezTo>
                <a:cubicBezTo>
                  <a:pt x="158" y="0"/>
                  <a:pt x="195" y="16"/>
                  <a:pt x="229" y="48"/>
                </a:cubicBezTo>
                <a:cubicBezTo>
                  <a:pt x="263" y="80"/>
                  <a:pt x="279" y="117"/>
                  <a:pt x="279" y="158"/>
                </a:cubicBezTo>
                <a:cubicBezTo>
                  <a:pt x="279" y="188"/>
                  <a:pt x="270" y="214"/>
                  <a:pt x="250" y="237"/>
                </a:cubicBezTo>
                <a:cubicBezTo>
                  <a:pt x="239" y="251"/>
                  <a:pt x="218" y="269"/>
                  <a:pt x="187" y="291"/>
                </a:cubicBezTo>
                <a:cubicBezTo>
                  <a:pt x="155" y="314"/>
                  <a:pt x="133" y="332"/>
                  <a:pt x="121" y="346"/>
                </a:cubicBezTo>
                <a:cubicBezTo>
                  <a:pt x="114" y="355"/>
                  <a:pt x="106" y="359"/>
                  <a:pt x="98" y="359"/>
                </a:cubicBezTo>
                <a:close/>
                <a:moveTo>
                  <a:pt x="81" y="476"/>
                </a:moveTo>
                <a:cubicBezTo>
                  <a:pt x="72" y="476"/>
                  <a:pt x="64" y="473"/>
                  <a:pt x="57" y="467"/>
                </a:cubicBezTo>
                <a:cubicBezTo>
                  <a:pt x="50" y="461"/>
                  <a:pt x="46" y="453"/>
                  <a:pt x="46" y="445"/>
                </a:cubicBezTo>
                <a:cubicBezTo>
                  <a:pt x="46" y="432"/>
                  <a:pt x="49" y="421"/>
                  <a:pt x="56" y="410"/>
                </a:cubicBezTo>
                <a:cubicBezTo>
                  <a:pt x="64" y="399"/>
                  <a:pt x="73" y="393"/>
                  <a:pt x="85" y="393"/>
                </a:cubicBezTo>
                <a:cubicBezTo>
                  <a:pt x="105" y="393"/>
                  <a:pt x="115" y="405"/>
                  <a:pt x="115" y="429"/>
                </a:cubicBezTo>
                <a:cubicBezTo>
                  <a:pt x="115" y="441"/>
                  <a:pt x="112" y="451"/>
                  <a:pt x="107" y="460"/>
                </a:cubicBezTo>
                <a:cubicBezTo>
                  <a:pt x="100" y="470"/>
                  <a:pt x="92" y="476"/>
                  <a:pt x="81" y="47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310" name="Freeform 6"/>
          <p:cNvSpPr/>
          <p:nvPr/>
        </p:nvSpPr>
        <p:spPr>
          <a:xfrm rot="448200">
            <a:off x="5270400" y="1118880"/>
            <a:ext cx="345600" cy="590040"/>
          </a:xfrm>
          <a:custGeom>
            <a:avLst/>
            <a:gdLst>
              <a:gd name="textAreaLeft" fmla="*/ 0 w 345600"/>
              <a:gd name="textAreaRight" fmla="*/ 345960 w 345600"/>
              <a:gd name="textAreaTop" fmla="*/ 0 h 590040"/>
              <a:gd name="textAreaBottom" fmla="*/ 590400 h 590040"/>
            </a:gdLst>
            <a:ahLst/>
            <a:rect l="textAreaLeft" t="textAreaTop" r="textAreaRight" b="textAreaBottom"/>
            <a:pathLst>
              <a:path w="279" h="476">
                <a:moveTo>
                  <a:pt x="98" y="359"/>
                </a:moveTo>
                <a:cubicBezTo>
                  <a:pt x="90" y="359"/>
                  <a:pt x="82" y="356"/>
                  <a:pt x="76" y="349"/>
                </a:cubicBezTo>
                <a:cubicBezTo>
                  <a:pt x="70" y="343"/>
                  <a:pt x="67" y="336"/>
                  <a:pt x="67" y="327"/>
                </a:cubicBezTo>
                <a:cubicBezTo>
                  <a:pt x="67" y="313"/>
                  <a:pt x="80" y="296"/>
                  <a:pt x="106" y="275"/>
                </a:cubicBezTo>
                <a:cubicBezTo>
                  <a:pt x="179" y="220"/>
                  <a:pt x="179" y="220"/>
                  <a:pt x="179" y="220"/>
                </a:cubicBezTo>
                <a:cubicBezTo>
                  <a:pt x="206" y="197"/>
                  <a:pt x="219" y="176"/>
                  <a:pt x="219" y="158"/>
                </a:cubicBezTo>
                <a:cubicBezTo>
                  <a:pt x="219" y="134"/>
                  <a:pt x="208" y="112"/>
                  <a:pt x="185" y="92"/>
                </a:cubicBezTo>
                <a:cubicBezTo>
                  <a:pt x="164" y="72"/>
                  <a:pt x="141" y="63"/>
                  <a:pt x="117" y="63"/>
                </a:cubicBezTo>
                <a:cubicBezTo>
                  <a:pt x="104" y="63"/>
                  <a:pt x="88" y="69"/>
                  <a:pt x="68" y="83"/>
                </a:cubicBezTo>
                <a:cubicBezTo>
                  <a:pt x="48" y="96"/>
                  <a:pt x="36" y="102"/>
                  <a:pt x="31" y="102"/>
                </a:cubicBezTo>
                <a:cubicBezTo>
                  <a:pt x="23" y="102"/>
                  <a:pt x="15" y="99"/>
                  <a:pt x="9" y="92"/>
                </a:cubicBezTo>
                <a:cubicBezTo>
                  <a:pt x="3" y="85"/>
                  <a:pt x="0" y="78"/>
                  <a:pt x="0" y="70"/>
                </a:cubicBezTo>
                <a:cubicBezTo>
                  <a:pt x="0" y="53"/>
                  <a:pt x="16" y="37"/>
                  <a:pt x="47" y="21"/>
                </a:cubicBezTo>
                <a:cubicBezTo>
                  <a:pt x="75" y="7"/>
                  <a:pt x="98" y="0"/>
                  <a:pt x="117" y="0"/>
                </a:cubicBezTo>
                <a:cubicBezTo>
                  <a:pt x="158" y="0"/>
                  <a:pt x="195" y="16"/>
                  <a:pt x="229" y="48"/>
                </a:cubicBezTo>
                <a:cubicBezTo>
                  <a:pt x="263" y="80"/>
                  <a:pt x="279" y="117"/>
                  <a:pt x="279" y="158"/>
                </a:cubicBezTo>
                <a:cubicBezTo>
                  <a:pt x="279" y="188"/>
                  <a:pt x="270" y="214"/>
                  <a:pt x="250" y="237"/>
                </a:cubicBezTo>
                <a:cubicBezTo>
                  <a:pt x="239" y="251"/>
                  <a:pt x="218" y="269"/>
                  <a:pt x="187" y="291"/>
                </a:cubicBezTo>
                <a:cubicBezTo>
                  <a:pt x="155" y="314"/>
                  <a:pt x="133" y="332"/>
                  <a:pt x="121" y="346"/>
                </a:cubicBezTo>
                <a:cubicBezTo>
                  <a:pt x="114" y="355"/>
                  <a:pt x="106" y="359"/>
                  <a:pt x="98" y="359"/>
                </a:cubicBezTo>
                <a:close/>
                <a:moveTo>
                  <a:pt x="81" y="476"/>
                </a:moveTo>
                <a:cubicBezTo>
                  <a:pt x="72" y="476"/>
                  <a:pt x="64" y="473"/>
                  <a:pt x="57" y="467"/>
                </a:cubicBezTo>
                <a:cubicBezTo>
                  <a:pt x="50" y="461"/>
                  <a:pt x="46" y="453"/>
                  <a:pt x="46" y="445"/>
                </a:cubicBezTo>
                <a:cubicBezTo>
                  <a:pt x="46" y="432"/>
                  <a:pt x="49" y="421"/>
                  <a:pt x="56" y="410"/>
                </a:cubicBezTo>
                <a:cubicBezTo>
                  <a:pt x="64" y="399"/>
                  <a:pt x="73" y="393"/>
                  <a:pt x="85" y="393"/>
                </a:cubicBezTo>
                <a:cubicBezTo>
                  <a:pt x="105" y="393"/>
                  <a:pt x="115" y="405"/>
                  <a:pt x="115" y="429"/>
                </a:cubicBezTo>
                <a:cubicBezTo>
                  <a:pt x="115" y="441"/>
                  <a:pt x="112" y="451"/>
                  <a:pt x="107" y="460"/>
                </a:cubicBezTo>
                <a:cubicBezTo>
                  <a:pt x="100" y="470"/>
                  <a:pt x="92" y="476"/>
                  <a:pt x="81" y="47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311" name="Freeform 6"/>
          <p:cNvSpPr/>
          <p:nvPr/>
        </p:nvSpPr>
        <p:spPr>
          <a:xfrm rot="19806000">
            <a:off x="1676160" y="1398600"/>
            <a:ext cx="269640" cy="460080"/>
          </a:xfrm>
          <a:custGeom>
            <a:avLst/>
            <a:gdLst>
              <a:gd name="textAreaLeft" fmla="*/ 0 w 269640"/>
              <a:gd name="textAreaRight" fmla="*/ 270000 w 26964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279" h="476">
                <a:moveTo>
                  <a:pt x="98" y="359"/>
                </a:moveTo>
                <a:cubicBezTo>
                  <a:pt x="90" y="359"/>
                  <a:pt x="82" y="356"/>
                  <a:pt x="76" y="349"/>
                </a:cubicBezTo>
                <a:cubicBezTo>
                  <a:pt x="70" y="343"/>
                  <a:pt x="67" y="336"/>
                  <a:pt x="67" y="327"/>
                </a:cubicBezTo>
                <a:cubicBezTo>
                  <a:pt x="67" y="313"/>
                  <a:pt x="80" y="296"/>
                  <a:pt x="106" y="275"/>
                </a:cubicBezTo>
                <a:cubicBezTo>
                  <a:pt x="179" y="220"/>
                  <a:pt x="179" y="220"/>
                  <a:pt x="179" y="220"/>
                </a:cubicBezTo>
                <a:cubicBezTo>
                  <a:pt x="206" y="197"/>
                  <a:pt x="219" y="176"/>
                  <a:pt x="219" y="158"/>
                </a:cubicBezTo>
                <a:cubicBezTo>
                  <a:pt x="219" y="134"/>
                  <a:pt x="208" y="112"/>
                  <a:pt x="185" y="92"/>
                </a:cubicBezTo>
                <a:cubicBezTo>
                  <a:pt x="164" y="72"/>
                  <a:pt x="141" y="63"/>
                  <a:pt x="117" y="63"/>
                </a:cubicBezTo>
                <a:cubicBezTo>
                  <a:pt x="104" y="63"/>
                  <a:pt x="88" y="69"/>
                  <a:pt x="68" y="83"/>
                </a:cubicBezTo>
                <a:cubicBezTo>
                  <a:pt x="48" y="96"/>
                  <a:pt x="36" y="102"/>
                  <a:pt x="31" y="102"/>
                </a:cubicBezTo>
                <a:cubicBezTo>
                  <a:pt x="23" y="102"/>
                  <a:pt x="15" y="99"/>
                  <a:pt x="9" y="92"/>
                </a:cubicBezTo>
                <a:cubicBezTo>
                  <a:pt x="3" y="85"/>
                  <a:pt x="0" y="78"/>
                  <a:pt x="0" y="70"/>
                </a:cubicBezTo>
                <a:cubicBezTo>
                  <a:pt x="0" y="53"/>
                  <a:pt x="16" y="37"/>
                  <a:pt x="47" y="21"/>
                </a:cubicBezTo>
                <a:cubicBezTo>
                  <a:pt x="75" y="7"/>
                  <a:pt x="98" y="0"/>
                  <a:pt x="117" y="0"/>
                </a:cubicBezTo>
                <a:cubicBezTo>
                  <a:pt x="158" y="0"/>
                  <a:pt x="195" y="16"/>
                  <a:pt x="229" y="48"/>
                </a:cubicBezTo>
                <a:cubicBezTo>
                  <a:pt x="263" y="80"/>
                  <a:pt x="279" y="117"/>
                  <a:pt x="279" y="158"/>
                </a:cubicBezTo>
                <a:cubicBezTo>
                  <a:pt x="279" y="188"/>
                  <a:pt x="270" y="214"/>
                  <a:pt x="250" y="237"/>
                </a:cubicBezTo>
                <a:cubicBezTo>
                  <a:pt x="239" y="251"/>
                  <a:pt x="218" y="269"/>
                  <a:pt x="187" y="291"/>
                </a:cubicBezTo>
                <a:cubicBezTo>
                  <a:pt x="155" y="314"/>
                  <a:pt x="133" y="332"/>
                  <a:pt x="121" y="346"/>
                </a:cubicBezTo>
                <a:cubicBezTo>
                  <a:pt x="114" y="355"/>
                  <a:pt x="106" y="359"/>
                  <a:pt x="98" y="359"/>
                </a:cubicBezTo>
                <a:close/>
                <a:moveTo>
                  <a:pt x="81" y="476"/>
                </a:moveTo>
                <a:cubicBezTo>
                  <a:pt x="72" y="476"/>
                  <a:pt x="64" y="473"/>
                  <a:pt x="57" y="467"/>
                </a:cubicBezTo>
                <a:cubicBezTo>
                  <a:pt x="50" y="461"/>
                  <a:pt x="46" y="453"/>
                  <a:pt x="46" y="445"/>
                </a:cubicBezTo>
                <a:cubicBezTo>
                  <a:pt x="46" y="432"/>
                  <a:pt x="49" y="421"/>
                  <a:pt x="56" y="410"/>
                </a:cubicBezTo>
                <a:cubicBezTo>
                  <a:pt x="64" y="399"/>
                  <a:pt x="73" y="393"/>
                  <a:pt x="85" y="393"/>
                </a:cubicBezTo>
                <a:cubicBezTo>
                  <a:pt x="105" y="393"/>
                  <a:pt x="115" y="405"/>
                  <a:pt x="115" y="429"/>
                </a:cubicBezTo>
                <a:cubicBezTo>
                  <a:pt x="115" y="441"/>
                  <a:pt x="112" y="451"/>
                  <a:pt x="107" y="460"/>
                </a:cubicBezTo>
                <a:cubicBezTo>
                  <a:pt x="100" y="470"/>
                  <a:pt x="92" y="476"/>
                  <a:pt x="81" y="47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pic>
        <p:nvPicPr>
          <p:cNvPr id="312" name="Picture 6" descr=""/>
          <p:cNvPicPr/>
          <p:nvPr/>
        </p:nvPicPr>
        <p:blipFill>
          <a:blip r:embed="rId27"/>
          <a:stretch/>
        </p:blipFill>
        <p:spPr>
          <a:xfrm>
            <a:off x="3143160" y="1386000"/>
            <a:ext cx="437760" cy="1653840"/>
          </a:xfrm>
          <a:prstGeom prst="rect">
            <a:avLst/>
          </a:prstGeom>
          <a:ln w="0">
            <a:noFill/>
          </a:ln>
        </p:spPr>
      </p:pic>
      <p:sp>
        <p:nvSpPr>
          <p:cNvPr id="313" name="TextBox 20"/>
          <p:cNvSpPr/>
          <p:nvPr/>
        </p:nvSpPr>
        <p:spPr>
          <a:xfrm>
            <a:off x="3533040" y="388800"/>
            <a:ext cx="2422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定要有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亮点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直接连接符 21"/>
          <p:cNvCxnSpPr/>
          <p:nvPr/>
        </p:nvCxnSpPr>
        <p:spPr>
          <a:xfrm flipH="1">
            <a:off x="3000240" y="1374480"/>
            <a:ext cx="357480" cy="360"/>
          </a:xfrm>
          <a:prstGeom prst="straightConnector1">
            <a:avLst/>
          </a:prstGeom>
          <a:ln w="9525">
            <a:solidFill>
              <a:srgbClr val="404040"/>
            </a:solidFill>
            <a:round/>
          </a:ln>
        </p:spPr>
      </p:cxnSp>
      <p:cxnSp>
        <p:nvCxnSpPr>
          <p:cNvPr id="315" name="直接连接符 22"/>
          <p:cNvCxnSpPr/>
          <p:nvPr/>
        </p:nvCxnSpPr>
        <p:spPr>
          <a:xfrm flipH="1">
            <a:off x="3000240" y="3046320"/>
            <a:ext cx="357480" cy="360"/>
          </a:xfrm>
          <a:prstGeom prst="straightConnector1">
            <a:avLst/>
          </a:prstGeom>
          <a:ln w="9525">
            <a:solidFill>
              <a:srgbClr val="404040"/>
            </a:solidFill>
            <a:round/>
          </a:ln>
        </p:spPr>
      </p:cxnSp>
      <p:cxnSp>
        <p:nvCxnSpPr>
          <p:cNvPr id="316" name="直接连接符 23"/>
          <p:cNvCxnSpPr/>
          <p:nvPr/>
        </p:nvCxnSpPr>
        <p:spPr>
          <a:xfrm>
            <a:off x="3071520" y="1379520"/>
            <a:ext cx="360" cy="1656000"/>
          </a:xfrm>
          <a:prstGeom prst="straightConnector1">
            <a:avLst/>
          </a:prstGeom>
          <a:ln w="9525">
            <a:solidFill>
              <a:srgbClr val="404040"/>
            </a:solidFill>
            <a:prstDash val="dash"/>
            <a:round/>
          </a:ln>
        </p:spPr>
      </p:cxnSp>
      <p:sp>
        <p:nvSpPr>
          <p:cNvPr id="317" name="TextBox 24"/>
          <p:cNvSpPr/>
          <p:nvPr/>
        </p:nvSpPr>
        <p:spPr>
          <a:xfrm>
            <a:off x="2491920" y="1036800"/>
            <a:ext cx="1403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宋体"/>
              </a:rPr>
              <a:t>2.26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5"/>
          <p:cNvGrpSpPr/>
          <p:nvPr/>
        </p:nvGrpSpPr>
        <p:grpSpPr>
          <a:xfrm>
            <a:off x="3425040" y="965880"/>
            <a:ext cx="591120" cy="502920"/>
            <a:chOff x="3425040" y="965880"/>
            <a:chExt cx="591120" cy="502920"/>
          </a:xfrm>
        </p:grpSpPr>
        <p:pic>
          <p:nvPicPr>
            <p:cNvPr id="319" name="组合 33" descr=""/>
            <p:cNvPicPr/>
            <p:nvPr/>
          </p:nvPicPr>
          <p:blipFill>
            <a:blip r:embed="rId28"/>
            <a:stretch/>
          </p:blipFill>
          <p:spPr>
            <a:xfrm>
              <a:off x="3523320" y="999720"/>
              <a:ext cx="365400" cy="469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0" name="直接连接符 27"/>
            <p:cNvCxnSpPr/>
            <p:nvPr/>
          </p:nvCxnSpPr>
          <p:spPr>
            <a:xfrm>
              <a:off x="3425040" y="1075320"/>
              <a:ext cx="92160" cy="19440"/>
            </a:xfrm>
            <a:prstGeom prst="straightConnector1">
              <a:avLst/>
            </a:prstGeom>
            <a:ln w="6350">
              <a:solidFill>
                <a:srgbClr val="7f7f7f"/>
              </a:solidFill>
              <a:round/>
            </a:ln>
          </p:spPr>
        </p:cxnSp>
        <p:cxnSp>
          <p:nvCxnSpPr>
            <p:cNvPr id="321" name="直接连接符 28"/>
            <p:cNvCxnSpPr/>
            <p:nvPr/>
          </p:nvCxnSpPr>
          <p:spPr>
            <a:xfrm>
              <a:off x="3454200" y="1011240"/>
              <a:ext cx="97200" cy="44640"/>
            </a:xfrm>
            <a:prstGeom prst="straightConnector1">
              <a:avLst/>
            </a:prstGeom>
            <a:ln w="6350">
              <a:solidFill>
                <a:srgbClr val="7f7f7f"/>
              </a:solidFill>
              <a:round/>
            </a:ln>
          </p:spPr>
        </p:cxnSp>
        <p:cxnSp>
          <p:nvCxnSpPr>
            <p:cNvPr id="322" name="直接连接符 29"/>
            <p:cNvCxnSpPr/>
            <p:nvPr/>
          </p:nvCxnSpPr>
          <p:spPr>
            <a:xfrm>
              <a:off x="3515760" y="965880"/>
              <a:ext cx="45360" cy="38520"/>
            </a:xfrm>
            <a:prstGeom prst="straightConnector1">
              <a:avLst/>
            </a:prstGeom>
            <a:ln w="6350">
              <a:solidFill>
                <a:srgbClr val="7f7f7f"/>
              </a:solidFill>
              <a:round/>
            </a:ln>
          </p:spPr>
        </p:cxnSp>
        <p:cxnSp>
          <p:nvCxnSpPr>
            <p:cNvPr id="323" name="直接连接符 30"/>
            <p:cNvCxnSpPr/>
            <p:nvPr/>
          </p:nvCxnSpPr>
          <p:spPr>
            <a:xfrm flipH="1" flipV="1">
              <a:off x="3892680" y="1282680"/>
              <a:ext cx="70920" cy="61920"/>
            </a:xfrm>
            <a:prstGeom prst="straightConnector1">
              <a:avLst/>
            </a:prstGeom>
            <a:ln w="6350">
              <a:solidFill>
                <a:srgbClr val="7f7f7f"/>
              </a:solidFill>
              <a:round/>
            </a:ln>
          </p:spPr>
        </p:cxnSp>
        <p:cxnSp>
          <p:nvCxnSpPr>
            <p:cNvPr id="324" name="直接连接符 31"/>
            <p:cNvCxnSpPr/>
            <p:nvPr/>
          </p:nvCxnSpPr>
          <p:spPr>
            <a:xfrm flipH="1" flipV="1">
              <a:off x="3912840" y="1233720"/>
              <a:ext cx="94320" cy="50400"/>
            </a:xfrm>
            <a:prstGeom prst="straightConnector1">
              <a:avLst/>
            </a:prstGeom>
            <a:ln w="6350">
              <a:solidFill>
                <a:srgbClr val="7f7f7f"/>
              </a:solidFill>
              <a:round/>
            </a:ln>
          </p:spPr>
        </p:cxnSp>
        <p:cxnSp>
          <p:nvCxnSpPr>
            <p:cNvPr id="325" name="直接连接符 32"/>
            <p:cNvCxnSpPr/>
            <p:nvPr/>
          </p:nvCxnSpPr>
          <p:spPr>
            <a:xfrm flipH="1" flipV="1">
              <a:off x="3935160" y="1191960"/>
              <a:ext cx="81360" cy="19440"/>
            </a:xfrm>
            <a:prstGeom prst="straightConnector1">
              <a:avLst/>
            </a:prstGeom>
            <a:ln w="6350">
              <a:solidFill>
                <a:srgbClr val="7f7f7f"/>
              </a:solidFill>
              <a:round/>
            </a:ln>
          </p:spPr>
        </p:cxnSp>
      </p:grpSp>
      <p:pic>
        <p:nvPicPr>
          <p:cNvPr id="326" name="Picture 53" descr="dsf"/>
          <p:cNvPicPr/>
          <p:nvPr/>
        </p:nvPicPr>
        <p:blipFill>
          <a:blip r:embed="rId29"/>
          <a:stretch/>
        </p:blipFill>
        <p:spPr>
          <a:xfrm>
            <a:off x="5892840" y="2124000"/>
            <a:ext cx="4030200" cy="3971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4" descr="ji"/>
          <p:cNvPicPr/>
          <p:nvPr/>
        </p:nvPicPr>
        <p:blipFill>
          <a:blip r:embed="rId30"/>
          <a:stretch/>
        </p:blipFill>
        <p:spPr>
          <a:xfrm>
            <a:off x="7669080" y="3979800"/>
            <a:ext cx="883800" cy="6631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5" descr="i[]"/>
          <p:cNvPicPr/>
          <p:nvPr/>
        </p:nvPicPr>
        <p:blipFill>
          <a:blip r:embed="rId31"/>
          <a:stretch/>
        </p:blipFill>
        <p:spPr>
          <a:xfrm>
            <a:off x="7381800" y="3219480"/>
            <a:ext cx="414000" cy="10918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6" descr="i[]"/>
          <p:cNvPicPr/>
          <p:nvPr/>
        </p:nvPicPr>
        <p:blipFill>
          <a:blip r:embed="rId32"/>
          <a:stretch/>
        </p:blipFill>
        <p:spPr>
          <a:xfrm>
            <a:off x="7796160" y="4110120"/>
            <a:ext cx="353520" cy="32184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57"/>
          <p:cNvSpPr/>
          <p:nvPr/>
        </p:nvSpPr>
        <p:spPr>
          <a:xfrm>
            <a:off x="2792160" y="1646280"/>
            <a:ext cx="435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8"/>
          <p:cNvGrpSpPr/>
          <p:nvPr/>
        </p:nvGrpSpPr>
        <p:grpSpPr>
          <a:xfrm>
            <a:off x="395640" y="4444920"/>
            <a:ext cx="1033200" cy="333000"/>
            <a:chOff x="395640" y="4444920"/>
            <a:chExt cx="1033200" cy="333000"/>
          </a:xfrm>
        </p:grpSpPr>
        <p:sp>
          <p:nvSpPr>
            <p:cNvPr id="332" name="Text Box 59"/>
            <p:cNvSpPr/>
            <p:nvPr/>
          </p:nvSpPr>
          <p:spPr>
            <a:xfrm>
              <a:off x="395640" y="4444920"/>
              <a:ext cx="778320" cy="333000"/>
            </a:xfrm>
            <a:prstGeom prst="rect">
              <a:avLst/>
            </a:prstGeom>
            <a:noFill/>
            <a:ln w="0">
              <a:noFill/>
            </a:ln>
            <a:effectLst>
              <a:outerShdw algn="ctr" dir="2437228" dist="116673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60">
              <a:hlinkClick r:id="rId33" action="ppaction://hlinksldjump"/>
            </p:cNvPr>
            <p:cNvSpPr/>
            <p:nvPr/>
          </p:nvSpPr>
          <p:spPr>
            <a:xfrm rot="5400000">
              <a:off x="1197360" y="4529520"/>
              <a:ext cx="209160" cy="253800"/>
            </a:xfrm>
            <a:custGeom>
              <a:avLst/>
              <a:gdLst>
                <a:gd name="textAreaLeft" fmla="*/ 0 w 209160"/>
                <a:gd name="textAreaRight" fmla="*/ 59040 w 209160"/>
                <a:gd name="textAreaTop" fmla="*/ 9756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Arial"/>
                <a:ea typeface="黑体"/>
              </a:endParaRPr>
            </a:p>
          </p:txBody>
        </p:sp>
      </p:grpSp>
      <p:sp>
        <p:nvSpPr>
          <p:cNvPr id="334" name="Text Box 61"/>
          <p:cNvSpPr/>
          <p:nvPr/>
        </p:nvSpPr>
        <p:spPr>
          <a:xfrm>
            <a:off x="3929760" y="5467320"/>
            <a:ext cx="1644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形象有标示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2"/>
          <p:cNvSpPr/>
          <p:nvPr/>
        </p:nvSpPr>
        <p:spPr>
          <a:xfrm>
            <a:off x="684720" y="5243400"/>
            <a:ext cx="27720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还有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黑体"/>
              </a:rPr>
              <a:t>...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12"/>
          <p:cNvSpPr/>
          <p:nvPr/>
        </p:nvSpPr>
        <p:spPr>
          <a:xfrm>
            <a:off x="352800" y="44578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 L 0.006042 -0.900864 E">
                                      <p:cBhvr>
                                        <p:cTn id="98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4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4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4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xit" presetID="37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72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38" nodeType="after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4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4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5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6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26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250" autoRev="1" fill="hold"/>
                                        <p:tgtEl>
                                          <p:spTgt spid="31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66 -0.024307 C -0.008166 -0.024278 -0.007661 -0.024193 -0.007163 -0.024131 C -0.006665 -0.024069 -0.005777 -0.023996 -0.005382 -0.023934 C -0.004989 -0.023871 -0.005006 -0.023819 -0.004804 -0.023755 C -0.004604 -0.023694 -0.003986 -0.023621 -0.004178 -0.023559 C -0.00437 -0.023497 -0.005855 -0.023442 -0.00596 -0.023383 C -0.006066 -0.023323 -0.005399 -0.02327 -0.004804 -0.023204 C -0.004211 -0.023139 -0.003295 -0.023054 -0.002397 -0.022989 C -0.0015 -0.022923 -0.000503 -0.022869 0.000587 -0.02281 C 0.001678 -0.022751 0.003057 -0.022696 0.004151 -0.022634 C 0.005239 -0.022571 0.005937 -0.022499 0.007133 -0.022437 C 0.00833 -0.022374 0.009733 -0.022308 0.011321 -0.022259 C 0.012909 -0.02221 0.014875 -0.022177 0.016664 -0.022141 C 0.018452 -0.022105 0.020161 -0.022079 0.022056 -0.022042 C 0.023949 -0.022007 0.026035 -0.021955 0.028025 -0.021925 C 0.030012 -0.021896 0.032107 -0.02188 0.033993 -0.021866 C 0.035879 -0.021853 0.038446 -0.02185 0.039336 -0.021845 E">
                                      <p:cBhvr>
                                        <p:cTn id="170" dur="5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32 -0.025926 C 0.01632 -0.02821 0.015035 -0.034794 0.01632 -0.03963 C 0.017605 -0.044465 0.022026 -0.049836 0.024028 -0.054938 C 0.026031 -0.060041 0.026609 -0.06463 0.028334 -0.070247 C 0.030058 -0.075864 0.032651 -0.082778 0.034376 -0.088642 C 0.0361 -0.094506 0.036968 -0.099568 0.038681 -0.105432 C 0.040394 -0.111296 0.04279 -0.118477 0.044653 -0.123827 C 0.046517 -0.129177 0.048137 -0.132181 0.049862 -0.137531 C 0.051586 -0.142881 0.052998 -0.150309 0.055001 -0.155926 C 0.057003 -0.161543 0.059295 -0.165885 0.061876 -0.171235 C 0.064457 -0.176584 0.067327 -0.181893 0.070487 -0.188025 C 0.073646 -0.194156 0.078253 -0.202408 0.080834 -0.208025 C 0.083415 -0.213642 0.084248 -0.21714 0.085973 -0.221728 C 0.087697 -0.226317 0.089028 -0.230206 0.091181 -0.235556 C 0.093334 -0.240905 0.096459 -0.248477 0.098889 -0.253827 C 0.10132 -0.259177 0.103751 -0.262798 0.105764 -0.267654 C 0.107778 -0.27251 0.109387 -0.277613 0.110973 -0.282963 C 0.112558 -0.288313 0.113994 -0.29465 0.115278 -0.299753 C 0.116563 -0.304856 0.117686 -0.308992 0.118681 -0.31358 C 0.119676 -0.318169 0.119954 -0.322696 0.121251 -0.327284 C 0.122547 -0.331873 0.126019 -0.336523 0.126459 -0.341111 C 0.126899 -0.3457 0.125614 -0.351255 0.123889 -0.354815 C 0.122165 -0.358375 0.118843 -0.359156 0.116112 -0.362469 C 0.11338 -0.365782 0.11022 -0.37035 0.107501 -0.374691 C 0.104781 -0.379033 0.102373 -0.38393 0.099792 -0.388519 C 0.097211 -0.393107 0.094595 -0.397634 0.092014 -0.402222 C 0.089433 -0.406811 0.086887 -0.411708 0.084306 -0.416049 C 0.081725 -0.420391 0.079121 -0.42393 0.076528 -0.428272 C 0.073936 -0.432613 0.071332 -0.437243 0.068751 -0.442099 C 0.06617 -0.446955 0.063901 -0.452325 0.061042 -0.457407 C 0.058183 -0.46249 0.054468 -0.46751 0.051598 -0.472593 C 0.048727 -0.477675 0.046401 -0.483313 0.04382 -0.487901 C 0.041239 -0.49249 0.038832 -0.495535 0.036112 -0.500124 C 0.033392 -0.504712 0.03066 -0.509815 0.027501 -0.515432 C 0.024341 -0.521049 0.020174 -0.528724 0.017153 -0.533827 C 0.014132 -0.53893 0.011957 -0.541975 0.009376 -0.546049 C 0.006795 -0.550124 0.004248 -0.554691 0.001667 -0.558272 C -0.000914 -0.561852 -0.003379 -0.564198 -0.006111 -0.567531 C -0.008842 -0.570864 -0.011851 -0.574959 -0.014722 -0.578272 C -0.017592 -0.581584 -0.020613 -0.584095 -0.023333 -0.587407 C -0.026053 -0.59072 -0.028321 -0.595082 -0.031041 -0.598148 C -0.033761 -0.601214 -0.036782 -0.602757 -0.039652 -0.605803 C -0.042523 -0.608848 -0.045543 -0.613375 -0.048263 -0.61642 C -0.050983 -0.619465 -0.053391 -0.62177 -0.055972 -0.624074 C -0.058553 -0.626379 -0.060879 -0.627942 -0.063749 -0.630247 C -0.06662 -0.632551 -0.070324 -0.635103 -0.073194 -0.637901 C -0.076064 -0.6407 -0.078391 -0.643971 -0.080972 -0.647037 C -0.083553 -0.650103 -0.086099 -0.653231 -0.08868 -0.656296 C -0.091261 -0.659362 -0.093726 -0.662387 -0.096458 -0.665432 C -0.099189 -0.668477 -0.102349 -0.671255 -0.105069 -0.674568 C -0.107789 -0.677881 -0.110196 -0.682243 -0.112777 -0.685309 C -0.115358 -0.688375 -0.117824 -0.690412 -0.120555 -0.692963 C -0.123287 -0.695515 -0.126446 -0.698333 -0.129166 -0.700617 C -0.131886 -0.702901 -0.134293 -0.704877 -0.136874 -0.706667 C -0.139455 -0.708457 -0.142071 -0.709815 -0.144652 -0.711358 C -0.147233 -0.712901 -0.14978 -0.715165 -0.152361 -0.715926 C -0.154942 -0.716687 -0.157407 -0.716194 -0.160138 -0.715926 C -0.16287 -0.715659 -0.16603 -0.71535 -0.168749 -0.714321 C -0.171469 -0.713292 -0.173877 -0.711523 -0.176458 -0.709753 C -0.179039 -0.707984 -0.181655 -0.706749 -0.184236 -0.703704 C -0.186817 -0.700659 -0.189652 -0.69607 -0.191944 -0.691482 C -0.194236 -0.686893 -0.1964 -0.681029 -0.197986 -0.676173 C -0.199571 -0.671317 -0.20074 -0.667202 -0.201458 -0.662346 C -0.202175 -0.65749 -0.202291 -0.651873 -0.202291 -0.647037 C -0.202291 -0.642202 -0.202175 -0.637922 -0.201458 -0.633333 C -0.20074 -0.628745 -0.199282 -0.624095 -0.197986 -0.619506 C -0.196689 -0.614918 -0.195254 -0.610638 -0.19368 -0.605803 C -0.192106 -0.600967 -0.190972 -0.59535 -0.188541 -0.590494 C -0.186111 -0.585638 -0.182106 -0.581008 -0.179097 -0.576667 C -0.176087 -0.572325 -0.173506 -0.567757 -0.170486 -0.564445 C -0.167465 -0.561132 -0.163842 -0.558827 -0.160972 -0.55679 C -0.158101 -0.554753 -0.155844 -0.552984 -0.153263 -0.552222 C -0.150682 -0.551461 -0.148067 -0.551975 -0.145486 -0.552222 C -0.142905 -0.552469 -0.140497 -0.552696 -0.137777 -0.553704 C -0.135057 -0.554712 -0.131898 -0.556235 -0.129166 -0.558272 C -0.126435 -0.560309 -0.123969 -0.56286 -0.121388 -0.565926 C -0.118807 -0.568992 -0.115393 -0.572325 -0.11368 -0.576667 C -0.111967 -0.581008 -0.112696 -0.587119 -0.111111 -0.591975 C -0.109525 -0.596831 -0.106319 -0.601214 -0.104166 -0.605803 C -0.102013 -0.610391 -0.099768 -0.614918 -0.098194 -0.619506 C -0.09662 -0.624095 -0.095439 -0.628745 -0.094722 -0.633333 C -0.094004 -0.637922 -0.094027 -0.642202 -0.093888 -0.647037 C -0.09375 -0.651873 -0.093611 -0.65749 -0.093888 -0.662346 C -0.094166 -0.667202 -0.095844 -0.67107 -0.095555 -0.676173 C -0.095266 -0.681276 -0.092291 -0.687366 -0.092152 -0.692963 C -0.092013 -0.69856 -0.094155 -0.70465 -0.094722 -0.709753 C -0.095289 -0.714856 -0.09412 -0.719753 -0.095555 -0.72358 C -0.09699 -0.727407 -0.10074 -0.729918 -0.103333 -0.732716 C -0.105925 -0.735514 -0.10853 -0.738066 -0.111111 -0.74037 C -0.113692 -0.742675 -0.116238 -0.744239 -0.118819 -0.746543 C -0.1214 -0.748848 -0.123865 -0.751914 -0.126597 -0.754198 C -0.129328 -0.756482 -0.132349 -0.757696 -0.135208 -0.760247 C -0.138067 -0.762798 -0.14103 -0.767202 -0.143749 -0.769506 C -0.146469 -0.771811 -0.148935 -0.772552 -0.151527 -0.774074 C -0.15412 -0.775597 -0.156585 -0.776605 -0.159305 -0.778642 C -0.162025 -0.780679 -0.164837 -0.784012 -0.167847 -0.786296 C -0.170856 -0.78858 -0.17434 -0.790556 -0.177361 -0.792346 C -0.180381 -0.794136 -0.183252 -0.795494 -0.185972 -0.797037 C -0.188692 -0.79858 -0.191099 -0.799568 -0.19368 -0.801605 C -0.196261 -0.803642 -0.198726 -0.806975 -0.201458 -0.809259 C -0.204189 -0.811543 -0.207349 -0.813786 -0.210069 -0.815309 C -0.212789 -0.816831 -0.215057 -0.817613 -0.217777 -0.818395 C -0.220497 -0.819177 -0.223518 -0.819733 -0.226388 -0.82 C -0.229259 -0.820268 -0.232268 -0.82 -0.234999 -0.82 C -0.237731 -0.82 -0.240196 -0.82 -0.242777 -0.82 C -0.245358 -0.82 -0.247905 -0.82 -0.250486 -0.82 C -0.253067 -0.82 -0.255682 -0.82 -0.258263 -0.82 C -0.260844 -0.82 -0.263391 -0.820268 -0.265972 -0.82 C -0.268553 -0.819733 -0.271018 -0.818663 -0.273749 -0.818395 C -0.276481 -0.818128 -0.279641 -0.818395 -0.282361 -0.818395 C -0.28508 -0.818395 -0.287488 -0.818395 -0.290069 -0.818395 C -0.29265 -0.818395 -0.295266 -0.818642 -0.297847 -0.818395 C -0.300428 -0.818148 -0.302835 -0.817922 -0.305555 -0.816914 C -0.308275 -0.815905 -0.311296 -0.813621 -0.314166 -0.812346 C -0.317037 -0.81107 -0.319907 -0.810041 -0.322777 -0.809259 C -0.325648 -0.808477 -0.328658 -0.807922 -0.331388 -0.807654 C -0.33412 -0.807387 -0.336585 -0.807654 -0.339166 -0.807654 C -0.341747 -0.807654 -0.344293 -0.807387 -0.346874 -0.807654 C -0.349455 -0.807922 -0.352071 -0.809259 -0.354652 -0.809259 C -0.357233 -0.809259 -0.35978 -0.807922 -0.362361 -0.807654 C -0.364942 -0.807387 -0.367557 -0.807901 -0.370138 -0.807654 C -0.372719 -0.807408 -0.375266 -0.806934 -0.377847 -0.806173 C -0.380428 -0.805412 -0.383043 -0.803848 -0.385624 -0.803086 C -0.388205 -0.802325 -0.390752 -0.802366 -0.393333 -0.801605 C -0.395914 -0.800844 -0.39853 -0.79928 -0.401111 -0.798519 C -0.403692 -0.797757 -0.406099 -0.798313 -0.408819 -0.797037 C -0.411539 -0.795761 -0.41456 -0.792654 -0.417431 -0.790864 C -0.4203 -0.789074 -0.423171 -0.788333 -0.426041 -0.786296 C -0.428911 -0.784259 -0.431921 -0.781194 -0.434652 -0.778642 C -0.437384 -0.776091 -0.439699 -0.773786 -0.44243 -0.770988 C -0.445161 -0.768189 -0.448321 -0.765679 -0.451041 -0.761852 C -0.453761 -0.758025 -0.456168 -0.752613 -0.458749 -0.748025 C -0.461331 -0.743436 -0.463946 -0.738395 -0.466527 -0.734321 C -0.469108 -0.730247 -0.471655 -0.727407 -0.474236 -0.72358 C -0.476817 -0.719753 -0.479432 -0.7157 -0.482013 -0.711358 C -0.484594 -0.707017 -0.487569 -0.702387 -0.489722 -0.697531 C -0.491874 -0.692675 -0.492916 -0.687058 -0.49493 -0.682222 C -0.496944 -0.677387 -0.500092 -0.673107 -0.501805 -0.668519 C -0.503518 -0.66393 -0.504641 -0.65928 -0.505208 -0.654691 C -0.505775 -0.650103 -0.505347 -0.645576 -0.505208 -0.640988 C -0.505069 -0.636399 -0.504652 -0.631749 -0.504374 -0.627161 C -0.504097 -0.622572 -0.50383 -0.618045 -0.503541 -0.613457 C -0.503252 -0.608868 -0.503078 -0.604239 -0.502638 -0.59963 C -0.502199 -0.595021 -0.501192 -0.588107 -0.500902 -0.585803 E">
                                      <p:cBhvr>
                                        <p:cTn id="176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17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2 0.56 L -0.001945 -0.443334 E">
                                      <p:cBhvr>
                                        <p:cTn id="179" dur="2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18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200" cy="5130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df"/>
          <p:cNvPicPr/>
          <p:nvPr/>
        </p:nvPicPr>
        <p:blipFill>
          <a:blip r:embed="rId3"/>
          <a:stretch/>
        </p:blipFill>
        <p:spPr>
          <a:xfrm>
            <a:off x="-744480" y="312840"/>
            <a:ext cx="4138200" cy="52542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未标题-3"/>
          <p:cNvPicPr/>
          <p:nvPr/>
        </p:nvPicPr>
        <p:blipFill>
          <a:blip r:embed="rId4"/>
          <a:stretch/>
        </p:blipFill>
        <p:spPr>
          <a:xfrm>
            <a:off x="6145200" y="312840"/>
            <a:ext cx="1472760" cy="1674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ji"/>
          <p:cNvPicPr/>
          <p:nvPr/>
        </p:nvPicPr>
        <p:blipFill>
          <a:blip r:embed="rId5"/>
          <a:stretch/>
        </p:blipFill>
        <p:spPr>
          <a:xfrm>
            <a:off x="2916360" y="2571840"/>
            <a:ext cx="2222280" cy="21794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工"/>
          <p:cNvPicPr/>
          <p:nvPr/>
        </p:nvPicPr>
        <p:blipFill>
          <a:blip r:embed="rId6"/>
          <a:stretch/>
        </p:blipFill>
        <p:spPr>
          <a:xfrm>
            <a:off x="4197240" y="1149480"/>
            <a:ext cx="1947600" cy="1854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未标题-5"/>
          <p:cNvPicPr/>
          <p:nvPr/>
        </p:nvPicPr>
        <p:blipFill>
          <a:blip r:embed="rId7"/>
          <a:stretch/>
        </p:blipFill>
        <p:spPr>
          <a:xfrm>
            <a:off x="7486560" y="123840"/>
            <a:ext cx="1523520" cy="128556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343" name="Picture 8" descr="xv"/>
          <p:cNvPicPr/>
          <p:nvPr/>
        </p:nvPicPr>
        <p:blipFill>
          <a:blip r:embed="rId8"/>
          <a:stretch/>
        </p:blipFill>
        <p:spPr>
          <a:xfrm>
            <a:off x="5556240" y="3828960"/>
            <a:ext cx="588600" cy="7678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9"/>
          <p:cNvSpPr/>
          <p:nvPr/>
        </p:nvSpPr>
        <p:spPr>
          <a:xfrm>
            <a:off x="755640" y="3581280"/>
            <a:ext cx="3995280" cy="1425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宋体"/>
              </a:rPr>
              <a:t>CATACT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0"/>
          <p:cNvSpPr/>
          <p:nvPr/>
        </p:nvSpPr>
        <p:spPr>
          <a:xfrm>
            <a:off x="2286000" y="3564000"/>
            <a:ext cx="355320" cy="159840"/>
          </a:xfrm>
          <a:prstGeom prst="ellipse">
            <a:avLst/>
          </a:prstGeom>
          <a:gradFill rotWithShape="0">
            <a:gsLst>
              <a:gs pos="0">
                <a:srgbClr val="a6acad"/>
              </a:gs>
              <a:gs pos="100000">
                <a:srgbClr val="eef7f8"/>
              </a:gs>
            </a:gsLst>
            <a:lin ang="5400000"/>
          </a:gradFill>
          <a:ln w="9525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346" name="AutoShape 11"/>
          <p:cNvSpPr/>
          <p:nvPr/>
        </p:nvSpPr>
        <p:spPr>
          <a:xfrm>
            <a:off x="2340000" y="3608280"/>
            <a:ext cx="167760" cy="77400"/>
          </a:xfrm>
          <a:prstGeom prst="chevron">
            <a:avLst>
              <a:gd name="adj" fmla="val 129797"/>
            </a:avLst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347" name="Picture 12" descr="未标题-3"/>
          <p:cNvPicPr/>
          <p:nvPr/>
        </p:nvPicPr>
        <p:blipFill>
          <a:blip r:embed="rId9"/>
          <a:stretch/>
        </p:blipFill>
        <p:spPr>
          <a:xfrm>
            <a:off x="6137280" y="312840"/>
            <a:ext cx="1472760" cy="167436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348" name="Picture 13" descr="工"/>
          <p:cNvPicPr/>
          <p:nvPr/>
        </p:nvPicPr>
        <p:blipFill>
          <a:blip r:embed="rId10"/>
          <a:stretch/>
        </p:blipFill>
        <p:spPr>
          <a:xfrm>
            <a:off x="4189320" y="1149480"/>
            <a:ext cx="1947600" cy="185400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349" name="Picture 14" descr="ji"/>
          <p:cNvPicPr/>
          <p:nvPr/>
        </p:nvPicPr>
        <p:blipFill>
          <a:blip r:embed="rId11"/>
          <a:stretch/>
        </p:blipFill>
        <p:spPr>
          <a:xfrm>
            <a:off x="0" y="0"/>
            <a:ext cx="9919800" cy="5501880"/>
          </a:xfrm>
          <a:prstGeom prst="rect">
            <a:avLst/>
          </a:prstGeom>
          <a:ln w="0">
            <a:noFill/>
          </a:ln>
          <a:effectLst>
            <a:outerShdw algn="ctr" dir="13237229" dist="116673" rotWithShape="0">
              <a:srgbClr val="808080">
                <a:alpha val="50000"/>
              </a:srgbClr>
            </a:outerShdw>
          </a:effectLst>
        </p:spPr>
      </p:pic>
      <p:grpSp>
        <p:nvGrpSpPr>
          <p:cNvPr id="350" name="Group 15"/>
          <p:cNvGrpSpPr/>
          <p:nvPr/>
        </p:nvGrpSpPr>
        <p:grpSpPr>
          <a:xfrm>
            <a:off x="-38160" y="4316400"/>
            <a:ext cx="6914880" cy="826560"/>
            <a:chOff x="-38160" y="4316400"/>
            <a:chExt cx="6914880" cy="826560"/>
          </a:xfrm>
        </p:grpSpPr>
        <p:pic>
          <p:nvPicPr>
            <p:cNvPr id="351" name="Picture 16" descr="ji"/>
            <p:cNvPicPr/>
            <p:nvPr/>
          </p:nvPicPr>
          <p:blipFill>
            <a:blip r:embed="rId12"/>
            <a:stretch/>
          </p:blipFill>
          <p:spPr>
            <a:xfrm>
              <a:off x="-38160" y="4316400"/>
              <a:ext cx="847440" cy="82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17" descr="ji"/>
            <p:cNvPicPr/>
            <p:nvPr/>
          </p:nvPicPr>
          <p:blipFill>
            <a:blip r:embed="rId13"/>
            <a:stretch/>
          </p:blipFill>
          <p:spPr>
            <a:xfrm>
              <a:off x="740520" y="4316400"/>
              <a:ext cx="3331440" cy="8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18" descr="ji"/>
            <p:cNvPicPr/>
            <p:nvPr/>
          </p:nvPicPr>
          <p:blipFill>
            <a:blip r:embed="rId14"/>
            <a:stretch/>
          </p:blipFill>
          <p:spPr>
            <a:xfrm>
              <a:off x="3545280" y="4316400"/>
              <a:ext cx="3331440" cy="80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4" name="Picture 19" descr="ji"/>
          <p:cNvPicPr/>
          <p:nvPr/>
        </p:nvPicPr>
        <p:blipFill>
          <a:blip r:embed="rId15"/>
          <a:stretch/>
        </p:blipFill>
        <p:spPr>
          <a:xfrm>
            <a:off x="8424720" y="-79200"/>
            <a:ext cx="825120" cy="8409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0" descr="ji"/>
          <p:cNvPicPr/>
          <p:nvPr/>
        </p:nvPicPr>
        <p:blipFill>
          <a:blip r:embed="rId16"/>
          <a:stretch/>
        </p:blipFill>
        <p:spPr>
          <a:xfrm>
            <a:off x="8447040" y="690480"/>
            <a:ext cx="802800" cy="33332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1" descr="ji"/>
          <p:cNvPicPr/>
          <p:nvPr/>
        </p:nvPicPr>
        <p:blipFill>
          <a:blip r:embed="rId17"/>
          <a:stretch/>
        </p:blipFill>
        <p:spPr>
          <a:xfrm>
            <a:off x="8447040" y="3497400"/>
            <a:ext cx="802800" cy="3335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2" descr="ji"/>
          <p:cNvPicPr/>
          <p:nvPr/>
        </p:nvPicPr>
        <p:blipFill>
          <a:blip r:embed="rId18"/>
          <a:stretch/>
        </p:blipFill>
        <p:spPr>
          <a:xfrm>
            <a:off x="6516720" y="2736720"/>
            <a:ext cx="3219120" cy="315864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sp>
        <p:nvSpPr>
          <p:cNvPr id="358" name="Text Box 23"/>
          <p:cNvSpPr/>
          <p:nvPr/>
        </p:nvSpPr>
        <p:spPr>
          <a:xfrm>
            <a:off x="755640" y="312840"/>
            <a:ext cx="426600" cy="11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359" name="图片 16" descr="10.png"/>
          <p:cNvPicPr/>
          <p:nvPr/>
        </p:nvPicPr>
        <p:blipFill>
          <a:blip r:embed="rId19"/>
          <a:stretch/>
        </p:blipFill>
        <p:spPr>
          <a:xfrm>
            <a:off x="0" y="0"/>
            <a:ext cx="2466720" cy="33159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20"/>
          <a:stretch/>
        </p:blipFill>
        <p:spPr>
          <a:xfrm>
            <a:off x="3135240" y="1976400"/>
            <a:ext cx="437760" cy="11901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"/>
          <p:cNvPicPr/>
          <p:nvPr/>
        </p:nvPicPr>
        <p:blipFill>
          <a:blip r:embed="rId21"/>
          <a:stretch/>
        </p:blipFill>
        <p:spPr>
          <a:xfrm>
            <a:off x="1920960" y="1976400"/>
            <a:ext cx="437760" cy="11901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"/>
          <p:cNvPicPr/>
          <p:nvPr/>
        </p:nvPicPr>
        <p:blipFill>
          <a:blip r:embed="rId22"/>
          <a:stretch/>
        </p:blipFill>
        <p:spPr>
          <a:xfrm>
            <a:off x="2527200" y="1976400"/>
            <a:ext cx="437760" cy="11901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"/>
          <p:cNvPicPr/>
          <p:nvPr/>
        </p:nvPicPr>
        <p:blipFill>
          <a:blip r:embed="rId23"/>
          <a:stretch/>
        </p:blipFill>
        <p:spPr>
          <a:xfrm>
            <a:off x="3743280" y="1976400"/>
            <a:ext cx="437760" cy="11901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"/>
          <p:cNvPicPr/>
          <p:nvPr/>
        </p:nvPicPr>
        <p:blipFill>
          <a:blip r:embed="rId24"/>
          <a:stretch/>
        </p:blipFill>
        <p:spPr>
          <a:xfrm>
            <a:off x="4351320" y="1976400"/>
            <a:ext cx="437760" cy="11901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1" descr=""/>
          <p:cNvPicPr/>
          <p:nvPr/>
        </p:nvPicPr>
        <p:blipFill>
          <a:blip r:embed="rId25"/>
          <a:stretch/>
        </p:blipFill>
        <p:spPr>
          <a:xfrm>
            <a:off x="4959360" y="1976400"/>
            <a:ext cx="437760" cy="11901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2" descr=""/>
          <p:cNvPicPr/>
          <p:nvPr/>
        </p:nvPicPr>
        <p:blipFill>
          <a:blip r:embed="rId26"/>
          <a:stretch/>
        </p:blipFill>
        <p:spPr>
          <a:xfrm>
            <a:off x="5567400" y="1976400"/>
            <a:ext cx="437760" cy="11901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3" descr=""/>
          <p:cNvPicPr/>
          <p:nvPr/>
        </p:nvPicPr>
        <p:blipFill>
          <a:blip r:embed="rId27"/>
          <a:stretch/>
        </p:blipFill>
        <p:spPr>
          <a:xfrm>
            <a:off x="6175440" y="1976400"/>
            <a:ext cx="437760" cy="1190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4" descr=""/>
          <p:cNvPicPr/>
          <p:nvPr/>
        </p:nvPicPr>
        <p:blipFill>
          <a:blip r:embed="rId28"/>
          <a:stretch/>
        </p:blipFill>
        <p:spPr>
          <a:xfrm>
            <a:off x="6775560" y="1976400"/>
            <a:ext cx="437760" cy="1190160"/>
          </a:xfrm>
          <a:prstGeom prst="rect">
            <a:avLst/>
          </a:prstGeom>
          <a:ln w="0">
            <a:noFill/>
          </a:ln>
        </p:spPr>
      </p:pic>
      <p:pic>
        <p:nvPicPr>
          <p:cNvPr id="369" name="图片 12" descr="07.png"/>
          <p:cNvPicPr/>
          <p:nvPr/>
        </p:nvPicPr>
        <p:blipFill>
          <a:blip r:embed="rId29"/>
          <a:stretch/>
        </p:blipFill>
        <p:spPr>
          <a:xfrm>
            <a:off x="2776680" y="1971720"/>
            <a:ext cx="1152000" cy="1199880"/>
          </a:xfrm>
          <a:prstGeom prst="rect">
            <a:avLst/>
          </a:prstGeom>
          <a:ln w="0">
            <a:noFill/>
          </a:ln>
        </p:spPr>
      </p:pic>
      <p:sp>
        <p:nvSpPr>
          <p:cNvPr id="370" name="TextBox 17"/>
          <p:cNvSpPr/>
          <p:nvPr/>
        </p:nvSpPr>
        <p:spPr>
          <a:xfrm>
            <a:off x="1895760" y="3457440"/>
            <a:ext cx="4067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喜爱艺术，有独特视角和鉴赏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图片 27" descr="08.png"/>
          <p:cNvPicPr/>
          <p:nvPr/>
        </p:nvPicPr>
        <p:blipFill>
          <a:blip r:embed="rId30"/>
          <a:stretch/>
        </p:blipFill>
        <p:spPr>
          <a:xfrm>
            <a:off x="2611440" y="1792440"/>
            <a:ext cx="1456920" cy="14569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28"/>
          <p:cNvSpPr/>
          <p:nvPr/>
        </p:nvSpPr>
        <p:spPr>
          <a:xfrm rot="21318000">
            <a:off x="1582200" y="844200"/>
            <a:ext cx="4188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"/>
                <a:ea typeface="宋体"/>
              </a:rPr>
              <a:t>Vitruvian 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38"/>
          <p:cNvGrpSpPr/>
          <p:nvPr/>
        </p:nvGrpSpPr>
        <p:grpSpPr>
          <a:xfrm>
            <a:off x="395640" y="4540320"/>
            <a:ext cx="1033200" cy="333000"/>
            <a:chOff x="395640" y="4540320"/>
            <a:chExt cx="1033200" cy="333000"/>
          </a:xfrm>
        </p:grpSpPr>
        <p:sp>
          <p:nvSpPr>
            <p:cNvPr id="374" name="Text Box 39"/>
            <p:cNvSpPr/>
            <p:nvPr/>
          </p:nvSpPr>
          <p:spPr>
            <a:xfrm>
              <a:off x="395640" y="4540320"/>
              <a:ext cx="778320" cy="333000"/>
            </a:xfrm>
            <a:prstGeom prst="rect">
              <a:avLst/>
            </a:prstGeom>
            <a:noFill/>
            <a:ln w="0">
              <a:noFill/>
            </a:ln>
            <a:effectLst>
              <a:outerShdw algn="ctr" dir="2437228" dist="116673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40">
              <a:hlinkClick r:id="rId31" action="ppaction://hlinksldjump"/>
            </p:cNvPr>
            <p:cNvSpPr/>
            <p:nvPr/>
          </p:nvSpPr>
          <p:spPr>
            <a:xfrm rot="5400000">
              <a:off x="1197360" y="4624560"/>
              <a:ext cx="209160" cy="253800"/>
            </a:xfrm>
            <a:custGeom>
              <a:avLst/>
              <a:gdLst>
                <a:gd name="textAreaLeft" fmla="*/ 0 w 209160"/>
                <a:gd name="textAreaRight" fmla="*/ 59040 w 209160"/>
                <a:gd name="textAreaTop" fmla="*/ 9756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Arial"/>
                <a:ea typeface="黑体"/>
              </a:endParaRPr>
            </a:p>
          </p:txBody>
        </p:sp>
      </p:grp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72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4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77778E-006 0 L -0.05834 0 E">
                                      <p:cBhvr>
                                        <p:cTn id="204" dur="3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05556E-006 3.20988E-006 L -0.05416 3.20988E-006 E">
                                      <p:cBhvr>
                                        <p:cTn id="206" dur="3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5.55556E-007 0 L 0.07014 0 E">
                                      <p:cBhvr>
                                        <p:cTn id="208" dur="3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5E-006 0 L 0.06754 0 E">
                                      <p:cBhvr>
                                        <p:cTn id="210" dur="3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069 0 L 0.06649 0 E">
                                      <p:cBhvr>
                                        <p:cTn id="212" dur="3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05556E-006 0 L 0.0599 0 E">
                                      <p:cBhvr>
                                        <p:cTn id="214" dur="3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11111E-006 0 L 0.0566 0 E">
                                      <p:cBhvr>
                                        <p:cTn id="216" dur="3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11111E-006 0 L 0.05504 0 E">
                                      <p:cBhvr>
                                        <p:cTn id="218" dur="3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6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4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26" nodeType="afterEffect" fill="hold" presetClass="entr" presetID="23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 主题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  <Pages>0</Pages>
  <Words>530</Words>
  <Characters>0</Characters>
  <CharactersWithSpaces>0</CharactersWithSpaces>
  <Paragraphs>10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2T15:45:50Z</dcterms:created>
  <dc:creator>Administrator</dc:creator>
  <dc:description/>
  <dc:language>en-US</dc:language>
  <cp:lastModifiedBy>yu wang</cp:lastModifiedBy>
  <dcterms:modified xsi:type="dcterms:W3CDTF">2015-08-03T12:24:1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  <property fmtid="{D5CDD505-2E9C-101B-9397-08002B2CF9AE}" pid="3" name="MMClips">
    <vt:r8>1</vt:r8>
  </property>
  <property fmtid="{D5CDD505-2E9C-101B-9397-08002B2CF9AE}" pid="4" name="PresentationFormat">
    <vt:lpwstr>全屏显示(16:9)</vt:lpwstr>
  </property>
  <property fmtid="{D5CDD505-2E9C-101B-9397-08002B2CF9AE}" pid="5" name="Slides">
    <vt:r8>14</vt:r8>
  </property>
</Properties>
</file>