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CCBC-3975-4946-867E-20EB2ECA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1704-72E3-4A64-A043-1537F81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47E0-C4B1-4224-BB23-BCC387E4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A3D-3764-4895-95F6-96702365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E35B-E305-4B36-8897-DB84F9AFC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778B2-1EED-47DD-AFBD-AAF0C1761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997A-4DD8-4182-A5F8-60A515E3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16C7-35F2-43CA-B687-54C9C7F6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EB5B9-B140-4823-83B8-BFBB191D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AD2E-AC96-4A00-A7BC-96527F28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D58F-8990-4C48-AFE6-8BD4432E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429A-3F3C-4C34-9EE8-44F6EE1C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7325-DD9C-4654-88F1-ADA29714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13F81-4E56-4338-AF10-EBB98CC1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0C4E-B04D-41BC-94E4-4D827B756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B434-ABEE-47C4-90F2-2546F6423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1B0E6-9444-4B85-9A00-191AC12A8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341A-5F44-41D9-BDB5-863B1C19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525-88FD-4D6C-AA49-BB000339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54C0-17CA-46E6-88AF-AABD54D2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5AA1-155E-4E50-B3B2-F91E73ED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B033-330A-4A65-A327-86A422C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94E-538A-4E3C-84AC-B2EF4ED4C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6CB-70D7-4834-8104-07CDFAF8E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376B10-E5DC-4E2B-9465-BF6317173F2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135F52-1F6A-4379-9D36-F6E0FCA2A5F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homenagemsoapmicrosoft-090813111255-phpapp01-slide-1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3" name="矩形 1"/>
          <p:cNvSpPr/>
          <p:nvPr/>
        </p:nvSpPr>
        <p:spPr>
          <a:xfrm>
            <a:off x="2361240" y="1268640"/>
            <a:ext cx="47631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属灰企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homenagemsoapmicrosoft-090813111255-phpapp01-slide-10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3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homenagemsoapmicrosoft-090813111255-phpapp01-slide-11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homenagemsoapmicrosoft-090813111255-phpapp01-slide-12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7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1" descr="homenagemsoapmicrosoft-090813111255-phpapp01-slide-13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9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homenagemsoapmicrosoft-090813111255-phpapp01-slide-14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homenagemsoapmicrosoft-090813111255-phpapp01-slide-15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2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homenagemsoapmicrosoft-090813111255-phpapp01-slide-16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4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homenagemsoapmicrosoft-090813111255-phpapp01-slide-17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6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homenagemsoapmicrosoft-090813111255-phpapp01-slide-18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18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homenagemsoapmicrosoft-090813111255-phpapp01-slide-19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0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" descr="homenagemsoapmicrosoft-090813111255-phpapp01-slide-2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6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 1" descr="homenagemsoapmicrosoft-090813111255-phpapp01-slide-20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2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1" descr="homenagemsoapmicrosoft-090813111255-phpapp01-slide-21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4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11640" y="64594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homenagemsoapmicrosoft-090813111255-phpapp01-slide-22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7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homenagemsoapmicrosoft-090813111255-phpapp01-slide-23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图片 1" descr="homenagemsoapmicrosoft-090813111255-phpapp01-slide-24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1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homenagemsoapmicrosoft-090813111255-phpapp01-slide-25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3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homenagemsoapmicrosoft-090813111255-phpapp01-slide-26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5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homenagemsoapmicrosoft-090813111255-phpapp01-slide-27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7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" descr="homenagemsoapmicrosoft-090813111255-phpapp01-slide-28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9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homenagemsoapmicrosoft-090813111255-phpapp01-slide-29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1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" descr="homenagemsoapmicrosoft-090813111255-phpapp01-slide-3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88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" descr="homenagemsoapmicrosoft-090813111255-phpapp01-slide-30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3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图片 1" descr="homenagemsoapmicrosoft-090813111255-phpapp01-slide-31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5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homenagemsoapmicrosoft-090813111255-phpapp01-slide-32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7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homenagemsoapmicrosoft-090813111255-phpapp01-slide-33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9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homenagemsoapmicrosoft-090813111255-phpapp01-slide-34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1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homenagemsoapmicrosoft-090813111255-phpapp01-slide-35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53" name="TextBox 4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ffff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ffff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ffff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" descr="homenagemsoapmicrosoft-090813111255-phpapp01-slide-4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0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1" descr="homenagemsoapmicrosoft-090813111255-phpapp01-slide-5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2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" descr="homenagemsoapmicrosoft-090813111255-phpapp01-slide-6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4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homenagemsoapmicrosoft-090813111255-phpapp01-slide-7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6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1" descr="homenagemsoapmicrosoft-090813111255-phpapp01-slide-8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98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683640" y="6459480"/>
            <a:ext cx="7151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" descr="homenagemsoapmicrosoft-090813111255-phpapp01-slide-9-768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01" name="TextBox 3"/>
          <p:cNvSpPr/>
          <p:nvPr/>
        </p:nvSpPr>
        <p:spPr>
          <a:xfrm>
            <a:off x="3137040" y="6489720"/>
            <a:ext cx="5976720" cy="3376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7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7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ffff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  <Words>184</Words>
  <Paragraphs>33</Paragraphs>
  <Company>HP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0:36:06Z</dcterms:created>
  <dc:creator>hp</dc:creator>
  <dc:description/>
  <dc:language>en-US</dc:language>
  <cp:lastModifiedBy>yu wang</cp:lastModifiedBy>
  <dcterms:modified xsi:type="dcterms:W3CDTF">2015-08-03T12:25:18Z</dcterms:modified>
  <cp:revision>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6</vt:r8>
  </property>
</Properties>
</file>