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44D8F-15DD-4572-9018-C182BD6A4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989098-D247-4ADB-BF95-E6D1D6B773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56266-83A4-4D7D-B586-8371CCC7AC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B0A84D-7B13-4E8E-8C63-D8880A25E7B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0571AB-265D-4B19-BF4D-09EB11FFD7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301FAC-3877-413D-9964-5E419CF859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5B066E-0FB4-4247-8577-CBD15DFD2C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27D256-A60C-4370-95DD-484E0A401D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12C04A-CBB0-44C2-8DF9-841A2C6BFD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170D00-679C-4280-91B9-9F1CB910A3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1FD89D-3F70-4B04-8B2F-6937A425D30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F5CE1B-9268-4441-ADC0-E06F0A1D124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EF3E8C-3AEF-44BB-A8DE-DEA12065EC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6B83F-5071-4879-A2D0-BDA287ADC7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320F4-CF98-4E1D-8EFE-A8240ED9CF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C578CD-4FA0-4743-BDB4-9C911A0125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56B-D6D8-4106-BBCE-A4382630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472-5C2F-49C6-8AB2-FA1C5228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7E3-04BB-4A38-8F37-450E030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FB1-8A65-4A12-9259-D7E1260B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974D-B724-431D-B2F8-51BA6489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C822-1A8E-47A7-8833-C3D1F6A4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F125-70E6-4A80-8A9D-F3A8A45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DEC1-1C5C-42E3-8BF4-24C3964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88D0-98B3-47F3-A85E-CC485290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F3F-CD2E-454B-8258-23B54EA5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7438-0035-4F55-B253-8ABCAD5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53A-141E-4F00-BC07-A6A7C583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2481-450C-4EBC-A22F-EAF691F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70C8-86D2-41EC-9D6A-F53A197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7483-1E25-41A6-95B5-55B2DF72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9398-F0FC-447B-B635-A70E4260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F92-9172-4D4C-B78A-27DEE8C9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AE3-8047-4B83-9E49-6C0D3AC6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E94-D703-4C61-9A71-2BA57D5F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D84-053B-46DA-B7E7-F5513AC0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F02-656C-4600-B52B-032B16A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50B-0FA7-4455-8231-5BB515A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C29-9D19-4265-9488-7996425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1CA-CC26-4724-B435-D490B2F6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70C86A-CCC3-4994-B79F-80A823C2D6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BEAB79-9289-4464-B3A2-8FAED380D0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6"/>
          <p:cNvSpPr/>
          <p:nvPr/>
        </p:nvSpPr>
        <p:spPr>
          <a:xfrm>
            <a:off x="-198720" y="207900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简约设计答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3"/>
          <p:cNvGrpSpPr/>
          <p:nvPr/>
        </p:nvGrpSpPr>
        <p:grpSpPr>
          <a:xfrm>
            <a:off x="792000" y="4779720"/>
            <a:ext cx="6617880" cy="988920"/>
            <a:chOff x="792000" y="4779720"/>
            <a:chExt cx="6617880" cy="988920"/>
          </a:xfrm>
        </p:grpSpPr>
        <p:pic>
          <p:nvPicPr>
            <p:cNvPr id="90" name="图片 2" descr=""/>
            <p:cNvPicPr/>
            <p:nvPr/>
          </p:nvPicPr>
          <p:blipFill>
            <a:blip r:embed="rId1"/>
            <a:stretch/>
          </p:blipFill>
          <p:spPr>
            <a:xfrm>
              <a:off x="2748240" y="5364360"/>
              <a:ext cx="510840" cy="3142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1" name="TextBox 17"/>
            <p:cNvSpPr/>
            <p:nvPr/>
          </p:nvSpPr>
          <p:spPr>
            <a:xfrm>
              <a:off x="4662360" y="4921200"/>
              <a:ext cx="27475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导教师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3464280" y="4780080"/>
              <a:ext cx="989640" cy="9885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3" name="TextBox 23"/>
            <p:cNvSpPr/>
            <p:nvPr/>
          </p:nvSpPr>
          <p:spPr>
            <a:xfrm>
              <a:off x="792000" y="4964760"/>
              <a:ext cx="252864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直接连接符 11"/>
            <p:cNvCxnSpPr/>
            <p:nvPr/>
          </p:nvCxnSpPr>
          <p:spPr>
            <a:xfrm>
              <a:off x="4572000" y="4779720"/>
              <a:ext cx="360" cy="989280"/>
            </a:xfrm>
            <a:prstGeom prst="straightConnector1">
              <a:avLst/>
            </a:prstGeom>
            <a:ln w="31750"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</p:cxnSp>
        <p:sp>
          <p:nvSpPr>
            <p:cNvPr id="95" name="矩形 12"/>
            <p:cNvSpPr/>
            <p:nvPr/>
          </p:nvSpPr>
          <p:spPr>
            <a:xfrm>
              <a:off x="1735560" y="5246280"/>
              <a:ext cx="980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en-US" sz="2800" spc="49" strike="noStrike">
                  <a:solidFill>
                    <a:schemeClr val="accent2"/>
                  </a:solidFill>
                  <a:latin typeface="Calibri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895400" y="1449360"/>
            <a:ext cx="1366560" cy="1952280"/>
          </a:xfrm>
          <a:prstGeom prst="rect">
            <a:avLst/>
          </a:prstGeom>
          <a:ln w="9525">
            <a:noFill/>
          </a:ln>
        </p:spPr>
      </p:pic>
      <p:sp>
        <p:nvSpPr>
          <p:cNvPr id="175" name="TextBox 9"/>
          <p:cNvSpPr/>
          <p:nvPr/>
        </p:nvSpPr>
        <p:spPr>
          <a:xfrm>
            <a:off x="754200" y="4227480"/>
            <a:ext cx="4268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问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932360" y="1104840"/>
            <a:ext cx="3390480" cy="4841640"/>
          </a:xfrm>
          <a:prstGeom prst="rect">
            <a:avLst/>
          </a:prstGeom>
          <a:ln w="9525">
            <a:noFill/>
          </a:ln>
        </p:spPr>
      </p:pic>
      <p:sp>
        <p:nvSpPr>
          <p:cNvPr id="177" name="等腰三角形 10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8" name="TextBox 11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125000" y="1185120"/>
            <a:ext cx="7317000" cy="30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81" name="TextBox 1"/>
          <p:cNvSpPr/>
          <p:nvPr/>
        </p:nvSpPr>
        <p:spPr>
          <a:xfrm>
            <a:off x="1781280" y="5495760"/>
            <a:ext cx="7021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结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5381640" y="2286000"/>
            <a:ext cx="1800000" cy="2633400"/>
            <a:chOff x="5381640" y="2286000"/>
            <a:chExt cx="1800000" cy="2633400"/>
          </a:xfrm>
        </p:grpSpPr>
        <p:sp>
          <p:nvSpPr>
            <p:cNvPr id="185" name="矩形 1"/>
            <p:cNvSpPr/>
            <p:nvPr/>
          </p:nvSpPr>
          <p:spPr>
            <a:xfrm>
              <a:off x="5381640" y="228600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5381640" y="324324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8"/>
            <p:cNvSpPr/>
            <p:nvPr/>
          </p:nvSpPr>
          <p:spPr>
            <a:xfrm>
              <a:off x="5381640" y="420048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分辨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9"/>
          <p:cNvSpPr/>
          <p:nvPr/>
        </p:nvSpPr>
        <p:spPr>
          <a:xfrm>
            <a:off x="1781280" y="3079800"/>
            <a:ext cx="2069640" cy="10458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1"/>
          <p:cNvCxnSpPr/>
          <p:nvPr/>
        </p:nvCxnSpPr>
        <p:spPr>
          <a:xfrm>
            <a:off x="4552920" y="1976400"/>
            <a:ext cx="360" cy="325296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90" name="矩形 15"/>
          <p:cNvSpPr/>
          <p:nvPr/>
        </p:nvSpPr>
        <p:spPr>
          <a:xfrm>
            <a:off x="3176640" y="3429000"/>
            <a:ext cx="2790360" cy="6966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51596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573732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880920" y="1358640"/>
            <a:ext cx="7200720" cy="3252960"/>
            <a:chOff x="880920" y="1358640"/>
            <a:chExt cx="7200720" cy="3252960"/>
          </a:xfrm>
        </p:grpSpPr>
        <p:pic>
          <p:nvPicPr>
            <p:cNvPr id="195" name="Picture 2" descr=""/>
            <p:cNvPicPr/>
            <p:nvPr/>
          </p:nvPicPr>
          <p:blipFill>
            <a:blip r:embed="rId1"/>
            <a:stretch/>
          </p:blipFill>
          <p:spPr>
            <a:xfrm>
              <a:off x="880920" y="1726200"/>
              <a:ext cx="7200720" cy="233280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cxnSp>
          <p:nvCxnSpPr>
            <p:cNvPr id="196" name="直接连接符 19"/>
            <p:cNvCxnSpPr/>
            <p:nvPr/>
          </p:nvCxnSpPr>
          <p:spPr>
            <a:xfrm>
              <a:off x="4552920" y="1358640"/>
              <a:ext cx="360" cy="3253320"/>
            </a:xfrm>
            <a:prstGeom prst="straightConnector1">
              <a:avLst/>
            </a:prstGeom>
            <a:ln w="31750">
              <a:solidFill>
                <a:srgbClr val="26262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7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7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7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0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2.83237E-006 L 0 0.30636 E">
                                      <p:cBhvr>
                                        <p:cTn id="135" dur="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1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581280" y="1658880"/>
            <a:ext cx="5047920" cy="3609720"/>
          </a:xfrm>
          <a:prstGeom prst="rect">
            <a:avLst/>
          </a:prstGeom>
          <a:ln w="9525">
            <a:noFill/>
          </a:ln>
        </p:spPr>
      </p:pic>
      <p:cxnSp>
        <p:nvCxnSpPr>
          <p:cNvPr id="201" name="直接连接符 7"/>
          <p:cNvCxnSpPr/>
          <p:nvPr/>
        </p:nvCxnSpPr>
        <p:spPr>
          <a:xfrm>
            <a:off x="3024000" y="1448640"/>
            <a:ext cx="360" cy="396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202" name="TextBox 12"/>
          <p:cNvSpPr/>
          <p:nvPr/>
        </p:nvSpPr>
        <p:spPr>
          <a:xfrm>
            <a:off x="558720" y="3232080"/>
            <a:ext cx="2085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581280" y="1808280"/>
            <a:ext cx="5047920" cy="3227040"/>
          </a:xfrm>
          <a:prstGeom prst="rect">
            <a:avLst/>
          </a:prstGeom>
          <a:ln w="9525">
            <a:noFill/>
          </a:ln>
        </p:spPr>
      </p:pic>
      <p:sp>
        <p:nvSpPr>
          <p:cNvPr id="204" name="矩形 15"/>
          <p:cNvSpPr/>
          <p:nvPr/>
        </p:nvSpPr>
        <p:spPr>
          <a:xfrm>
            <a:off x="4392720" y="2529000"/>
            <a:ext cx="4236840" cy="2250720"/>
          </a:xfrm>
          <a:prstGeom prst="rect">
            <a:avLst/>
          </a:prstGeom>
          <a:solidFill>
            <a:srgbClr val="00b050">
              <a:alpha val="50000"/>
            </a:srgbClr>
          </a:solidFill>
          <a:ln w="31750">
            <a:solidFill>
              <a:srgbClr val="00b05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7200" spc="-1" strike="noStrike">
                <a:solidFill>
                  <a:schemeClr val="lt1"/>
                </a:solidFill>
                <a:latin typeface="黑体"/>
                <a:ea typeface="黑体"/>
              </a:rPr>
              <a:t>有效区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31640" y="2617920"/>
            <a:ext cx="2339640" cy="1752120"/>
          </a:xfrm>
          <a:prstGeom prst="rect">
            <a:avLst/>
          </a:prstGeom>
          <a:ln w="9525">
            <a:noFill/>
          </a:ln>
        </p:spPr>
      </p:pic>
      <p:sp>
        <p:nvSpPr>
          <p:cNvPr id="207" name="TextBox 19"/>
          <p:cNvSpPr/>
          <p:nvPr/>
        </p:nvSpPr>
        <p:spPr>
          <a:xfrm>
            <a:off x="657360" y="3201840"/>
            <a:ext cx="1888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4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4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7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5840" y="630864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0" y="819000"/>
            <a:ext cx="9143640" cy="5310000"/>
          </a:xfrm>
          <a:prstGeom prst="rect">
            <a:avLst/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插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录制视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468360" y="1933560"/>
            <a:ext cx="91436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3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谢 谢</a:t>
            </a:r>
            <a:r>
              <a:rPr b="0" lang="en-US" sz="13800" spc="-1" strike="noStrike">
                <a:solidFill>
                  <a:srgbClr val="cc0000"/>
                </a:solidFill>
                <a:latin typeface="方正大黑简体"/>
                <a:ea typeface="方正大黑简体"/>
              </a:rPr>
              <a:t>!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4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环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0" y="2889360"/>
            <a:ext cx="9143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这里还是放题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6324480" y="5950080"/>
            <a:ext cx="2747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299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7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98" name="等腰三角形 8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9" name="TextBox 9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1"/>
          <a:srcRect l="8560" t="0" r="8530" b="0"/>
          <a:stretch/>
        </p:blipFill>
        <p:spPr>
          <a:xfrm>
            <a:off x="-4680" y="-22320"/>
            <a:ext cx="9153000" cy="6901920"/>
          </a:xfrm>
          <a:prstGeom prst="rect">
            <a:avLst/>
          </a:prstGeom>
          <a:ln w="9525">
            <a:noFill/>
          </a:ln>
        </p:spPr>
      </p:pic>
      <p:sp>
        <p:nvSpPr>
          <p:cNvPr id="101" name="矩形 3"/>
          <p:cNvSpPr/>
          <p:nvPr/>
        </p:nvSpPr>
        <p:spPr>
          <a:xfrm>
            <a:off x="3132000" y="1898640"/>
            <a:ext cx="4679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论文概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132000" y="3384720"/>
            <a:ext cx="4679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研究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32000" y="4869000"/>
            <a:ext cx="4679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果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1511280" y="1898640"/>
            <a:ext cx="1007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1511280" y="3384720"/>
            <a:ext cx="1007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1511280" y="4869000"/>
            <a:ext cx="1007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6"/>
          <p:cNvSpPr/>
          <p:nvPr/>
        </p:nvSpPr>
        <p:spPr>
          <a:xfrm>
            <a:off x="1601640" y="998640"/>
            <a:ext cx="260964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概要论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5388120" y="998640"/>
            <a:ext cx="262872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数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5392800" y="3622680"/>
            <a:ext cx="261900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1616040" y="3622680"/>
            <a:ext cx="258084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右箭头 1"/>
          <p:cNvSpPr/>
          <p:nvPr/>
        </p:nvSpPr>
        <p:spPr>
          <a:xfrm>
            <a:off x="4497480" y="164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右箭头 21"/>
          <p:cNvSpPr/>
          <p:nvPr/>
        </p:nvSpPr>
        <p:spPr>
          <a:xfrm rot="5400000">
            <a:off x="6342480" y="281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右箭头 22"/>
          <p:cNvSpPr/>
          <p:nvPr/>
        </p:nvSpPr>
        <p:spPr>
          <a:xfrm rot="10800000">
            <a:off x="4407120" y="411984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4" name="组合 2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115" name="等腰三角形 12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6" name="TextBox 13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8"/>
          <p:cNvGrpSpPr/>
          <p:nvPr/>
        </p:nvGrpSpPr>
        <p:grpSpPr>
          <a:xfrm>
            <a:off x="712800" y="2266920"/>
            <a:ext cx="8089560" cy="3014280"/>
            <a:chOff x="712800" y="2266920"/>
            <a:chExt cx="8089560" cy="3014280"/>
          </a:xfrm>
        </p:grpSpPr>
        <p:pic>
          <p:nvPicPr>
            <p:cNvPr id="120" name="图片 39" descr=""/>
            <p:cNvPicPr/>
            <p:nvPr/>
          </p:nvPicPr>
          <p:blipFill>
            <a:blip r:embed="rId1"/>
            <a:stretch/>
          </p:blipFill>
          <p:spPr>
            <a:xfrm>
              <a:off x="712800" y="2346480"/>
              <a:ext cx="2199600" cy="1810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1" name="TextBox 40"/>
            <p:cNvSpPr/>
            <p:nvPr/>
          </p:nvSpPr>
          <p:spPr>
            <a:xfrm>
              <a:off x="2912760" y="2266920"/>
              <a:ext cx="5889600" cy="301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研究的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象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XXXXXXXXX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既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3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784840" y="3448080"/>
            <a:ext cx="2852280" cy="214128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363760" y="819000"/>
            <a:ext cx="28540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784840" y="819000"/>
            <a:ext cx="28522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2363760" y="3448080"/>
            <a:ext cx="2854080" cy="2141280"/>
          </a:xfrm>
          <a:prstGeom prst="rect">
            <a:avLst/>
          </a:prstGeom>
          <a:ln w="9525">
            <a:noFill/>
          </a:ln>
        </p:spPr>
      </p:pic>
      <p:cxnSp>
        <p:nvCxnSpPr>
          <p:cNvPr id="128" name="直接连接符 14"/>
          <p:cNvCxnSpPr/>
          <p:nvPr/>
        </p:nvCxnSpPr>
        <p:spPr>
          <a:xfrm>
            <a:off x="1871640" y="1943640"/>
            <a:ext cx="360" cy="297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29" name="TextBox 28"/>
          <p:cNvSpPr/>
          <p:nvPr/>
        </p:nvSpPr>
        <p:spPr>
          <a:xfrm>
            <a:off x="250920" y="2652840"/>
            <a:ext cx="1458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发展的必然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306072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5"/>
          <p:cNvSpPr/>
          <p:nvPr/>
        </p:nvSpPr>
        <p:spPr>
          <a:xfrm>
            <a:off x="648180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6"/>
          <p:cNvSpPr/>
          <p:nvPr/>
        </p:nvSpPr>
        <p:spPr>
          <a:xfrm>
            <a:off x="306072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讨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7"/>
          <p:cNvSpPr/>
          <p:nvPr/>
        </p:nvSpPr>
        <p:spPr>
          <a:xfrm>
            <a:off x="648180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600000" cy="279216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774720" y="1427040"/>
            <a:ext cx="3076200" cy="2474640"/>
          </a:xfrm>
          <a:prstGeom prst="rect">
            <a:avLst/>
          </a:prstGeom>
          <a:ln w="9525">
            <a:noFill/>
          </a:ln>
        </p:spPr>
      </p:pic>
      <p:sp>
        <p:nvSpPr>
          <p:cNvPr id="138" name="TextBox 9"/>
          <p:cNvSpPr/>
          <p:nvPr/>
        </p:nvSpPr>
        <p:spPr>
          <a:xfrm>
            <a:off x="1467000" y="4592520"/>
            <a:ext cx="1890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662360" y="4592520"/>
            <a:ext cx="4049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8"/>
          <p:cNvCxnSpPr/>
          <p:nvPr/>
        </p:nvCxnSpPr>
        <p:spPr>
          <a:xfrm>
            <a:off x="4370040" y="908640"/>
            <a:ext cx="360" cy="391608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2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矩形 25"/>
          <p:cNvSpPr/>
          <p:nvPr/>
        </p:nvSpPr>
        <p:spPr>
          <a:xfrm>
            <a:off x="3232080" y="1268280"/>
            <a:ext cx="3109680" cy="6552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2"/>
          <p:cNvSpPr/>
          <p:nvPr/>
        </p:nvSpPr>
        <p:spPr>
          <a:xfrm>
            <a:off x="1781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2843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二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9"/>
          <p:cNvSpPr/>
          <p:nvPr/>
        </p:nvSpPr>
        <p:spPr>
          <a:xfrm>
            <a:off x="3903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4965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四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1"/>
          <p:cNvSpPr/>
          <p:nvPr/>
        </p:nvSpPr>
        <p:spPr>
          <a:xfrm>
            <a:off x="6027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关于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2"/>
          <p:cNvSpPr/>
          <p:nvPr/>
        </p:nvSpPr>
        <p:spPr>
          <a:xfrm>
            <a:off x="70880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帮助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肘形连接符 34"/>
          <p:cNvCxnSpPr>
            <a:stCxn id="144" idx="2"/>
            <a:endCxn id="146" idx="0"/>
          </p:cNvCxnSpPr>
          <p:nvPr/>
        </p:nvCxnSpPr>
        <p:spPr>
          <a:xfrm flipV="1" rot="10800000">
            <a:off x="3156840" y="1923840"/>
            <a:ext cx="16308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2" name="肘形连接符 38"/>
          <p:cNvCxnSpPr>
            <a:endCxn id="147" idx="0"/>
          </p:cNvCxnSpPr>
          <p:nvPr/>
        </p:nvCxnSpPr>
        <p:spPr>
          <a:xfrm flipV="1" rot="10800000">
            <a:off x="4219560" y="1923840"/>
            <a:ext cx="56844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3" name="肘形连接符 41"/>
          <p:cNvCxnSpPr>
            <a:stCxn id="144" idx="2"/>
            <a:endCxn id="148" idx="0"/>
          </p:cNvCxnSpPr>
          <p:nvPr/>
        </p:nvCxnSpPr>
        <p:spPr>
          <a:xfrm>
            <a:off x="4787640" y="1923840"/>
            <a:ext cx="492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4" name="肘形连接符 44"/>
          <p:cNvCxnSpPr>
            <a:stCxn id="144" idx="2"/>
            <a:endCxn id="149" idx="0"/>
          </p:cNvCxnSpPr>
          <p:nvPr/>
        </p:nvCxnSpPr>
        <p:spPr>
          <a:xfrm>
            <a:off x="4787640" y="1923840"/>
            <a:ext cx="1554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5" name="肘形连接符 47"/>
          <p:cNvCxnSpPr>
            <a:stCxn id="144" idx="2"/>
            <a:endCxn id="150" idx="0"/>
          </p:cNvCxnSpPr>
          <p:nvPr/>
        </p:nvCxnSpPr>
        <p:spPr>
          <a:xfrm>
            <a:off x="4787640" y="1923840"/>
            <a:ext cx="2616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6" name="肘形连接符 51"/>
          <p:cNvCxnSpPr>
            <a:stCxn id="144" idx="2"/>
            <a:endCxn id="145" idx="0"/>
          </p:cNvCxnSpPr>
          <p:nvPr/>
        </p:nvCxnSpPr>
        <p:spPr>
          <a:xfrm flipV="1" rot="10800000">
            <a:off x="2097000" y="1923840"/>
            <a:ext cx="26910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Picture 2" descr="C:\Users\Administrator\Desktop\VS.png"/>
          <p:cNvPicPr/>
          <p:nvPr/>
        </p:nvPicPr>
        <p:blipFill>
          <a:blip r:embed="rId1"/>
          <a:stretch/>
        </p:blipFill>
        <p:spPr>
          <a:xfrm>
            <a:off x="1125360" y="1808280"/>
            <a:ext cx="3233520" cy="226800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C:\Users\Administrator\Desktop\SQL.png"/>
          <p:cNvPicPr/>
          <p:nvPr/>
        </p:nvPicPr>
        <p:blipFill>
          <a:blip r:embed="rId2"/>
          <a:stretch/>
        </p:blipFill>
        <p:spPr>
          <a:xfrm>
            <a:off x="5083200" y="3699000"/>
            <a:ext cx="3036600" cy="19476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5083200" y="819000"/>
            <a:ext cx="3036600" cy="2252160"/>
          </a:xfrm>
          <a:prstGeom prst="rect">
            <a:avLst/>
          </a:prstGeom>
          <a:ln w="9525">
            <a:noFill/>
          </a:ln>
        </p:spPr>
      </p:pic>
      <p:sp>
        <p:nvSpPr>
          <p:cNvPr id="163" name="TextBox 28"/>
          <p:cNvSpPr/>
          <p:nvPr/>
        </p:nvSpPr>
        <p:spPr>
          <a:xfrm>
            <a:off x="1125360" y="4194000"/>
            <a:ext cx="3233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sual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3"/>
          <p:cNvSpPr/>
          <p:nvPr/>
        </p:nvSpPr>
        <p:spPr>
          <a:xfrm>
            <a:off x="5083200" y="3147840"/>
            <a:ext cx="3036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5202360" y="5757840"/>
            <a:ext cx="2790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7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 rot="19270200">
            <a:off x="1414080" y="1385640"/>
            <a:ext cx="3176280" cy="453672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 rot="20225400">
            <a:off x="2342880" y="736560"/>
            <a:ext cx="3188880" cy="455256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3193920" y="438120"/>
            <a:ext cx="3193560" cy="456048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 rot="1231800">
            <a:off x="4098600" y="752040"/>
            <a:ext cx="3165120" cy="452088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5"/>
          <a:stretch/>
        </p:blipFill>
        <p:spPr>
          <a:xfrm rot="2440200">
            <a:off x="4732200" y="1316160"/>
            <a:ext cx="3204720" cy="45763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173" name="Text Box 3"/>
          <p:cNvSpPr/>
          <p:nvPr/>
        </p:nvSpPr>
        <p:spPr>
          <a:xfrm>
            <a:off x="1274040" y="641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  <Words>331</Words>
  <Paragraphs>11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yu wang</cp:lastModifiedBy>
  <dcterms:modified xsi:type="dcterms:W3CDTF">2015-08-03T12:24:08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全屏显示(4:3)</vt:lpwstr>
  </property>
  <property fmtid="{D5CDD505-2E9C-101B-9397-08002B2CF9AE}" pid="4" name="Slides">
    <vt:r8>17</vt:r8>
  </property>
</Properties>
</file>