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A461-0A35-410F-9289-9DC3AFF1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FCC1-8C40-48C8-A0E1-FF21EF1C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BBB-BA2E-45B1-B888-48CA0EB8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189E-4513-456E-93EC-FDE99F74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7BAB-DDC1-4097-BDA9-FD2E602D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37AF-BAAB-4997-9709-C213F61E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C24E-529D-4517-81D2-B7EAD71E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9717-111B-4A8B-A200-E5972C00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899F-FD17-41EF-8BFA-DD6C6EC8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1A4D-56DF-410F-8F35-9C67F539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6B20-BC84-4262-9C0A-61DD2415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76EF-F180-43F4-8B52-AA93F8DB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C873-0D0E-4EE2-B8A0-376E197B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BF37-742B-4E51-8FB1-4BC059B2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0FC4-BC95-4EAA-B6ED-17945403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C23E-B698-4085-956C-BB01A9B3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1121-8128-4BF7-8893-7DE1C231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E05F-6074-40DF-A98B-8903C842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6427-98E2-41CF-B355-4E6C1B84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ECB2-652E-422E-8307-607CEED5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518B-C0F2-415F-964D-05ABD1C3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5BBC-5395-4B16-A7CB-2CBA2AA9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97B4-8A7B-4478-AD18-2E1E34F2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ABBF-77DE-43F9-A773-B333CA5A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85840" y="5000760"/>
            <a:ext cx="6500520" cy="13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428760" y="1000080"/>
            <a:ext cx="2714400" cy="2356920"/>
          </a:xfrm>
          <a:prstGeom prst="rect">
            <a:avLst/>
          </a:prstGeom>
          <a:noFill/>
          <a:ln w="12600">
            <a:solidFill>
              <a:srgbClr val="78310b"/>
            </a:solidFill>
            <a:round/>
          </a:ln>
          <a:effectLst>
            <a:outerShdw dist="0" dir="0" blurRad="6336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图标添加图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214800" y="1000080"/>
            <a:ext cx="2714400" cy="2356920"/>
          </a:xfrm>
          <a:prstGeom prst="rect">
            <a:avLst/>
          </a:prstGeom>
          <a:noFill/>
          <a:ln w="12600">
            <a:solidFill>
              <a:srgbClr val="78310b"/>
            </a:solidFill>
            <a:round/>
          </a:ln>
          <a:effectLst>
            <a:outerShdw dist="0" dir="0" blurRad="6336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图标添加图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6000840" y="1000080"/>
            <a:ext cx="2714400" cy="2356920"/>
          </a:xfrm>
          <a:prstGeom prst="rect">
            <a:avLst/>
          </a:prstGeom>
          <a:noFill/>
          <a:ln w="12600">
            <a:solidFill>
              <a:srgbClr val="78310b"/>
            </a:solidFill>
            <a:round/>
          </a:ln>
          <a:effectLst>
            <a:outerShdw dist="0" dir="0" blurRad="6336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图标添加图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428760" y="3643200"/>
            <a:ext cx="6857640" cy="16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357120" y="428760"/>
            <a:ext cx="4500360" cy="2785680"/>
          </a:xfrm>
          <a:prstGeom prst="rect">
            <a:avLst/>
          </a:prstGeom>
          <a:noFill/>
          <a:ln w="12600">
            <a:solidFill>
              <a:srgbClr val="78310b"/>
            </a:solidFill>
            <a:round/>
          </a:ln>
          <a:effectLst>
            <a:outerShdw dist="0" dir="0" blurRad="6336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图标添加图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929120" y="3286080"/>
            <a:ext cx="2428560" cy="1999800"/>
          </a:xfrm>
          <a:prstGeom prst="rect">
            <a:avLst/>
          </a:prstGeom>
          <a:noFill/>
          <a:ln w="12600">
            <a:solidFill>
              <a:srgbClr val="78310b"/>
            </a:solidFill>
            <a:round/>
          </a:ln>
          <a:effectLst>
            <a:outerShdw dist="0" dir="0" blurRad="6336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图标添加图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body"/>
          </p:nvPr>
        </p:nvSpPr>
        <p:spPr>
          <a:xfrm>
            <a:off x="2428920" y="3286080"/>
            <a:ext cx="2428560" cy="1999800"/>
          </a:xfrm>
          <a:prstGeom prst="rect">
            <a:avLst/>
          </a:prstGeom>
          <a:noFill/>
          <a:ln w="12600">
            <a:solidFill>
              <a:srgbClr val="78310b"/>
            </a:solidFill>
            <a:round/>
          </a:ln>
          <a:effectLst>
            <a:outerShdw dist="0" dir="0" blurRad="6336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图标添加图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4929120" y="428760"/>
            <a:ext cx="2428560" cy="27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357120" y="428760"/>
            <a:ext cx="3642840" cy="5214600"/>
          </a:xfrm>
          <a:prstGeom prst="rect">
            <a:avLst/>
          </a:prstGeom>
          <a:noFill/>
          <a:ln w="12600">
            <a:solidFill>
              <a:srgbClr val="78310b"/>
            </a:solidFill>
            <a:round/>
          </a:ln>
          <a:effectLst>
            <a:outerShdw dist="0" dir="0" blurRad="6336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图标添加图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143240" y="3500280"/>
            <a:ext cx="2857320" cy="2142720"/>
          </a:xfrm>
          <a:prstGeom prst="rect">
            <a:avLst/>
          </a:prstGeom>
          <a:noFill/>
          <a:ln w="12600">
            <a:solidFill>
              <a:srgbClr val="78310b"/>
            </a:solidFill>
            <a:round/>
          </a:ln>
          <a:effectLst>
            <a:outerShdw dist="0" dir="0" blurRad="6336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图标添加图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143240" y="428760"/>
            <a:ext cx="4357440" cy="29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143680"/>
            <a:ext cx="6043320" cy="113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5C4589C-A992-4CA6-821C-E4906B89AC7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4B8E791-F67B-44E1-8291-DAB143B311D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pt-to-dvd.com/ppt2dvd/overview.html" TargetMode="External"/><Relationship Id="rId2" Type="http://schemas.openxmlformats.org/officeDocument/2006/relationships/hyperlink" Target="http://www.ppt-to-dvd.com/ppt-to-video-overview.html" TargetMode="External"/><Relationship Id="rId3" Type="http://schemas.openxmlformats.org/officeDocument/2006/relationships/hyperlink" Target="http://www.ppt-to-dvd.com/ppt2flash_std/overview.html" TargetMode="External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28760" y="5143680"/>
            <a:ext cx="8607600" cy="8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建筑工程系毕业设计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4"/>
          <p:cNvSpPr/>
          <p:nvPr/>
        </p:nvSpPr>
        <p:spPr>
          <a:xfrm>
            <a:off x="1000080" y="5799600"/>
            <a:ext cx="400032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chemeClr val="accent3">
                    <a:lumMod val="75000"/>
                  </a:schemeClr>
                </a:solidFill>
                <a:latin typeface="MS PGothic"/>
                <a:ea typeface="MS PGothic"/>
              </a:rPr>
              <a:t>Click to edit Master subtitle sty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图片占位符 13" descr="study028.jpg"/>
          <p:cNvPicPr/>
          <p:nvPr/>
        </p:nvPicPr>
        <p:blipFill>
          <a:blip r:embed="rId1"/>
          <a:srcRect l="11406" t="0" r="11406" b="0"/>
          <a:stretch/>
        </p:blipFill>
        <p:spPr>
          <a:xfrm>
            <a:off x="428760" y="1000080"/>
            <a:ext cx="2714400" cy="2356920"/>
          </a:xfrm>
          <a:prstGeom prst="rect">
            <a:avLst/>
          </a:prstGeom>
          <a:ln w="12700">
            <a:solidFill>
              <a:srgbClr val="eb641b">
                <a:lumMod val="50000"/>
              </a:srgbClr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pic>
        <p:nvPicPr>
          <p:cNvPr id="284" name="图片占位符 15" descr="study025.jpg"/>
          <p:cNvPicPr/>
          <p:nvPr/>
        </p:nvPicPr>
        <p:blipFill>
          <a:blip r:embed="rId2"/>
          <a:srcRect l="7127" t="0" r="7127" b="0"/>
          <a:stretch/>
        </p:blipFill>
        <p:spPr>
          <a:xfrm>
            <a:off x="3214800" y="1000080"/>
            <a:ext cx="2714400" cy="2356920"/>
          </a:xfrm>
          <a:prstGeom prst="rect">
            <a:avLst/>
          </a:prstGeom>
          <a:ln w="12700">
            <a:solidFill>
              <a:srgbClr val="eb641b">
                <a:lumMod val="50000"/>
              </a:srgbClr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pic>
        <p:nvPicPr>
          <p:cNvPr id="285" name="图片占位符 16" descr="study015.jpg"/>
          <p:cNvPicPr/>
          <p:nvPr/>
        </p:nvPicPr>
        <p:blipFill>
          <a:blip r:embed="rId3"/>
          <a:srcRect l="11634" t="0" r="11634" b="0"/>
          <a:stretch/>
        </p:blipFill>
        <p:spPr>
          <a:xfrm>
            <a:off x="6000840" y="1000080"/>
            <a:ext cx="2714400" cy="2356920"/>
          </a:xfrm>
          <a:prstGeom prst="rect">
            <a:avLst/>
          </a:prstGeom>
          <a:ln w="12700">
            <a:solidFill>
              <a:srgbClr val="eb641b">
                <a:lumMod val="50000"/>
              </a:srgbClr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28760" y="3643200"/>
            <a:ext cx="7071840" cy="16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Don\'t be disappointed on the journey of life. There are friends in the world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．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Seize your chance and value your opportunities. May our friendship be everlasting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．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图片占位符 9" descr="study026.jpg"/>
          <p:cNvPicPr/>
          <p:nvPr/>
        </p:nvPicPr>
        <p:blipFill>
          <a:blip r:embed="rId1"/>
          <a:srcRect l="0" t="9116" r="0" b="9116"/>
          <a:stretch/>
        </p:blipFill>
        <p:spPr>
          <a:xfrm>
            <a:off x="357120" y="428760"/>
            <a:ext cx="4500360" cy="2785680"/>
          </a:xfrm>
          <a:prstGeom prst="rect">
            <a:avLst/>
          </a:prstGeom>
          <a:ln w="12700">
            <a:solidFill>
              <a:srgbClr val="eb641b">
                <a:lumMod val="50000"/>
              </a:srgbClr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pic>
        <p:nvPicPr>
          <p:cNvPr id="288" name="图片占位符 13" descr="study040.jpg"/>
          <p:cNvPicPr/>
          <p:nvPr/>
        </p:nvPicPr>
        <p:blipFill>
          <a:blip r:embed="rId2"/>
          <a:srcRect l="0" t="2406" r="0" b="2406"/>
          <a:stretch/>
        </p:blipFill>
        <p:spPr>
          <a:xfrm>
            <a:off x="4929120" y="3286080"/>
            <a:ext cx="2428560" cy="1999800"/>
          </a:xfrm>
          <a:prstGeom prst="rect">
            <a:avLst/>
          </a:prstGeom>
          <a:ln w="12700">
            <a:solidFill>
              <a:srgbClr val="eb641b">
                <a:lumMod val="50000"/>
              </a:srgbClr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pic>
        <p:nvPicPr>
          <p:cNvPr id="289" name="图片占位符 12" descr="study010.jpg"/>
          <p:cNvPicPr/>
          <p:nvPr/>
        </p:nvPicPr>
        <p:blipFill>
          <a:blip r:embed="rId3"/>
          <a:srcRect l="9537" t="0" r="9537" b="0"/>
          <a:stretch/>
        </p:blipFill>
        <p:spPr>
          <a:xfrm>
            <a:off x="2428920" y="3286080"/>
            <a:ext cx="2428560" cy="1999800"/>
          </a:xfrm>
          <a:prstGeom prst="rect">
            <a:avLst/>
          </a:prstGeom>
          <a:ln w="12700">
            <a:solidFill>
              <a:srgbClr val="eb641b">
                <a:lumMod val="50000"/>
              </a:srgbClr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5000760" y="714240"/>
            <a:ext cx="235692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ough time may change s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ny things, the happines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t friendship brings is neve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ng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faithful friend is beyon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ice, and there is n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ighing of his goodnes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图片占位符 3" descr="study016.jpg"/>
          <p:cNvPicPr/>
          <p:nvPr/>
        </p:nvPicPr>
        <p:blipFill>
          <a:blip r:embed="rId1"/>
          <a:srcRect l="0" t="2405" r="0" b="2405"/>
          <a:stretch/>
        </p:blipFill>
        <p:spPr>
          <a:xfrm>
            <a:off x="357120" y="428760"/>
            <a:ext cx="3642840" cy="5214600"/>
          </a:xfrm>
          <a:prstGeom prst="rect">
            <a:avLst/>
          </a:prstGeom>
          <a:ln w="12700">
            <a:solidFill>
              <a:srgbClr val="eb641b">
                <a:lumMod val="50000"/>
              </a:srgbClr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pic>
        <p:nvPicPr>
          <p:cNvPr id="292" name="图片占位符 8" descr="study008.jpg"/>
          <p:cNvPicPr/>
          <p:nvPr/>
        </p:nvPicPr>
        <p:blipFill>
          <a:blip r:embed="rId2"/>
          <a:srcRect l="5573" t="0" r="5573" b="0"/>
          <a:stretch/>
        </p:blipFill>
        <p:spPr>
          <a:xfrm>
            <a:off x="4143240" y="3500280"/>
            <a:ext cx="2857320" cy="2142720"/>
          </a:xfrm>
          <a:prstGeom prst="rect">
            <a:avLst/>
          </a:prstGeom>
          <a:ln w="12700">
            <a:solidFill>
              <a:srgbClr val="eb641b">
                <a:lumMod val="50000"/>
              </a:srgbClr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143240" y="1071720"/>
            <a:ext cx="3928680" cy="22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You have brains in your head. You have feet i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your shoes. You can steer yourself in any directio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you choose. You're on your own. And you know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at you know. You are the guy who'll decid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re to go.”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755640" y="645336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ff8119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5143680"/>
            <a:ext cx="3214440" cy="113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文本占位符 1"/>
          <p:cNvSpPr/>
          <p:nvPr/>
        </p:nvSpPr>
        <p:spPr>
          <a:xfrm>
            <a:off x="1214280" y="1214280"/>
            <a:ext cx="714348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en-US" sz="2200" spc="-1" strike="noStrike">
                <a:solidFill>
                  <a:srgbClr val="ff8119"/>
                </a:solidFill>
                <a:latin typeface="Calibri"/>
                <a:hlinkClick r:id="rId1"/>
              </a:rPr>
              <a:t>Play Presentations on TV with Stunning DVD men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en-US" sz="2200" spc="-1" strike="noStrike">
                <a:solidFill>
                  <a:srgbClr val="ff8119"/>
                </a:solidFill>
                <a:latin typeface="Calibri"/>
                <a:hlinkClick r:id="rId2"/>
              </a:rPr>
              <a:t>Share Favorite Shows in most Popular Video Forma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en-US" sz="2200" spc="-1" strike="noStrike">
                <a:solidFill>
                  <a:srgbClr val="ff8119"/>
                </a:solidFill>
                <a:latin typeface="Calibri"/>
                <a:hlinkClick r:id="rId3"/>
              </a:rPr>
              <a:t>Show Your Best Presentations within Web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ff8119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ff8119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ff8119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ff8119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ff8119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ff8119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ff8119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建筑工程系毕业生毕业设计PPT模板-www.51pptmoban.com">
  <a:themeElements>
    <a:clrScheme name="聚合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建筑工程系毕业生毕业设计PPT模板-www.51pptmoban.com">
  <a:themeElements>
    <a:clrScheme name="聚合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建筑工程系毕业生毕业设计PPT模板-www.51pptmoban.com">
  <a:themeElements>
    <a:clrScheme name="聚合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建筑工程系毕业生毕业设计PPT模板-www.51pptmoban.com">
  <a:themeElements>
    <a:clrScheme name="聚合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建筑工程系毕业生毕业设计PPT模板-www.51pptmoban.com">
  <a:themeElements>
    <a:clrScheme name="聚合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建筑工程系毕业生毕业设计PPT模板-www.51pptmoban.com">
  <a:themeElements>
    <a:clrScheme name="聚合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建筑工程系毕业生毕业设计PPT模板-www.51pptmoban.com">
  <a:themeElements>
    <a:clrScheme name="聚合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建筑工程系毕业生毕业设计PPT模板-www.51pptmoban.com</Template>
  <TotalTime>5</TotalTime>
  <Application>LibreOffice/7.4.7.2$Linux_X86_64 LibreOffice_project/40$Build-2</Application>
  <AppVersion>15.0000</AppVersion>
  <Words>322</Words>
  <Paragraphs>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12:59:50Z</dcterms:created>
  <dc:creator>for_yang@qq.com</dc:creator>
  <dc:description/>
  <dc:language>en-US</dc:language>
  <cp:lastModifiedBy>yu wang</cp:lastModifiedBy>
  <dcterms:modified xsi:type="dcterms:W3CDTF">2015-08-03T12:21:38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