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7AC-DD3F-455A-A950-95438F5D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4E3-1CA8-416D-BE72-05C40008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184-5163-457E-BB06-A93C9447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432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432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EF1-9F54-49FD-ABAF-460387E5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D3D9-69DB-4BA3-AA56-9E7943F5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EC44-A247-4842-AEAB-5BB2F269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9570-F42B-4093-9918-EBADA28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DF97-9118-494F-95FC-35F8757B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ED46-63EE-441C-92D1-BE10C63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8483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790-C541-44AB-94D5-10042205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3D01-B5B5-4CD1-8A79-DF43BC4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FB5-00E0-4B07-A7AF-A3F6B45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7E3F-2CF1-4C12-82F6-87E52E8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2C12-9426-43D8-806E-49963CD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9374-3745-46C3-AD41-8E3AB07B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1928-8769-4DF3-95FF-87C02232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1076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6432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1076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6432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D8DA-2091-4C9F-92B9-C702A054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FA87-A17D-4348-9F66-0F376A67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5AB1-9082-4288-AB7A-CA9A41E6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6492-A7EB-467A-92BF-EB5202D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EBA5-8677-49B1-8589-58267B0E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50B2-D55F-480E-8795-7C9B42C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736-9332-4EEC-8299-DA1CFD74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8483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783E-76C3-4499-9609-A8C243D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15FF-940E-4934-B3C1-D8D2077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F5F63-E3B5-4A7C-9AA3-0F276895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C09E-E4E2-4A4A-BAE0-33F31B0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B723-2EA3-4883-950E-78C5410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6EBE-BB3B-41B2-BB71-A14906ED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1076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764320" y="114300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1076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764320" y="3889440"/>
            <a:ext cx="252684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C105-A99E-45E0-9A48-83E00701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F42-54A6-4025-85DC-FB8814B7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3BC-E7AB-432B-9BE8-4010210C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78483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FA7-E933-4889-BA37-F8932C96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46A-06CA-4811-B202-B1A07E8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52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8760" y="388944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D82-D7A1-4074-AB80-F6A24737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8760" y="1143000"/>
            <a:ext cx="38296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9440"/>
            <a:ext cx="78483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3E6-BA49-439C-96F9-4563FBB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mars_spinning_hg_clr"/>
          <p:cNvPicPr/>
          <p:nvPr/>
        </p:nvPicPr>
        <p:blipFill>
          <a:blip r:embed="rId3"/>
          <a:stretch/>
        </p:blipFill>
        <p:spPr>
          <a:xfrm>
            <a:off x="6877080" y="49528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580F0A-E856-4BF3-9B32-E5AD99537022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mars_spinning_hg_clr"/>
          <p:cNvPicPr/>
          <p:nvPr/>
        </p:nvPicPr>
        <p:blipFill>
          <a:blip r:embed="rId3"/>
          <a:stretch/>
        </p:blipFill>
        <p:spPr>
          <a:xfrm>
            <a:off x="6877080" y="49528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384768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457880" y="1143000"/>
            <a:ext cx="384768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67A867-1216-48DE-9A7F-2049FD14A1E9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4" descr="mars_spinning_hg_clr"/>
          <p:cNvPicPr/>
          <p:nvPr/>
        </p:nvPicPr>
        <p:blipFill>
          <a:blip r:embed="rId3"/>
          <a:stretch/>
        </p:blipFill>
        <p:spPr>
          <a:xfrm>
            <a:off x="6877080" y="49528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 Black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9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0572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C3DBEF-C85E-4A42-A9F1-766AF68037F0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1496880" y="908640"/>
            <a:ext cx="47635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科幻创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364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364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Picture 6" descr="ufo_spin_hg_clr"/>
          <p:cNvPicPr/>
          <p:nvPr/>
        </p:nvPicPr>
        <p:blipFill>
          <a:blip r:embed="rId2"/>
          <a:stretch/>
        </p:blipFill>
        <p:spPr>
          <a:xfrm>
            <a:off x="2905200" y="2643120"/>
            <a:ext cx="3333240" cy="1571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-10836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360" cy="685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84836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05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 Black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 Black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mars_strikes_back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rs_strikes_back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rs_strikes_back">
  <a:themeElements>
    <a:clrScheme name="a_new_lif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rs_strikes_back</Template>
  <TotalTime>5</TotalTime>
  <Application>LibreOffice/7.4.7.2$Linux_X86_64 LibreOffice_project/40$Build-2</Application>
  <AppVersion>15.0000</AppVersion>
  <Words>189</Words>
  <Paragraphs>37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08:14:39Z</dcterms:created>
  <dc:creator>微软中国</dc:creator>
  <dc:description/>
  <dc:language>en-US</dc:language>
  <cp:lastModifiedBy>yu wang</cp:lastModifiedBy>
  <dcterms:modified xsi:type="dcterms:W3CDTF">2015-08-03T12:23:3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