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0F3-4834-43A6-92EF-D674F947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564-2F34-4D4C-BED6-703158A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FB1-C309-47EC-B969-777A1522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DB1-38DD-45C7-87F5-BDDA51F2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359-C6B9-4032-A004-1B6B89AC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C161-BC30-44E6-B963-B32D539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77A-CE9F-4E6D-A2F3-9168F4C8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90F-6A5A-4D58-9190-63B11A9C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E879-C040-4579-BEC3-ADF6D633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8850-C938-490A-8E77-3CEC6629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D11-6431-4649-91AA-1FA7F48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DEE-1282-45DE-937E-60710EFE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8C4D-4B7D-44AB-A04A-58D04745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B280-A220-4FDA-8058-36FD0394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BF1F-4B7C-4FC3-AA03-31043C40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5FE0-E13F-4AFC-A48E-551C2803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4F9-37A6-4BC3-9C15-906CF62E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7C9-B34D-4CC9-9BDA-0565430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6AB-30A7-4FF8-AD2C-6CDA5DE4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CAA-8CDB-4B36-BC15-4EB07DC8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EAB-7510-424E-9B7B-1D81B9A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F57-4E39-4E91-A3A8-A8D4B35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791-54DD-44DF-88C5-653401E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CCD-939A-420C-B0D4-DE46225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나눔고딕"/>
                <a:ea typeface="나눔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49DD6B-8484-46A5-9EA6-1B3AD1AAC892}" type="slidenum"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나눔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나눔고딕"/>
                <a:ea typeface="나눔고딕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나눔고딕"/>
                <a:ea typeface="나눔고딕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나눔고딕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나눔고딕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47F0B-2D0F-4631-A48B-21953B13D0F0}" type="slidenum">
              <a:rPr b="0" lang="en-US" sz="1200" spc="-1" strike="noStrike">
                <a:solidFill>
                  <a:srgbClr val="8b8b8b"/>
                </a:solidFill>
                <a:latin typeface="나눔고딕"/>
                <a:ea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angeul.naver.com/font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187640" y="5589360"/>
            <a:ext cx="396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398" strike="noStrike">
                <a:solidFill>
                  <a:srgbClr val="000000"/>
                </a:solidFill>
                <a:latin typeface="나눔명조"/>
                <a:ea typeface="나눔명조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187640" y="6165360"/>
            <a:ext cx="223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나눔명조"/>
                <a:ea typeface="나눔명조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1320" y="1145880"/>
            <a:ext cx="7438680" cy="3866760"/>
          </a:xfrm>
          <a:prstGeom prst="rect">
            <a:avLst/>
          </a:prstGeom>
          <a:ln w="9525">
            <a:noFill/>
          </a:ln>
        </p:spPr>
      </p:pic>
      <p:sp>
        <p:nvSpPr>
          <p:cNvPr id="85" name="矩形 1"/>
          <p:cNvSpPr/>
          <p:nvPr/>
        </p:nvSpPr>
        <p:spPr>
          <a:xfrm>
            <a:off x="2521080" y="5238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酷炫图画设计</a:t>
            </a:r>
            <a:r>
              <a:rPr b="0" lang="en-US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나눔고딕"/>
                <a:ea typeface="나눔고딕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나눔고딕"/>
                <a:ea typeface="나눔고딕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나눔고딕"/>
                <a:ea typeface="나눔고딕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r>
              <a:rPr b="1" lang="en-US" sz="105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나눔고딕"/>
                <a:ea typeface="나눔고딕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           </a:t>
            </a: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나눔고딕"/>
                <a:ea typeface="나눔고딕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4"/>
          <p:cNvSpPr/>
          <p:nvPr/>
        </p:nvSpPr>
        <p:spPr>
          <a:xfrm>
            <a:off x="395640" y="3069000"/>
            <a:ext cx="396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398" strike="noStrike">
                <a:solidFill>
                  <a:srgbClr val="000000"/>
                </a:solidFill>
                <a:latin typeface="나눔명조"/>
                <a:ea typeface="나눔명조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95640" y="3645000"/>
            <a:ext cx="223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000000"/>
                </a:solidFill>
                <a:latin typeface="나눔명조"/>
                <a:ea typeface="나눔명조"/>
              </a:rPr>
              <a:t>작가 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3"/>
          <p:cNvSpPr/>
          <p:nvPr/>
        </p:nvSpPr>
        <p:spPr>
          <a:xfrm>
            <a:off x="734400" y="6382080"/>
            <a:ext cx="1605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800" spc="-1" strike="noStrike">
                <a:solidFill>
                  <a:srgbClr val="a6a6a6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a6a6a6"/>
                </a:solidFill>
                <a:latin typeface="나눔고딕"/>
                <a:ea typeface="나눔고딕"/>
              </a:rPr>
              <a:t>.  </a:t>
            </a:r>
            <a:r>
              <a:rPr b="0" lang="ko-KR" sz="800" spc="-1" strike="noStrike" u="sng">
                <a:solidFill>
                  <a:srgbClr val="3a3a3a"/>
                </a:solidFill>
                <a:uFillTx/>
                <a:latin typeface="나눔고딕"/>
                <a:ea typeface="나눔고딕"/>
                <a:hlinkClick r:id="rId1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4500000" y="476640"/>
            <a:ext cx="2230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나눔명조"/>
                <a:ea typeface="나눔명조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660360" y="476640"/>
            <a:ext cx="248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나눔명조"/>
                <a:ea typeface="나눔명조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4500000" y="476640"/>
            <a:ext cx="3744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작가의 작품에 대한 해설 및 소개내용을 여기에 적어 주세요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본문 내용의 글자크기는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9pt, </a:t>
            </a: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행간은 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1.5, </a:t>
            </a:r>
            <a:r>
              <a:rPr b="0" lang="ko-KR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정렬방식은 양쪽 맞춤을 권장합니다</a:t>
            </a:r>
            <a:r>
              <a:rPr b="0" lang="en-US" sz="900" spc="-1" strike="noStrike">
                <a:solidFill>
                  <a:srgbClr val="000000"/>
                </a:solidFill>
                <a:latin typeface="나눔고딕"/>
                <a:ea typeface="나눔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500000" y="4581000"/>
            <a:ext cx="3168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나눔명조"/>
                <a:ea typeface="나눔명조"/>
              </a:rPr>
              <a:t>2011.00  </a:t>
            </a:r>
            <a:r>
              <a:rPr b="0" lang="ko-KR" sz="1100" spc="-1" strike="noStrike">
                <a:solidFill>
                  <a:srgbClr val="000000"/>
                </a:solidFill>
                <a:latin typeface="나눔명조"/>
                <a:ea typeface="나눔명조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428000" y="620640"/>
            <a:ext cx="4070520" cy="5616360"/>
          </a:xfrm>
          <a:prstGeom prst="rect">
            <a:avLst/>
          </a:prstGeom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그룹 6"/>
          <p:cNvGrpSpPr/>
          <p:nvPr/>
        </p:nvGrpSpPr>
        <p:grpSpPr>
          <a:xfrm>
            <a:off x="467640" y="514440"/>
            <a:ext cx="2952000" cy="461520"/>
            <a:chOff x="467640" y="514440"/>
            <a:chExt cx="2952000" cy="461520"/>
          </a:xfrm>
        </p:grpSpPr>
        <p:sp>
          <p:nvSpPr>
            <p:cNvPr id="96" name="TextBox 7"/>
            <p:cNvSpPr/>
            <p:nvPr/>
          </p:nvSpPr>
          <p:spPr>
            <a:xfrm>
              <a:off x="467640" y="51444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8"/>
            <p:cNvSpPr/>
            <p:nvPr/>
          </p:nvSpPr>
          <p:spPr>
            <a:xfrm>
              <a:off x="467640" y="67896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79280" y="692640"/>
            <a:ext cx="6804720" cy="5039640"/>
          </a:xfrm>
          <a:prstGeom prst="rect">
            <a:avLst/>
          </a:prstGeom>
          <a:ln w="9525">
            <a:noFill/>
          </a:ln>
        </p:spPr>
      </p:pic>
      <p:grpSp>
        <p:nvGrpSpPr>
          <p:cNvPr id="99" name="그룹 5"/>
          <p:cNvGrpSpPr/>
          <p:nvPr/>
        </p:nvGrpSpPr>
        <p:grpSpPr>
          <a:xfrm>
            <a:off x="1619640" y="5877360"/>
            <a:ext cx="2952000" cy="461520"/>
            <a:chOff x="1619640" y="5877360"/>
            <a:chExt cx="2952000" cy="461520"/>
          </a:xfrm>
        </p:grpSpPr>
        <p:sp>
          <p:nvSpPr>
            <p:cNvPr id="100" name="TextBox 9"/>
            <p:cNvSpPr/>
            <p:nvPr/>
          </p:nvSpPr>
          <p:spPr>
            <a:xfrm>
              <a:off x="1619640" y="587736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0"/>
            <p:cNvSpPr/>
            <p:nvPr/>
          </p:nvSpPr>
          <p:spPr>
            <a:xfrm>
              <a:off x="1619640" y="604188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6"/>
          <p:cNvSpPr/>
          <p:nvPr/>
        </p:nvSpPr>
        <p:spPr>
          <a:xfrm>
            <a:off x="1321200" y="476640"/>
            <a:ext cx="3344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595959"/>
                </a:solidFill>
                <a:uFillTx/>
                <a:latin typeface="나눔고딕"/>
                <a:ea typeface="나눔고딕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나눔고딕"/>
                <a:ea typeface="나눔고딕"/>
              </a:rPr>
              <a:t>收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898" t="1215" r="3068" b="3029"/>
          <a:stretch/>
        </p:blipFill>
        <p:spPr>
          <a:xfrm>
            <a:off x="4716000" y="548640"/>
            <a:ext cx="3886920" cy="5417640"/>
          </a:xfrm>
          <a:prstGeom prst="rect">
            <a:avLst/>
          </a:prstGeom>
          <a:ln w="9525">
            <a:noFill/>
          </a:ln>
          <a:effectLst>
            <a:outerShdw algn="ctr" blurRad="63360" rotWithShape="0">
              <a:srgbClr val="000000">
                <a:alpha val="40000"/>
              </a:srgbClr>
            </a:outerShdw>
          </a:effectLst>
        </p:spPr>
      </p:pic>
      <p:grpSp>
        <p:nvGrpSpPr>
          <p:cNvPr id="104" name="그룹 5"/>
          <p:cNvGrpSpPr/>
          <p:nvPr/>
        </p:nvGrpSpPr>
        <p:grpSpPr>
          <a:xfrm>
            <a:off x="467640" y="548640"/>
            <a:ext cx="2952000" cy="461520"/>
            <a:chOff x="467640" y="548640"/>
            <a:chExt cx="2952000" cy="461520"/>
          </a:xfrm>
        </p:grpSpPr>
        <p:sp>
          <p:nvSpPr>
            <p:cNvPr id="105" name="TextBox 9"/>
            <p:cNvSpPr/>
            <p:nvPr/>
          </p:nvSpPr>
          <p:spPr>
            <a:xfrm>
              <a:off x="467640" y="54864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467640" y="71316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58640" y="548640"/>
            <a:ext cx="5457240" cy="3528000"/>
          </a:xfrm>
          <a:prstGeom prst="rect">
            <a:avLst/>
          </a:prstGeom>
          <a:ln w="9525">
            <a:noFill/>
          </a:ln>
        </p:spPr>
      </p:pic>
      <p:grpSp>
        <p:nvGrpSpPr>
          <p:cNvPr id="108" name="그룹 4"/>
          <p:cNvGrpSpPr/>
          <p:nvPr/>
        </p:nvGrpSpPr>
        <p:grpSpPr>
          <a:xfrm>
            <a:off x="3060000" y="4474800"/>
            <a:ext cx="2952000" cy="461880"/>
            <a:chOff x="3060000" y="4474800"/>
            <a:chExt cx="2952000" cy="461880"/>
          </a:xfrm>
        </p:grpSpPr>
        <p:sp>
          <p:nvSpPr>
            <p:cNvPr id="109" name="TextBox 5"/>
            <p:cNvSpPr/>
            <p:nvPr/>
          </p:nvSpPr>
          <p:spPr>
            <a:xfrm>
              <a:off x="3060000" y="447480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6"/>
            <p:cNvSpPr/>
            <p:nvPr/>
          </p:nvSpPr>
          <p:spPr>
            <a:xfrm>
              <a:off x="3060000" y="463968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32760" y="6381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59595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165320" y="1124640"/>
            <a:ext cx="7438680" cy="3866760"/>
          </a:xfrm>
          <a:prstGeom prst="rect">
            <a:avLst/>
          </a:prstGeom>
          <a:ln w="9525">
            <a:noFill/>
          </a:ln>
        </p:spPr>
      </p:pic>
      <p:grpSp>
        <p:nvGrpSpPr>
          <p:cNvPr id="113" name="그룹 5"/>
          <p:cNvGrpSpPr/>
          <p:nvPr/>
        </p:nvGrpSpPr>
        <p:grpSpPr>
          <a:xfrm>
            <a:off x="1331640" y="5445360"/>
            <a:ext cx="2952000" cy="461520"/>
            <a:chOff x="1331640" y="5445360"/>
            <a:chExt cx="2952000" cy="461520"/>
          </a:xfrm>
        </p:grpSpPr>
        <p:sp>
          <p:nvSpPr>
            <p:cNvPr id="114" name="TextBox 6"/>
            <p:cNvSpPr/>
            <p:nvPr/>
          </p:nvSpPr>
          <p:spPr>
            <a:xfrm>
              <a:off x="1331640" y="5445360"/>
              <a:ext cx="1800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85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이름</a:t>
              </a:r>
              <a:endParaRPr b="0" lang="en-US" sz="8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9"/>
            <p:cNvSpPr/>
            <p:nvPr/>
          </p:nvSpPr>
          <p:spPr>
            <a:xfrm>
              <a:off x="1331640" y="5609880"/>
              <a:ext cx="2952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000mm x 000mm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ko-KR" sz="680" spc="-1" strike="noStrike">
                  <a:solidFill>
                    <a:srgbClr val="000000"/>
                  </a:solidFill>
                  <a:latin typeface="나눔고딕"/>
                  <a:ea typeface="나눔고딕"/>
                </a:rPr>
                <a:t>작품 소재</a:t>
              </a:r>
              <a:endParaRPr b="0" lang="en-US" sz="68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테마">
  <a:themeElements>
    <a:clrScheme name="사용자 지정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595959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테마">
  <a:themeElements>
    <a:clrScheme name="사용자 지정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595959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  <Words>250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6:09:17Z</dcterms:created>
  <dc:creator>네이버 한글캠페인</dc:creator>
  <dc:description/>
  <dc:language>en-US</dc:language>
  <cp:lastModifiedBy>yu wang</cp:lastModifiedBy>
  <dcterms:modified xsi:type="dcterms:W3CDTF">2015-08-03T12:25:16Z</dcterms:modified>
  <cp:revision>4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