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FF6-6C64-4D1C-801E-B0A292F5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7A5-5038-4CF8-B435-D9D029F1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10D-F591-4E4E-8A39-63D64B80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5E4-9210-4BC9-88B3-3A0B7590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85D-C8B1-4475-8A59-31787EB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1AD-8F4B-4211-B4A0-E3A02D2F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C74-C892-44E3-AF1A-4E8A260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ECC-DD3A-4E20-A225-4A013DD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F35-7BA5-4AA6-9757-A615719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283-C793-426B-841C-B3EE9D1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E3F-A145-40F5-9083-2CC5480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DA3-2CD5-4C7F-9371-7E156AA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5326-0690-4E4E-B040-0E2D1ED095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46960" y="949320"/>
            <a:ext cx="42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绿色简约商务公司介绍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92920" y="219384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Name, Title, Affili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Da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438280" y="1752480"/>
            <a:ext cx="6705720" cy="76320"/>
          </a:xfrm>
          <a:prstGeom prst="rect">
            <a:avLst/>
          </a:prstGeom>
          <a:solidFill>
            <a:srgbClr val="37b4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GreenBarDots"/>
          <p:cNvPicPr/>
          <p:nvPr/>
        </p:nvPicPr>
        <p:blipFill>
          <a:blip r:embed="rId1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ompanylogobig"/>
          <p:cNvPicPr/>
          <p:nvPr/>
        </p:nvPicPr>
        <p:blipFill>
          <a:blip r:embed="rId2"/>
          <a:stretch/>
        </p:blipFill>
        <p:spPr>
          <a:xfrm>
            <a:off x="7010280" y="5334120"/>
            <a:ext cx="138744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78520" y="963720"/>
            <a:ext cx="23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b419"/>
                </a:solidFill>
                <a:latin typeface="Palatino Linotype"/>
                <a:ea typeface="MS PGothic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657600" y="1994040"/>
            <a:ext cx="50292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Agenda Item Number 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Agenda Item Number Tw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Agenda Item Number Th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Agenda Item Number F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  <a:ea typeface="MS PGothic"/>
              </a:rPr>
              <a:t>Agenda Item Number F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438280" y="1752480"/>
            <a:ext cx="6705720" cy="76320"/>
          </a:xfrm>
          <a:prstGeom prst="rect">
            <a:avLst/>
          </a:prstGeom>
          <a:solidFill>
            <a:srgbClr val="37b4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GreenBarDots"/>
          <p:cNvPicPr/>
          <p:nvPr/>
        </p:nvPicPr>
        <p:blipFill>
          <a:blip r:embed="rId1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mpanylogobig"/>
          <p:cNvPicPr/>
          <p:nvPr/>
        </p:nvPicPr>
        <p:blipFill>
          <a:blip r:embed="rId2"/>
          <a:stretch/>
        </p:blipFill>
        <p:spPr>
          <a:xfrm>
            <a:off x="7010280" y="5622840"/>
            <a:ext cx="13874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1:17:17Z</dcterms:created>
  <dc:creator>ppt宝藏</dc:creator>
  <dc:description/>
  <dc:language>en-US</dc:language>
  <cp:lastModifiedBy>yu wang</cp:lastModifiedBy>
  <dcterms:modified xsi:type="dcterms:W3CDTF">2015-08-03T12:24:41Z</dcterms:modified>
  <cp:revision>4</cp:revision>
  <dc:subject/>
  <dc:title>www.pptbz.com</dc:title>
</cp:coreProperties>
</file>