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083-AC60-40DF-8A76-4C8B8FC5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0A5-34EE-409F-B761-86966CD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A1A-997C-4445-A34C-569752A4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51D-6F3E-463C-9AB0-2F87DB0D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A7C-BDDD-4C4A-AAA9-5C359BFD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CCC-1DBF-475B-98AA-2DBC4241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9F3-2BF6-489C-A0E8-57379420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7B9-8C9D-4D7C-8680-45E87D6C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E86-C7BA-46C0-B417-D2DA581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A6B-C47C-4EF6-802D-0BC241C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3D2-2A20-4B56-8DCB-A48A1A4C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422-FED7-4164-9DCA-59ADE38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0C94-13DE-4D78-9DDA-ED91E13DAD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848960" y="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体小雨伞创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118160" y="1211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3497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4979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1078920" y="13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5140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497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01240" y="126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426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783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078920" y="121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8572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783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712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50560" y="13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6430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213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426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528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1007640" y="121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26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497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3:34Z</dcterms:modified>
  <cp:revision>51</cp:revision>
  <dc:subject/>
  <dc:title>幻灯片 1</dc:title>
</cp:coreProperties>
</file>