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82B-BA42-4994-A807-8D3909C5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956-E1A7-4B4B-AC96-B9289DC4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BAB-090A-41B4-9089-34D82278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308-FB3B-4CEA-A854-8A069E27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368-761C-4475-8587-7545EB03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C43-96FC-4E9B-B7BA-BA84346C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BFA-F0A9-4741-AC70-CD14CF70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E4E-CFEA-442D-A6A5-43781D2F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E5C-3FC7-4201-948B-776DF5B3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8A8-ECE8-409D-9013-DEDD45DF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1D4-7D8D-421D-99AA-2116FB43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E03-9BF2-4D4B-889D-5D58371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6B74-635E-4920-B3C7-1D258B61B5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4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6"/>
          <p:cNvGrpSpPr/>
          <p:nvPr/>
        </p:nvGrpSpPr>
        <p:grpSpPr>
          <a:xfrm>
            <a:off x="2592360" y="4968720"/>
            <a:ext cx="693720" cy="865440"/>
            <a:chOff x="2592360" y="4968720"/>
            <a:chExt cx="693720" cy="865440"/>
          </a:xfrm>
        </p:grpSpPr>
        <p:sp>
          <p:nvSpPr>
            <p:cNvPr id="49" name="Freeform 18"/>
            <p:cNvSpPr/>
            <p:nvPr/>
          </p:nvSpPr>
          <p:spPr>
            <a:xfrm>
              <a:off x="2592360" y="4968720"/>
              <a:ext cx="693720" cy="86544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9"/>
            <p:cNvSpPr/>
            <p:nvPr/>
          </p:nvSpPr>
          <p:spPr>
            <a:xfrm>
              <a:off x="2885040" y="5153760"/>
              <a:ext cx="114840" cy="7992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3064680" y="5262840"/>
              <a:ext cx="114840" cy="748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3013560" y="5025600"/>
              <a:ext cx="114120" cy="83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2709000" y="5051880"/>
              <a:ext cx="114120" cy="799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2748240" y="5286600"/>
              <a:ext cx="114120" cy="83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>
              <a:off x="2769120" y="5500080"/>
              <a:ext cx="113400" cy="75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>
              <a:off x="2934000" y="5487120"/>
              <a:ext cx="114120" cy="75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"/>
            <p:cNvSpPr/>
            <p:nvPr/>
          </p:nvSpPr>
          <p:spPr>
            <a:xfrm>
              <a:off x="3097440" y="5474520"/>
              <a:ext cx="114120" cy="74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7"/>
            <p:cNvSpPr/>
            <p:nvPr/>
          </p:nvSpPr>
          <p:spPr>
            <a:xfrm>
              <a:off x="2757960" y="5712480"/>
              <a:ext cx="113400" cy="75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8"/>
            <p:cNvSpPr/>
            <p:nvPr/>
          </p:nvSpPr>
          <p:spPr>
            <a:xfrm>
              <a:off x="2916360" y="5704200"/>
              <a:ext cx="114120" cy="74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9"/>
            <p:cNvSpPr/>
            <p:nvPr/>
          </p:nvSpPr>
          <p:spPr>
            <a:xfrm>
              <a:off x="3071520" y="5690160"/>
              <a:ext cx="113400" cy="75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"/>
            <p:cNvSpPr/>
            <p:nvPr/>
          </p:nvSpPr>
          <p:spPr>
            <a:xfrm>
              <a:off x="2626200" y="5378760"/>
              <a:ext cx="12600" cy="1105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1"/>
            <p:cNvSpPr/>
            <p:nvPr/>
          </p:nvSpPr>
          <p:spPr>
            <a:xfrm>
              <a:off x="2608560" y="5164560"/>
              <a:ext cx="12600" cy="109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2"/>
            <p:cNvSpPr/>
            <p:nvPr/>
          </p:nvSpPr>
          <p:spPr>
            <a:xfrm>
              <a:off x="2643480" y="5609880"/>
              <a:ext cx="13320" cy="1098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2598120" y="5054040"/>
              <a:ext cx="675360" cy="738360"/>
            </a:xfrm>
            <a:custGeom>
              <a:avLst/>
              <a:gdLst>
                <a:gd name="textAreaLeft" fmla="*/ 0 w 675360"/>
                <a:gd name="textAreaRight" fmla="*/ 675720 w 6753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2626200" y="5378760"/>
              <a:ext cx="10080" cy="435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2608560" y="5164560"/>
              <a:ext cx="12600" cy="109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2670120" y="5397480"/>
              <a:ext cx="72720" cy="77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040"/>
                <a:gd name="textAreaBottom" fmla="*/ 77040 h 7704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3193200" y="5379480"/>
              <a:ext cx="67320" cy="316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7"/>
          <p:cNvGrpSpPr/>
          <p:nvPr/>
        </p:nvGrpSpPr>
        <p:grpSpPr>
          <a:xfrm>
            <a:off x="2481120" y="3476520"/>
            <a:ext cx="804960" cy="924120"/>
            <a:chOff x="2481120" y="3476520"/>
            <a:chExt cx="804960" cy="924120"/>
          </a:xfrm>
        </p:grpSpPr>
        <p:sp>
          <p:nvSpPr>
            <p:cNvPr id="70" name="Freeform 7"/>
            <p:cNvSpPr/>
            <p:nvPr/>
          </p:nvSpPr>
          <p:spPr>
            <a:xfrm>
              <a:off x="2481120" y="3476520"/>
              <a:ext cx="804960" cy="92412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"/>
            <p:cNvSpPr/>
            <p:nvPr/>
          </p:nvSpPr>
          <p:spPr>
            <a:xfrm>
              <a:off x="2829960" y="3687120"/>
              <a:ext cx="114840" cy="792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>
              <a:off x="3051360" y="3717720"/>
              <a:ext cx="114120" cy="74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>
              <a:off x="2861280" y="3527640"/>
              <a:ext cx="109800" cy="792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2622960" y="3660480"/>
              <a:ext cx="106200" cy="83880"/>
            </a:xfrm>
            <a:custGeom>
              <a:avLst/>
              <a:gdLst>
                <a:gd name="textAreaLeft" fmla="*/ 0 w 106200"/>
                <a:gd name="textAreaRight" fmla="*/ 106200 w 1062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2804040" y="3846240"/>
              <a:ext cx="119520" cy="792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3024720" y="4068720"/>
              <a:ext cx="90360" cy="97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2696400" y="4006440"/>
              <a:ext cx="69480" cy="986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2512800" y="3809880"/>
              <a:ext cx="68760" cy="98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2698560" y="4206960"/>
              <a:ext cx="68760" cy="98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2517480" y="4021200"/>
              <a:ext cx="68760" cy="993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2521080" y="3736080"/>
              <a:ext cx="705600" cy="64944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2793600" y="4004280"/>
              <a:ext cx="83880" cy="547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Круговая стрелка 28"/>
          <p:cNvSpPr/>
          <p:nvPr/>
        </p:nvSpPr>
        <p:spPr>
          <a:xfrm rot="17149200">
            <a:off x="5399640" y="2057760"/>
            <a:ext cx="3235320" cy="3726000"/>
          </a:xfrm>
          <a:custGeom>
            <a:avLst/>
            <a:gdLst/>
            <a:ahLst/>
            <a:rect l="l" t="t" r="r" b="b"/>
            <a:pathLst>
              <a:path w="1198641" h="1067356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039758" y="1067356"/>
                </a:lnTo>
                <a:cubicBezTo>
                  <a:pt x="871548" y="601408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00000"/>
              </a:gs>
            </a:gsLst>
            <a:lin ang="71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Круговая стрелка 28"/>
          <p:cNvSpPr/>
          <p:nvPr/>
        </p:nvSpPr>
        <p:spPr>
          <a:xfrm flipV="1" rot="15300000">
            <a:off x="3497760" y="3973320"/>
            <a:ext cx="120348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00000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Круговая стрелка 28"/>
          <p:cNvSpPr/>
          <p:nvPr/>
        </p:nvSpPr>
        <p:spPr>
          <a:xfrm rot="17149200">
            <a:off x="5496840" y="2625840"/>
            <a:ext cx="3235320" cy="3525840"/>
          </a:xfrm>
          <a:custGeom>
            <a:avLst/>
            <a:gdLst/>
            <a:ahLst/>
            <a:rect l="l" t="t" r="r" b="b"/>
            <a:pathLst>
              <a:path w="1198641" h="1067356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039758" y="1067356"/>
                </a:lnTo>
                <a:cubicBezTo>
                  <a:pt x="871548" y="601408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00000"/>
              </a:gs>
            </a:gsLst>
            <a:lin ang="71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Круговая стрелка 28"/>
          <p:cNvSpPr/>
          <p:nvPr/>
        </p:nvSpPr>
        <p:spPr>
          <a:xfrm flipV="1" rot="14427000">
            <a:off x="3599280" y="4674960"/>
            <a:ext cx="1203480" cy="113796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00000"/>
              </a:gs>
            </a:gsLst>
            <a:lin ang="171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8"/>
          <p:cNvGrpSpPr/>
          <p:nvPr/>
        </p:nvGrpSpPr>
        <p:grpSpPr>
          <a:xfrm>
            <a:off x="671400" y="1214280"/>
            <a:ext cx="1828800" cy="1981440"/>
            <a:chOff x="671400" y="1214280"/>
            <a:chExt cx="1828800" cy="1981440"/>
          </a:xfrm>
        </p:grpSpPr>
        <p:sp>
          <p:nvSpPr>
            <p:cNvPr id="88" name="Round Diagonal Corner Rectangle 86"/>
            <p:cNvSpPr/>
            <p:nvPr/>
          </p:nvSpPr>
          <p:spPr>
            <a:xfrm>
              <a:off x="67140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ound Diagonal Corner Rectangle 87"/>
            <p:cNvSpPr/>
            <p:nvPr/>
          </p:nvSpPr>
          <p:spPr>
            <a:xfrm>
              <a:off x="71424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4" h="1876438">
                  <a:moveTo>
                    <a:pt x="365637" y="0"/>
                  </a:moveTo>
                  <a:lnTo>
                    <a:pt x="1731974" y="0"/>
                  </a:lnTo>
                  <a:lnTo>
                    <a:pt x="1731974" y="0"/>
                  </a:lnTo>
                  <a:lnTo>
                    <a:pt x="1731974" y="1510801"/>
                  </a:lnTo>
                  <a:cubicBezTo>
                    <a:pt x="1731974" y="1712737"/>
                    <a:pt x="1568273" y="1876438"/>
                    <a:pt x="1366337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Прямоугольник 121"/>
          <p:cNvSpPr/>
          <p:nvPr/>
        </p:nvSpPr>
        <p:spPr>
          <a:xfrm>
            <a:off x="97632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2270520" y="5446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骰子创意成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Прямоугольник 15"/>
          <p:cNvGrpSpPr/>
          <p:nvPr/>
        </p:nvGrpSpPr>
        <p:grpSpPr>
          <a:xfrm>
            <a:off x="0" y="4784760"/>
            <a:ext cx="9144000" cy="2073240"/>
            <a:chOff x="0" y="4784760"/>
            <a:chExt cx="9144000" cy="2073240"/>
          </a:xfrm>
        </p:grpSpPr>
        <p:pic>
          <p:nvPicPr>
            <p:cNvPr id="54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784760"/>
              <a:ext cx="914400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0" y="4786200"/>
              <a:ext cx="914400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Круговая стрелка 28"/>
          <p:cNvSpPr/>
          <p:nvPr/>
        </p:nvSpPr>
        <p:spPr>
          <a:xfrm rot="15647400">
            <a:off x="2628000" y="2239200"/>
            <a:ext cx="1203120" cy="113796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Круговая стрелка 28"/>
          <p:cNvSpPr/>
          <p:nvPr/>
        </p:nvSpPr>
        <p:spPr>
          <a:xfrm rot="796200">
            <a:off x="5326200" y="2239920"/>
            <a:ext cx="120312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Круговая стрелка 28"/>
          <p:cNvSpPr/>
          <p:nvPr/>
        </p:nvSpPr>
        <p:spPr>
          <a:xfrm rot="8234400">
            <a:off x="3929040" y="4614840"/>
            <a:ext cx="120168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f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121"/>
          <p:cNvSpPr/>
          <p:nvPr/>
        </p:nvSpPr>
        <p:spPr>
          <a:xfrm>
            <a:off x="6357960" y="100008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ая соединительная линия 122"/>
          <p:cNvSpPr/>
          <p:nvPr/>
        </p:nvSpPr>
        <p:spPr>
          <a:xfrm>
            <a:off x="5143680" y="1646280"/>
            <a:ext cx="2357280" cy="144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121"/>
          <p:cNvSpPr/>
          <p:nvPr/>
        </p:nvSpPr>
        <p:spPr>
          <a:xfrm>
            <a:off x="7215120" y="514368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122"/>
          <p:cNvSpPr/>
          <p:nvPr/>
        </p:nvSpPr>
        <p:spPr>
          <a:xfrm>
            <a:off x="6572160" y="4786200"/>
            <a:ext cx="571680" cy="3574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21"/>
          <p:cNvSpPr/>
          <p:nvPr/>
        </p:nvSpPr>
        <p:spPr>
          <a:xfrm>
            <a:off x="571680" y="3000240"/>
            <a:ext cx="128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ая соединительная линия 122"/>
          <p:cNvSpPr/>
          <p:nvPr/>
        </p:nvSpPr>
        <p:spPr>
          <a:xfrm>
            <a:off x="1571760" y="3643200"/>
            <a:ext cx="714240" cy="28584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93"/>
          <p:cNvGrpSpPr/>
          <p:nvPr/>
        </p:nvGrpSpPr>
        <p:grpSpPr>
          <a:xfrm>
            <a:off x="3929040" y="1143000"/>
            <a:ext cx="1474920" cy="1693800"/>
            <a:chOff x="3929040" y="1143000"/>
            <a:chExt cx="1474920" cy="1693800"/>
          </a:xfrm>
        </p:grpSpPr>
        <p:sp>
          <p:nvSpPr>
            <p:cNvPr id="558" name="Freeform 7"/>
            <p:cNvSpPr/>
            <p:nvPr/>
          </p:nvSpPr>
          <p:spPr>
            <a:xfrm>
              <a:off x="3929040" y="1143000"/>
              <a:ext cx="14749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2"/>
            <p:cNvSpPr/>
            <p:nvPr/>
          </p:nvSpPr>
          <p:spPr>
            <a:xfrm>
              <a:off x="4134960" y="14979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3"/>
            <p:cNvSpPr/>
            <p:nvPr/>
          </p:nvSpPr>
          <p:spPr>
            <a:xfrm>
              <a:off x="4925160" y="222876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"/>
            <p:cNvSpPr/>
            <p:nvPr/>
          </p:nvSpPr>
          <p:spPr>
            <a:xfrm>
              <a:off x="4323600" y="211428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5"/>
            <p:cNvSpPr/>
            <p:nvPr/>
          </p:nvSpPr>
          <p:spPr>
            <a:xfrm>
              <a:off x="3987360" y="175392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"/>
            <p:cNvSpPr/>
            <p:nvPr/>
          </p:nvSpPr>
          <p:spPr>
            <a:xfrm>
              <a:off x="4327560" y="24818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995640" y="214164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3"/>
            <p:cNvSpPr/>
            <p:nvPr/>
          </p:nvSpPr>
          <p:spPr>
            <a:xfrm>
              <a:off x="4002480" y="1618920"/>
              <a:ext cx="1292760" cy="119052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9"/>
            <p:cNvSpPr/>
            <p:nvPr/>
          </p:nvSpPr>
          <p:spPr>
            <a:xfrm>
              <a:off x="4501800" y="211032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3"/>
            <p:cNvSpPr/>
            <p:nvPr/>
          </p:nvSpPr>
          <p:spPr>
            <a:xfrm>
              <a:off x="5161320" y="189036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3"/>
            <p:cNvSpPr/>
            <p:nvPr/>
          </p:nvSpPr>
          <p:spPr>
            <a:xfrm>
              <a:off x="5186520" y="227052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4651920" y="254556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>
              <a:off x="4651920" y="216360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4975200" y="15872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6"/>
          <p:cNvGrpSpPr/>
          <p:nvPr/>
        </p:nvGrpSpPr>
        <p:grpSpPr>
          <a:xfrm>
            <a:off x="2286000" y="3554280"/>
            <a:ext cx="1474920" cy="1694160"/>
            <a:chOff x="2286000" y="3554280"/>
            <a:chExt cx="1474920" cy="1694160"/>
          </a:xfrm>
        </p:grpSpPr>
        <p:sp>
          <p:nvSpPr>
            <p:cNvPr id="573" name="Freeform 7"/>
            <p:cNvSpPr/>
            <p:nvPr/>
          </p:nvSpPr>
          <p:spPr>
            <a:xfrm>
              <a:off x="2286000" y="3554280"/>
              <a:ext cx="147492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2491920" y="39092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4"/>
            <p:cNvSpPr/>
            <p:nvPr/>
          </p:nvSpPr>
          <p:spPr>
            <a:xfrm>
              <a:off x="2680560" y="452592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5"/>
            <p:cNvSpPr/>
            <p:nvPr/>
          </p:nvSpPr>
          <p:spPr>
            <a:xfrm>
              <a:off x="2344320" y="41652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6"/>
            <p:cNvSpPr/>
            <p:nvPr/>
          </p:nvSpPr>
          <p:spPr>
            <a:xfrm>
              <a:off x="2684520" y="48934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7"/>
            <p:cNvSpPr/>
            <p:nvPr/>
          </p:nvSpPr>
          <p:spPr>
            <a:xfrm>
              <a:off x="2352600" y="455328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3"/>
            <p:cNvSpPr/>
            <p:nvPr/>
          </p:nvSpPr>
          <p:spPr>
            <a:xfrm>
              <a:off x="2358720" y="4030560"/>
              <a:ext cx="1292400" cy="119088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2859120" y="4521240"/>
              <a:ext cx="153720" cy="10152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3518280" y="430164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3008880" y="495720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3332160" y="39988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2911680" y="39524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2507760" y="45309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80"/>
          <p:cNvGrpSpPr/>
          <p:nvPr/>
        </p:nvGrpSpPr>
        <p:grpSpPr>
          <a:xfrm>
            <a:off x="5315040" y="3633840"/>
            <a:ext cx="1474560" cy="1693800"/>
            <a:chOff x="5315040" y="3633840"/>
            <a:chExt cx="1474560" cy="1693800"/>
          </a:xfrm>
        </p:grpSpPr>
        <p:sp>
          <p:nvSpPr>
            <p:cNvPr id="587" name="Freeform 7"/>
            <p:cNvSpPr/>
            <p:nvPr/>
          </p:nvSpPr>
          <p:spPr>
            <a:xfrm>
              <a:off x="5315040" y="3633840"/>
              <a:ext cx="147456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2"/>
            <p:cNvSpPr/>
            <p:nvPr/>
          </p:nvSpPr>
          <p:spPr>
            <a:xfrm>
              <a:off x="5520960" y="3988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3"/>
            <p:cNvSpPr/>
            <p:nvPr/>
          </p:nvSpPr>
          <p:spPr>
            <a:xfrm>
              <a:off x="6310800" y="471960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4"/>
            <p:cNvSpPr/>
            <p:nvPr/>
          </p:nvSpPr>
          <p:spPr>
            <a:xfrm>
              <a:off x="5709600" y="460512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5"/>
            <p:cNvSpPr/>
            <p:nvPr/>
          </p:nvSpPr>
          <p:spPr>
            <a:xfrm>
              <a:off x="5373360" y="42447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6"/>
            <p:cNvSpPr/>
            <p:nvPr/>
          </p:nvSpPr>
          <p:spPr>
            <a:xfrm>
              <a:off x="5713560" y="49726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7"/>
            <p:cNvSpPr/>
            <p:nvPr/>
          </p:nvSpPr>
          <p:spPr>
            <a:xfrm>
              <a:off x="5381640" y="463248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3"/>
            <p:cNvSpPr/>
            <p:nvPr/>
          </p:nvSpPr>
          <p:spPr>
            <a:xfrm>
              <a:off x="5388480" y="4109760"/>
              <a:ext cx="1292400" cy="119052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5887800" y="460116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3"/>
            <p:cNvSpPr/>
            <p:nvPr/>
          </p:nvSpPr>
          <p:spPr>
            <a:xfrm>
              <a:off x="6546960" y="438120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"/>
            <p:cNvSpPr/>
            <p:nvPr/>
          </p:nvSpPr>
          <p:spPr>
            <a:xfrm>
              <a:off x="6572160" y="476136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"/>
            <p:cNvSpPr/>
            <p:nvPr/>
          </p:nvSpPr>
          <p:spPr>
            <a:xfrm>
              <a:off x="6037560" y="503640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3"/>
            <p:cNvSpPr/>
            <p:nvPr/>
          </p:nvSpPr>
          <p:spPr>
            <a:xfrm>
              <a:off x="6037560" y="46544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2"/>
            <p:cNvSpPr/>
            <p:nvPr/>
          </p:nvSpPr>
          <p:spPr>
            <a:xfrm>
              <a:off x="5717520" y="4168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2"/>
            <p:cNvSpPr/>
            <p:nvPr/>
          </p:nvSpPr>
          <p:spPr>
            <a:xfrm>
              <a:off x="5917680" y="43470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5976720" y="37296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2"/>
            <p:cNvSpPr/>
            <p:nvPr/>
          </p:nvSpPr>
          <p:spPr>
            <a:xfrm>
              <a:off x="6173640" y="39099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2"/>
            <p:cNvSpPr/>
            <p:nvPr/>
          </p:nvSpPr>
          <p:spPr>
            <a:xfrm>
              <a:off x="6373800" y="4087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6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609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103"/>
          <p:cNvGrpSpPr/>
          <p:nvPr/>
        </p:nvGrpSpPr>
        <p:grpSpPr>
          <a:xfrm>
            <a:off x="1890720" y="2786040"/>
            <a:ext cx="1042920" cy="1198440"/>
            <a:chOff x="1890720" y="2786040"/>
            <a:chExt cx="1042920" cy="1198440"/>
          </a:xfrm>
        </p:grpSpPr>
        <p:sp>
          <p:nvSpPr>
            <p:cNvPr id="613" name="Freeform 7"/>
            <p:cNvSpPr/>
            <p:nvPr/>
          </p:nvSpPr>
          <p:spPr>
            <a:xfrm>
              <a:off x="1890720" y="2786040"/>
              <a:ext cx="1042920" cy="119844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2"/>
            <p:cNvSpPr/>
            <p:nvPr/>
          </p:nvSpPr>
          <p:spPr>
            <a:xfrm>
              <a:off x="2036160" y="3036960"/>
              <a:ext cx="154800" cy="10296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3"/>
            <p:cNvSpPr/>
            <p:nvPr/>
          </p:nvSpPr>
          <p:spPr>
            <a:xfrm>
              <a:off x="2594880" y="3554280"/>
              <a:ext cx="117360" cy="1270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2169720" y="3473280"/>
              <a:ext cx="90360" cy="127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1931760" y="3218040"/>
              <a:ext cx="89280" cy="12780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2172600" y="3733200"/>
              <a:ext cx="89280" cy="12780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1937520" y="3492720"/>
              <a:ext cx="89280" cy="1288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3"/>
            <p:cNvSpPr/>
            <p:nvPr/>
          </p:nvSpPr>
          <p:spPr>
            <a:xfrm>
              <a:off x="1942560" y="3123000"/>
              <a:ext cx="914040" cy="84240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9"/>
            <p:cNvSpPr/>
            <p:nvPr/>
          </p:nvSpPr>
          <p:spPr>
            <a:xfrm>
              <a:off x="2295720" y="3470400"/>
              <a:ext cx="108720" cy="709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2761920" y="3314880"/>
              <a:ext cx="117360" cy="1270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779920" y="3583800"/>
              <a:ext cx="9864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2401920" y="3778560"/>
              <a:ext cx="117360" cy="1270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3"/>
            <p:cNvSpPr/>
            <p:nvPr/>
          </p:nvSpPr>
          <p:spPr>
            <a:xfrm>
              <a:off x="2401920" y="3508200"/>
              <a:ext cx="117360" cy="1270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2"/>
            <p:cNvSpPr/>
            <p:nvPr/>
          </p:nvSpPr>
          <p:spPr>
            <a:xfrm>
              <a:off x="2630520" y="3100320"/>
              <a:ext cx="154800" cy="10296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132"/>
          <p:cNvGrpSpPr/>
          <p:nvPr/>
        </p:nvGrpSpPr>
        <p:grpSpPr>
          <a:xfrm>
            <a:off x="4500720" y="1071720"/>
            <a:ext cx="1828800" cy="1071360"/>
            <a:chOff x="4500720" y="1071720"/>
            <a:chExt cx="1828800" cy="1071360"/>
          </a:xfrm>
        </p:grpSpPr>
        <p:sp>
          <p:nvSpPr>
            <p:cNvPr id="628" name="Round Diagonal Corner Rectangle 133"/>
            <p:cNvSpPr/>
            <p:nvPr/>
          </p:nvSpPr>
          <p:spPr>
            <a:xfrm>
              <a:off x="4500720" y="1071720"/>
              <a:ext cx="1828800" cy="107136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ound Diagonal Corner Rectangle 134"/>
            <p:cNvSpPr/>
            <p:nvPr/>
          </p:nvSpPr>
          <p:spPr>
            <a:xfrm>
              <a:off x="4543560" y="1095480"/>
              <a:ext cx="1752840" cy="1014480"/>
            </a:xfrm>
            <a:custGeom>
              <a:avLst/>
              <a:gdLst/>
              <a:ahLst/>
              <a:rect l="l" t="t" r="r" b="b"/>
              <a:pathLst>
                <a:path w="1752612" h="1875551">
                  <a:moveTo>
                    <a:pt x="369994" y="0"/>
                  </a:moveTo>
                  <a:lnTo>
                    <a:pt x="1752612" y="0"/>
                  </a:lnTo>
                  <a:lnTo>
                    <a:pt x="1752612" y="0"/>
                  </a:lnTo>
                  <a:lnTo>
                    <a:pt x="1752612" y="1505557"/>
                  </a:lnTo>
                  <a:cubicBezTo>
                    <a:pt x="1752612" y="1709899"/>
                    <a:pt x="1586960" y="1875551"/>
                    <a:pt x="1382618" y="1875551"/>
                  </a:cubicBezTo>
                  <a:lnTo>
                    <a:pt x="0" y="1875551"/>
                  </a:lnTo>
                  <a:lnTo>
                    <a:pt x="0" y="1875551"/>
                  </a:lnTo>
                  <a:lnTo>
                    <a:pt x="0" y="369994"/>
                  </a:lnTo>
                  <a:cubicBezTo>
                    <a:pt x="0" y="165652"/>
                    <a:pt x="165652" y="0"/>
                    <a:pt x="3699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Прямоугольник 121"/>
          <p:cNvSpPr/>
          <p:nvPr/>
        </p:nvSpPr>
        <p:spPr>
          <a:xfrm>
            <a:off x="4819680" y="119844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53"/>
          <p:cNvGrpSpPr/>
          <p:nvPr/>
        </p:nvGrpSpPr>
        <p:grpSpPr>
          <a:xfrm>
            <a:off x="2408400" y="4010040"/>
            <a:ext cx="1504800" cy="1878120"/>
            <a:chOff x="2408400" y="4010040"/>
            <a:chExt cx="1504800" cy="1878120"/>
          </a:xfrm>
        </p:grpSpPr>
        <p:sp>
          <p:nvSpPr>
            <p:cNvPr id="632" name="Freeform 18"/>
            <p:cNvSpPr/>
            <p:nvPr/>
          </p:nvSpPr>
          <p:spPr>
            <a:xfrm>
              <a:off x="2408400" y="4010040"/>
              <a:ext cx="1504800" cy="187812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9"/>
            <p:cNvSpPr/>
            <p:nvPr/>
          </p:nvSpPr>
          <p:spPr>
            <a:xfrm>
              <a:off x="3043080" y="4411440"/>
              <a:ext cx="249480" cy="1738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0"/>
            <p:cNvSpPr/>
            <p:nvPr/>
          </p:nvSpPr>
          <p:spPr>
            <a:xfrm>
              <a:off x="3433320" y="4648320"/>
              <a:ext cx="249480" cy="1627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1"/>
            <p:cNvSpPr/>
            <p:nvPr/>
          </p:nvSpPr>
          <p:spPr>
            <a:xfrm>
              <a:off x="3322080" y="4133880"/>
              <a:ext cx="248040" cy="1821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82160"/>
                <a:gd name="textAreaBottom" fmla="*/ 182160 h 18216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2"/>
            <p:cNvSpPr/>
            <p:nvPr/>
          </p:nvSpPr>
          <p:spPr>
            <a:xfrm>
              <a:off x="2661120" y="4190400"/>
              <a:ext cx="248040" cy="173880"/>
            </a:xfrm>
            <a:custGeom>
              <a:avLst/>
              <a:gdLst>
                <a:gd name="textAreaLeft" fmla="*/ 0 w 248040"/>
                <a:gd name="textAreaRight" fmla="*/ 248040 w 2480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"/>
            <p:cNvSpPr/>
            <p:nvPr/>
          </p:nvSpPr>
          <p:spPr>
            <a:xfrm>
              <a:off x="2746800" y="4699800"/>
              <a:ext cx="248040" cy="1821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82160"/>
                <a:gd name="textAreaBottom" fmla="*/ 182160 h 18216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4"/>
            <p:cNvSpPr/>
            <p:nvPr/>
          </p:nvSpPr>
          <p:spPr>
            <a:xfrm>
              <a:off x="2791800" y="5162760"/>
              <a:ext cx="246240" cy="164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5"/>
            <p:cNvSpPr/>
            <p:nvPr/>
          </p:nvSpPr>
          <p:spPr>
            <a:xfrm>
              <a:off x="3149640" y="5135400"/>
              <a:ext cx="248040" cy="1641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4160"/>
                <a:gd name="textAreaBottom" fmla="*/ 164160 h 16416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6"/>
            <p:cNvSpPr/>
            <p:nvPr/>
          </p:nvSpPr>
          <p:spPr>
            <a:xfrm>
              <a:off x="3503880" y="5108040"/>
              <a:ext cx="248040" cy="16272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7"/>
            <p:cNvSpPr/>
            <p:nvPr/>
          </p:nvSpPr>
          <p:spPr>
            <a:xfrm>
              <a:off x="2767680" y="5623920"/>
              <a:ext cx="246240" cy="164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8"/>
            <p:cNvSpPr/>
            <p:nvPr/>
          </p:nvSpPr>
          <p:spPr>
            <a:xfrm>
              <a:off x="3110760" y="5606280"/>
              <a:ext cx="248040" cy="16272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"/>
            <p:cNvSpPr/>
            <p:nvPr/>
          </p:nvSpPr>
          <p:spPr>
            <a:xfrm>
              <a:off x="3447720" y="5575680"/>
              <a:ext cx="246240" cy="164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0"/>
            <p:cNvSpPr/>
            <p:nvPr/>
          </p:nvSpPr>
          <p:spPr>
            <a:xfrm>
              <a:off x="2482200" y="4899960"/>
              <a:ext cx="27360" cy="240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1"/>
            <p:cNvSpPr/>
            <p:nvPr/>
          </p:nvSpPr>
          <p:spPr>
            <a:xfrm>
              <a:off x="2443680" y="4435560"/>
              <a:ext cx="27360" cy="238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2"/>
            <p:cNvSpPr/>
            <p:nvPr/>
          </p:nvSpPr>
          <p:spPr>
            <a:xfrm>
              <a:off x="2519280" y="5401440"/>
              <a:ext cx="28800" cy="238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4"/>
            <p:cNvSpPr/>
            <p:nvPr/>
          </p:nvSpPr>
          <p:spPr>
            <a:xfrm>
              <a:off x="2421000" y="4195440"/>
              <a:ext cx="1464840" cy="1602720"/>
            </a:xfrm>
            <a:custGeom>
              <a:avLst/>
              <a:gdLst>
                <a:gd name="textAreaLeft" fmla="*/ 0 w 1464840"/>
                <a:gd name="textAreaRight" fmla="*/ 1465200 w 146484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5"/>
            <p:cNvSpPr/>
            <p:nvPr/>
          </p:nvSpPr>
          <p:spPr>
            <a:xfrm>
              <a:off x="2482200" y="4899960"/>
              <a:ext cx="22320" cy="950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6"/>
            <p:cNvSpPr/>
            <p:nvPr/>
          </p:nvSpPr>
          <p:spPr>
            <a:xfrm>
              <a:off x="2443680" y="4435560"/>
              <a:ext cx="27360" cy="238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7"/>
            <p:cNvSpPr/>
            <p:nvPr/>
          </p:nvSpPr>
          <p:spPr>
            <a:xfrm>
              <a:off x="2577600" y="4940280"/>
              <a:ext cx="157680" cy="16740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8"/>
            <p:cNvSpPr/>
            <p:nvPr/>
          </p:nvSpPr>
          <p:spPr>
            <a:xfrm>
              <a:off x="3711960" y="4901400"/>
              <a:ext cx="146520" cy="691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32"/>
          <p:cNvGrpSpPr/>
          <p:nvPr/>
        </p:nvGrpSpPr>
        <p:grpSpPr>
          <a:xfrm>
            <a:off x="5715000" y="2357280"/>
            <a:ext cx="1828800" cy="1071720"/>
            <a:chOff x="5715000" y="2357280"/>
            <a:chExt cx="1828800" cy="1071720"/>
          </a:xfrm>
        </p:grpSpPr>
        <p:sp>
          <p:nvSpPr>
            <p:cNvPr id="653" name="Round Diagonal Corner Rectangle 83"/>
            <p:cNvSpPr/>
            <p:nvPr/>
          </p:nvSpPr>
          <p:spPr>
            <a:xfrm>
              <a:off x="5715000" y="2357280"/>
              <a:ext cx="1828800" cy="107172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ound Diagonal Corner Rectangle 86"/>
            <p:cNvSpPr/>
            <p:nvPr/>
          </p:nvSpPr>
          <p:spPr>
            <a:xfrm>
              <a:off x="5757840" y="2381040"/>
              <a:ext cx="1752840" cy="1014840"/>
            </a:xfrm>
            <a:custGeom>
              <a:avLst/>
              <a:gdLst/>
              <a:ahLst/>
              <a:rect l="l" t="t" r="r" b="b"/>
              <a:pathLst>
                <a:path w="1752612" h="1875551">
                  <a:moveTo>
                    <a:pt x="369994" y="0"/>
                  </a:moveTo>
                  <a:lnTo>
                    <a:pt x="1752612" y="0"/>
                  </a:lnTo>
                  <a:lnTo>
                    <a:pt x="1752612" y="0"/>
                  </a:lnTo>
                  <a:lnTo>
                    <a:pt x="1752612" y="1505557"/>
                  </a:lnTo>
                  <a:cubicBezTo>
                    <a:pt x="1752612" y="1709899"/>
                    <a:pt x="1586960" y="1875551"/>
                    <a:pt x="1382618" y="1875551"/>
                  </a:cubicBezTo>
                  <a:lnTo>
                    <a:pt x="0" y="1875551"/>
                  </a:lnTo>
                  <a:lnTo>
                    <a:pt x="0" y="1875551"/>
                  </a:lnTo>
                  <a:lnTo>
                    <a:pt x="0" y="369994"/>
                  </a:lnTo>
                  <a:cubicBezTo>
                    <a:pt x="0" y="165652"/>
                    <a:pt x="165652" y="0"/>
                    <a:pt x="3699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Прямоугольник 121"/>
          <p:cNvSpPr/>
          <p:nvPr/>
        </p:nvSpPr>
        <p:spPr>
          <a:xfrm>
            <a:off x="6033960" y="2484360"/>
            <a:ext cx="12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122"/>
          <p:cNvSpPr/>
          <p:nvPr/>
        </p:nvSpPr>
        <p:spPr>
          <a:xfrm flipV="1">
            <a:off x="3000240" y="2166480"/>
            <a:ext cx="1481400" cy="1047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ая соединительная линия 122"/>
          <p:cNvSpPr/>
          <p:nvPr/>
        </p:nvSpPr>
        <p:spPr>
          <a:xfrm flipV="1">
            <a:off x="4143240" y="3457440"/>
            <a:ext cx="1538280" cy="14004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9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662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68"/>
          <p:cNvGrpSpPr/>
          <p:nvPr/>
        </p:nvGrpSpPr>
        <p:grpSpPr>
          <a:xfrm>
            <a:off x="2158920" y="4462560"/>
            <a:ext cx="1474920" cy="1693800"/>
            <a:chOff x="2158920" y="4462560"/>
            <a:chExt cx="1474920" cy="1693800"/>
          </a:xfrm>
        </p:grpSpPr>
        <p:sp>
          <p:nvSpPr>
            <p:cNvPr id="666" name="Freeform 7"/>
            <p:cNvSpPr/>
            <p:nvPr/>
          </p:nvSpPr>
          <p:spPr>
            <a:xfrm>
              <a:off x="2158920" y="4462560"/>
              <a:ext cx="14749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2364840" y="48175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3155040" y="55483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2553480" y="543384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2217240" y="50734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2557440" y="58014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2225520" y="546120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3"/>
            <p:cNvSpPr/>
            <p:nvPr/>
          </p:nvSpPr>
          <p:spPr>
            <a:xfrm>
              <a:off x="2232360" y="4938480"/>
              <a:ext cx="1292760" cy="119052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9"/>
            <p:cNvSpPr/>
            <p:nvPr/>
          </p:nvSpPr>
          <p:spPr>
            <a:xfrm>
              <a:off x="2731680" y="542988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3391200" y="52099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"/>
            <p:cNvSpPr/>
            <p:nvPr/>
          </p:nvSpPr>
          <p:spPr>
            <a:xfrm>
              <a:off x="3416400" y="559008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3"/>
            <p:cNvSpPr/>
            <p:nvPr/>
          </p:nvSpPr>
          <p:spPr>
            <a:xfrm>
              <a:off x="2881800" y="58651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3"/>
            <p:cNvSpPr/>
            <p:nvPr/>
          </p:nvSpPr>
          <p:spPr>
            <a:xfrm>
              <a:off x="2881800" y="548316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2"/>
            <p:cNvSpPr/>
            <p:nvPr/>
          </p:nvSpPr>
          <p:spPr>
            <a:xfrm>
              <a:off x="3205080" y="4906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70"/>
          <p:cNvGrpSpPr/>
          <p:nvPr/>
        </p:nvGrpSpPr>
        <p:grpSpPr>
          <a:xfrm>
            <a:off x="5519880" y="4462560"/>
            <a:ext cx="1474560" cy="1693800"/>
            <a:chOff x="5519880" y="4462560"/>
            <a:chExt cx="1474560" cy="1693800"/>
          </a:xfrm>
        </p:grpSpPr>
        <p:sp>
          <p:nvSpPr>
            <p:cNvPr id="681" name="Freeform 7"/>
            <p:cNvSpPr/>
            <p:nvPr/>
          </p:nvSpPr>
          <p:spPr>
            <a:xfrm>
              <a:off x="5519880" y="4462560"/>
              <a:ext cx="147456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2"/>
            <p:cNvSpPr/>
            <p:nvPr/>
          </p:nvSpPr>
          <p:spPr>
            <a:xfrm>
              <a:off x="5725800" y="48175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4"/>
            <p:cNvSpPr/>
            <p:nvPr/>
          </p:nvSpPr>
          <p:spPr>
            <a:xfrm>
              <a:off x="5914440" y="543384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"/>
            <p:cNvSpPr/>
            <p:nvPr/>
          </p:nvSpPr>
          <p:spPr>
            <a:xfrm>
              <a:off x="5578200" y="50734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6"/>
            <p:cNvSpPr/>
            <p:nvPr/>
          </p:nvSpPr>
          <p:spPr>
            <a:xfrm>
              <a:off x="5918400" y="58014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7"/>
            <p:cNvSpPr/>
            <p:nvPr/>
          </p:nvSpPr>
          <p:spPr>
            <a:xfrm>
              <a:off x="5586480" y="546120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"/>
            <p:cNvSpPr/>
            <p:nvPr/>
          </p:nvSpPr>
          <p:spPr>
            <a:xfrm>
              <a:off x="5592600" y="4938840"/>
              <a:ext cx="1292040" cy="119052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>
              <a:off x="6093000" y="5429160"/>
              <a:ext cx="153720" cy="10152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3"/>
            <p:cNvSpPr/>
            <p:nvPr/>
          </p:nvSpPr>
          <p:spPr>
            <a:xfrm>
              <a:off x="6751800" y="52099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3"/>
            <p:cNvSpPr/>
            <p:nvPr/>
          </p:nvSpPr>
          <p:spPr>
            <a:xfrm>
              <a:off x="6242400" y="58651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6565680" y="4906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6145560" y="48607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"/>
            <p:cNvSpPr/>
            <p:nvPr/>
          </p:nvSpPr>
          <p:spPr>
            <a:xfrm>
              <a:off x="5741640" y="54392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69"/>
          <p:cNvGrpSpPr/>
          <p:nvPr/>
        </p:nvGrpSpPr>
        <p:grpSpPr>
          <a:xfrm>
            <a:off x="5519880" y="1000080"/>
            <a:ext cx="1488960" cy="1711440"/>
            <a:chOff x="5519880" y="1000080"/>
            <a:chExt cx="1488960" cy="1711440"/>
          </a:xfrm>
        </p:grpSpPr>
        <p:sp>
          <p:nvSpPr>
            <p:cNvPr id="695" name="Freeform 7"/>
            <p:cNvSpPr/>
            <p:nvPr/>
          </p:nvSpPr>
          <p:spPr>
            <a:xfrm>
              <a:off x="5519880" y="1000080"/>
              <a:ext cx="1488960" cy="171144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1ec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"/>
            <p:cNvSpPr/>
            <p:nvPr/>
          </p:nvSpPr>
          <p:spPr>
            <a:xfrm>
              <a:off x="6165360" y="1390320"/>
              <a:ext cx="212760" cy="146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9"/>
            <p:cNvSpPr/>
            <p:nvPr/>
          </p:nvSpPr>
          <p:spPr>
            <a:xfrm>
              <a:off x="6575040" y="1446840"/>
              <a:ext cx="211320" cy="1386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0"/>
            <p:cNvSpPr/>
            <p:nvPr/>
          </p:nvSpPr>
          <p:spPr>
            <a:xfrm>
              <a:off x="6223320" y="1094760"/>
              <a:ext cx="203040" cy="1468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1"/>
            <p:cNvSpPr/>
            <p:nvPr/>
          </p:nvSpPr>
          <p:spPr>
            <a:xfrm>
              <a:off x="5781960" y="1341000"/>
              <a:ext cx="196200" cy="155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6117480" y="1684440"/>
              <a:ext cx="221040" cy="1468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6525360" y="2097000"/>
              <a:ext cx="167400" cy="181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5918040" y="1981440"/>
              <a:ext cx="128880" cy="182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5578920" y="161712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"/>
            <p:cNvSpPr/>
            <p:nvPr/>
          </p:nvSpPr>
          <p:spPr>
            <a:xfrm>
              <a:off x="5922360" y="235296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>
              <a:off x="5587200" y="2009160"/>
              <a:ext cx="127440" cy="1839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3"/>
            <p:cNvSpPr/>
            <p:nvPr/>
          </p:nvSpPr>
          <p:spPr>
            <a:xfrm>
              <a:off x="5594400" y="1481040"/>
              <a:ext cx="1305000" cy="120348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9"/>
            <p:cNvSpPr/>
            <p:nvPr/>
          </p:nvSpPr>
          <p:spPr>
            <a:xfrm>
              <a:off x="6098040" y="1977480"/>
              <a:ext cx="155160" cy="101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69"/>
          <p:cNvGrpSpPr/>
          <p:nvPr/>
        </p:nvGrpSpPr>
        <p:grpSpPr>
          <a:xfrm>
            <a:off x="2158920" y="1009800"/>
            <a:ext cx="1473120" cy="1693800"/>
            <a:chOff x="2158920" y="1009800"/>
            <a:chExt cx="1473120" cy="1693800"/>
          </a:xfrm>
        </p:grpSpPr>
        <p:sp>
          <p:nvSpPr>
            <p:cNvPr id="709" name="Freeform 7"/>
            <p:cNvSpPr/>
            <p:nvPr/>
          </p:nvSpPr>
          <p:spPr>
            <a:xfrm>
              <a:off x="2158920" y="1009800"/>
              <a:ext cx="14731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2364480" y="13647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3153600" y="2095560"/>
              <a:ext cx="165600" cy="1792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2552760" y="1981080"/>
              <a:ext cx="127440" cy="1807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5"/>
            <p:cNvSpPr/>
            <p:nvPr/>
          </p:nvSpPr>
          <p:spPr>
            <a:xfrm>
              <a:off x="2217240" y="162072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"/>
            <p:cNvSpPr/>
            <p:nvPr/>
          </p:nvSpPr>
          <p:spPr>
            <a:xfrm>
              <a:off x="2557080" y="23486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"/>
            <p:cNvSpPr/>
            <p:nvPr/>
          </p:nvSpPr>
          <p:spPr>
            <a:xfrm>
              <a:off x="2225520" y="200844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3"/>
            <p:cNvSpPr/>
            <p:nvPr/>
          </p:nvSpPr>
          <p:spPr>
            <a:xfrm>
              <a:off x="2232000" y="1485720"/>
              <a:ext cx="1291320" cy="1190520"/>
            </a:xfrm>
            <a:custGeom>
              <a:avLst/>
              <a:gdLst>
                <a:gd name="textAreaLeft" fmla="*/ 0 w 1291320"/>
                <a:gd name="textAreaRight" fmla="*/ 1291680 w 129132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9"/>
            <p:cNvSpPr/>
            <p:nvPr/>
          </p:nvSpPr>
          <p:spPr>
            <a:xfrm>
              <a:off x="2730960" y="1977120"/>
              <a:ext cx="153360" cy="1004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3"/>
            <p:cNvSpPr/>
            <p:nvPr/>
          </p:nvSpPr>
          <p:spPr>
            <a:xfrm>
              <a:off x="3389400" y="1757160"/>
              <a:ext cx="165600" cy="1792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3"/>
            <p:cNvSpPr/>
            <p:nvPr/>
          </p:nvSpPr>
          <p:spPr>
            <a:xfrm>
              <a:off x="3414960" y="213732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3"/>
            <p:cNvSpPr/>
            <p:nvPr/>
          </p:nvSpPr>
          <p:spPr>
            <a:xfrm>
              <a:off x="2880720" y="2412360"/>
              <a:ext cx="165600" cy="1792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880720" y="2030400"/>
              <a:ext cx="165600" cy="1792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2"/>
            <p:cNvSpPr/>
            <p:nvPr/>
          </p:nvSpPr>
          <p:spPr>
            <a:xfrm>
              <a:off x="2561040" y="15447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2"/>
            <p:cNvSpPr/>
            <p:nvPr/>
          </p:nvSpPr>
          <p:spPr>
            <a:xfrm>
              <a:off x="2761200" y="17229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2"/>
            <p:cNvSpPr/>
            <p:nvPr/>
          </p:nvSpPr>
          <p:spPr>
            <a:xfrm>
              <a:off x="2819880" y="11055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2"/>
            <p:cNvSpPr/>
            <p:nvPr/>
          </p:nvSpPr>
          <p:spPr>
            <a:xfrm>
              <a:off x="3016440" y="128592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2"/>
            <p:cNvSpPr/>
            <p:nvPr/>
          </p:nvSpPr>
          <p:spPr>
            <a:xfrm>
              <a:off x="3216600" y="14637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32"/>
          <p:cNvGrpSpPr/>
          <p:nvPr/>
        </p:nvGrpSpPr>
        <p:grpSpPr>
          <a:xfrm>
            <a:off x="3773520" y="2690640"/>
            <a:ext cx="1520640" cy="1648080"/>
            <a:chOff x="3773520" y="2690640"/>
            <a:chExt cx="1520640" cy="1648080"/>
          </a:xfrm>
        </p:grpSpPr>
        <p:sp>
          <p:nvSpPr>
            <p:cNvPr id="728" name="Round Diagonal Corner Rectangle 122"/>
            <p:cNvSpPr/>
            <p:nvPr/>
          </p:nvSpPr>
          <p:spPr>
            <a:xfrm>
              <a:off x="3773520" y="2690640"/>
              <a:ext cx="1520640" cy="164808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ound Diagonal Corner Rectangle 124"/>
            <p:cNvSpPr/>
            <p:nvPr/>
          </p:nvSpPr>
          <p:spPr>
            <a:xfrm>
              <a:off x="3808440" y="2725560"/>
              <a:ext cx="1441440" cy="1562400"/>
            </a:xfrm>
            <a:custGeom>
              <a:avLst/>
              <a:gdLst/>
              <a:ahLst/>
              <a:rect l="l" t="t" r="r" b="b"/>
              <a:pathLst>
                <a:path w="1733363" h="1878145">
                  <a:moveTo>
                    <a:pt x="365930" y="0"/>
                  </a:moveTo>
                  <a:lnTo>
                    <a:pt x="1733363" y="0"/>
                  </a:lnTo>
                  <a:lnTo>
                    <a:pt x="1733363" y="0"/>
                  </a:lnTo>
                  <a:lnTo>
                    <a:pt x="1733363" y="1512215"/>
                  </a:lnTo>
                  <a:cubicBezTo>
                    <a:pt x="1733363" y="1714313"/>
                    <a:pt x="1569531" y="1878145"/>
                    <a:pt x="1367433" y="1878145"/>
                  </a:cubicBezTo>
                  <a:lnTo>
                    <a:pt x="0" y="1878145"/>
                  </a:lnTo>
                  <a:lnTo>
                    <a:pt x="0" y="1878145"/>
                  </a:lnTo>
                  <a:lnTo>
                    <a:pt x="0" y="365930"/>
                  </a:lnTo>
                  <a:cubicBezTo>
                    <a:pt x="0" y="163832"/>
                    <a:pt x="163832" y="0"/>
                    <a:pt x="3659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Прямоугольник 121"/>
          <p:cNvSpPr/>
          <p:nvPr/>
        </p:nvSpPr>
        <p:spPr>
          <a:xfrm>
            <a:off x="3924360" y="281628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Круговая стрелка 28"/>
          <p:cNvSpPr/>
          <p:nvPr/>
        </p:nvSpPr>
        <p:spPr>
          <a:xfrm rot="18947400">
            <a:off x="3960720" y="973080"/>
            <a:ext cx="1201680" cy="113688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f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Круговая стрелка 28"/>
          <p:cNvSpPr/>
          <p:nvPr/>
        </p:nvSpPr>
        <p:spPr>
          <a:xfrm rot="8100000">
            <a:off x="3960360" y="4817880"/>
            <a:ext cx="1201680" cy="113796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Круговая стрелка 28"/>
          <p:cNvSpPr/>
          <p:nvPr/>
        </p:nvSpPr>
        <p:spPr>
          <a:xfrm rot="13518600">
            <a:off x="2022120" y="3012480"/>
            <a:ext cx="120204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Круговая стрелка 28"/>
          <p:cNvSpPr/>
          <p:nvPr/>
        </p:nvSpPr>
        <p:spPr>
          <a:xfrm rot="2519400">
            <a:off x="5978520" y="3003480"/>
            <a:ext cx="120348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1dc9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36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739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79"/>
          <p:cNvGrpSpPr/>
          <p:nvPr/>
        </p:nvGrpSpPr>
        <p:grpSpPr>
          <a:xfrm>
            <a:off x="2128680" y="3524040"/>
            <a:ext cx="5092920" cy="857160"/>
            <a:chOff x="2128680" y="3524040"/>
            <a:chExt cx="5092920" cy="857160"/>
          </a:xfrm>
        </p:grpSpPr>
        <p:sp>
          <p:nvSpPr>
            <p:cNvPr id="742" name="Прямая соединительная линия 122"/>
            <p:cNvSpPr/>
            <p:nvPr/>
          </p:nvSpPr>
          <p:spPr>
            <a:xfrm flipV="1">
              <a:off x="463860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Прямая соединительная линия 122"/>
            <p:cNvSpPr/>
            <p:nvPr/>
          </p:nvSpPr>
          <p:spPr>
            <a:xfrm flipV="1">
              <a:off x="212868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Прямая соединительная линия 122"/>
            <p:cNvSpPr/>
            <p:nvPr/>
          </p:nvSpPr>
          <p:spPr>
            <a:xfrm flipV="1">
              <a:off x="721692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65"/>
          <p:cNvGrpSpPr/>
          <p:nvPr/>
        </p:nvGrpSpPr>
        <p:grpSpPr>
          <a:xfrm>
            <a:off x="795240" y="1071720"/>
            <a:ext cx="2382840" cy="2581200"/>
            <a:chOff x="795240" y="1071720"/>
            <a:chExt cx="2382840" cy="2581200"/>
          </a:xfrm>
        </p:grpSpPr>
        <p:sp>
          <p:nvSpPr>
            <p:cNvPr id="747" name="Round Diagonal Corner Rectangle 66"/>
            <p:cNvSpPr/>
            <p:nvPr/>
          </p:nvSpPr>
          <p:spPr>
            <a:xfrm>
              <a:off x="79524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4040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ound Diagonal Corner Rectangle 67"/>
            <p:cNvSpPr/>
            <p:nvPr/>
          </p:nvSpPr>
          <p:spPr>
            <a:xfrm>
              <a:off x="85068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Прямоугольник 121"/>
          <p:cNvSpPr/>
          <p:nvPr/>
        </p:nvSpPr>
        <p:spPr>
          <a:xfrm>
            <a:off x="107640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69"/>
          <p:cNvGrpSpPr/>
          <p:nvPr/>
        </p:nvGrpSpPr>
        <p:grpSpPr>
          <a:xfrm>
            <a:off x="3382920" y="1071720"/>
            <a:ext cx="2382840" cy="2581200"/>
            <a:chOff x="3382920" y="1071720"/>
            <a:chExt cx="2382840" cy="2581200"/>
          </a:xfrm>
        </p:grpSpPr>
        <p:sp>
          <p:nvSpPr>
            <p:cNvPr id="751" name="Round Diagonal Corner Rectangle 70"/>
            <p:cNvSpPr/>
            <p:nvPr/>
          </p:nvSpPr>
          <p:spPr>
            <a:xfrm>
              <a:off x="338292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ee7fc"/>
                </a:gs>
                <a:gs pos="100000">
                  <a:srgbClr val="0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ound Diagonal Corner Rectangle 71"/>
            <p:cNvSpPr/>
            <p:nvPr/>
          </p:nvSpPr>
          <p:spPr>
            <a:xfrm>
              <a:off x="343836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Прямоугольник 121"/>
          <p:cNvSpPr/>
          <p:nvPr/>
        </p:nvSpPr>
        <p:spPr>
          <a:xfrm>
            <a:off x="366408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73"/>
          <p:cNvGrpSpPr/>
          <p:nvPr/>
        </p:nvGrpSpPr>
        <p:grpSpPr>
          <a:xfrm>
            <a:off x="5964120" y="1071720"/>
            <a:ext cx="2382840" cy="2581200"/>
            <a:chOff x="5964120" y="1071720"/>
            <a:chExt cx="2382840" cy="2581200"/>
          </a:xfrm>
        </p:grpSpPr>
        <p:sp>
          <p:nvSpPr>
            <p:cNvPr id="755" name="Round Diagonal Corner Rectangle 74"/>
            <p:cNvSpPr/>
            <p:nvPr/>
          </p:nvSpPr>
          <p:spPr>
            <a:xfrm>
              <a:off x="596412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8d728"/>
                </a:gs>
                <a:gs pos="100000">
                  <a:srgbClr val="127d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ound Diagonal Corner Rectangle 75"/>
            <p:cNvSpPr/>
            <p:nvPr/>
          </p:nvSpPr>
          <p:spPr>
            <a:xfrm>
              <a:off x="601956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Прямоугольник 121"/>
          <p:cNvSpPr/>
          <p:nvPr/>
        </p:nvSpPr>
        <p:spPr>
          <a:xfrm>
            <a:off x="624528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139"/>
          <p:cNvGrpSpPr/>
          <p:nvPr/>
        </p:nvGrpSpPr>
        <p:grpSpPr>
          <a:xfrm>
            <a:off x="3427920" y="4350240"/>
            <a:ext cx="2188800" cy="1843200"/>
            <a:chOff x="3427920" y="4350240"/>
            <a:chExt cx="2188800" cy="1843200"/>
          </a:xfrm>
        </p:grpSpPr>
        <p:grpSp>
          <p:nvGrpSpPr>
            <p:cNvPr id="759" name="Group 41"/>
            <p:cNvGrpSpPr/>
            <p:nvPr/>
          </p:nvGrpSpPr>
          <p:grpSpPr>
            <a:xfrm>
              <a:off x="4338000" y="4700520"/>
              <a:ext cx="1278720" cy="1492920"/>
              <a:chOff x="4338000" y="4700520"/>
              <a:chExt cx="1278720" cy="1492920"/>
            </a:xfrm>
          </p:grpSpPr>
          <p:sp>
            <p:nvSpPr>
              <p:cNvPr id="760" name="Freeform 18"/>
              <p:cNvSpPr/>
              <p:nvPr/>
            </p:nvSpPr>
            <p:spPr>
              <a:xfrm rot="21006000">
                <a:off x="4444200" y="4781880"/>
                <a:ext cx="1065960" cy="1329480"/>
              </a:xfrm>
              <a:custGeom>
                <a:avLst/>
                <a:gdLst/>
                <a:ahLst/>
                <a:rect l="l" t="t" r="r" b="b"/>
                <a:pathLst>
                  <a:path w="1869" h="2330">
                    <a:moveTo>
                      <a:pt x="1332" y="0"/>
                    </a:moveTo>
                    <a:lnTo>
                      <a:pt x="1385" y="0"/>
                    </a:lnTo>
                    <a:lnTo>
                      <a:pt x="1427" y="4"/>
                    </a:lnTo>
                    <a:lnTo>
                      <a:pt x="1465" y="10"/>
                    </a:lnTo>
                    <a:lnTo>
                      <a:pt x="1498" y="20"/>
                    </a:lnTo>
                    <a:lnTo>
                      <a:pt x="1526" y="32"/>
                    </a:lnTo>
                    <a:lnTo>
                      <a:pt x="1552" y="45"/>
                    </a:lnTo>
                    <a:lnTo>
                      <a:pt x="1573" y="61"/>
                    </a:lnTo>
                    <a:lnTo>
                      <a:pt x="1591" y="77"/>
                    </a:lnTo>
                    <a:lnTo>
                      <a:pt x="1606" y="93"/>
                    </a:lnTo>
                    <a:lnTo>
                      <a:pt x="1617" y="109"/>
                    </a:lnTo>
                    <a:lnTo>
                      <a:pt x="1627" y="125"/>
                    </a:lnTo>
                    <a:lnTo>
                      <a:pt x="1634" y="139"/>
                    </a:lnTo>
                    <a:lnTo>
                      <a:pt x="1639" y="152"/>
                    </a:lnTo>
                    <a:lnTo>
                      <a:pt x="1643" y="163"/>
                    </a:lnTo>
                    <a:lnTo>
                      <a:pt x="1645" y="171"/>
                    </a:lnTo>
                    <a:lnTo>
                      <a:pt x="1646" y="176"/>
                    </a:lnTo>
                    <a:lnTo>
                      <a:pt x="1646" y="178"/>
                    </a:lnTo>
                    <a:lnTo>
                      <a:pt x="1837" y="951"/>
                    </a:lnTo>
                    <a:lnTo>
                      <a:pt x="1847" y="998"/>
                    </a:lnTo>
                    <a:lnTo>
                      <a:pt x="1854" y="1048"/>
                    </a:lnTo>
                    <a:lnTo>
                      <a:pt x="1860" y="1103"/>
                    </a:lnTo>
                    <a:lnTo>
                      <a:pt x="1865" y="1161"/>
                    </a:lnTo>
                    <a:lnTo>
                      <a:pt x="1867" y="1219"/>
                    </a:lnTo>
                    <a:lnTo>
                      <a:pt x="1869" y="1280"/>
                    </a:lnTo>
                    <a:lnTo>
                      <a:pt x="1869" y="1343"/>
                    </a:lnTo>
                    <a:lnTo>
                      <a:pt x="1867" y="1406"/>
                    </a:lnTo>
                    <a:lnTo>
                      <a:pt x="1865" y="1469"/>
                    </a:lnTo>
                    <a:lnTo>
                      <a:pt x="1861" y="1531"/>
                    </a:lnTo>
                    <a:lnTo>
                      <a:pt x="1858" y="1592"/>
                    </a:lnTo>
                    <a:lnTo>
                      <a:pt x="1854" y="1651"/>
                    </a:lnTo>
                    <a:lnTo>
                      <a:pt x="1849" y="1708"/>
                    </a:lnTo>
                    <a:lnTo>
                      <a:pt x="1844" y="1762"/>
                    </a:lnTo>
                    <a:lnTo>
                      <a:pt x="1839" y="1813"/>
                    </a:lnTo>
                    <a:lnTo>
                      <a:pt x="1834" y="1860"/>
                    </a:lnTo>
                    <a:lnTo>
                      <a:pt x="1829" y="1902"/>
                    </a:lnTo>
                    <a:lnTo>
                      <a:pt x="1825" y="1940"/>
                    </a:lnTo>
                    <a:lnTo>
                      <a:pt x="1821" y="1972"/>
                    </a:lnTo>
                    <a:lnTo>
                      <a:pt x="1817" y="1998"/>
                    </a:lnTo>
                    <a:lnTo>
                      <a:pt x="1815" y="2017"/>
                    </a:lnTo>
                    <a:lnTo>
                      <a:pt x="1812" y="2029"/>
                    </a:lnTo>
                    <a:lnTo>
                      <a:pt x="1812" y="2033"/>
                    </a:lnTo>
                    <a:lnTo>
                      <a:pt x="1805" y="2069"/>
                    </a:lnTo>
                    <a:lnTo>
                      <a:pt x="1794" y="2100"/>
                    </a:lnTo>
                    <a:lnTo>
                      <a:pt x="1778" y="2128"/>
                    </a:lnTo>
                    <a:lnTo>
                      <a:pt x="1761" y="2153"/>
                    </a:lnTo>
                    <a:lnTo>
                      <a:pt x="1740" y="2174"/>
                    </a:lnTo>
                    <a:lnTo>
                      <a:pt x="1718" y="2191"/>
                    </a:lnTo>
                    <a:lnTo>
                      <a:pt x="1696" y="2205"/>
                    </a:lnTo>
                    <a:lnTo>
                      <a:pt x="1673" y="2218"/>
                    </a:lnTo>
                    <a:lnTo>
                      <a:pt x="1651" y="2226"/>
                    </a:lnTo>
                    <a:lnTo>
                      <a:pt x="1630" y="2233"/>
                    </a:lnTo>
                    <a:lnTo>
                      <a:pt x="1612" y="2240"/>
                    </a:lnTo>
                    <a:lnTo>
                      <a:pt x="1596" y="2243"/>
                    </a:lnTo>
                    <a:lnTo>
                      <a:pt x="1585" y="2246"/>
                    </a:lnTo>
                    <a:lnTo>
                      <a:pt x="1577" y="2247"/>
                    </a:lnTo>
                    <a:lnTo>
                      <a:pt x="1574" y="2247"/>
                    </a:lnTo>
                    <a:lnTo>
                      <a:pt x="1512" y="2258"/>
                    </a:lnTo>
                    <a:lnTo>
                      <a:pt x="1447" y="2268"/>
                    </a:lnTo>
                    <a:lnTo>
                      <a:pt x="1380" y="2276"/>
                    </a:lnTo>
                    <a:lnTo>
                      <a:pt x="1310" y="2285"/>
                    </a:lnTo>
                    <a:lnTo>
                      <a:pt x="1239" y="2292"/>
                    </a:lnTo>
                    <a:lnTo>
                      <a:pt x="1167" y="2298"/>
                    </a:lnTo>
                    <a:lnTo>
                      <a:pt x="1094" y="2303"/>
                    </a:lnTo>
                    <a:lnTo>
                      <a:pt x="1023" y="2308"/>
                    </a:lnTo>
                    <a:lnTo>
                      <a:pt x="951" y="2313"/>
                    </a:lnTo>
                    <a:lnTo>
                      <a:pt x="883" y="2317"/>
                    </a:lnTo>
                    <a:lnTo>
                      <a:pt x="815" y="2320"/>
                    </a:lnTo>
                    <a:lnTo>
                      <a:pt x="751" y="2323"/>
                    </a:lnTo>
                    <a:lnTo>
                      <a:pt x="688" y="2324"/>
                    </a:lnTo>
                    <a:lnTo>
                      <a:pt x="632" y="2326"/>
                    </a:lnTo>
                    <a:lnTo>
                      <a:pt x="578" y="2328"/>
                    </a:lnTo>
                    <a:lnTo>
                      <a:pt x="531" y="2329"/>
                    </a:lnTo>
                    <a:lnTo>
                      <a:pt x="489" y="2329"/>
                    </a:lnTo>
                    <a:lnTo>
                      <a:pt x="454" y="2330"/>
                    </a:lnTo>
                    <a:lnTo>
                      <a:pt x="385" y="2330"/>
                    </a:lnTo>
                    <a:lnTo>
                      <a:pt x="345" y="2321"/>
                    </a:lnTo>
                    <a:lnTo>
                      <a:pt x="311" y="2309"/>
                    </a:lnTo>
                    <a:lnTo>
                      <a:pt x="279" y="2293"/>
                    </a:lnTo>
                    <a:lnTo>
                      <a:pt x="252" y="2276"/>
                    </a:lnTo>
                    <a:lnTo>
                      <a:pt x="230" y="2257"/>
                    </a:lnTo>
                    <a:lnTo>
                      <a:pt x="211" y="2236"/>
                    </a:lnTo>
                    <a:lnTo>
                      <a:pt x="195" y="2214"/>
                    </a:lnTo>
                    <a:lnTo>
                      <a:pt x="181" y="2192"/>
                    </a:lnTo>
                    <a:lnTo>
                      <a:pt x="171" y="2171"/>
                    </a:lnTo>
                    <a:lnTo>
                      <a:pt x="163" y="2150"/>
                    </a:lnTo>
                    <a:lnTo>
                      <a:pt x="157" y="2131"/>
                    </a:lnTo>
                    <a:lnTo>
                      <a:pt x="152" y="2115"/>
                    </a:lnTo>
                    <a:lnTo>
                      <a:pt x="149" y="2100"/>
                    </a:lnTo>
                    <a:lnTo>
                      <a:pt x="148" y="2091"/>
                    </a:lnTo>
                    <a:lnTo>
                      <a:pt x="147" y="2083"/>
                    </a:lnTo>
                    <a:lnTo>
                      <a:pt x="147" y="2081"/>
                    </a:lnTo>
                    <a:lnTo>
                      <a:pt x="5" y="1201"/>
                    </a:lnTo>
                    <a:lnTo>
                      <a:pt x="2" y="1155"/>
                    </a:lnTo>
                    <a:lnTo>
                      <a:pt x="0" y="1113"/>
                    </a:lnTo>
                    <a:lnTo>
                      <a:pt x="0" y="1043"/>
                    </a:lnTo>
                    <a:lnTo>
                      <a:pt x="2" y="1015"/>
                    </a:lnTo>
                    <a:lnTo>
                      <a:pt x="3" y="993"/>
                    </a:lnTo>
                    <a:lnTo>
                      <a:pt x="4" y="976"/>
                    </a:lnTo>
                    <a:lnTo>
                      <a:pt x="5" y="966"/>
                    </a:lnTo>
                    <a:lnTo>
                      <a:pt x="5" y="963"/>
                    </a:lnTo>
                    <a:lnTo>
                      <a:pt x="16" y="380"/>
                    </a:lnTo>
                    <a:lnTo>
                      <a:pt x="19" y="337"/>
                    </a:lnTo>
                    <a:lnTo>
                      <a:pt x="26" y="298"/>
                    </a:lnTo>
                    <a:lnTo>
                      <a:pt x="37" y="263"/>
                    </a:lnTo>
                    <a:lnTo>
                      <a:pt x="50" y="232"/>
                    </a:lnTo>
                    <a:lnTo>
                      <a:pt x="68" y="205"/>
                    </a:lnTo>
                    <a:lnTo>
                      <a:pt x="87" y="181"/>
                    </a:lnTo>
                    <a:lnTo>
                      <a:pt x="108" y="161"/>
                    </a:lnTo>
                    <a:lnTo>
                      <a:pt x="130" y="143"/>
                    </a:lnTo>
                    <a:lnTo>
                      <a:pt x="153" y="128"/>
                    </a:lnTo>
                    <a:lnTo>
                      <a:pt x="176" y="117"/>
                    </a:lnTo>
                    <a:lnTo>
                      <a:pt x="198" y="108"/>
                    </a:lnTo>
                    <a:lnTo>
                      <a:pt x="219" y="99"/>
                    </a:lnTo>
                    <a:lnTo>
                      <a:pt x="239" y="93"/>
                    </a:lnTo>
                    <a:lnTo>
                      <a:pt x="256" y="89"/>
                    </a:lnTo>
                    <a:lnTo>
                      <a:pt x="269" y="86"/>
                    </a:lnTo>
                    <a:lnTo>
                      <a:pt x="280" y="84"/>
                    </a:lnTo>
                    <a:lnTo>
                      <a:pt x="288" y="83"/>
                    </a:lnTo>
                    <a:lnTo>
                      <a:pt x="290" y="83"/>
                    </a:lnTo>
                    <a:lnTo>
                      <a:pt x="317" y="77"/>
                    </a:lnTo>
                    <a:lnTo>
                      <a:pt x="351" y="71"/>
                    </a:lnTo>
                    <a:lnTo>
                      <a:pt x="390" y="66"/>
                    </a:lnTo>
                    <a:lnTo>
                      <a:pt x="434" y="60"/>
                    </a:lnTo>
                    <a:lnTo>
                      <a:pt x="482" y="55"/>
                    </a:lnTo>
                    <a:lnTo>
                      <a:pt x="534" y="50"/>
                    </a:lnTo>
                    <a:lnTo>
                      <a:pt x="589" y="45"/>
                    </a:lnTo>
                    <a:lnTo>
                      <a:pt x="647" y="40"/>
                    </a:lnTo>
                    <a:lnTo>
                      <a:pt x="705" y="35"/>
                    </a:lnTo>
                    <a:lnTo>
                      <a:pt x="825" y="28"/>
                    </a:lnTo>
                    <a:lnTo>
                      <a:pt x="885" y="23"/>
                    </a:lnTo>
                    <a:lnTo>
                      <a:pt x="944" y="20"/>
                    </a:lnTo>
                    <a:lnTo>
                      <a:pt x="1001" y="17"/>
                    </a:lnTo>
                    <a:lnTo>
                      <a:pt x="1056" y="13"/>
                    </a:lnTo>
                    <a:lnTo>
                      <a:pt x="1107" y="11"/>
                    </a:lnTo>
                    <a:lnTo>
                      <a:pt x="1156" y="9"/>
                    </a:lnTo>
                    <a:lnTo>
                      <a:pt x="1200" y="6"/>
                    </a:lnTo>
                    <a:lnTo>
                      <a:pt x="1239" y="5"/>
                    </a:lnTo>
                    <a:lnTo>
                      <a:pt x="1272" y="3"/>
                    </a:lnTo>
                    <a:lnTo>
                      <a:pt x="1300" y="1"/>
                    </a:lnTo>
                    <a:lnTo>
                      <a:pt x="1320" y="1"/>
                    </a:lnTo>
                    <a:lnTo>
                      <a:pt x="1332" y="0"/>
                    </a:lnTo>
                    <a:close/>
                  </a:path>
                </a:pathLst>
              </a:custGeom>
              <a:solidFill>
                <a:srgbClr val="4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9"/>
              <p:cNvSpPr/>
              <p:nvPr/>
            </p:nvSpPr>
            <p:spPr>
              <a:xfrm rot="21006000">
                <a:off x="4839120" y="5071680"/>
                <a:ext cx="176760" cy="1227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309" h="215">
                    <a:moveTo>
                      <a:pt x="155" y="0"/>
                    </a:moveTo>
                    <a:lnTo>
                      <a:pt x="190" y="2"/>
                    </a:lnTo>
                    <a:lnTo>
                      <a:pt x="222" y="11"/>
                    </a:lnTo>
                    <a:lnTo>
                      <a:pt x="251" y="24"/>
                    </a:lnTo>
                    <a:lnTo>
                      <a:pt x="275" y="40"/>
                    </a:lnTo>
                    <a:lnTo>
                      <a:pt x="293" y="61"/>
                    </a:lnTo>
                    <a:lnTo>
                      <a:pt x="305" y="83"/>
                    </a:lnTo>
                    <a:lnTo>
                      <a:pt x="309" y="107"/>
                    </a:lnTo>
                    <a:lnTo>
                      <a:pt x="305" y="131"/>
                    </a:lnTo>
                    <a:lnTo>
                      <a:pt x="293" y="153"/>
                    </a:lnTo>
                    <a:lnTo>
                      <a:pt x="275" y="174"/>
                    </a:lnTo>
                    <a:lnTo>
                      <a:pt x="251" y="190"/>
                    </a:lnTo>
                    <a:lnTo>
                      <a:pt x="222" y="204"/>
                    </a:lnTo>
                    <a:lnTo>
                      <a:pt x="190" y="212"/>
                    </a:lnTo>
                    <a:lnTo>
                      <a:pt x="155" y="215"/>
                    </a:lnTo>
                    <a:lnTo>
                      <a:pt x="119" y="212"/>
                    </a:lnTo>
                    <a:lnTo>
                      <a:pt x="86" y="204"/>
                    </a:lnTo>
                    <a:lnTo>
                      <a:pt x="58" y="190"/>
                    </a:lnTo>
                    <a:lnTo>
                      <a:pt x="34" y="174"/>
                    </a:lnTo>
                    <a:lnTo>
                      <a:pt x="16" y="153"/>
                    </a:lnTo>
                    <a:lnTo>
                      <a:pt x="3" y="131"/>
                    </a:lnTo>
                    <a:lnTo>
                      <a:pt x="0" y="107"/>
                    </a:lnTo>
                    <a:lnTo>
                      <a:pt x="3" y="83"/>
                    </a:lnTo>
                    <a:lnTo>
                      <a:pt x="16" y="61"/>
                    </a:lnTo>
                    <a:lnTo>
                      <a:pt x="34" y="40"/>
                    </a:lnTo>
                    <a:lnTo>
                      <a:pt x="58" y="24"/>
                    </a:lnTo>
                    <a:lnTo>
                      <a:pt x="86" y="11"/>
                    </a:lnTo>
                    <a:lnTo>
                      <a:pt x="119" y="2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0"/>
              <p:cNvSpPr/>
              <p:nvPr/>
            </p:nvSpPr>
            <p:spPr>
              <a:xfrm rot="21006000">
                <a:off x="5139000" y="5189760"/>
                <a:ext cx="176760" cy="11484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309" h="201">
                    <a:moveTo>
                      <a:pt x="155" y="0"/>
                    </a:moveTo>
                    <a:lnTo>
                      <a:pt x="186" y="2"/>
                    </a:lnTo>
                    <a:lnTo>
                      <a:pt x="215" y="7"/>
                    </a:lnTo>
                    <a:lnTo>
                      <a:pt x="241" y="17"/>
                    </a:lnTo>
                    <a:lnTo>
                      <a:pt x="263" y="29"/>
                    </a:lnTo>
                    <a:lnTo>
                      <a:pt x="283" y="44"/>
                    </a:lnTo>
                    <a:lnTo>
                      <a:pt x="296" y="61"/>
                    </a:lnTo>
                    <a:lnTo>
                      <a:pt x="305" y="79"/>
                    </a:lnTo>
                    <a:lnTo>
                      <a:pt x="309" y="100"/>
                    </a:lnTo>
                    <a:lnTo>
                      <a:pt x="305" y="123"/>
                    </a:lnTo>
                    <a:lnTo>
                      <a:pt x="293" y="145"/>
                    </a:lnTo>
                    <a:lnTo>
                      <a:pt x="274" y="163"/>
                    </a:lnTo>
                    <a:lnTo>
                      <a:pt x="251" y="179"/>
                    </a:lnTo>
                    <a:lnTo>
                      <a:pt x="223" y="192"/>
                    </a:lnTo>
                    <a:lnTo>
                      <a:pt x="190" y="199"/>
                    </a:lnTo>
                    <a:lnTo>
                      <a:pt x="155" y="201"/>
                    </a:lnTo>
                    <a:lnTo>
                      <a:pt x="123" y="199"/>
                    </a:lnTo>
                    <a:lnTo>
                      <a:pt x="95" y="194"/>
                    </a:lnTo>
                    <a:lnTo>
                      <a:pt x="68" y="184"/>
                    </a:lnTo>
                    <a:lnTo>
                      <a:pt x="45" y="172"/>
                    </a:lnTo>
                    <a:lnTo>
                      <a:pt x="26" y="156"/>
                    </a:lnTo>
                    <a:lnTo>
                      <a:pt x="12" y="139"/>
                    </a:lnTo>
                    <a:lnTo>
                      <a:pt x="3" y="121"/>
                    </a:lnTo>
                    <a:lnTo>
                      <a:pt x="0" y="100"/>
                    </a:lnTo>
                    <a:lnTo>
                      <a:pt x="3" y="79"/>
                    </a:lnTo>
                    <a:lnTo>
                      <a:pt x="12" y="61"/>
                    </a:lnTo>
                    <a:lnTo>
                      <a:pt x="26" y="44"/>
                    </a:lnTo>
                    <a:lnTo>
                      <a:pt x="45" y="29"/>
                    </a:lnTo>
                    <a:lnTo>
                      <a:pt x="68" y="17"/>
                    </a:lnTo>
                    <a:lnTo>
                      <a:pt x="95" y="7"/>
                    </a:lnTo>
                    <a:lnTo>
                      <a:pt x="123" y="2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1"/>
              <p:cNvSpPr/>
              <p:nvPr/>
            </p:nvSpPr>
            <p:spPr>
              <a:xfrm rot="21006000">
                <a:off x="5000760" y="4844880"/>
                <a:ext cx="175680" cy="1285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309" h="226">
                    <a:moveTo>
                      <a:pt x="155" y="0"/>
                    </a:moveTo>
                    <a:lnTo>
                      <a:pt x="187" y="2"/>
                    </a:lnTo>
                    <a:lnTo>
                      <a:pt x="215" y="9"/>
                    </a:lnTo>
                    <a:lnTo>
                      <a:pt x="242" y="20"/>
                    </a:lnTo>
                    <a:lnTo>
                      <a:pt x="264" y="33"/>
                    </a:lnTo>
                    <a:lnTo>
                      <a:pt x="284" y="50"/>
                    </a:lnTo>
                    <a:lnTo>
                      <a:pt x="297" y="70"/>
                    </a:lnTo>
                    <a:lnTo>
                      <a:pt x="306" y="90"/>
                    </a:lnTo>
                    <a:lnTo>
                      <a:pt x="309" y="114"/>
                    </a:lnTo>
                    <a:lnTo>
                      <a:pt x="306" y="137"/>
                    </a:lnTo>
                    <a:lnTo>
                      <a:pt x="297" y="158"/>
                    </a:lnTo>
                    <a:lnTo>
                      <a:pt x="284" y="177"/>
                    </a:lnTo>
                    <a:lnTo>
                      <a:pt x="264" y="193"/>
                    </a:lnTo>
                    <a:lnTo>
                      <a:pt x="242" y="206"/>
                    </a:lnTo>
                    <a:lnTo>
                      <a:pt x="215" y="217"/>
                    </a:lnTo>
                    <a:lnTo>
                      <a:pt x="187" y="224"/>
                    </a:lnTo>
                    <a:lnTo>
                      <a:pt x="155" y="226"/>
                    </a:lnTo>
                    <a:lnTo>
                      <a:pt x="124" y="224"/>
                    </a:lnTo>
                    <a:lnTo>
                      <a:pt x="96" y="217"/>
                    </a:lnTo>
                    <a:lnTo>
                      <a:pt x="69" y="206"/>
                    </a:lnTo>
                    <a:lnTo>
                      <a:pt x="45" y="193"/>
                    </a:lnTo>
                    <a:lnTo>
                      <a:pt x="27" y="177"/>
                    </a:lnTo>
                    <a:lnTo>
                      <a:pt x="12" y="158"/>
                    </a:lnTo>
                    <a:lnTo>
                      <a:pt x="4" y="137"/>
                    </a:lnTo>
                    <a:lnTo>
                      <a:pt x="0" y="114"/>
                    </a:lnTo>
                    <a:lnTo>
                      <a:pt x="4" y="90"/>
                    </a:lnTo>
                    <a:lnTo>
                      <a:pt x="12" y="70"/>
                    </a:lnTo>
                    <a:lnTo>
                      <a:pt x="27" y="50"/>
                    </a:lnTo>
                    <a:lnTo>
                      <a:pt x="45" y="33"/>
                    </a:lnTo>
                    <a:lnTo>
                      <a:pt x="69" y="20"/>
                    </a:lnTo>
                    <a:lnTo>
                      <a:pt x="96" y="9"/>
                    </a:lnTo>
                    <a:lnTo>
                      <a:pt x="124" y="2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2"/>
              <p:cNvSpPr/>
              <p:nvPr/>
            </p:nvSpPr>
            <p:spPr>
              <a:xfrm rot="21006000">
                <a:off x="4545720" y="4964760"/>
                <a:ext cx="175680" cy="12276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310" h="215">
                    <a:moveTo>
                      <a:pt x="154" y="0"/>
                    </a:moveTo>
                    <a:lnTo>
                      <a:pt x="190" y="2"/>
                    </a:lnTo>
                    <a:lnTo>
                      <a:pt x="223" y="11"/>
                    </a:lnTo>
                    <a:lnTo>
                      <a:pt x="251" y="24"/>
                    </a:lnTo>
                    <a:lnTo>
                      <a:pt x="275" y="40"/>
                    </a:lnTo>
                    <a:lnTo>
                      <a:pt x="294" y="61"/>
                    </a:lnTo>
                    <a:lnTo>
                      <a:pt x="306" y="83"/>
                    </a:lnTo>
                    <a:lnTo>
                      <a:pt x="310" y="107"/>
                    </a:lnTo>
                    <a:lnTo>
                      <a:pt x="306" y="132"/>
                    </a:lnTo>
                    <a:lnTo>
                      <a:pt x="294" y="154"/>
                    </a:lnTo>
                    <a:lnTo>
                      <a:pt x="275" y="175"/>
                    </a:lnTo>
                    <a:lnTo>
                      <a:pt x="251" y="190"/>
                    </a:lnTo>
                    <a:lnTo>
                      <a:pt x="223" y="204"/>
                    </a:lnTo>
                    <a:lnTo>
                      <a:pt x="190" y="212"/>
                    </a:lnTo>
                    <a:lnTo>
                      <a:pt x="154" y="215"/>
                    </a:lnTo>
                    <a:lnTo>
                      <a:pt x="119" y="212"/>
                    </a:lnTo>
                    <a:lnTo>
                      <a:pt x="86" y="204"/>
                    </a:lnTo>
                    <a:lnTo>
                      <a:pt x="58" y="190"/>
                    </a:lnTo>
                    <a:lnTo>
                      <a:pt x="35" y="175"/>
                    </a:lnTo>
                    <a:lnTo>
                      <a:pt x="16" y="154"/>
                    </a:lnTo>
                    <a:lnTo>
                      <a:pt x="4" y="132"/>
                    </a:lnTo>
                    <a:lnTo>
                      <a:pt x="0" y="107"/>
                    </a:lnTo>
                    <a:lnTo>
                      <a:pt x="4" y="83"/>
                    </a:lnTo>
                    <a:lnTo>
                      <a:pt x="16" y="61"/>
                    </a:lnTo>
                    <a:lnTo>
                      <a:pt x="35" y="40"/>
                    </a:lnTo>
                    <a:lnTo>
                      <a:pt x="58" y="24"/>
                    </a:lnTo>
                    <a:lnTo>
                      <a:pt x="86" y="11"/>
                    </a:lnTo>
                    <a:lnTo>
                      <a:pt x="119" y="2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3"/>
              <p:cNvSpPr/>
              <p:nvPr/>
            </p:nvSpPr>
            <p:spPr>
              <a:xfrm rot="21006000">
                <a:off x="4668120" y="5308920"/>
                <a:ext cx="175680" cy="1285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309" h="226">
                    <a:moveTo>
                      <a:pt x="155" y="0"/>
                    </a:moveTo>
                    <a:lnTo>
                      <a:pt x="190" y="3"/>
                    </a:lnTo>
                    <a:lnTo>
                      <a:pt x="223" y="13"/>
                    </a:lnTo>
                    <a:lnTo>
                      <a:pt x="251" y="26"/>
                    </a:lnTo>
                    <a:lnTo>
                      <a:pt x="275" y="43"/>
                    </a:lnTo>
                    <a:lnTo>
                      <a:pt x="293" y="64"/>
                    </a:lnTo>
                    <a:lnTo>
                      <a:pt x="305" y="88"/>
                    </a:lnTo>
                    <a:lnTo>
                      <a:pt x="309" y="114"/>
                    </a:lnTo>
                    <a:lnTo>
                      <a:pt x="305" y="137"/>
                    </a:lnTo>
                    <a:lnTo>
                      <a:pt x="297" y="158"/>
                    </a:lnTo>
                    <a:lnTo>
                      <a:pt x="283" y="177"/>
                    </a:lnTo>
                    <a:lnTo>
                      <a:pt x="264" y="193"/>
                    </a:lnTo>
                    <a:lnTo>
                      <a:pt x="242" y="207"/>
                    </a:lnTo>
                    <a:lnTo>
                      <a:pt x="215" y="218"/>
                    </a:lnTo>
                    <a:lnTo>
                      <a:pt x="187" y="224"/>
                    </a:lnTo>
                    <a:lnTo>
                      <a:pt x="155" y="226"/>
                    </a:lnTo>
                    <a:lnTo>
                      <a:pt x="123" y="224"/>
                    </a:lnTo>
                    <a:lnTo>
                      <a:pt x="95" y="218"/>
                    </a:lnTo>
                    <a:lnTo>
                      <a:pt x="68" y="207"/>
                    </a:lnTo>
                    <a:lnTo>
                      <a:pt x="45" y="193"/>
                    </a:lnTo>
                    <a:lnTo>
                      <a:pt x="27" y="177"/>
                    </a:lnTo>
                    <a:lnTo>
                      <a:pt x="12" y="158"/>
                    </a:lnTo>
                    <a:lnTo>
                      <a:pt x="3" y="137"/>
                    </a:lnTo>
                    <a:lnTo>
                      <a:pt x="0" y="114"/>
                    </a:lnTo>
                    <a:lnTo>
                      <a:pt x="3" y="91"/>
                    </a:lnTo>
                    <a:lnTo>
                      <a:pt x="12" y="70"/>
                    </a:lnTo>
                    <a:lnTo>
                      <a:pt x="27" y="50"/>
                    </a:lnTo>
                    <a:lnTo>
                      <a:pt x="45" y="33"/>
                    </a:lnTo>
                    <a:lnTo>
                      <a:pt x="68" y="20"/>
                    </a:lnTo>
                    <a:lnTo>
                      <a:pt x="95" y="9"/>
                    </a:lnTo>
                    <a:lnTo>
                      <a:pt x="123" y="3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4"/>
              <p:cNvSpPr/>
              <p:nvPr/>
            </p:nvSpPr>
            <p:spPr>
              <a:xfrm rot="21006000">
                <a:off x="4754880" y="5625360"/>
                <a:ext cx="174240" cy="115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07" h="204">
                    <a:moveTo>
                      <a:pt x="172" y="0"/>
                    </a:moveTo>
                    <a:lnTo>
                      <a:pt x="203" y="2"/>
                    </a:lnTo>
                    <a:lnTo>
                      <a:pt x="230" y="8"/>
                    </a:lnTo>
                    <a:lnTo>
                      <a:pt x="254" y="18"/>
                    </a:lnTo>
                    <a:lnTo>
                      <a:pt x="274" y="32"/>
                    </a:lnTo>
                    <a:lnTo>
                      <a:pt x="291" y="46"/>
                    </a:lnTo>
                    <a:lnTo>
                      <a:pt x="302" y="65"/>
                    </a:lnTo>
                    <a:lnTo>
                      <a:pt x="307" y="84"/>
                    </a:lnTo>
                    <a:lnTo>
                      <a:pt x="305" y="107"/>
                    </a:lnTo>
                    <a:lnTo>
                      <a:pt x="296" y="130"/>
                    </a:lnTo>
                    <a:lnTo>
                      <a:pt x="280" y="151"/>
                    </a:lnTo>
                    <a:lnTo>
                      <a:pt x="258" y="170"/>
                    </a:lnTo>
                    <a:lnTo>
                      <a:pt x="231" y="184"/>
                    </a:lnTo>
                    <a:lnTo>
                      <a:pt x="199" y="195"/>
                    </a:lnTo>
                    <a:lnTo>
                      <a:pt x="165" y="203"/>
                    </a:lnTo>
                    <a:lnTo>
                      <a:pt x="133" y="204"/>
                    </a:lnTo>
                    <a:lnTo>
                      <a:pt x="104" y="201"/>
                    </a:lnTo>
                    <a:lnTo>
                      <a:pt x="77" y="195"/>
                    </a:lnTo>
                    <a:lnTo>
                      <a:pt x="52" y="185"/>
                    </a:lnTo>
                    <a:lnTo>
                      <a:pt x="32" y="173"/>
                    </a:lnTo>
                    <a:lnTo>
                      <a:pt x="16" y="157"/>
                    </a:lnTo>
                    <a:lnTo>
                      <a:pt x="5" y="139"/>
                    </a:lnTo>
                    <a:lnTo>
                      <a:pt x="0" y="120"/>
                    </a:lnTo>
                    <a:lnTo>
                      <a:pt x="1" y="96"/>
                    </a:lnTo>
                    <a:lnTo>
                      <a:pt x="11" y="73"/>
                    </a:lnTo>
                    <a:lnTo>
                      <a:pt x="27" y="52"/>
                    </a:lnTo>
                    <a:lnTo>
                      <a:pt x="48" y="34"/>
                    </a:lnTo>
                    <a:lnTo>
                      <a:pt x="76" y="19"/>
                    </a:lnTo>
                    <a:lnTo>
                      <a:pt x="106" y="8"/>
                    </a:lnTo>
                    <a:lnTo>
                      <a:pt x="142" y="1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5"/>
              <p:cNvSpPr/>
              <p:nvPr/>
            </p:nvSpPr>
            <p:spPr>
              <a:xfrm rot="21006000">
                <a:off x="5001120" y="5562720"/>
                <a:ext cx="175680" cy="115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06" h="202">
                    <a:moveTo>
                      <a:pt x="173" y="0"/>
                    </a:moveTo>
                    <a:lnTo>
                      <a:pt x="202" y="2"/>
                    </a:lnTo>
                    <a:lnTo>
                      <a:pt x="229" y="8"/>
                    </a:lnTo>
                    <a:lnTo>
                      <a:pt x="254" y="18"/>
                    </a:lnTo>
                    <a:lnTo>
                      <a:pt x="275" y="30"/>
                    </a:lnTo>
                    <a:lnTo>
                      <a:pt x="290" y="45"/>
                    </a:lnTo>
                    <a:lnTo>
                      <a:pt x="301" y="63"/>
                    </a:lnTo>
                    <a:lnTo>
                      <a:pt x="306" y="83"/>
                    </a:lnTo>
                    <a:lnTo>
                      <a:pt x="305" y="106"/>
                    </a:lnTo>
                    <a:lnTo>
                      <a:pt x="295" y="129"/>
                    </a:lnTo>
                    <a:lnTo>
                      <a:pt x="279" y="150"/>
                    </a:lnTo>
                    <a:lnTo>
                      <a:pt x="259" y="168"/>
                    </a:lnTo>
                    <a:lnTo>
                      <a:pt x="231" y="183"/>
                    </a:lnTo>
                    <a:lnTo>
                      <a:pt x="200" y="195"/>
                    </a:lnTo>
                    <a:lnTo>
                      <a:pt x="165" y="201"/>
                    </a:lnTo>
                    <a:lnTo>
                      <a:pt x="133" y="202"/>
                    </a:lnTo>
                    <a:lnTo>
                      <a:pt x="104" y="200"/>
                    </a:lnTo>
                    <a:lnTo>
                      <a:pt x="77" y="194"/>
                    </a:lnTo>
                    <a:lnTo>
                      <a:pt x="52" y="184"/>
                    </a:lnTo>
                    <a:lnTo>
                      <a:pt x="31" y="172"/>
                    </a:lnTo>
                    <a:lnTo>
                      <a:pt x="16" y="156"/>
                    </a:lnTo>
                    <a:lnTo>
                      <a:pt x="5" y="138"/>
                    </a:lnTo>
                    <a:lnTo>
                      <a:pt x="0" y="118"/>
                    </a:lnTo>
                    <a:lnTo>
                      <a:pt x="1" y="95"/>
                    </a:lnTo>
                    <a:lnTo>
                      <a:pt x="11" y="73"/>
                    </a:lnTo>
                    <a:lnTo>
                      <a:pt x="27" y="52"/>
                    </a:lnTo>
                    <a:lnTo>
                      <a:pt x="49" y="34"/>
                    </a:lnTo>
                    <a:lnTo>
                      <a:pt x="75" y="19"/>
                    </a:lnTo>
                    <a:lnTo>
                      <a:pt x="107" y="7"/>
                    </a:lnTo>
                    <a:lnTo>
                      <a:pt x="141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6"/>
              <p:cNvSpPr/>
              <p:nvPr/>
            </p:nvSpPr>
            <p:spPr>
              <a:xfrm rot="21006000">
                <a:off x="5244480" y="5500800"/>
                <a:ext cx="175680" cy="1148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306" h="203">
                    <a:moveTo>
                      <a:pt x="173" y="0"/>
                    </a:moveTo>
                    <a:lnTo>
                      <a:pt x="202" y="3"/>
                    </a:lnTo>
                    <a:lnTo>
                      <a:pt x="229" y="9"/>
                    </a:lnTo>
                    <a:lnTo>
                      <a:pt x="254" y="18"/>
                    </a:lnTo>
                    <a:lnTo>
                      <a:pt x="274" y="31"/>
                    </a:lnTo>
                    <a:lnTo>
                      <a:pt x="290" y="45"/>
                    </a:lnTo>
                    <a:lnTo>
                      <a:pt x="301" y="64"/>
                    </a:lnTo>
                    <a:lnTo>
                      <a:pt x="306" y="83"/>
                    </a:lnTo>
                    <a:lnTo>
                      <a:pt x="305" y="106"/>
                    </a:lnTo>
                    <a:lnTo>
                      <a:pt x="296" y="130"/>
                    </a:lnTo>
                    <a:lnTo>
                      <a:pt x="281" y="150"/>
                    </a:lnTo>
                    <a:lnTo>
                      <a:pt x="259" y="169"/>
                    </a:lnTo>
                    <a:lnTo>
                      <a:pt x="232" y="183"/>
                    </a:lnTo>
                    <a:lnTo>
                      <a:pt x="200" y="196"/>
                    </a:lnTo>
                    <a:lnTo>
                      <a:pt x="164" y="202"/>
                    </a:lnTo>
                    <a:lnTo>
                      <a:pt x="134" y="203"/>
                    </a:lnTo>
                    <a:lnTo>
                      <a:pt x="105" y="200"/>
                    </a:lnTo>
                    <a:lnTo>
                      <a:pt x="76" y="194"/>
                    </a:lnTo>
                    <a:lnTo>
                      <a:pt x="53" y="185"/>
                    </a:lnTo>
                    <a:lnTo>
                      <a:pt x="32" y="172"/>
                    </a:lnTo>
                    <a:lnTo>
                      <a:pt x="17" y="157"/>
                    </a:lnTo>
                    <a:lnTo>
                      <a:pt x="4" y="138"/>
                    </a:lnTo>
                    <a:lnTo>
                      <a:pt x="0" y="119"/>
                    </a:lnTo>
                    <a:lnTo>
                      <a:pt x="1" y="95"/>
                    </a:lnTo>
                    <a:lnTo>
                      <a:pt x="10" y="73"/>
                    </a:lnTo>
                    <a:lnTo>
                      <a:pt x="26" y="53"/>
                    </a:lnTo>
                    <a:lnTo>
                      <a:pt x="48" y="34"/>
                    </a:lnTo>
                    <a:lnTo>
                      <a:pt x="75" y="18"/>
                    </a:lnTo>
                    <a:lnTo>
                      <a:pt x="107" y="7"/>
                    </a:lnTo>
                    <a:lnTo>
                      <a:pt x="141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7"/>
              <p:cNvSpPr/>
              <p:nvPr/>
            </p:nvSpPr>
            <p:spPr>
              <a:xfrm rot="21006000">
                <a:off x="4793760" y="5949360"/>
                <a:ext cx="174240" cy="115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07" h="204">
                    <a:moveTo>
                      <a:pt x="173" y="0"/>
                    </a:moveTo>
                    <a:lnTo>
                      <a:pt x="203" y="2"/>
                    </a:lnTo>
                    <a:lnTo>
                      <a:pt x="230" y="8"/>
                    </a:lnTo>
                    <a:lnTo>
                      <a:pt x="254" y="18"/>
                    </a:lnTo>
                    <a:lnTo>
                      <a:pt x="274" y="31"/>
                    </a:lnTo>
                    <a:lnTo>
                      <a:pt x="291" y="46"/>
                    </a:lnTo>
                    <a:lnTo>
                      <a:pt x="302" y="64"/>
                    </a:lnTo>
                    <a:lnTo>
                      <a:pt x="307" y="84"/>
                    </a:lnTo>
                    <a:lnTo>
                      <a:pt x="306" y="107"/>
                    </a:lnTo>
                    <a:lnTo>
                      <a:pt x="296" y="130"/>
                    </a:lnTo>
                    <a:lnTo>
                      <a:pt x="280" y="151"/>
                    </a:lnTo>
                    <a:lnTo>
                      <a:pt x="258" y="169"/>
                    </a:lnTo>
                    <a:lnTo>
                      <a:pt x="231" y="184"/>
                    </a:lnTo>
                    <a:lnTo>
                      <a:pt x="200" y="195"/>
                    </a:lnTo>
                    <a:lnTo>
                      <a:pt x="165" y="202"/>
                    </a:lnTo>
                    <a:lnTo>
                      <a:pt x="134" y="204"/>
                    </a:lnTo>
                    <a:lnTo>
                      <a:pt x="104" y="201"/>
                    </a:lnTo>
                    <a:lnTo>
                      <a:pt x="77" y="195"/>
                    </a:lnTo>
                    <a:lnTo>
                      <a:pt x="53" y="185"/>
                    </a:lnTo>
                    <a:lnTo>
                      <a:pt x="32" y="172"/>
                    </a:lnTo>
                    <a:lnTo>
                      <a:pt x="16" y="157"/>
                    </a:lnTo>
                    <a:lnTo>
                      <a:pt x="5" y="139"/>
                    </a:lnTo>
                    <a:lnTo>
                      <a:pt x="0" y="119"/>
                    </a:lnTo>
                    <a:lnTo>
                      <a:pt x="2" y="96"/>
                    </a:lnTo>
                    <a:lnTo>
                      <a:pt x="10" y="73"/>
                    </a:lnTo>
                    <a:lnTo>
                      <a:pt x="26" y="52"/>
                    </a:lnTo>
                    <a:lnTo>
                      <a:pt x="48" y="34"/>
                    </a:lnTo>
                    <a:lnTo>
                      <a:pt x="75" y="19"/>
                    </a:lnTo>
                    <a:lnTo>
                      <a:pt x="107" y="8"/>
                    </a:lnTo>
                    <a:lnTo>
                      <a:pt x="142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8"/>
              <p:cNvSpPr/>
              <p:nvPr/>
            </p:nvSpPr>
            <p:spPr>
              <a:xfrm rot="21006000">
                <a:off x="5030640" y="5895720"/>
                <a:ext cx="175680" cy="1148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307" h="203">
                    <a:moveTo>
                      <a:pt x="173" y="0"/>
                    </a:moveTo>
                    <a:lnTo>
                      <a:pt x="203" y="3"/>
                    </a:lnTo>
                    <a:lnTo>
                      <a:pt x="230" y="9"/>
                    </a:lnTo>
                    <a:lnTo>
                      <a:pt x="254" y="19"/>
                    </a:lnTo>
                    <a:lnTo>
                      <a:pt x="275" y="31"/>
                    </a:lnTo>
                    <a:lnTo>
                      <a:pt x="291" y="46"/>
                    </a:lnTo>
                    <a:lnTo>
                      <a:pt x="302" y="64"/>
                    </a:lnTo>
                    <a:lnTo>
                      <a:pt x="307" y="83"/>
                    </a:lnTo>
                    <a:lnTo>
                      <a:pt x="305" y="107"/>
                    </a:lnTo>
                    <a:lnTo>
                      <a:pt x="297" y="130"/>
                    </a:lnTo>
                    <a:lnTo>
                      <a:pt x="281" y="151"/>
                    </a:lnTo>
                    <a:lnTo>
                      <a:pt x="259" y="169"/>
                    </a:lnTo>
                    <a:lnTo>
                      <a:pt x="232" y="184"/>
                    </a:lnTo>
                    <a:lnTo>
                      <a:pt x="200" y="196"/>
                    </a:lnTo>
                    <a:lnTo>
                      <a:pt x="165" y="202"/>
                    </a:lnTo>
                    <a:lnTo>
                      <a:pt x="134" y="203"/>
                    </a:lnTo>
                    <a:lnTo>
                      <a:pt x="105" y="201"/>
                    </a:lnTo>
                    <a:lnTo>
                      <a:pt x="77" y="195"/>
                    </a:lnTo>
                    <a:lnTo>
                      <a:pt x="54" y="185"/>
                    </a:lnTo>
                    <a:lnTo>
                      <a:pt x="33" y="173"/>
                    </a:lnTo>
                    <a:lnTo>
                      <a:pt x="17" y="157"/>
                    </a:lnTo>
                    <a:lnTo>
                      <a:pt x="5" y="138"/>
                    </a:lnTo>
                    <a:lnTo>
                      <a:pt x="0" y="119"/>
                    </a:lnTo>
                    <a:lnTo>
                      <a:pt x="1" y="96"/>
                    </a:lnTo>
                    <a:lnTo>
                      <a:pt x="11" y="74"/>
                    </a:lnTo>
                    <a:lnTo>
                      <a:pt x="27" y="53"/>
                    </a:lnTo>
                    <a:lnTo>
                      <a:pt x="49" y="35"/>
                    </a:lnTo>
                    <a:lnTo>
                      <a:pt x="76" y="20"/>
                    </a:lnTo>
                    <a:lnTo>
                      <a:pt x="108" y="8"/>
                    </a:lnTo>
                    <a:lnTo>
                      <a:pt x="142" y="2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9"/>
              <p:cNvSpPr/>
              <p:nvPr/>
            </p:nvSpPr>
            <p:spPr>
              <a:xfrm rot="21006000">
                <a:off x="5262480" y="5833080"/>
                <a:ext cx="174240" cy="115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06" h="204">
                    <a:moveTo>
                      <a:pt x="172" y="0"/>
                    </a:moveTo>
                    <a:lnTo>
                      <a:pt x="202" y="2"/>
                    </a:lnTo>
                    <a:lnTo>
                      <a:pt x="229" y="9"/>
                    </a:lnTo>
                    <a:lnTo>
                      <a:pt x="254" y="19"/>
                    </a:lnTo>
                    <a:lnTo>
                      <a:pt x="273" y="31"/>
                    </a:lnTo>
                    <a:lnTo>
                      <a:pt x="290" y="46"/>
                    </a:lnTo>
                    <a:lnTo>
                      <a:pt x="301" y="64"/>
                    </a:lnTo>
                    <a:lnTo>
                      <a:pt x="306" y="84"/>
                    </a:lnTo>
                    <a:lnTo>
                      <a:pt x="305" y="107"/>
                    </a:lnTo>
                    <a:lnTo>
                      <a:pt x="295" y="130"/>
                    </a:lnTo>
                    <a:lnTo>
                      <a:pt x="279" y="151"/>
                    </a:lnTo>
                    <a:lnTo>
                      <a:pt x="257" y="170"/>
                    </a:lnTo>
                    <a:lnTo>
                      <a:pt x="231" y="184"/>
                    </a:lnTo>
                    <a:lnTo>
                      <a:pt x="199" y="196"/>
                    </a:lnTo>
                    <a:lnTo>
                      <a:pt x="165" y="203"/>
                    </a:lnTo>
                    <a:lnTo>
                      <a:pt x="134" y="204"/>
                    </a:lnTo>
                    <a:lnTo>
                      <a:pt x="105" y="201"/>
                    </a:lnTo>
                    <a:lnTo>
                      <a:pt x="77" y="195"/>
                    </a:lnTo>
                    <a:lnTo>
                      <a:pt x="53" y="185"/>
                    </a:lnTo>
                    <a:lnTo>
                      <a:pt x="33" y="172"/>
                    </a:lnTo>
                    <a:lnTo>
                      <a:pt x="17" y="157"/>
                    </a:lnTo>
                    <a:lnTo>
                      <a:pt x="5" y="139"/>
                    </a:lnTo>
                    <a:lnTo>
                      <a:pt x="0" y="119"/>
                    </a:lnTo>
                    <a:lnTo>
                      <a:pt x="1" y="96"/>
                    </a:lnTo>
                    <a:lnTo>
                      <a:pt x="9" y="74"/>
                    </a:lnTo>
                    <a:lnTo>
                      <a:pt x="25" y="53"/>
                    </a:lnTo>
                    <a:lnTo>
                      <a:pt x="47" y="35"/>
                    </a:lnTo>
                    <a:lnTo>
                      <a:pt x="75" y="19"/>
                    </a:lnTo>
                    <a:lnTo>
                      <a:pt x="107" y="8"/>
                    </a:lnTo>
                    <a:lnTo>
                      <a:pt x="141" y="1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0"/>
              <p:cNvSpPr/>
              <p:nvPr/>
            </p:nvSpPr>
            <p:spPr>
              <a:xfrm rot="21006000">
                <a:off x="4512600" y="5493240"/>
                <a:ext cx="19080" cy="1695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69560"/>
                  <a:gd name="textAreaBottom" fmla="*/ 169920 h 169560"/>
                </a:gdLst>
                <a:ahLst/>
                <a:rect l="textAreaLeft" t="textAreaTop" r="textAreaRight" b="textAreaBottom"/>
                <a:pathLst>
                  <a:path w="34" h="296">
                    <a:moveTo>
                      <a:pt x="7" y="0"/>
                    </a:moveTo>
                    <a:lnTo>
                      <a:pt x="11" y="3"/>
                    </a:lnTo>
                    <a:lnTo>
                      <a:pt x="15" y="14"/>
                    </a:lnTo>
                    <a:lnTo>
                      <a:pt x="18" y="33"/>
                    </a:lnTo>
                    <a:lnTo>
                      <a:pt x="22" y="55"/>
                    </a:lnTo>
                    <a:lnTo>
                      <a:pt x="26" y="83"/>
                    </a:lnTo>
                    <a:lnTo>
                      <a:pt x="29" y="113"/>
                    </a:lnTo>
                    <a:lnTo>
                      <a:pt x="32" y="147"/>
                    </a:lnTo>
                    <a:lnTo>
                      <a:pt x="33" y="182"/>
                    </a:lnTo>
                    <a:lnTo>
                      <a:pt x="34" y="212"/>
                    </a:lnTo>
                    <a:lnTo>
                      <a:pt x="34" y="263"/>
                    </a:lnTo>
                    <a:lnTo>
                      <a:pt x="33" y="282"/>
                    </a:lnTo>
                    <a:lnTo>
                      <a:pt x="31" y="293"/>
                    </a:lnTo>
                    <a:lnTo>
                      <a:pt x="27" y="296"/>
                    </a:lnTo>
                    <a:lnTo>
                      <a:pt x="23" y="293"/>
                    </a:lnTo>
                    <a:lnTo>
                      <a:pt x="20" y="282"/>
                    </a:lnTo>
                    <a:lnTo>
                      <a:pt x="16" y="265"/>
                    </a:lnTo>
                    <a:lnTo>
                      <a:pt x="12" y="243"/>
                    </a:lnTo>
                    <a:lnTo>
                      <a:pt x="9" y="215"/>
                    </a:lnTo>
                    <a:lnTo>
                      <a:pt x="5" y="184"/>
                    </a:lnTo>
                    <a:lnTo>
                      <a:pt x="2" y="150"/>
                    </a:lnTo>
                    <a:lnTo>
                      <a:pt x="1" y="116"/>
                    </a:lnTo>
                    <a:lnTo>
                      <a:pt x="0" y="84"/>
                    </a:lnTo>
                    <a:lnTo>
                      <a:pt x="0" y="57"/>
                    </a:lnTo>
                    <a:lnTo>
                      <a:pt x="1" y="34"/>
                    </a:lnTo>
                    <a:lnTo>
                      <a:pt x="2" y="15"/>
                    </a:lnTo>
                    <a:lnTo>
                      <a:pt x="5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1"/>
              <p:cNvSpPr/>
              <p:nvPr/>
            </p:nvSpPr>
            <p:spPr>
              <a:xfrm rot="21006000">
                <a:off x="4428720" y="5174640"/>
                <a:ext cx="19080" cy="168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4" h="297">
                    <a:moveTo>
                      <a:pt x="7" y="0"/>
                    </a:moveTo>
                    <a:lnTo>
                      <a:pt x="11" y="4"/>
                    </a:lnTo>
                    <a:lnTo>
                      <a:pt x="14" y="15"/>
                    </a:lnTo>
                    <a:lnTo>
                      <a:pt x="19" y="33"/>
                    </a:lnTo>
                    <a:lnTo>
                      <a:pt x="23" y="55"/>
                    </a:lnTo>
                    <a:lnTo>
                      <a:pt x="26" y="83"/>
                    </a:lnTo>
                    <a:lnTo>
                      <a:pt x="29" y="113"/>
                    </a:lnTo>
                    <a:lnTo>
                      <a:pt x="31" y="148"/>
                    </a:lnTo>
                    <a:lnTo>
                      <a:pt x="33" y="182"/>
                    </a:lnTo>
                    <a:lnTo>
                      <a:pt x="34" y="212"/>
                    </a:lnTo>
                    <a:lnTo>
                      <a:pt x="34" y="264"/>
                    </a:lnTo>
                    <a:lnTo>
                      <a:pt x="33" y="282"/>
                    </a:lnTo>
                    <a:lnTo>
                      <a:pt x="30" y="293"/>
                    </a:lnTo>
                    <a:lnTo>
                      <a:pt x="26" y="297"/>
                    </a:lnTo>
                    <a:lnTo>
                      <a:pt x="23" y="293"/>
                    </a:lnTo>
                    <a:lnTo>
                      <a:pt x="19" y="282"/>
                    </a:lnTo>
                    <a:lnTo>
                      <a:pt x="15" y="265"/>
                    </a:lnTo>
                    <a:lnTo>
                      <a:pt x="12" y="24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2" y="150"/>
                    </a:lnTo>
                    <a:lnTo>
                      <a:pt x="1" y="116"/>
                    </a:lnTo>
                    <a:lnTo>
                      <a:pt x="0" y="84"/>
                    </a:lnTo>
                    <a:lnTo>
                      <a:pt x="0" y="57"/>
                    </a:lnTo>
                    <a:lnTo>
                      <a:pt x="1" y="34"/>
                    </a:lnTo>
                    <a:lnTo>
                      <a:pt x="2" y="16"/>
                    </a:lnTo>
                    <a:lnTo>
                      <a:pt x="4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2"/>
              <p:cNvSpPr/>
              <p:nvPr/>
            </p:nvSpPr>
            <p:spPr>
              <a:xfrm rot="21006000">
                <a:off x="4599000" y="5838120"/>
                <a:ext cx="20520" cy="168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5" h="297">
                    <a:moveTo>
                      <a:pt x="7" y="0"/>
                    </a:moveTo>
                    <a:lnTo>
                      <a:pt x="11" y="4"/>
                    </a:lnTo>
                    <a:lnTo>
                      <a:pt x="14" y="15"/>
                    </a:lnTo>
                    <a:lnTo>
                      <a:pt x="19" y="32"/>
                    </a:lnTo>
                    <a:lnTo>
                      <a:pt x="23" y="55"/>
                    </a:lnTo>
                    <a:lnTo>
                      <a:pt x="27" y="82"/>
                    </a:lnTo>
                    <a:lnTo>
                      <a:pt x="29" y="114"/>
                    </a:lnTo>
                    <a:lnTo>
                      <a:pt x="34" y="182"/>
                    </a:lnTo>
                    <a:lnTo>
                      <a:pt x="35" y="213"/>
                    </a:lnTo>
                    <a:lnTo>
                      <a:pt x="35" y="241"/>
                    </a:lnTo>
                    <a:lnTo>
                      <a:pt x="34" y="264"/>
                    </a:lnTo>
                    <a:lnTo>
                      <a:pt x="33" y="281"/>
                    </a:lnTo>
                    <a:lnTo>
                      <a:pt x="30" y="292"/>
                    </a:lnTo>
                    <a:lnTo>
                      <a:pt x="27" y="297"/>
                    </a:lnTo>
                    <a:lnTo>
                      <a:pt x="23" y="293"/>
                    </a:lnTo>
                    <a:lnTo>
                      <a:pt x="19" y="282"/>
                    </a:lnTo>
                    <a:lnTo>
                      <a:pt x="16" y="264"/>
                    </a:lnTo>
                    <a:lnTo>
                      <a:pt x="12" y="242"/>
                    </a:lnTo>
                    <a:lnTo>
                      <a:pt x="8" y="214"/>
                    </a:lnTo>
                    <a:lnTo>
                      <a:pt x="6" y="183"/>
                    </a:lnTo>
                    <a:lnTo>
                      <a:pt x="1" y="115"/>
                    </a:lnTo>
                    <a:lnTo>
                      <a:pt x="0" y="85"/>
                    </a:lnTo>
                    <a:lnTo>
                      <a:pt x="0" y="56"/>
                    </a:lnTo>
                    <a:lnTo>
                      <a:pt x="1" y="33"/>
                    </a:lnTo>
                    <a:lnTo>
                      <a:pt x="2" y="15"/>
                    </a:lnTo>
                    <a:lnTo>
                      <a:pt x="5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34"/>
              <p:cNvSpPr/>
              <p:nvPr/>
            </p:nvSpPr>
            <p:spPr>
              <a:xfrm rot="21006000">
                <a:off x="4459320" y="4915440"/>
                <a:ext cx="1037160" cy="1132560"/>
              </a:xfrm>
              <a:custGeom>
                <a:avLst/>
                <a:gdLst>
                  <a:gd name="textAreaLeft" fmla="*/ 0 w 1037160"/>
                  <a:gd name="textAreaRight" fmla="*/ 1037520 w 1037160"/>
                  <a:gd name="textAreaTop" fmla="*/ 0 h 1132560"/>
                  <a:gd name="textAreaBottom" fmla="*/ 1132920 h 1132560"/>
                </a:gdLst>
                <a:ahLst/>
                <a:rect l="textAreaLeft" t="textAreaTop" r="textAreaRight" b="textAreaBottom"/>
                <a:pathLst>
                  <a:path w="1818" h="1988">
                    <a:moveTo>
                      <a:pt x="196" y="923"/>
                    </a:moveTo>
                    <a:lnTo>
                      <a:pt x="195" y="926"/>
                    </a:lnTo>
                    <a:lnTo>
                      <a:pt x="195" y="933"/>
                    </a:lnTo>
                    <a:lnTo>
                      <a:pt x="197" y="944"/>
                    </a:lnTo>
                    <a:lnTo>
                      <a:pt x="201" y="958"/>
                    </a:lnTo>
                    <a:lnTo>
                      <a:pt x="206" y="971"/>
                    </a:lnTo>
                    <a:lnTo>
                      <a:pt x="209" y="985"/>
                    </a:lnTo>
                    <a:lnTo>
                      <a:pt x="215" y="1003"/>
                    </a:lnTo>
                    <a:lnTo>
                      <a:pt x="217" y="1005"/>
                    </a:lnTo>
                    <a:lnTo>
                      <a:pt x="228" y="1080"/>
                    </a:lnTo>
                    <a:lnTo>
                      <a:pt x="232" y="1101"/>
                    </a:lnTo>
                    <a:lnTo>
                      <a:pt x="239" y="1115"/>
                    </a:lnTo>
                    <a:lnTo>
                      <a:pt x="247" y="1125"/>
                    </a:lnTo>
                    <a:lnTo>
                      <a:pt x="254" y="1131"/>
                    </a:lnTo>
                    <a:lnTo>
                      <a:pt x="264" y="1132"/>
                    </a:lnTo>
                    <a:lnTo>
                      <a:pt x="276" y="1130"/>
                    </a:lnTo>
                    <a:lnTo>
                      <a:pt x="289" y="1124"/>
                    </a:lnTo>
                    <a:lnTo>
                      <a:pt x="311" y="1107"/>
                    </a:lnTo>
                    <a:lnTo>
                      <a:pt x="320" y="1097"/>
                    </a:lnTo>
                    <a:lnTo>
                      <a:pt x="328" y="1088"/>
                    </a:lnTo>
                    <a:lnTo>
                      <a:pt x="333" y="1082"/>
                    </a:lnTo>
                    <a:lnTo>
                      <a:pt x="334" y="1080"/>
                    </a:lnTo>
                    <a:lnTo>
                      <a:pt x="356" y="1071"/>
                    </a:lnTo>
                    <a:lnTo>
                      <a:pt x="372" y="1063"/>
                    </a:lnTo>
                    <a:lnTo>
                      <a:pt x="383" y="1054"/>
                    </a:lnTo>
                    <a:lnTo>
                      <a:pt x="388" y="1048"/>
                    </a:lnTo>
                    <a:lnTo>
                      <a:pt x="390" y="1042"/>
                    </a:lnTo>
                    <a:lnTo>
                      <a:pt x="390" y="1037"/>
                    </a:lnTo>
                    <a:lnTo>
                      <a:pt x="389" y="1033"/>
                    </a:lnTo>
                    <a:lnTo>
                      <a:pt x="384" y="1028"/>
                    </a:lnTo>
                    <a:lnTo>
                      <a:pt x="383" y="1028"/>
                    </a:lnTo>
                    <a:lnTo>
                      <a:pt x="373" y="1030"/>
                    </a:lnTo>
                    <a:lnTo>
                      <a:pt x="363" y="1030"/>
                    </a:lnTo>
                    <a:lnTo>
                      <a:pt x="336" y="1027"/>
                    </a:lnTo>
                    <a:lnTo>
                      <a:pt x="312" y="1021"/>
                    </a:lnTo>
                    <a:lnTo>
                      <a:pt x="290" y="1010"/>
                    </a:lnTo>
                    <a:lnTo>
                      <a:pt x="270" y="999"/>
                    </a:lnTo>
                    <a:lnTo>
                      <a:pt x="252" y="986"/>
                    </a:lnTo>
                    <a:lnTo>
                      <a:pt x="237" y="972"/>
                    </a:lnTo>
                    <a:lnTo>
                      <a:pt x="225" y="961"/>
                    </a:lnTo>
                    <a:lnTo>
                      <a:pt x="217" y="950"/>
                    </a:lnTo>
                    <a:lnTo>
                      <a:pt x="212" y="944"/>
                    </a:lnTo>
                    <a:lnTo>
                      <a:pt x="209" y="942"/>
                    </a:lnTo>
                    <a:lnTo>
                      <a:pt x="206" y="936"/>
                    </a:lnTo>
                    <a:lnTo>
                      <a:pt x="203" y="931"/>
                    </a:lnTo>
                    <a:lnTo>
                      <a:pt x="201" y="927"/>
                    </a:lnTo>
                    <a:lnTo>
                      <a:pt x="197" y="923"/>
                    </a:lnTo>
                    <a:lnTo>
                      <a:pt x="196" y="923"/>
                    </a:lnTo>
                    <a:close/>
                    <a:moveTo>
                      <a:pt x="1785" y="877"/>
                    </a:moveTo>
                    <a:lnTo>
                      <a:pt x="1646" y="920"/>
                    </a:lnTo>
                    <a:lnTo>
                      <a:pt x="1627" y="930"/>
                    </a:lnTo>
                    <a:lnTo>
                      <a:pt x="1613" y="938"/>
                    </a:lnTo>
                    <a:lnTo>
                      <a:pt x="1606" y="944"/>
                    </a:lnTo>
                    <a:lnTo>
                      <a:pt x="1603" y="950"/>
                    </a:lnTo>
                    <a:lnTo>
                      <a:pt x="1606" y="954"/>
                    </a:lnTo>
                    <a:lnTo>
                      <a:pt x="1611" y="958"/>
                    </a:lnTo>
                    <a:lnTo>
                      <a:pt x="1617" y="959"/>
                    </a:lnTo>
                    <a:lnTo>
                      <a:pt x="1625" y="961"/>
                    </a:lnTo>
                    <a:lnTo>
                      <a:pt x="1633" y="961"/>
                    </a:lnTo>
                    <a:lnTo>
                      <a:pt x="1640" y="963"/>
                    </a:lnTo>
                    <a:lnTo>
                      <a:pt x="1646" y="963"/>
                    </a:lnTo>
                    <a:lnTo>
                      <a:pt x="1678" y="961"/>
                    </a:lnTo>
                    <a:lnTo>
                      <a:pt x="1705" y="958"/>
                    </a:lnTo>
                    <a:lnTo>
                      <a:pt x="1727" y="952"/>
                    </a:lnTo>
                    <a:lnTo>
                      <a:pt x="1744" y="943"/>
                    </a:lnTo>
                    <a:lnTo>
                      <a:pt x="1757" y="934"/>
                    </a:lnTo>
                    <a:lnTo>
                      <a:pt x="1768" y="925"/>
                    </a:lnTo>
                    <a:lnTo>
                      <a:pt x="1776" y="915"/>
                    </a:lnTo>
                    <a:lnTo>
                      <a:pt x="1780" y="905"/>
                    </a:lnTo>
                    <a:lnTo>
                      <a:pt x="1785" y="888"/>
                    </a:lnTo>
                    <a:lnTo>
                      <a:pt x="1785" y="877"/>
                    </a:lnTo>
                    <a:close/>
                    <a:moveTo>
                      <a:pt x="37" y="298"/>
                    </a:moveTo>
                    <a:lnTo>
                      <a:pt x="34" y="303"/>
                    </a:lnTo>
                    <a:lnTo>
                      <a:pt x="32" y="314"/>
                    </a:lnTo>
                    <a:lnTo>
                      <a:pt x="31" y="332"/>
                    </a:lnTo>
                    <a:lnTo>
                      <a:pt x="30" y="355"/>
                    </a:lnTo>
                    <a:lnTo>
                      <a:pt x="30" y="382"/>
                    </a:lnTo>
                    <a:lnTo>
                      <a:pt x="31" y="414"/>
                    </a:lnTo>
                    <a:lnTo>
                      <a:pt x="32" y="448"/>
                    </a:lnTo>
                    <a:lnTo>
                      <a:pt x="34" y="481"/>
                    </a:lnTo>
                    <a:lnTo>
                      <a:pt x="38" y="513"/>
                    </a:lnTo>
                    <a:lnTo>
                      <a:pt x="42" y="540"/>
                    </a:lnTo>
                    <a:lnTo>
                      <a:pt x="45" y="563"/>
                    </a:lnTo>
                    <a:lnTo>
                      <a:pt x="49" y="580"/>
                    </a:lnTo>
                    <a:lnTo>
                      <a:pt x="53" y="591"/>
                    </a:lnTo>
                    <a:lnTo>
                      <a:pt x="56" y="595"/>
                    </a:lnTo>
                    <a:lnTo>
                      <a:pt x="60" y="591"/>
                    </a:lnTo>
                    <a:lnTo>
                      <a:pt x="63" y="580"/>
                    </a:lnTo>
                    <a:lnTo>
                      <a:pt x="64" y="562"/>
                    </a:lnTo>
                    <a:lnTo>
                      <a:pt x="64" y="510"/>
                    </a:lnTo>
                    <a:lnTo>
                      <a:pt x="63" y="480"/>
                    </a:lnTo>
                    <a:lnTo>
                      <a:pt x="61" y="446"/>
                    </a:lnTo>
                    <a:lnTo>
                      <a:pt x="59" y="411"/>
                    </a:lnTo>
                    <a:lnTo>
                      <a:pt x="56" y="381"/>
                    </a:lnTo>
                    <a:lnTo>
                      <a:pt x="53" y="353"/>
                    </a:lnTo>
                    <a:lnTo>
                      <a:pt x="49" y="331"/>
                    </a:lnTo>
                    <a:lnTo>
                      <a:pt x="44" y="313"/>
                    </a:lnTo>
                    <a:lnTo>
                      <a:pt x="41" y="302"/>
                    </a:lnTo>
                    <a:lnTo>
                      <a:pt x="37" y="298"/>
                    </a:lnTo>
                    <a:close/>
                    <a:moveTo>
                      <a:pt x="63" y="0"/>
                    </a:moveTo>
                    <a:lnTo>
                      <a:pt x="66" y="2"/>
                    </a:lnTo>
                    <a:lnTo>
                      <a:pt x="70" y="12"/>
                    </a:lnTo>
                    <a:lnTo>
                      <a:pt x="71" y="27"/>
                    </a:lnTo>
                    <a:lnTo>
                      <a:pt x="72" y="50"/>
                    </a:lnTo>
                    <a:lnTo>
                      <a:pt x="72" y="54"/>
                    </a:lnTo>
                    <a:lnTo>
                      <a:pt x="75" y="66"/>
                    </a:lnTo>
                    <a:lnTo>
                      <a:pt x="77" y="85"/>
                    </a:lnTo>
                    <a:lnTo>
                      <a:pt x="80" y="112"/>
                    </a:lnTo>
                    <a:lnTo>
                      <a:pt x="85" y="144"/>
                    </a:lnTo>
                    <a:lnTo>
                      <a:pt x="89" y="181"/>
                    </a:lnTo>
                    <a:lnTo>
                      <a:pt x="94" y="222"/>
                    </a:lnTo>
                    <a:lnTo>
                      <a:pt x="102" y="267"/>
                    </a:lnTo>
                    <a:lnTo>
                      <a:pt x="109" y="316"/>
                    </a:lnTo>
                    <a:lnTo>
                      <a:pt x="116" y="366"/>
                    </a:lnTo>
                    <a:lnTo>
                      <a:pt x="125" y="418"/>
                    </a:lnTo>
                    <a:lnTo>
                      <a:pt x="133" y="471"/>
                    </a:lnTo>
                    <a:lnTo>
                      <a:pt x="142" y="524"/>
                    </a:lnTo>
                    <a:lnTo>
                      <a:pt x="152" y="576"/>
                    </a:lnTo>
                    <a:lnTo>
                      <a:pt x="163" y="627"/>
                    </a:lnTo>
                    <a:lnTo>
                      <a:pt x="173" y="675"/>
                    </a:lnTo>
                    <a:lnTo>
                      <a:pt x="184" y="722"/>
                    </a:lnTo>
                    <a:lnTo>
                      <a:pt x="195" y="765"/>
                    </a:lnTo>
                    <a:lnTo>
                      <a:pt x="206" y="802"/>
                    </a:lnTo>
                    <a:lnTo>
                      <a:pt x="217" y="837"/>
                    </a:lnTo>
                    <a:lnTo>
                      <a:pt x="229" y="864"/>
                    </a:lnTo>
                    <a:lnTo>
                      <a:pt x="240" y="886"/>
                    </a:lnTo>
                    <a:lnTo>
                      <a:pt x="240" y="887"/>
                    </a:lnTo>
                    <a:lnTo>
                      <a:pt x="242" y="892"/>
                    </a:lnTo>
                    <a:lnTo>
                      <a:pt x="245" y="899"/>
                    </a:lnTo>
                    <a:lnTo>
                      <a:pt x="250" y="908"/>
                    </a:lnTo>
                    <a:lnTo>
                      <a:pt x="257" y="919"/>
                    </a:lnTo>
                    <a:lnTo>
                      <a:pt x="267" y="930"/>
                    </a:lnTo>
                    <a:lnTo>
                      <a:pt x="279" y="941"/>
                    </a:lnTo>
                    <a:lnTo>
                      <a:pt x="295" y="952"/>
                    </a:lnTo>
                    <a:lnTo>
                      <a:pt x="316" y="963"/>
                    </a:lnTo>
                    <a:lnTo>
                      <a:pt x="340" y="971"/>
                    </a:lnTo>
                    <a:lnTo>
                      <a:pt x="368" y="978"/>
                    </a:lnTo>
                    <a:lnTo>
                      <a:pt x="402" y="983"/>
                    </a:lnTo>
                    <a:lnTo>
                      <a:pt x="441" y="985"/>
                    </a:lnTo>
                    <a:lnTo>
                      <a:pt x="471" y="983"/>
                    </a:lnTo>
                    <a:lnTo>
                      <a:pt x="502" y="981"/>
                    </a:lnTo>
                    <a:lnTo>
                      <a:pt x="1587" y="898"/>
                    </a:lnTo>
                    <a:lnTo>
                      <a:pt x="1591" y="898"/>
                    </a:lnTo>
                    <a:lnTo>
                      <a:pt x="1602" y="895"/>
                    </a:lnTo>
                    <a:lnTo>
                      <a:pt x="1618" y="893"/>
                    </a:lnTo>
                    <a:lnTo>
                      <a:pt x="1640" y="889"/>
                    </a:lnTo>
                    <a:lnTo>
                      <a:pt x="1664" y="883"/>
                    </a:lnTo>
                    <a:lnTo>
                      <a:pt x="1692" y="875"/>
                    </a:lnTo>
                    <a:lnTo>
                      <a:pt x="1723" y="864"/>
                    </a:lnTo>
                    <a:lnTo>
                      <a:pt x="1754" y="850"/>
                    </a:lnTo>
                    <a:lnTo>
                      <a:pt x="1784" y="833"/>
                    </a:lnTo>
                    <a:lnTo>
                      <a:pt x="1813" y="813"/>
                    </a:lnTo>
                    <a:lnTo>
                      <a:pt x="1813" y="815"/>
                    </a:lnTo>
                    <a:lnTo>
                      <a:pt x="1815" y="821"/>
                    </a:lnTo>
                    <a:lnTo>
                      <a:pt x="1816" y="828"/>
                    </a:lnTo>
                    <a:lnTo>
                      <a:pt x="1817" y="839"/>
                    </a:lnTo>
                    <a:lnTo>
                      <a:pt x="1818" y="851"/>
                    </a:lnTo>
                    <a:lnTo>
                      <a:pt x="1818" y="865"/>
                    </a:lnTo>
                    <a:lnTo>
                      <a:pt x="1817" y="879"/>
                    </a:lnTo>
                    <a:lnTo>
                      <a:pt x="1815" y="895"/>
                    </a:lnTo>
                    <a:lnTo>
                      <a:pt x="1810" y="911"/>
                    </a:lnTo>
                    <a:lnTo>
                      <a:pt x="1802" y="927"/>
                    </a:lnTo>
                    <a:lnTo>
                      <a:pt x="1794" y="942"/>
                    </a:lnTo>
                    <a:lnTo>
                      <a:pt x="1780" y="955"/>
                    </a:lnTo>
                    <a:lnTo>
                      <a:pt x="1765" y="967"/>
                    </a:lnTo>
                    <a:lnTo>
                      <a:pt x="1745" y="978"/>
                    </a:lnTo>
                    <a:lnTo>
                      <a:pt x="1721" y="986"/>
                    </a:lnTo>
                    <a:lnTo>
                      <a:pt x="1692" y="992"/>
                    </a:lnTo>
                    <a:lnTo>
                      <a:pt x="1660" y="993"/>
                    </a:lnTo>
                    <a:lnTo>
                      <a:pt x="490" y="1088"/>
                    </a:lnTo>
                    <a:lnTo>
                      <a:pt x="487" y="1088"/>
                    </a:lnTo>
                    <a:lnTo>
                      <a:pt x="478" y="1087"/>
                    </a:lnTo>
                    <a:lnTo>
                      <a:pt x="450" y="1087"/>
                    </a:lnTo>
                    <a:lnTo>
                      <a:pt x="433" y="1090"/>
                    </a:lnTo>
                    <a:lnTo>
                      <a:pt x="413" y="1092"/>
                    </a:lnTo>
                    <a:lnTo>
                      <a:pt x="394" y="1097"/>
                    </a:lnTo>
                    <a:lnTo>
                      <a:pt x="374" y="1104"/>
                    </a:lnTo>
                    <a:lnTo>
                      <a:pt x="355" y="1114"/>
                    </a:lnTo>
                    <a:lnTo>
                      <a:pt x="336" y="1127"/>
                    </a:lnTo>
                    <a:lnTo>
                      <a:pt x="319" y="1143"/>
                    </a:lnTo>
                    <a:lnTo>
                      <a:pt x="306" y="1164"/>
                    </a:lnTo>
                    <a:lnTo>
                      <a:pt x="295" y="1190"/>
                    </a:lnTo>
                    <a:lnTo>
                      <a:pt x="287" y="1219"/>
                    </a:lnTo>
                    <a:lnTo>
                      <a:pt x="240" y="1959"/>
                    </a:lnTo>
                    <a:lnTo>
                      <a:pt x="239" y="1962"/>
                    </a:lnTo>
                    <a:lnTo>
                      <a:pt x="236" y="1969"/>
                    </a:lnTo>
                    <a:lnTo>
                      <a:pt x="234" y="1978"/>
                    </a:lnTo>
                    <a:lnTo>
                      <a:pt x="229" y="1985"/>
                    </a:lnTo>
                    <a:lnTo>
                      <a:pt x="224" y="1988"/>
                    </a:lnTo>
                    <a:lnTo>
                      <a:pt x="220" y="1986"/>
                    </a:lnTo>
                    <a:lnTo>
                      <a:pt x="217" y="1980"/>
                    </a:lnTo>
                    <a:lnTo>
                      <a:pt x="213" y="1969"/>
                    </a:lnTo>
                    <a:lnTo>
                      <a:pt x="209" y="1953"/>
                    </a:lnTo>
                    <a:lnTo>
                      <a:pt x="207" y="1930"/>
                    </a:lnTo>
                    <a:lnTo>
                      <a:pt x="203" y="1900"/>
                    </a:lnTo>
                    <a:lnTo>
                      <a:pt x="203" y="1168"/>
                    </a:lnTo>
                    <a:lnTo>
                      <a:pt x="201" y="1158"/>
                    </a:lnTo>
                    <a:lnTo>
                      <a:pt x="198" y="1142"/>
                    </a:lnTo>
                    <a:lnTo>
                      <a:pt x="192" y="1124"/>
                    </a:lnTo>
                    <a:lnTo>
                      <a:pt x="186" y="1102"/>
                    </a:lnTo>
                    <a:lnTo>
                      <a:pt x="176" y="1077"/>
                    </a:lnTo>
                    <a:lnTo>
                      <a:pt x="163" y="1054"/>
                    </a:lnTo>
                    <a:lnTo>
                      <a:pt x="147" y="1031"/>
                    </a:lnTo>
                    <a:lnTo>
                      <a:pt x="129" y="1010"/>
                    </a:lnTo>
                    <a:lnTo>
                      <a:pt x="105" y="992"/>
                    </a:lnTo>
                    <a:lnTo>
                      <a:pt x="102" y="960"/>
                    </a:lnTo>
                    <a:lnTo>
                      <a:pt x="98" y="932"/>
                    </a:lnTo>
                    <a:lnTo>
                      <a:pt x="94" y="908"/>
                    </a:lnTo>
                    <a:lnTo>
                      <a:pt x="91" y="890"/>
                    </a:lnTo>
                    <a:lnTo>
                      <a:pt x="87" y="878"/>
                    </a:lnTo>
                    <a:lnTo>
                      <a:pt x="83" y="875"/>
                    </a:lnTo>
                    <a:lnTo>
                      <a:pt x="81" y="878"/>
                    </a:lnTo>
                    <a:lnTo>
                      <a:pt x="78" y="889"/>
                    </a:lnTo>
                    <a:lnTo>
                      <a:pt x="77" y="904"/>
                    </a:lnTo>
                    <a:lnTo>
                      <a:pt x="76" y="925"/>
                    </a:lnTo>
                    <a:lnTo>
                      <a:pt x="76" y="977"/>
                    </a:lnTo>
                    <a:lnTo>
                      <a:pt x="53" y="971"/>
                    </a:lnTo>
                    <a:lnTo>
                      <a:pt x="25" y="969"/>
                    </a:lnTo>
                    <a:lnTo>
                      <a:pt x="23" y="969"/>
                    </a:lnTo>
                    <a:lnTo>
                      <a:pt x="20" y="965"/>
                    </a:lnTo>
                    <a:lnTo>
                      <a:pt x="16" y="960"/>
                    </a:lnTo>
                    <a:lnTo>
                      <a:pt x="12" y="953"/>
                    </a:lnTo>
                    <a:lnTo>
                      <a:pt x="9" y="941"/>
                    </a:lnTo>
                    <a:lnTo>
                      <a:pt x="5" y="923"/>
                    </a:lnTo>
                    <a:lnTo>
                      <a:pt x="3" y="901"/>
                    </a:lnTo>
                    <a:lnTo>
                      <a:pt x="2" y="873"/>
                    </a:lnTo>
                    <a:lnTo>
                      <a:pt x="0" y="838"/>
                    </a:lnTo>
                    <a:lnTo>
                      <a:pt x="0" y="150"/>
                    </a:lnTo>
                    <a:lnTo>
                      <a:pt x="2" y="146"/>
                    </a:lnTo>
                    <a:lnTo>
                      <a:pt x="4" y="137"/>
                    </a:lnTo>
                    <a:lnTo>
                      <a:pt x="9" y="123"/>
                    </a:lnTo>
                    <a:lnTo>
                      <a:pt x="14" y="105"/>
                    </a:lnTo>
                    <a:lnTo>
                      <a:pt x="21" y="85"/>
                    </a:lnTo>
                    <a:lnTo>
                      <a:pt x="27" y="65"/>
                    </a:lnTo>
                    <a:lnTo>
                      <a:pt x="36" y="45"/>
                    </a:lnTo>
                    <a:lnTo>
                      <a:pt x="43" y="27"/>
                    </a:lnTo>
                    <a:lnTo>
                      <a:pt x="50" y="13"/>
                    </a:lnTo>
                    <a:lnTo>
                      <a:pt x="5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71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35"/>
              <p:cNvSpPr/>
              <p:nvPr/>
            </p:nvSpPr>
            <p:spPr>
              <a:xfrm rot="21006000">
                <a:off x="4503600" y="5494320"/>
                <a:ext cx="15840" cy="66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9" h="117">
                    <a:moveTo>
                      <a:pt x="7" y="0"/>
                    </a:moveTo>
                    <a:lnTo>
                      <a:pt x="11" y="3"/>
                    </a:lnTo>
                    <a:lnTo>
                      <a:pt x="15" y="15"/>
                    </a:lnTo>
                    <a:lnTo>
                      <a:pt x="18" y="33"/>
                    </a:lnTo>
                    <a:lnTo>
                      <a:pt x="22" y="57"/>
                    </a:lnTo>
                    <a:lnTo>
                      <a:pt x="26" y="85"/>
                    </a:lnTo>
                    <a:lnTo>
                      <a:pt x="29" y="117"/>
                    </a:lnTo>
                    <a:lnTo>
                      <a:pt x="16" y="108"/>
                    </a:lnTo>
                    <a:lnTo>
                      <a:pt x="0" y="102"/>
                    </a:lnTo>
                    <a:lnTo>
                      <a:pt x="0" y="50"/>
                    </a:lnTo>
                    <a:lnTo>
                      <a:pt x="1" y="29"/>
                    </a:lnTo>
                    <a:lnTo>
                      <a:pt x="2" y="14"/>
                    </a:lnTo>
                    <a:lnTo>
                      <a:pt x="5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6"/>
              <p:cNvSpPr/>
              <p:nvPr/>
            </p:nvSpPr>
            <p:spPr>
              <a:xfrm rot="21006000">
                <a:off x="4428720" y="5174640"/>
                <a:ext cx="19080" cy="168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4" h="297">
                    <a:moveTo>
                      <a:pt x="7" y="0"/>
                    </a:moveTo>
                    <a:lnTo>
                      <a:pt x="11" y="4"/>
                    </a:lnTo>
                    <a:lnTo>
                      <a:pt x="14" y="15"/>
                    </a:lnTo>
                    <a:lnTo>
                      <a:pt x="19" y="33"/>
                    </a:lnTo>
                    <a:lnTo>
                      <a:pt x="23" y="55"/>
                    </a:lnTo>
                    <a:lnTo>
                      <a:pt x="26" y="83"/>
                    </a:lnTo>
                    <a:lnTo>
                      <a:pt x="29" y="113"/>
                    </a:lnTo>
                    <a:lnTo>
                      <a:pt x="31" y="148"/>
                    </a:lnTo>
                    <a:lnTo>
                      <a:pt x="33" y="182"/>
                    </a:lnTo>
                    <a:lnTo>
                      <a:pt x="34" y="212"/>
                    </a:lnTo>
                    <a:lnTo>
                      <a:pt x="34" y="264"/>
                    </a:lnTo>
                    <a:lnTo>
                      <a:pt x="33" y="282"/>
                    </a:lnTo>
                    <a:lnTo>
                      <a:pt x="30" y="293"/>
                    </a:lnTo>
                    <a:lnTo>
                      <a:pt x="26" y="297"/>
                    </a:lnTo>
                    <a:lnTo>
                      <a:pt x="23" y="293"/>
                    </a:lnTo>
                    <a:lnTo>
                      <a:pt x="19" y="282"/>
                    </a:lnTo>
                    <a:lnTo>
                      <a:pt x="15" y="265"/>
                    </a:lnTo>
                    <a:lnTo>
                      <a:pt x="12" y="242"/>
                    </a:lnTo>
                    <a:lnTo>
                      <a:pt x="8" y="215"/>
                    </a:lnTo>
                    <a:lnTo>
                      <a:pt x="4" y="183"/>
                    </a:lnTo>
                    <a:lnTo>
                      <a:pt x="2" y="150"/>
                    </a:lnTo>
                    <a:lnTo>
                      <a:pt x="1" y="116"/>
                    </a:lnTo>
                    <a:lnTo>
                      <a:pt x="0" y="84"/>
                    </a:lnTo>
                    <a:lnTo>
                      <a:pt x="0" y="57"/>
                    </a:lnTo>
                    <a:lnTo>
                      <a:pt x="1" y="34"/>
                    </a:lnTo>
                    <a:lnTo>
                      <a:pt x="2" y="16"/>
                    </a:lnTo>
                    <a:lnTo>
                      <a:pt x="4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7"/>
              <p:cNvSpPr/>
              <p:nvPr/>
            </p:nvSpPr>
            <p:spPr>
              <a:xfrm rot="21006000">
                <a:off x="4578480" y="5501880"/>
                <a:ext cx="111600" cy="1184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195" h="209">
                    <a:moveTo>
                      <a:pt x="1" y="0"/>
                    </a:moveTo>
                    <a:lnTo>
                      <a:pt x="2" y="0"/>
                    </a:lnTo>
                    <a:lnTo>
                      <a:pt x="6" y="4"/>
                    </a:lnTo>
                    <a:lnTo>
                      <a:pt x="8" y="8"/>
                    </a:lnTo>
                    <a:lnTo>
                      <a:pt x="11" y="13"/>
                    </a:lnTo>
                    <a:lnTo>
                      <a:pt x="14" y="19"/>
                    </a:lnTo>
                    <a:lnTo>
                      <a:pt x="17" y="21"/>
                    </a:lnTo>
                    <a:lnTo>
                      <a:pt x="22" y="27"/>
                    </a:lnTo>
                    <a:lnTo>
                      <a:pt x="30" y="38"/>
                    </a:lnTo>
                    <a:lnTo>
                      <a:pt x="42" y="49"/>
                    </a:lnTo>
                    <a:lnTo>
                      <a:pt x="57" y="63"/>
                    </a:lnTo>
                    <a:lnTo>
                      <a:pt x="75" y="76"/>
                    </a:lnTo>
                    <a:lnTo>
                      <a:pt x="95" y="87"/>
                    </a:lnTo>
                    <a:lnTo>
                      <a:pt x="117" y="98"/>
                    </a:lnTo>
                    <a:lnTo>
                      <a:pt x="141" y="104"/>
                    </a:lnTo>
                    <a:lnTo>
                      <a:pt x="168" y="107"/>
                    </a:lnTo>
                    <a:lnTo>
                      <a:pt x="178" y="107"/>
                    </a:lnTo>
                    <a:lnTo>
                      <a:pt x="188" y="105"/>
                    </a:lnTo>
                    <a:lnTo>
                      <a:pt x="189" y="105"/>
                    </a:lnTo>
                    <a:lnTo>
                      <a:pt x="194" y="110"/>
                    </a:lnTo>
                    <a:lnTo>
                      <a:pt x="195" y="114"/>
                    </a:lnTo>
                    <a:lnTo>
                      <a:pt x="195" y="119"/>
                    </a:lnTo>
                    <a:lnTo>
                      <a:pt x="193" y="125"/>
                    </a:lnTo>
                    <a:lnTo>
                      <a:pt x="188" y="131"/>
                    </a:lnTo>
                    <a:lnTo>
                      <a:pt x="177" y="140"/>
                    </a:lnTo>
                    <a:lnTo>
                      <a:pt x="161" y="148"/>
                    </a:lnTo>
                    <a:lnTo>
                      <a:pt x="139" y="157"/>
                    </a:lnTo>
                    <a:lnTo>
                      <a:pt x="138" y="159"/>
                    </a:lnTo>
                    <a:lnTo>
                      <a:pt x="133" y="165"/>
                    </a:lnTo>
                    <a:lnTo>
                      <a:pt x="125" y="174"/>
                    </a:lnTo>
                    <a:lnTo>
                      <a:pt x="116" y="184"/>
                    </a:lnTo>
                    <a:lnTo>
                      <a:pt x="94" y="201"/>
                    </a:lnTo>
                    <a:lnTo>
                      <a:pt x="81" y="207"/>
                    </a:lnTo>
                    <a:lnTo>
                      <a:pt x="69" y="209"/>
                    </a:lnTo>
                    <a:lnTo>
                      <a:pt x="59" y="208"/>
                    </a:lnTo>
                    <a:lnTo>
                      <a:pt x="52" y="202"/>
                    </a:lnTo>
                    <a:lnTo>
                      <a:pt x="44" y="192"/>
                    </a:lnTo>
                    <a:lnTo>
                      <a:pt x="37" y="178"/>
                    </a:lnTo>
                    <a:lnTo>
                      <a:pt x="33" y="157"/>
                    </a:lnTo>
                    <a:lnTo>
                      <a:pt x="22" y="82"/>
                    </a:lnTo>
                    <a:lnTo>
                      <a:pt x="20" y="80"/>
                    </a:lnTo>
                    <a:lnTo>
                      <a:pt x="14" y="62"/>
                    </a:lnTo>
                    <a:lnTo>
                      <a:pt x="11" y="48"/>
                    </a:lnTo>
                    <a:lnTo>
                      <a:pt x="6" y="35"/>
                    </a:lnTo>
                    <a:lnTo>
                      <a:pt x="2" y="21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3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38"/>
              <p:cNvSpPr/>
              <p:nvPr/>
            </p:nvSpPr>
            <p:spPr>
              <a:xfrm rot="21006000">
                <a:off x="5359320" y="5338440"/>
                <a:ext cx="103680" cy="489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86">
                    <a:moveTo>
                      <a:pt x="182" y="0"/>
                    </a:moveTo>
                    <a:lnTo>
                      <a:pt x="182" y="11"/>
                    </a:lnTo>
                    <a:lnTo>
                      <a:pt x="177" y="28"/>
                    </a:lnTo>
                    <a:lnTo>
                      <a:pt x="173" y="38"/>
                    </a:lnTo>
                    <a:lnTo>
                      <a:pt x="165" y="48"/>
                    </a:lnTo>
                    <a:lnTo>
                      <a:pt x="154" y="57"/>
                    </a:lnTo>
                    <a:lnTo>
                      <a:pt x="141" y="66"/>
                    </a:lnTo>
                    <a:lnTo>
                      <a:pt x="124" y="75"/>
                    </a:lnTo>
                    <a:lnTo>
                      <a:pt x="102" y="81"/>
                    </a:lnTo>
                    <a:lnTo>
                      <a:pt x="75" y="84"/>
                    </a:lnTo>
                    <a:lnTo>
                      <a:pt x="43" y="86"/>
                    </a:lnTo>
                    <a:lnTo>
                      <a:pt x="37" y="86"/>
                    </a:lnTo>
                    <a:lnTo>
                      <a:pt x="30" y="84"/>
                    </a:lnTo>
                    <a:lnTo>
                      <a:pt x="22" y="84"/>
                    </a:lnTo>
                    <a:lnTo>
                      <a:pt x="14" y="82"/>
                    </a:lnTo>
                    <a:lnTo>
                      <a:pt x="8" y="81"/>
                    </a:lnTo>
                    <a:lnTo>
                      <a:pt x="3" y="77"/>
                    </a:lnTo>
                    <a:lnTo>
                      <a:pt x="0" y="73"/>
                    </a:lnTo>
                    <a:lnTo>
                      <a:pt x="3" y="67"/>
                    </a:lnTo>
                    <a:lnTo>
                      <a:pt x="10" y="61"/>
                    </a:lnTo>
                    <a:lnTo>
                      <a:pt x="24" y="53"/>
                    </a:lnTo>
                    <a:lnTo>
                      <a:pt x="43" y="43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3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168"/>
            <p:cNvGrpSpPr/>
            <p:nvPr/>
          </p:nvGrpSpPr>
          <p:grpSpPr>
            <a:xfrm>
              <a:off x="3427920" y="4350240"/>
              <a:ext cx="1499040" cy="1652040"/>
              <a:chOff x="3427920" y="4350240"/>
              <a:chExt cx="1499040" cy="1652040"/>
            </a:xfrm>
          </p:grpSpPr>
          <p:sp>
            <p:nvSpPr>
              <p:cNvPr id="781" name="Freeform 7"/>
              <p:cNvSpPr/>
              <p:nvPr/>
            </p:nvSpPr>
            <p:spPr>
              <a:xfrm rot="21006000">
                <a:off x="3543480" y="4448160"/>
                <a:ext cx="1267560" cy="1455840"/>
              </a:xfrm>
              <a:custGeom>
                <a:avLst/>
                <a:gdLst/>
                <a:ahLst/>
                <a:rect l="l" t="t" r="r" b="b"/>
                <a:pathLst>
                  <a:path w="2169" h="2489">
                    <a:moveTo>
                      <a:pt x="1206" y="0"/>
                    </a:moveTo>
                    <a:lnTo>
                      <a:pt x="1239" y="3"/>
                    </a:lnTo>
                    <a:lnTo>
                      <a:pt x="1274" y="11"/>
                    </a:lnTo>
                    <a:lnTo>
                      <a:pt x="1309" y="23"/>
                    </a:lnTo>
                    <a:lnTo>
                      <a:pt x="1345" y="41"/>
                    </a:lnTo>
                    <a:lnTo>
                      <a:pt x="1381" y="67"/>
                    </a:lnTo>
                    <a:lnTo>
                      <a:pt x="2047" y="685"/>
                    </a:lnTo>
                    <a:lnTo>
                      <a:pt x="2055" y="694"/>
                    </a:lnTo>
                    <a:lnTo>
                      <a:pt x="2064" y="705"/>
                    </a:lnTo>
                    <a:lnTo>
                      <a:pt x="2075" y="719"/>
                    </a:lnTo>
                    <a:lnTo>
                      <a:pt x="2088" y="739"/>
                    </a:lnTo>
                    <a:lnTo>
                      <a:pt x="2102" y="761"/>
                    </a:lnTo>
                    <a:lnTo>
                      <a:pt x="2116" y="788"/>
                    </a:lnTo>
                    <a:lnTo>
                      <a:pt x="2130" y="817"/>
                    </a:lnTo>
                    <a:lnTo>
                      <a:pt x="2142" y="850"/>
                    </a:lnTo>
                    <a:lnTo>
                      <a:pt x="2153" y="887"/>
                    </a:lnTo>
                    <a:lnTo>
                      <a:pt x="2161" y="927"/>
                    </a:lnTo>
                    <a:lnTo>
                      <a:pt x="2166" y="970"/>
                    </a:lnTo>
                    <a:lnTo>
                      <a:pt x="2166" y="987"/>
                    </a:lnTo>
                    <a:lnTo>
                      <a:pt x="2168" y="1008"/>
                    </a:lnTo>
                    <a:lnTo>
                      <a:pt x="2168" y="1068"/>
                    </a:lnTo>
                    <a:lnTo>
                      <a:pt x="2169" y="1105"/>
                    </a:lnTo>
                    <a:lnTo>
                      <a:pt x="2169" y="1334"/>
                    </a:lnTo>
                    <a:lnTo>
                      <a:pt x="2168" y="1382"/>
                    </a:lnTo>
                    <a:lnTo>
                      <a:pt x="2168" y="1428"/>
                    </a:lnTo>
                    <a:lnTo>
                      <a:pt x="2166" y="1472"/>
                    </a:lnTo>
                    <a:lnTo>
                      <a:pt x="2165" y="1512"/>
                    </a:lnTo>
                    <a:lnTo>
                      <a:pt x="2163" y="1549"/>
                    </a:lnTo>
                    <a:lnTo>
                      <a:pt x="2160" y="1581"/>
                    </a:lnTo>
                    <a:lnTo>
                      <a:pt x="2158" y="1606"/>
                    </a:lnTo>
                    <a:lnTo>
                      <a:pt x="2154" y="1625"/>
                    </a:lnTo>
                    <a:lnTo>
                      <a:pt x="2154" y="1638"/>
                    </a:lnTo>
                    <a:lnTo>
                      <a:pt x="2153" y="1654"/>
                    </a:lnTo>
                    <a:lnTo>
                      <a:pt x="2150" y="1674"/>
                    </a:lnTo>
                    <a:lnTo>
                      <a:pt x="2147" y="1698"/>
                    </a:lnTo>
                    <a:lnTo>
                      <a:pt x="2141" y="1725"/>
                    </a:lnTo>
                    <a:lnTo>
                      <a:pt x="2133" y="1755"/>
                    </a:lnTo>
                    <a:lnTo>
                      <a:pt x="2124" y="1786"/>
                    </a:lnTo>
                    <a:lnTo>
                      <a:pt x="2110" y="1818"/>
                    </a:lnTo>
                    <a:lnTo>
                      <a:pt x="2093" y="1850"/>
                    </a:lnTo>
                    <a:lnTo>
                      <a:pt x="2073" y="1880"/>
                    </a:lnTo>
                    <a:lnTo>
                      <a:pt x="2049" y="1908"/>
                    </a:lnTo>
                    <a:lnTo>
                      <a:pt x="2021" y="1935"/>
                    </a:lnTo>
                    <a:lnTo>
                      <a:pt x="1988" y="1957"/>
                    </a:lnTo>
                    <a:lnTo>
                      <a:pt x="1202" y="2421"/>
                    </a:lnTo>
                    <a:lnTo>
                      <a:pt x="1200" y="2423"/>
                    </a:lnTo>
                    <a:lnTo>
                      <a:pt x="1191" y="2427"/>
                    </a:lnTo>
                    <a:lnTo>
                      <a:pt x="1162" y="2442"/>
                    </a:lnTo>
                    <a:lnTo>
                      <a:pt x="1141" y="2451"/>
                    </a:lnTo>
                    <a:lnTo>
                      <a:pt x="1117" y="2460"/>
                    </a:lnTo>
                    <a:lnTo>
                      <a:pt x="1089" y="2469"/>
                    </a:lnTo>
                    <a:lnTo>
                      <a:pt x="1059" y="2478"/>
                    </a:lnTo>
                    <a:lnTo>
                      <a:pt x="1026" y="2484"/>
                    </a:lnTo>
                    <a:lnTo>
                      <a:pt x="993" y="2487"/>
                    </a:lnTo>
                    <a:lnTo>
                      <a:pt x="958" y="2489"/>
                    </a:lnTo>
                    <a:lnTo>
                      <a:pt x="922" y="2486"/>
                    </a:lnTo>
                    <a:lnTo>
                      <a:pt x="887" y="2480"/>
                    </a:lnTo>
                    <a:lnTo>
                      <a:pt x="852" y="2468"/>
                    </a:lnTo>
                    <a:lnTo>
                      <a:pt x="816" y="2451"/>
                    </a:lnTo>
                    <a:lnTo>
                      <a:pt x="783" y="2427"/>
                    </a:lnTo>
                    <a:lnTo>
                      <a:pt x="750" y="2398"/>
                    </a:lnTo>
                    <a:lnTo>
                      <a:pt x="132" y="1755"/>
                    </a:lnTo>
                    <a:lnTo>
                      <a:pt x="131" y="1753"/>
                    </a:lnTo>
                    <a:lnTo>
                      <a:pt x="126" y="1746"/>
                    </a:lnTo>
                    <a:lnTo>
                      <a:pt x="119" y="1733"/>
                    </a:lnTo>
                    <a:lnTo>
                      <a:pt x="109" y="1719"/>
                    </a:lnTo>
                    <a:lnTo>
                      <a:pt x="98" y="1698"/>
                    </a:lnTo>
                    <a:lnTo>
                      <a:pt x="86" y="1676"/>
                    </a:lnTo>
                    <a:lnTo>
                      <a:pt x="73" y="1649"/>
                    </a:lnTo>
                    <a:lnTo>
                      <a:pt x="60" y="1620"/>
                    </a:lnTo>
                    <a:lnTo>
                      <a:pt x="48" y="1588"/>
                    </a:lnTo>
                    <a:lnTo>
                      <a:pt x="35" y="1555"/>
                    </a:lnTo>
                    <a:lnTo>
                      <a:pt x="24" y="1518"/>
                    </a:lnTo>
                    <a:lnTo>
                      <a:pt x="15" y="1482"/>
                    </a:lnTo>
                    <a:lnTo>
                      <a:pt x="7" y="1443"/>
                    </a:lnTo>
                    <a:lnTo>
                      <a:pt x="2" y="1404"/>
                    </a:lnTo>
                    <a:lnTo>
                      <a:pt x="1" y="1363"/>
                    </a:lnTo>
                    <a:lnTo>
                      <a:pt x="1" y="826"/>
                    </a:lnTo>
                    <a:lnTo>
                      <a:pt x="0" y="817"/>
                    </a:lnTo>
                    <a:lnTo>
                      <a:pt x="0" y="785"/>
                    </a:lnTo>
                    <a:lnTo>
                      <a:pt x="1" y="765"/>
                    </a:lnTo>
                    <a:lnTo>
                      <a:pt x="4" y="741"/>
                    </a:lnTo>
                    <a:lnTo>
                      <a:pt x="9" y="715"/>
                    </a:lnTo>
                    <a:lnTo>
                      <a:pt x="16" y="688"/>
                    </a:lnTo>
                    <a:lnTo>
                      <a:pt x="26" y="660"/>
                    </a:lnTo>
                    <a:lnTo>
                      <a:pt x="39" y="630"/>
                    </a:lnTo>
                    <a:lnTo>
                      <a:pt x="55" y="603"/>
                    </a:lnTo>
                    <a:lnTo>
                      <a:pt x="76" y="576"/>
                    </a:lnTo>
                    <a:lnTo>
                      <a:pt x="101" y="552"/>
                    </a:lnTo>
                    <a:lnTo>
                      <a:pt x="132" y="530"/>
                    </a:lnTo>
                    <a:lnTo>
                      <a:pt x="1012" y="55"/>
                    </a:lnTo>
                    <a:lnTo>
                      <a:pt x="1014" y="54"/>
                    </a:lnTo>
                    <a:lnTo>
                      <a:pt x="1021" y="49"/>
                    </a:lnTo>
                    <a:lnTo>
                      <a:pt x="1032" y="43"/>
                    </a:lnTo>
                    <a:lnTo>
                      <a:pt x="1048" y="34"/>
                    </a:lnTo>
                    <a:lnTo>
                      <a:pt x="1068" y="27"/>
                    </a:lnTo>
                    <a:lnTo>
                      <a:pt x="1090" y="18"/>
                    </a:lnTo>
                    <a:lnTo>
                      <a:pt x="1116" y="11"/>
                    </a:lnTo>
                    <a:lnTo>
                      <a:pt x="1144" y="5"/>
                    </a:lnTo>
                    <a:lnTo>
                      <a:pt x="1174" y="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4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2"/>
              <p:cNvSpPr/>
              <p:nvPr/>
            </p:nvSpPr>
            <p:spPr>
              <a:xfrm rot="21006000">
                <a:off x="3663360" y="4820760"/>
                <a:ext cx="187920" cy="1249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321" h="214">
                    <a:moveTo>
                      <a:pt x="160" y="0"/>
                    </a:moveTo>
                    <a:lnTo>
                      <a:pt x="193" y="3"/>
                    </a:lnTo>
                    <a:lnTo>
                      <a:pt x="222" y="9"/>
                    </a:lnTo>
                    <a:lnTo>
                      <a:pt x="250" y="19"/>
                    </a:lnTo>
                    <a:lnTo>
                      <a:pt x="274" y="32"/>
                    </a:lnTo>
                    <a:lnTo>
                      <a:pt x="293" y="48"/>
                    </a:lnTo>
                    <a:lnTo>
                      <a:pt x="309" y="66"/>
                    </a:lnTo>
                    <a:lnTo>
                      <a:pt x="318" y="86"/>
                    </a:lnTo>
                    <a:lnTo>
                      <a:pt x="321" y="108"/>
                    </a:lnTo>
                    <a:lnTo>
                      <a:pt x="318" y="130"/>
                    </a:lnTo>
                    <a:lnTo>
                      <a:pt x="309" y="149"/>
                    </a:lnTo>
                    <a:lnTo>
                      <a:pt x="293" y="168"/>
                    </a:lnTo>
                    <a:lnTo>
                      <a:pt x="274" y="182"/>
                    </a:lnTo>
                    <a:lnTo>
                      <a:pt x="250" y="196"/>
                    </a:lnTo>
                    <a:lnTo>
                      <a:pt x="222" y="206"/>
                    </a:lnTo>
                    <a:lnTo>
                      <a:pt x="193" y="212"/>
                    </a:lnTo>
                    <a:lnTo>
                      <a:pt x="160" y="214"/>
                    </a:lnTo>
                    <a:lnTo>
                      <a:pt x="127" y="212"/>
                    </a:lnTo>
                    <a:lnTo>
                      <a:pt x="98" y="206"/>
                    </a:lnTo>
                    <a:lnTo>
                      <a:pt x="70" y="196"/>
                    </a:lnTo>
                    <a:lnTo>
                      <a:pt x="46" y="182"/>
                    </a:lnTo>
                    <a:lnTo>
                      <a:pt x="27" y="168"/>
                    </a:lnTo>
                    <a:lnTo>
                      <a:pt x="12" y="149"/>
                    </a:lnTo>
                    <a:lnTo>
                      <a:pt x="4" y="130"/>
                    </a:lnTo>
                    <a:lnTo>
                      <a:pt x="0" y="108"/>
                    </a:lnTo>
                    <a:lnTo>
                      <a:pt x="4" y="86"/>
                    </a:lnTo>
                    <a:lnTo>
                      <a:pt x="12" y="66"/>
                    </a:lnTo>
                    <a:lnTo>
                      <a:pt x="27" y="48"/>
                    </a:lnTo>
                    <a:lnTo>
                      <a:pt x="46" y="32"/>
                    </a:lnTo>
                    <a:lnTo>
                      <a:pt x="70" y="19"/>
                    </a:lnTo>
                    <a:lnTo>
                      <a:pt x="98" y="9"/>
                    </a:lnTo>
                    <a:lnTo>
                      <a:pt x="127" y="3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3"/>
              <p:cNvSpPr/>
              <p:nvPr/>
            </p:nvSpPr>
            <p:spPr>
              <a:xfrm rot="21006000">
                <a:off x="4443120" y="5326200"/>
                <a:ext cx="142560" cy="154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44" h="265">
                    <a:moveTo>
                      <a:pt x="163" y="0"/>
                    </a:moveTo>
                    <a:lnTo>
                      <a:pt x="184" y="0"/>
                    </a:lnTo>
                    <a:lnTo>
                      <a:pt x="204" y="5"/>
                    </a:lnTo>
                    <a:lnTo>
                      <a:pt x="221" y="15"/>
                    </a:lnTo>
                    <a:lnTo>
                      <a:pt x="233" y="30"/>
                    </a:lnTo>
                    <a:lnTo>
                      <a:pt x="242" y="48"/>
                    </a:lnTo>
                    <a:lnTo>
                      <a:pt x="244" y="70"/>
                    </a:lnTo>
                    <a:lnTo>
                      <a:pt x="243" y="93"/>
                    </a:lnTo>
                    <a:lnTo>
                      <a:pt x="238" y="117"/>
                    </a:lnTo>
                    <a:lnTo>
                      <a:pt x="227" y="143"/>
                    </a:lnTo>
                    <a:lnTo>
                      <a:pt x="214" y="169"/>
                    </a:lnTo>
                    <a:lnTo>
                      <a:pt x="195" y="193"/>
                    </a:lnTo>
                    <a:lnTo>
                      <a:pt x="173" y="216"/>
                    </a:lnTo>
                    <a:lnTo>
                      <a:pt x="151" y="235"/>
                    </a:lnTo>
                    <a:lnTo>
                      <a:pt x="127" y="249"/>
                    </a:lnTo>
                    <a:lnTo>
                      <a:pt x="104" y="259"/>
                    </a:lnTo>
                    <a:lnTo>
                      <a:pt x="80" y="265"/>
                    </a:lnTo>
                    <a:lnTo>
                      <a:pt x="60" y="265"/>
                    </a:lnTo>
                    <a:lnTo>
                      <a:pt x="40" y="260"/>
                    </a:lnTo>
                    <a:lnTo>
                      <a:pt x="24" y="251"/>
                    </a:lnTo>
                    <a:lnTo>
                      <a:pt x="11" y="236"/>
                    </a:lnTo>
                    <a:lnTo>
                      <a:pt x="3" y="218"/>
                    </a:lnTo>
                    <a:lnTo>
                      <a:pt x="0" y="197"/>
                    </a:lnTo>
                    <a:lnTo>
                      <a:pt x="1" y="174"/>
                    </a:lnTo>
                    <a:lnTo>
                      <a:pt x="6" y="148"/>
                    </a:lnTo>
                    <a:lnTo>
                      <a:pt x="17" y="122"/>
                    </a:lnTo>
                    <a:lnTo>
                      <a:pt x="30" y="97"/>
                    </a:lnTo>
                    <a:lnTo>
                      <a:pt x="49" y="72"/>
                    </a:lnTo>
                    <a:lnTo>
                      <a:pt x="71" y="49"/>
                    </a:lnTo>
                    <a:lnTo>
                      <a:pt x="93" y="31"/>
                    </a:lnTo>
                    <a:lnTo>
                      <a:pt x="117" y="16"/>
                    </a:lnTo>
                    <a:lnTo>
                      <a:pt x="140" y="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4"/>
              <p:cNvSpPr/>
              <p:nvPr/>
            </p:nvSpPr>
            <p:spPr>
              <a:xfrm rot="21006000">
                <a:off x="3917160" y="5321160"/>
                <a:ext cx="109800" cy="1555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87" h="266">
                    <a:moveTo>
                      <a:pt x="36" y="0"/>
                    </a:moveTo>
                    <a:lnTo>
                      <a:pt x="52" y="2"/>
                    </a:lnTo>
                    <a:lnTo>
                      <a:pt x="69" y="11"/>
                    </a:lnTo>
                    <a:lnTo>
                      <a:pt x="86" y="24"/>
                    </a:lnTo>
                    <a:lnTo>
                      <a:pt x="104" y="40"/>
                    </a:lnTo>
                    <a:lnTo>
                      <a:pt x="121" y="61"/>
                    </a:lnTo>
                    <a:lnTo>
                      <a:pt x="138" y="84"/>
                    </a:lnTo>
                    <a:lnTo>
                      <a:pt x="154" y="110"/>
                    </a:lnTo>
                    <a:lnTo>
                      <a:pt x="168" y="137"/>
                    </a:lnTo>
                    <a:lnTo>
                      <a:pt x="178" y="164"/>
                    </a:lnTo>
                    <a:lnTo>
                      <a:pt x="184" y="188"/>
                    </a:lnTo>
                    <a:lnTo>
                      <a:pt x="187" y="210"/>
                    </a:lnTo>
                    <a:lnTo>
                      <a:pt x="186" y="230"/>
                    </a:lnTo>
                    <a:lnTo>
                      <a:pt x="182" y="245"/>
                    </a:lnTo>
                    <a:lnTo>
                      <a:pt x="176" y="258"/>
                    </a:lnTo>
                    <a:lnTo>
                      <a:pt x="165" y="265"/>
                    </a:lnTo>
                    <a:lnTo>
                      <a:pt x="152" y="266"/>
                    </a:lnTo>
                    <a:lnTo>
                      <a:pt x="136" y="264"/>
                    </a:lnTo>
                    <a:lnTo>
                      <a:pt x="119" y="255"/>
                    </a:lnTo>
                    <a:lnTo>
                      <a:pt x="101" y="242"/>
                    </a:lnTo>
                    <a:lnTo>
                      <a:pt x="83" y="226"/>
                    </a:lnTo>
                    <a:lnTo>
                      <a:pt x="65" y="205"/>
                    </a:lnTo>
                    <a:lnTo>
                      <a:pt x="49" y="182"/>
                    </a:lnTo>
                    <a:lnTo>
                      <a:pt x="33" y="156"/>
                    </a:lnTo>
                    <a:lnTo>
                      <a:pt x="20" y="129"/>
                    </a:lnTo>
                    <a:lnTo>
                      <a:pt x="10" y="102"/>
                    </a:lnTo>
                    <a:lnTo>
                      <a:pt x="3" y="78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4" y="21"/>
                    </a:lnTo>
                    <a:lnTo>
                      <a:pt x="11" y="8"/>
                    </a:lnTo>
                    <a:lnTo>
                      <a:pt x="22" y="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5"/>
              <p:cNvSpPr/>
              <p:nvPr/>
            </p:nvSpPr>
            <p:spPr>
              <a:xfrm rot="21006000">
                <a:off x="3579480" y="5065560"/>
                <a:ext cx="108720" cy="155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85" h="266">
                    <a:moveTo>
                      <a:pt x="35" y="0"/>
                    </a:moveTo>
                    <a:lnTo>
                      <a:pt x="51" y="2"/>
                    </a:lnTo>
                    <a:lnTo>
                      <a:pt x="67" y="11"/>
                    </a:lnTo>
                    <a:lnTo>
                      <a:pt x="85" y="24"/>
                    </a:lnTo>
                    <a:lnTo>
                      <a:pt x="102" y="40"/>
                    </a:lnTo>
                    <a:lnTo>
                      <a:pt x="121" y="61"/>
                    </a:lnTo>
                    <a:lnTo>
                      <a:pt x="138" y="84"/>
                    </a:lnTo>
                    <a:lnTo>
                      <a:pt x="154" y="110"/>
                    </a:lnTo>
                    <a:lnTo>
                      <a:pt x="167" y="136"/>
                    </a:lnTo>
                    <a:lnTo>
                      <a:pt x="177" y="163"/>
                    </a:lnTo>
                    <a:lnTo>
                      <a:pt x="183" y="188"/>
                    </a:lnTo>
                    <a:lnTo>
                      <a:pt x="185" y="210"/>
                    </a:lnTo>
                    <a:lnTo>
                      <a:pt x="185" y="229"/>
                    </a:lnTo>
                    <a:lnTo>
                      <a:pt x="182" y="245"/>
                    </a:lnTo>
                    <a:lnTo>
                      <a:pt x="174" y="257"/>
                    </a:lnTo>
                    <a:lnTo>
                      <a:pt x="163" y="265"/>
                    </a:lnTo>
                    <a:lnTo>
                      <a:pt x="150" y="266"/>
                    </a:lnTo>
                    <a:lnTo>
                      <a:pt x="134" y="263"/>
                    </a:lnTo>
                    <a:lnTo>
                      <a:pt x="118" y="255"/>
                    </a:lnTo>
                    <a:lnTo>
                      <a:pt x="100" y="241"/>
                    </a:lnTo>
                    <a:lnTo>
                      <a:pt x="83" y="226"/>
                    </a:lnTo>
                    <a:lnTo>
                      <a:pt x="65" y="205"/>
                    </a:lnTo>
                    <a:lnTo>
                      <a:pt x="49" y="182"/>
                    </a:lnTo>
                    <a:lnTo>
                      <a:pt x="33" y="156"/>
                    </a:lnTo>
                    <a:lnTo>
                      <a:pt x="19" y="129"/>
                    </a:lnTo>
                    <a:lnTo>
                      <a:pt x="10" y="102"/>
                    </a:lnTo>
                    <a:lnTo>
                      <a:pt x="2" y="78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3" y="20"/>
                    </a:lnTo>
                    <a:lnTo>
                      <a:pt x="11" y="8"/>
                    </a:lnTo>
                    <a:lnTo>
                      <a:pt x="22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6"/>
              <p:cNvSpPr/>
              <p:nvPr/>
            </p:nvSpPr>
            <p:spPr>
              <a:xfrm rot="21006000">
                <a:off x="3975120" y="5631840"/>
                <a:ext cx="108720" cy="155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87" h="266">
                    <a:moveTo>
                      <a:pt x="37" y="0"/>
                    </a:moveTo>
                    <a:lnTo>
                      <a:pt x="53" y="4"/>
                    </a:lnTo>
                    <a:lnTo>
                      <a:pt x="69" y="11"/>
                    </a:lnTo>
                    <a:lnTo>
                      <a:pt x="87" y="24"/>
                    </a:lnTo>
                    <a:lnTo>
                      <a:pt x="104" y="40"/>
                    </a:lnTo>
                    <a:lnTo>
                      <a:pt x="122" y="61"/>
                    </a:lnTo>
                    <a:lnTo>
                      <a:pt x="140" y="84"/>
                    </a:lnTo>
                    <a:lnTo>
                      <a:pt x="155" y="110"/>
                    </a:lnTo>
                    <a:lnTo>
                      <a:pt x="169" y="137"/>
                    </a:lnTo>
                    <a:lnTo>
                      <a:pt x="179" y="164"/>
                    </a:lnTo>
                    <a:lnTo>
                      <a:pt x="185" y="188"/>
                    </a:lnTo>
                    <a:lnTo>
                      <a:pt x="187" y="210"/>
                    </a:lnTo>
                    <a:lnTo>
                      <a:pt x="187" y="230"/>
                    </a:lnTo>
                    <a:lnTo>
                      <a:pt x="184" y="245"/>
                    </a:lnTo>
                    <a:lnTo>
                      <a:pt x="176" y="258"/>
                    </a:lnTo>
                    <a:lnTo>
                      <a:pt x="165" y="265"/>
                    </a:lnTo>
                    <a:lnTo>
                      <a:pt x="152" y="266"/>
                    </a:lnTo>
                    <a:lnTo>
                      <a:pt x="136" y="264"/>
                    </a:lnTo>
                    <a:lnTo>
                      <a:pt x="119" y="255"/>
                    </a:lnTo>
                    <a:lnTo>
                      <a:pt x="102" y="242"/>
                    </a:lnTo>
                    <a:lnTo>
                      <a:pt x="83" y="226"/>
                    </a:lnTo>
                    <a:lnTo>
                      <a:pt x="66" y="205"/>
                    </a:lnTo>
                    <a:lnTo>
                      <a:pt x="49" y="182"/>
                    </a:lnTo>
                    <a:lnTo>
                      <a:pt x="33" y="156"/>
                    </a:lnTo>
                    <a:lnTo>
                      <a:pt x="20" y="129"/>
                    </a:lnTo>
                    <a:lnTo>
                      <a:pt x="10" y="102"/>
                    </a:lnTo>
                    <a:lnTo>
                      <a:pt x="4" y="78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5" y="21"/>
                    </a:lnTo>
                    <a:lnTo>
                      <a:pt x="12" y="10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7"/>
              <p:cNvSpPr/>
              <p:nvPr/>
            </p:nvSpPr>
            <p:spPr>
              <a:xfrm rot="21006000">
                <a:off x="3644280" y="5392800"/>
                <a:ext cx="108720" cy="156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87" h="268">
                    <a:moveTo>
                      <a:pt x="35" y="0"/>
                    </a:moveTo>
                    <a:lnTo>
                      <a:pt x="51" y="4"/>
                    </a:lnTo>
                    <a:lnTo>
                      <a:pt x="68" y="12"/>
                    </a:lnTo>
                    <a:lnTo>
                      <a:pt x="85" y="25"/>
                    </a:lnTo>
                    <a:lnTo>
                      <a:pt x="104" y="42"/>
                    </a:lnTo>
                    <a:lnTo>
                      <a:pt x="122" y="61"/>
                    </a:lnTo>
                    <a:lnTo>
                      <a:pt x="138" y="84"/>
                    </a:lnTo>
                    <a:lnTo>
                      <a:pt x="154" y="111"/>
                    </a:lnTo>
                    <a:lnTo>
                      <a:pt x="167" y="138"/>
                    </a:lnTo>
                    <a:lnTo>
                      <a:pt x="177" y="164"/>
                    </a:lnTo>
                    <a:lnTo>
                      <a:pt x="184" y="188"/>
                    </a:lnTo>
                    <a:lnTo>
                      <a:pt x="187" y="210"/>
                    </a:lnTo>
                    <a:lnTo>
                      <a:pt x="187" y="230"/>
                    </a:lnTo>
                    <a:lnTo>
                      <a:pt x="183" y="246"/>
                    </a:lnTo>
                    <a:lnTo>
                      <a:pt x="176" y="258"/>
                    </a:lnTo>
                    <a:lnTo>
                      <a:pt x="165" y="265"/>
                    </a:lnTo>
                    <a:lnTo>
                      <a:pt x="151" y="268"/>
                    </a:lnTo>
                    <a:lnTo>
                      <a:pt x="135" y="264"/>
                    </a:lnTo>
                    <a:lnTo>
                      <a:pt x="118" y="255"/>
                    </a:lnTo>
                    <a:lnTo>
                      <a:pt x="101" y="243"/>
                    </a:lnTo>
                    <a:lnTo>
                      <a:pt x="83" y="226"/>
                    </a:lnTo>
                    <a:lnTo>
                      <a:pt x="66" y="207"/>
                    </a:lnTo>
                    <a:lnTo>
                      <a:pt x="49" y="183"/>
                    </a:lnTo>
                    <a:lnTo>
                      <a:pt x="33" y="157"/>
                    </a:lnTo>
                    <a:lnTo>
                      <a:pt x="19" y="130"/>
                    </a:lnTo>
                    <a:lnTo>
                      <a:pt x="10" y="103"/>
                    </a:lnTo>
                    <a:lnTo>
                      <a:pt x="3" y="78"/>
                    </a:lnTo>
                    <a:lnTo>
                      <a:pt x="0" y="56"/>
                    </a:lnTo>
                    <a:lnTo>
                      <a:pt x="1" y="37"/>
                    </a:lnTo>
                    <a:lnTo>
                      <a:pt x="5" y="21"/>
                    </a:lnTo>
                    <a:lnTo>
                      <a:pt x="11" y="10"/>
                    </a:lnTo>
                    <a:lnTo>
                      <a:pt x="22" y="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3"/>
              <p:cNvSpPr/>
              <p:nvPr/>
            </p:nvSpPr>
            <p:spPr>
              <a:xfrm rot="21006000">
                <a:off x="3639600" y="4857120"/>
                <a:ext cx="1110600" cy="1023120"/>
              </a:xfrm>
              <a:custGeom>
                <a:avLst/>
                <a:gdLst>
                  <a:gd name="textAreaLeft" fmla="*/ 0 w 1110600"/>
                  <a:gd name="textAreaRight" fmla="*/ 1110960 w 111060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1899" h="1749">
                    <a:moveTo>
                      <a:pt x="953" y="722"/>
                    </a:moveTo>
                    <a:lnTo>
                      <a:pt x="949" y="723"/>
                    </a:lnTo>
                    <a:lnTo>
                      <a:pt x="946" y="723"/>
                    </a:lnTo>
                    <a:lnTo>
                      <a:pt x="944" y="724"/>
                    </a:lnTo>
                    <a:lnTo>
                      <a:pt x="943" y="726"/>
                    </a:lnTo>
                    <a:lnTo>
                      <a:pt x="942" y="726"/>
                    </a:lnTo>
                    <a:lnTo>
                      <a:pt x="916" y="737"/>
                    </a:lnTo>
                    <a:lnTo>
                      <a:pt x="889" y="743"/>
                    </a:lnTo>
                    <a:lnTo>
                      <a:pt x="865" y="746"/>
                    </a:lnTo>
                    <a:lnTo>
                      <a:pt x="840" y="748"/>
                    </a:lnTo>
                    <a:lnTo>
                      <a:pt x="818" y="746"/>
                    </a:lnTo>
                    <a:lnTo>
                      <a:pt x="799" y="745"/>
                    </a:lnTo>
                    <a:lnTo>
                      <a:pt x="783" y="741"/>
                    </a:lnTo>
                    <a:lnTo>
                      <a:pt x="770" y="739"/>
                    </a:lnTo>
                    <a:lnTo>
                      <a:pt x="762" y="738"/>
                    </a:lnTo>
                    <a:lnTo>
                      <a:pt x="759" y="737"/>
                    </a:lnTo>
                    <a:lnTo>
                      <a:pt x="750" y="730"/>
                    </a:lnTo>
                    <a:lnTo>
                      <a:pt x="742" y="728"/>
                    </a:lnTo>
                    <a:lnTo>
                      <a:pt x="737" y="727"/>
                    </a:lnTo>
                    <a:lnTo>
                      <a:pt x="734" y="729"/>
                    </a:lnTo>
                    <a:lnTo>
                      <a:pt x="734" y="734"/>
                    </a:lnTo>
                    <a:lnTo>
                      <a:pt x="737" y="743"/>
                    </a:lnTo>
                    <a:lnTo>
                      <a:pt x="744" y="752"/>
                    </a:lnTo>
                    <a:lnTo>
                      <a:pt x="769" y="785"/>
                    </a:lnTo>
                    <a:lnTo>
                      <a:pt x="778" y="795"/>
                    </a:lnTo>
                    <a:lnTo>
                      <a:pt x="785" y="804"/>
                    </a:lnTo>
                    <a:lnTo>
                      <a:pt x="790" y="809"/>
                    </a:lnTo>
                    <a:lnTo>
                      <a:pt x="791" y="811"/>
                    </a:lnTo>
                    <a:lnTo>
                      <a:pt x="799" y="834"/>
                    </a:lnTo>
                    <a:lnTo>
                      <a:pt x="807" y="850"/>
                    </a:lnTo>
                    <a:lnTo>
                      <a:pt x="814" y="861"/>
                    </a:lnTo>
                    <a:lnTo>
                      <a:pt x="823" y="867"/>
                    </a:lnTo>
                    <a:lnTo>
                      <a:pt x="830" y="869"/>
                    </a:lnTo>
                    <a:lnTo>
                      <a:pt x="840" y="866"/>
                    </a:lnTo>
                    <a:lnTo>
                      <a:pt x="849" y="859"/>
                    </a:lnTo>
                    <a:lnTo>
                      <a:pt x="856" y="850"/>
                    </a:lnTo>
                    <a:lnTo>
                      <a:pt x="862" y="842"/>
                    </a:lnTo>
                    <a:lnTo>
                      <a:pt x="867" y="832"/>
                    </a:lnTo>
                    <a:lnTo>
                      <a:pt x="920" y="768"/>
                    </a:lnTo>
                    <a:lnTo>
                      <a:pt x="937" y="754"/>
                    </a:lnTo>
                    <a:lnTo>
                      <a:pt x="948" y="741"/>
                    </a:lnTo>
                    <a:lnTo>
                      <a:pt x="955" y="734"/>
                    </a:lnTo>
                    <a:lnTo>
                      <a:pt x="959" y="728"/>
                    </a:lnTo>
                    <a:lnTo>
                      <a:pt x="960" y="724"/>
                    </a:lnTo>
                    <a:lnTo>
                      <a:pt x="959" y="722"/>
                    </a:lnTo>
                    <a:lnTo>
                      <a:pt x="953" y="722"/>
                    </a:lnTo>
                    <a:close/>
                    <a:moveTo>
                      <a:pt x="1" y="0"/>
                    </a:moveTo>
                    <a:lnTo>
                      <a:pt x="6" y="2"/>
                    </a:lnTo>
                    <a:lnTo>
                      <a:pt x="14" y="8"/>
                    </a:lnTo>
                    <a:lnTo>
                      <a:pt x="25" y="16"/>
                    </a:lnTo>
                    <a:lnTo>
                      <a:pt x="37" y="27"/>
                    </a:lnTo>
                    <a:lnTo>
                      <a:pt x="48" y="37"/>
                    </a:lnTo>
                    <a:lnTo>
                      <a:pt x="59" y="48"/>
                    </a:lnTo>
                    <a:lnTo>
                      <a:pt x="69" y="55"/>
                    </a:lnTo>
                    <a:lnTo>
                      <a:pt x="78" y="63"/>
                    </a:lnTo>
                    <a:lnTo>
                      <a:pt x="662" y="623"/>
                    </a:lnTo>
                    <a:lnTo>
                      <a:pt x="701" y="650"/>
                    </a:lnTo>
                    <a:lnTo>
                      <a:pt x="739" y="671"/>
                    </a:lnTo>
                    <a:lnTo>
                      <a:pt x="775" y="686"/>
                    </a:lnTo>
                    <a:lnTo>
                      <a:pt x="810" y="696"/>
                    </a:lnTo>
                    <a:lnTo>
                      <a:pt x="843" y="702"/>
                    </a:lnTo>
                    <a:lnTo>
                      <a:pt x="873" y="704"/>
                    </a:lnTo>
                    <a:lnTo>
                      <a:pt x="905" y="701"/>
                    </a:lnTo>
                    <a:lnTo>
                      <a:pt x="934" y="696"/>
                    </a:lnTo>
                    <a:lnTo>
                      <a:pt x="959" y="690"/>
                    </a:lnTo>
                    <a:lnTo>
                      <a:pt x="979" y="682"/>
                    </a:lnTo>
                    <a:lnTo>
                      <a:pt x="997" y="673"/>
                    </a:lnTo>
                    <a:lnTo>
                      <a:pt x="1010" y="667"/>
                    </a:lnTo>
                    <a:lnTo>
                      <a:pt x="1017" y="662"/>
                    </a:lnTo>
                    <a:lnTo>
                      <a:pt x="1020" y="660"/>
                    </a:lnTo>
                    <a:lnTo>
                      <a:pt x="1796" y="254"/>
                    </a:lnTo>
                    <a:lnTo>
                      <a:pt x="1824" y="241"/>
                    </a:lnTo>
                    <a:lnTo>
                      <a:pt x="1847" y="231"/>
                    </a:lnTo>
                    <a:lnTo>
                      <a:pt x="1865" y="222"/>
                    </a:lnTo>
                    <a:lnTo>
                      <a:pt x="1879" y="217"/>
                    </a:lnTo>
                    <a:lnTo>
                      <a:pt x="1890" y="215"/>
                    </a:lnTo>
                    <a:lnTo>
                      <a:pt x="1896" y="214"/>
                    </a:lnTo>
                    <a:lnTo>
                      <a:pt x="1899" y="215"/>
                    </a:lnTo>
                    <a:lnTo>
                      <a:pt x="1898" y="220"/>
                    </a:lnTo>
                    <a:lnTo>
                      <a:pt x="1893" y="226"/>
                    </a:lnTo>
                    <a:lnTo>
                      <a:pt x="1885" y="233"/>
                    </a:lnTo>
                    <a:lnTo>
                      <a:pt x="1874" y="242"/>
                    </a:lnTo>
                    <a:lnTo>
                      <a:pt x="1862" y="252"/>
                    </a:lnTo>
                    <a:lnTo>
                      <a:pt x="1848" y="261"/>
                    </a:lnTo>
                    <a:lnTo>
                      <a:pt x="1836" y="270"/>
                    </a:lnTo>
                    <a:lnTo>
                      <a:pt x="1825" y="277"/>
                    </a:lnTo>
                    <a:lnTo>
                      <a:pt x="1816" y="283"/>
                    </a:lnTo>
                    <a:lnTo>
                      <a:pt x="1810" y="288"/>
                    </a:lnTo>
                    <a:lnTo>
                      <a:pt x="1808" y="289"/>
                    </a:lnTo>
                    <a:lnTo>
                      <a:pt x="1080" y="707"/>
                    </a:lnTo>
                    <a:lnTo>
                      <a:pt x="1031" y="735"/>
                    </a:lnTo>
                    <a:lnTo>
                      <a:pt x="990" y="762"/>
                    </a:lnTo>
                    <a:lnTo>
                      <a:pt x="956" y="789"/>
                    </a:lnTo>
                    <a:lnTo>
                      <a:pt x="928" y="816"/>
                    </a:lnTo>
                    <a:lnTo>
                      <a:pt x="905" y="842"/>
                    </a:lnTo>
                    <a:lnTo>
                      <a:pt x="888" y="866"/>
                    </a:lnTo>
                    <a:lnTo>
                      <a:pt x="874" y="888"/>
                    </a:lnTo>
                    <a:lnTo>
                      <a:pt x="866" y="908"/>
                    </a:lnTo>
                    <a:lnTo>
                      <a:pt x="858" y="925"/>
                    </a:lnTo>
                    <a:lnTo>
                      <a:pt x="855" y="938"/>
                    </a:lnTo>
                    <a:lnTo>
                      <a:pt x="854" y="949"/>
                    </a:lnTo>
                    <a:lnTo>
                      <a:pt x="852" y="955"/>
                    </a:lnTo>
                    <a:lnTo>
                      <a:pt x="852" y="958"/>
                    </a:lnTo>
                    <a:lnTo>
                      <a:pt x="829" y="1661"/>
                    </a:lnTo>
                    <a:lnTo>
                      <a:pt x="825" y="1691"/>
                    </a:lnTo>
                    <a:lnTo>
                      <a:pt x="821" y="1714"/>
                    </a:lnTo>
                    <a:lnTo>
                      <a:pt x="817" y="1730"/>
                    </a:lnTo>
                    <a:lnTo>
                      <a:pt x="814" y="1741"/>
                    </a:lnTo>
                    <a:lnTo>
                      <a:pt x="811" y="1747"/>
                    </a:lnTo>
                    <a:lnTo>
                      <a:pt x="808" y="1749"/>
                    </a:lnTo>
                    <a:lnTo>
                      <a:pt x="805" y="1746"/>
                    </a:lnTo>
                    <a:lnTo>
                      <a:pt x="801" y="1737"/>
                    </a:lnTo>
                    <a:lnTo>
                      <a:pt x="799" y="1725"/>
                    </a:lnTo>
                    <a:lnTo>
                      <a:pt x="796" y="1712"/>
                    </a:lnTo>
                    <a:lnTo>
                      <a:pt x="795" y="1698"/>
                    </a:lnTo>
                    <a:lnTo>
                      <a:pt x="794" y="1686"/>
                    </a:lnTo>
                    <a:lnTo>
                      <a:pt x="792" y="1677"/>
                    </a:lnTo>
                    <a:lnTo>
                      <a:pt x="792" y="958"/>
                    </a:lnTo>
                    <a:lnTo>
                      <a:pt x="788" y="922"/>
                    </a:lnTo>
                    <a:lnTo>
                      <a:pt x="780" y="888"/>
                    </a:lnTo>
                    <a:lnTo>
                      <a:pt x="768" y="855"/>
                    </a:lnTo>
                    <a:lnTo>
                      <a:pt x="755" y="823"/>
                    </a:lnTo>
                    <a:lnTo>
                      <a:pt x="739" y="793"/>
                    </a:lnTo>
                    <a:lnTo>
                      <a:pt x="723" y="766"/>
                    </a:lnTo>
                    <a:lnTo>
                      <a:pt x="706" y="740"/>
                    </a:lnTo>
                    <a:lnTo>
                      <a:pt x="689" y="717"/>
                    </a:lnTo>
                    <a:lnTo>
                      <a:pt x="672" y="696"/>
                    </a:lnTo>
                    <a:lnTo>
                      <a:pt x="657" y="679"/>
                    </a:lnTo>
                    <a:lnTo>
                      <a:pt x="645" y="666"/>
                    </a:lnTo>
                    <a:lnTo>
                      <a:pt x="65" y="87"/>
                    </a:lnTo>
                    <a:lnTo>
                      <a:pt x="46" y="63"/>
                    </a:lnTo>
                    <a:lnTo>
                      <a:pt x="31" y="45"/>
                    </a:lnTo>
                    <a:lnTo>
                      <a:pt x="19" y="30"/>
                    </a:lnTo>
                    <a:lnTo>
                      <a:pt x="9" y="18"/>
                    </a:lnTo>
                    <a:lnTo>
                      <a:pt x="3" y="10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1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9"/>
              <p:cNvSpPr/>
              <p:nvPr/>
            </p:nvSpPr>
            <p:spPr>
              <a:xfrm rot="21006000">
                <a:off x="4061520" y="5289840"/>
                <a:ext cx="131760" cy="86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26" h="147">
                    <a:moveTo>
                      <a:pt x="219" y="0"/>
                    </a:moveTo>
                    <a:lnTo>
                      <a:pt x="225" y="0"/>
                    </a:lnTo>
                    <a:lnTo>
                      <a:pt x="226" y="2"/>
                    </a:lnTo>
                    <a:lnTo>
                      <a:pt x="225" y="6"/>
                    </a:lnTo>
                    <a:lnTo>
                      <a:pt x="221" y="12"/>
                    </a:lnTo>
                    <a:lnTo>
                      <a:pt x="214" y="19"/>
                    </a:lnTo>
                    <a:lnTo>
                      <a:pt x="203" y="32"/>
                    </a:lnTo>
                    <a:lnTo>
                      <a:pt x="186" y="46"/>
                    </a:lnTo>
                    <a:lnTo>
                      <a:pt x="133" y="110"/>
                    </a:lnTo>
                    <a:lnTo>
                      <a:pt x="128" y="120"/>
                    </a:lnTo>
                    <a:lnTo>
                      <a:pt x="122" y="128"/>
                    </a:lnTo>
                    <a:lnTo>
                      <a:pt x="115" y="137"/>
                    </a:lnTo>
                    <a:lnTo>
                      <a:pt x="106" y="144"/>
                    </a:lnTo>
                    <a:lnTo>
                      <a:pt x="96" y="147"/>
                    </a:lnTo>
                    <a:lnTo>
                      <a:pt x="89" y="145"/>
                    </a:lnTo>
                    <a:lnTo>
                      <a:pt x="80" y="139"/>
                    </a:lnTo>
                    <a:lnTo>
                      <a:pt x="73" y="128"/>
                    </a:lnTo>
                    <a:lnTo>
                      <a:pt x="65" y="112"/>
                    </a:lnTo>
                    <a:lnTo>
                      <a:pt x="57" y="89"/>
                    </a:lnTo>
                    <a:lnTo>
                      <a:pt x="56" y="87"/>
                    </a:lnTo>
                    <a:lnTo>
                      <a:pt x="51" y="82"/>
                    </a:lnTo>
                    <a:lnTo>
                      <a:pt x="44" y="73"/>
                    </a:lnTo>
                    <a:lnTo>
                      <a:pt x="35" y="63"/>
                    </a:lnTo>
                    <a:lnTo>
                      <a:pt x="10" y="30"/>
                    </a:lnTo>
                    <a:lnTo>
                      <a:pt x="3" y="21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8" y="6"/>
                    </a:lnTo>
                    <a:lnTo>
                      <a:pt x="16" y="8"/>
                    </a:lnTo>
                    <a:lnTo>
                      <a:pt x="25" y="15"/>
                    </a:lnTo>
                    <a:lnTo>
                      <a:pt x="28" y="16"/>
                    </a:lnTo>
                    <a:lnTo>
                      <a:pt x="36" y="17"/>
                    </a:lnTo>
                    <a:lnTo>
                      <a:pt x="49" y="19"/>
                    </a:lnTo>
                    <a:lnTo>
                      <a:pt x="65" y="23"/>
                    </a:lnTo>
                    <a:lnTo>
                      <a:pt x="84" y="24"/>
                    </a:lnTo>
                    <a:lnTo>
                      <a:pt x="106" y="26"/>
                    </a:lnTo>
                    <a:lnTo>
                      <a:pt x="131" y="24"/>
                    </a:lnTo>
                    <a:lnTo>
                      <a:pt x="155" y="21"/>
                    </a:lnTo>
                    <a:lnTo>
                      <a:pt x="182" y="15"/>
                    </a:lnTo>
                    <a:lnTo>
                      <a:pt x="208" y="4"/>
                    </a:lnTo>
                    <a:lnTo>
                      <a:pt x="209" y="4"/>
                    </a:lnTo>
                    <a:lnTo>
                      <a:pt x="210" y="2"/>
                    </a:lnTo>
                    <a:lnTo>
                      <a:pt x="212" y="1"/>
                    </a:lnTo>
                    <a:lnTo>
                      <a:pt x="215" y="1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a7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3"/>
              <p:cNvSpPr/>
              <p:nvPr/>
            </p:nvSpPr>
            <p:spPr>
              <a:xfrm rot="21006000">
                <a:off x="4592880" y="5005080"/>
                <a:ext cx="142560" cy="154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44" h="265">
                    <a:moveTo>
                      <a:pt x="163" y="0"/>
                    </a:moveTo>
                    <a:lnTo>
                      <a:pt x="184" y="0"/>
                    </a:lnTo>
                    <a:lnTo>
                      <a:pt x="204" y="5"/>
                    </a:lnTo>
                    <a:lnTo>
                      <a:pt x="221" y="15"/>
                    </a:lnTo>
                    <a:lnTo>
                      <a:pt x="233" y="30"/>
                    </a:lnTo>
                    <a:lnTo>
                      <a:pt x="242" y="48"/>
                    </a:lnTo>
                    <a:lnTo>
                      <a:pt x="244" y="70"/>
                    </a:lnTo>
                    <a:lnTo>
                      <a:pt x="243" y="93"/>
                    </a:lnTo>
                    <a:lnTo>
                      <a:pt x="238" y="117"/>
                    </a:lnTo>
                    <a:lnTo>
                      <a:pt x="227" y="143"/>
                    </a:lnTo>
                    <a:lnTo>
                      <a:pt x="214" y="169"/>
                    </a:lnTo>
                    <a:lnTo>
                      <a:pt x="195" y="193"/>
                    </a:lnTo>
                    <a:lnTo>
                      <a:pt x="173" y="216"/>
                    </a:lnTo>
                    <a:lnTo>
                      <a:pt x="151" y="235"/>
                    </a:lnTo>
                    <a:lnTo>
                      <a:pt x="127" y="249"/>
                    </a:lnTo>
                    <a:lnTo>
                      <a:pt x="104" y="259"/>
                    </a:lnTo>
                    <a:lnTo>
                      <a:pt x="80" y="265"/>
                    </a:lnTo>
                    <a:lnTo>
                      <a:pt x="60" y="265"/>
                    </a:lnTo>
                    <a:lnTo>
                      <a:pt x="40" y="260"/>
                    </a:lnTo>
                    <a:lnTo>
                      <a:pt x="24" y="251"/>
                    </a:lnTo>
                    <a:lnTo>
                      <a:pt x="11" y="236"/>
                    </a:lnTo>
                    <a:lnTo>
                      <a:pt x="3" y="218"/>
                    </a:lnTo>
                    <a:lnTo>
                      <a:pt x="0" y="197"/>
                    </a:lnTo>
                    <a:lnTo>
                      <a:pt x="1" y="174"/>
                    </a:lnTo>
                    <a:lnTo>
                      <a:pt x="6" y="148"/>
                    </a:lnTo>
                    <a:lnTo>
                      <a:pt x="17" y="122"/>
                    </a:lnTo>
                    <a:lnTo>
                      <a:pt x="30" y="97"/>
                    </a:lnTo>
                    <a:lnTo>
                      <a:pt x="49" y="72"/>
                    </a:lnTo>
                    <a:lnTo>
                      <a:pt x="71" y="49"/>
                    </a:lnTo>
                    <a:lnTo>
                      <a:pt x="93" y="31"/>
                    </a:lnTo>
                    <a:lnTo>
                      <a:pt x="117" y="16"/>
                    </a:lnTo>
                    <a:lnTo>
                      <a:pt x="140" y="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3"/>
              <p:cNvSpPr/>
              <p:nvPr/>
            </p:nvSpPr>
            <p:spPr>
              <a:xfrm rot="21006000">
                <a:off x="4669200" y="5325480"/>
                <a:ext cx="120240" cy="13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2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3"/>
              <p:cNvSpPr/>
              <p:nvPr/>
            </p:nvSpPr>
            <p:spPr>
              <a:xfrm rot="21006000">
                <a:off x="4258440" y="5634720"/>
                <a:ext cx="142560" cy="154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44" h="265">
                    <a:moveTo>
                      <a:pt x="163" y="0"/>
                    </a:moveTo>
                    <a:lnTo>
                      <a:pt x="184" y="0"/>
                    </a:lnTo>
                    <a:lnTo>
                      <a:pt x="204" y="5"/>
                    </a:lnTo>
                    <a:lnTo>
                      <a:pt x="221" y="15"/>
                    </a:lnTo>
                    <a:lnTo>
                      <a:pt x="233" y="30"/>
                    </a:lnTo>
                    <a:lnTo>
                      <a:pt x="242" y="48"/>
                    </a:lnTo>
                    <a:lnTo>
                      <a:pt x="244" y="70"/>
                    </a:lnTo>
                    <a:lnTo>
                      <a:pt x="243" y="93"/>
                    </a:lnTo>
                    <a:lnTo>
                      <a:pt x="238" y="117"/>
                    </a:lnTo>
                    <a:lnTo>
                      <a:pt x="227" y="143"/>
                    </a:lnTo>
                    <a:lnTo>
                      <a:pt x="214" y="169"/>
                    </a:lnTo>
                    <a:lnTo>
                      <a:pt x="195" y="193"/>
                    </a:lnTo>
                    <a:lnTo>
                      <a:pt x="173" y="216"/>
                    </a:lnTo>
                    <a:lnTo>
                      <a:pt x="151" y="235"/>
                    </a:lnTo>
                    <a:lnTo>
                      <a:pt x="127" y="249"/>
                    </a:lnTo>
                    <a:lnTo>
                      <a:pt x="104" y="259"/>
                    </a:lnTo>
                    <a:lnTo>
                      <a:pt x="80" y="265"/>
                    </a:lnTo>
                    <a:lnTo>
                      <a:pt x="60" y="265"/>
                    </a:lnTo>
                    <a:lnTo>
                      <a:pt x="40" y="260"/>
                    </a:lnTo>
                    <a:lnTo>
                      <a:pt x="24" y="251"/>
                    </a:lnTo>
                    <a:lnTo>
                      <a:pt x="11" y="236"/>
                    </a:lnTo>
                    <a:lnTo>
                      <a:pt x="3" y="218"/>
                    </a:lnTo>
                    <a:lnTo>
                      <a:pt x="0" y="197"/>
                    </a:lnTo>
                    <a:lnTo>
                      <a:pt x="1" y="174"/>
                    </a:lnTo>
                    <a:lnTo>
                      <a:pt x="6" y="148"/>
                    </a:lnTo>
                    <a:lnTo>
                      <a:pt x="17" y="122"/>
                    </a:lnTo>
                    <a:lnTo>
                      <a:pt x="30" y="97"/>
                    </a:lnTo>
                    <a:lnTo>
                      <a:pt x="49" y="72"/>
                    </a:lnTo>
                    <a:lnTo>
                      <a:pt x="71" y="49"/>
                    </a:lnTo>
                    <a:lnTo>
                      <a:pt x="93" y="31"/>
                    </a:lnTo>
                    <a:lnTo>
                      <a:pt x="117" y="16"/>
                    </a:lnTo>
                    <a:lnTo>
                      <a:pt x="140" y="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3"/>
              <p:cNvSpPr/>
              <p:nvPr/>
            </p:nvSpPr>
            <p:spPr>
              <a:xfrm rot="21006000">
                <a:off x="4202280" y="5311440"/>
                <a:ext cx="142560" cy="154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44" h="265">
                    <a:moveTo>
                      <a:pt x="163" y="0"/>
                    </a:moveTo>
                    <a:lnTo>
                      <a:pt x="184" y="0"/>
                    </a:lnTo>
                    <a:lnTo>
                      <a:pt x="204" y="5"/>
                    </a:lnTo>
                    <a:lnTo>
                      <a:pt x="221" y="15"/>
                    </a:lnTo>
                    <a:lnTo>
                      <a:pt x="233" y="30"/>
                    </a:lnTo>
                    <a:lnTo>
                      <a:pt x="242" y="48"/>
                    </a:lnTo>
                    <a:lnTo>
                      <a:pt x="244" y="70"/>
                    </a:lnTo>
                    <a:lnTo>
                      <a:pt x="243" y="93"/>
                    </a:lnTo>
                    <a:lnTo>
                      <a:pt x="238" y="117"/>
                    </a:lnTo>
                    <a:lnTo>
                      <a:pt x="227" y="143"/>
                    </a:lnTo>
                    <a:lnTo>
                      <a:pt x="214" y="169"/>
                    </a:lnTo>
                    <a:lnTo>
                      <a:pt x="195" y="193"/>
                    </a:lnTo>
                    <a:lnTo>
                      <a:pt x="173" y="216"/>
                    </a:lnTo>
                    <a:lnTo>
                      <a:pt x="151" y="235"/>
                    </a:lnTo>
                    <a:lnTo>
                      <a:pt x="127" y="249"/>
                    </a:lnTo>
                    <a:lnTo>
                      <a:pt x="104" y="259"/>
                    </a:lnTo>
                    <a:lnTo>
                      <a:pt x="80" y="265"/>
                    </a:lnTo>
                    <a:lnTo>
                      <a:pt x="60" y="265"/>
                    </a:lnTo>
                    <a:lnTo>
                      <a:pt x="40" y="260"/>
                    </a:lnTo>
                    <a:lnTo>
                      <a:pt x="24" y="251"/>
                    </a:lnTo>
                    <a:lnTo>
                      <a:pt x="11" y="236"/>
                    </a:lnTo>
                    <a:lnTo>
                      <a:pt x="3" y="218"/>
                    </a:lnTo>
                    <a:lnTo>
                      <a:pt x="0" y="197"/>
                    </a:lnTo>
                    <a:lnTo>
                      <a:pt x="1" y="174"/>
                    </a:lnTo>
                    <a:lnTo>
                      <a:pt x="6" y="148"/>
                    </a:lnTo>
                    <a:lnTo>
                      <a:pt x="17" y="122"/>
                    </a:lnTo>
                    <a:lnTo>
                      <a:pt x="30" y="97"/>
                    </a:lnTo>
                    <a:lnTo>
                      <a:pt x="49" y="72"/>
                    </a:lnTo>
                    <a:lnTo>
                      <a:pt x="71" y="49"/>
                    </a:lnTo>
                    <a:lnTo>
                      <a:pt x="93" y="31"/>
                    </a:lnTo>
                    <a:lnTo>
                      <a:pt x="117" y="16"/>
                    </a:lnTo>
                    <a:lnTo>
                      <a:pt x="140" y="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2"/>
              <p:cNvSpPr/>
              <p:nvPr/>
            </p:nvSpPr>
            <p:spPr>
              <a:xfrm rot="21006000">
                <a:off x="4387680" y="4772520"/>
                <a:ext cx="187920" cy="1249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321" h="214">
                    <a:moveTo>
                      <a:pt x="160" y="0"/>
                    </a:moveTo>
                    <a:lnTo>
                      <a:pt x="193" y="3"/>
                    </a:lnTo>
                    <a:lnTo>
                      <a:pt x="222" y="9"/>
                    </a:lnTo>
                    <a:lnTo>
                      <a:pt x="250" y="19"/>
                    </a:lnTo>
                    <a:lnTo>
                      <a:pt x="274" y="32"/>
                    </a:lnTo>
                    <a:lnTo>
                      <a:pt x="293" y="48"/>
                    </a:lnTo>
                    <a:lnTo>
                      <a:pt x="309" y="66"/>
                    </a:lnTo>
                    <a:lnTo>
                      <a:pt x="318" y="86"/>
                    </a:lnTo>
                    <a:lnTo>
                      <a:pt x="321" y="108"/>
                    </a:lnTo>
                    <a:lnTo>
                      <a:pt x="318" y="130"/>
                    </a:lnTo>
                    <a:lnTo>
                      <a:pt x="309" y="149"/>
                    </a:lnTo>
                    <a:lnTo>
                      <a:pt x="293" y="168"/>
                    </a:lnTo>
                    <a:lnTo>
                      <a:pt x="274" y="182"/>
                    </a:lnTo>
                    <a:lnTo>
                      <a:pt x="250" y="196"/>
                    </a:lnTo>
                    <a:lnTo>
                      <a:pt x="222" y="206"/>
                    </a:lnTo>
                    <a:lnTo>
                      <a:pt x="193" y="212"/>
                    </a:lnTo>
                    <a:lnTo>
                      <a:pt x="160" y="214"/>
                    </a:lnTo>
                    <a:lnTo>
                      <a:pt x="127" y="212"/>
                    </a:lnTo>
                    <a:lnTo>
                      <a:pt x="98" y="206"/>
                    </a:lnTo>
                    <a:lnTo>
                      <a:pt x="70" y="196"/>
                    </a:lnTo>
                    <a:lnTo>
                      <a:pt x="46" y="182"/>
                    </a:lnTo>
                    <a:lnTo>
                      <a:pt x="27" y="168"/>
                    </a:lnTo>
                    <a:lnTo>
                      <a:pt x="12" y="149"/>
                    </a:lnTo>
                    <a:lnTo>
                      <a:pt x="4" y="130"/>
                    </a:lnTo>
                    <a:lnTo>
                      <a:pt x="0" y="108"/>
                    </a:lnTo>
                    <a:lnTo>
                      <a:pt x="4" y="86"/>
                    </a:lnTo>
                    <a:lnTo>
                      <a:pt x="12" y="66"/>
                    </a:lnTo>
                    <a:lnTo>
                      <a:pt x="27" y="48"/>
                    </a:lnTo>
                    <a:lnTo>
                      <a:pt x="46" y="32"/>
                    </a:lnTo>
                    <a:lnTo>
                      <a:pt x="70" y="19"/>
                    </a:lnTo>
                    <a:lnTo>
                      <a:pt x="98" y="9"/>
                    </a:lnTo>
                    <a:lnTo>
                      <a:pt x="127" y="3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5" name="Group 170"/>
          <p:cNvGrpSpPr/>
          <p:nvPr/>
        </p:nvGrpSpPr>
        <p:grpSpPr>
          <a:xfrm>
            <a:off x="1930320" y="4680000"/>
            <a:ext cx="1212840" cy="1392120"/>
            <a:chOff x="1930320" y="4680000"/>
            <a:chExt cx="1212840" cy="1392120"/>
          </a:xfrm>
        </p:grpSpPr>
        <p:sp>
          <p:nvSpPr>
            <p:cNvPr id="796" name="Freeform 7"/>
            <p:cNvSpPr/>
            <p:nvPr/>
          </p:nvSpPr>
          <p:spPr>
            <a:xfrm>
              <a:off x="1930320" y="4680000"/>
              <a:ext cx="1212840" cy="139212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"/>
            <p:cNvSpPr/>
            <p:nvPr/>
          </p:nvSpPr>
          <p:spPr>
            <a:xfrm>
              <a:off x="2099520" y="497160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4"/>
            <p:cNvSpPr/>
            <p:nvPr/>
          </p:nvSpPr>
          <p:spPr>
            <a:xfrm>
              <a:off x="2254680" y="5478480"/>
              <a:ext cx="105120" cy="1486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5"/>
            <p:cNvSpPr/>
            <p:nvPr/>
          </p:nvSpPr>
          <p:spPr>
            <a:xfrm>
              <a:off x="1978200" y="518184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6"/>
            <p:cNvSpPr/>
            <p:nvPr/>
          </p:nvSpPr>
          <p:spPr>
            <a:xfrm>
              <a:off x="2257920" y="578052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7"/>
            <p:cNvSpPr/>
            <p:nvPr/>
          </p:nvSpPr>
          <p:spPr>
            <a:xfrm>
              <a:off x="1985040" y="5500800"/>
              <a:ext cx="104040" cy="149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33"/>
            <p:cNvSpPr/>
            <p:nvPr/>
          </p:nvSpPr>
          <p:spPr>
            <a:xfrm>
              <a:off x="1990440" y="5072040"/>
              <a:ext cx="1063800" cy="97776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9"/>
            <p:cNvSpPr/>
            <p:nvPr/>
          </p:nvSpPr>
          <p:spPr>
            <a:xfrm>
              <a:off x="2401920" y="5475240"/>
              <a:ext cx="125280" cy="8244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2943360" y="5294160"/>
              <a:ext cx="136440" cy="147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"/>
            <p:cNvSpPr/>
            <p:nvPr/>
          </p:nvSpPr>
          <p:spPr>
            <a:xfrm>
              <a:off x="2524680" y="5832720"/>
              <a:ext cx="136440" cy="147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2"/>
            <p:cNvSpPr/>
            <p:nvPr/>
          </p:nvSpPr>
          <p:spPr>
            <a:xfrm>
              <a:off x="2790360" y="504540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2"/>
            <p:cNvSpPr/>
            <p:nvPr/>
          </p:nvSpPr>
          <p:spPr>
            <a:xfrm>
              <a:off x="2445120" y="500724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6"/>
            <p:cNvSpPr/>
            <p:nvPr/>
          </p:nvSpPr>
          <p:spPr>
            <a:xfrm>
              <a:off x="2112480" y="548280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18"/>
          <p:cNvGrpSpPr/>
          <p:nvPr/>
        </p:nvGrpSpPr>
        <p:grpSpPr>
          <a:xfrm>
            <a:off x="1003320" y="4460760"/>
            <a:ext cx="1204920" cy="1500480"/>
            <a:chOff x="1003320" y="4460760"/>
            <a:chExt cx="1204920" cy="1500480"/>
          </a:xfrm>
        </p:grpSpPr>
        <p:sp>
          <p:nvSpPr>
            <p:cNvPr id="810" name="Freeform 18"/>
            <p:cNvSpPr/>
            <p:nvPr/>
          </p:nvSpPr>
          <p:spPr>
            <a:xfrm>
              <a:off x="1003320" y="4460760"/>
              <a:ext cx="1204920" cy="150048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9"/>
            <p:cNvSpPr/>
            <p:nvPr/>
          </p:nvSpPr>
          <p:spPr>
            <a:xfrm>
              <a:off x="1511640" y="4781520"/>
              <a:ext cx="199800" cy="138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0"/>
            <p:cNvSpPr/>
            <p:nvPr/>
          </p:nvSpPr>
          <p:spPr>
            <a:xfrm>
              <a:off x="1823760" y="4970880"/>
              <a:ext cx="199800" cy="129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1"/>
            <p:cNvSpPr/>
            <p:nvPr/>
          </p:nvSpPr>
          <p:spPr>
            <a:xfrm>
              <a:off x="1734840" y="4559760"/>
              <a:ext cx="198720" cy="1454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2"/>
            <p:cNvSpPr/>
            <p:nvPr/>
          </p:nvSpPr>
          <p:spPr>
            <a:xfrm>
              <a:off x="1205640" y="4604760"/>
              <a:ext cx="198720" cy="138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3"/>
            <p:cNvSpPr/>
            <p:nvPr/>
          </p:nvSpPr>
          <p:spPr>
            <a:xfrm>
              <a:off x="1274040" y="5011920"/>
              <a:ext cx="198720" cy="1454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4"/>
            <p:cNvSpPr/>
            <p:nvPr/>
          </p:nvSpPr>
          <p:spPr>
            <a:xfrm>
              <a:off x="1310400" y="538164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5"/>
            <p:cNvSpPr/>
            <p:nvPr/>
          </p:nvSpPr>
          <p:spPr>
            <a:xfrm>
              <a:off x="1596600" y="5359680"/>
              <a:ext cx="198720" cy="13140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6"/>
            <p:cNvSpPr/>
            <p:nvPr/>
          </p:nvSpPr>
          <p:spPr>
            <a:xfrm>
              <a:off x="1880640" y="5337720"/>
              <a:ext cx="198720" cy="12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7"/>
            <p:cNvSpPr/>
            <p:nvPr/>
          </p:nvSpPr>
          <p:spPr>
            <a:xfrm>
              <a:off x="1290960" y="575028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"/>
            <p:cNvSpPr/>
            <p:nvPr/>
          </p:nvSpPr>
          <p:spPr>
            <a:xfrm>
              <a:off x="1565640" y="5735880"/>
              <a:ext cx="198720" cy="12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9"/>
            <p:cNvSpPr/>
            <p:nvPr/>
          </p:nvSpPr>
          <p:spPr>
            <a:xfrm>
              <a:off x="1835640" y="571140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0"/>
            <p:cNvSpPr/>
            <p:nvPr/>
          </p:nvSpPr>
          <p:spPr>
            <a:xfrm>
              <a:off x="1062360" y="5171760"/>
              <a:ext cx="21600" cy="1918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1"/>
            <p:cNvSpPr/>
            <p:nvPr/>
          </p:nvSpPr>
          <p:spPr>
            <a:xfrm>
              <a:off x="1031400" y="480060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2"/>
            <p:cNvSpPr/>
            <p:nvPr/>
          </p:nvSpPr>
          <p:spPr>
            <a:xfrm>
              <a:off x="1092240" y="5572440"/>
              <a:ext cx="23040" cy="190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1014120" y="4608360"/>
              <a:ext cx="1171800" cy="1281600"/>
            </a:xfrm>
            <a:custGeom>
              <a:avLst/>
              <a:gdLst/>
              <a:ahLst/>
              <a:rect l="l" t="t" r="r" b="b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1062360" y="5171760"/>
              <a:ext cx="18000" cy="75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1031400" y="480060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1137960" y="5203800"/>
              <a:ext cx="126720" cy="133200"/>
            </a:xfrm>
            <a:custGeom>
              <a:avLst/>
              <a:gdLst/>
              <a:ahLst/>
              <a:rect l="l" t="t" r="r" b="b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2046600" y="5173560"/>
              <a:ext cx="117360" cy="53640"/>
            </a:xfrm>
            <a:custGeom>
              <a:avLst/>
              <a:gdLst/>
              <a:ahLst/>
              <a:rect l="l" t="t" r="r" b="b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178"/>
          <p:cNvGrpSpPr/>
          <p:nvPr/>
        </p:nvGrpSpPr>
        <p:grpSpPr>
          <a:xfrm>
            <a:off x="6087960" y="4460760"/>
            <a:ext cx="2140200" cy="1611360"/>
            <a:chOff x="6087960" y="4460760"/>
            <a:chExt cx="2140200" cy="1611360"/>
          </a:xfrm>
        </p:grpSpPr>
        <p:sp>
          <p:nvSpPr>
            <p:cNvPr id="831" name="Freeform 7"/>
            <p:cNvSpPr/>
            <p:nvPr/>
          </p:nvSpPr>
          <p:spPr>
            <a:xfrm>
              <a:off x="7014600" y="4679640"/>
              <a:ext cx="1213560" cy="1392480"/>
            </a:xfrm>
            <a:custGeom>
              <a:avLst/>
              <a:gdLst>
                <a:gd name="textAreaLeft" fmla="*/ 0 w 1213560"/>
                <a:gd name="textAreaRight" fmla="*/ 1213920 w 121356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1dc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7184160" y="497160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339320" y="5478480"/>
              <a:ext cx="105120" cy="1486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062840" y="518184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7342920" y="578016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069680" y="5500800"/>
              <a:ext cx="104040" cy="149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3"/>
            <p:cNvSpPr/>
            <p:nvPr/>
          </p:nvSpPr>
          <p:spPr>
            <a:xfrm>
              <a:off x="7075080" y="5070960"/>
              <a:ext cx="1063440" cy="97848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978480"/>
                <a:gd name="textAreaBottom" fmla="*/ 978840 h 9784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4e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9"/>
            <p:cNvSpPr/>
            <p:nvPr/>
          </p:nvSpPr>
          <p:spPr>
            <a:xfrm>
              <a:off x="7486200" y="5474880"/>
              <a:ext cx="126360" cy="824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8028360" y="5294160"/>
              <a:ext cx="136440" cy="147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3"/>
            <p:cNvSpPr/>
            <p:nvPr/>
          </p:nvSpPr>
          <p:spPr>
            <a:xfrm>
              <a:off x="7609320" y="5832720"/>
              <a:ext cx="136440" cy="147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2"/>
            <p:cNvSpPr/>
            <p:nvPr/>
          </p:nvSpPr>
          <p:spPr>
            <a:xfrm>
              <a:off x="7875360" y="504504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2"/>
            <p:cNvSpPr/>
            <p:nvPr/>
          </p:nvSpPr>
          <p:spPr>
            <a:xfrm>
              <a:off x="7529760" y="500688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6"/>
            <p:cNvSpPr/>
            <p:nvPr/>
          </p:nvSpPr>
          <p:spPr>
            <a:xfrm>
              <a:off x="7197120" y="548244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6087960" y="4460760"/>
              <a:ext cx="1204200" cy="1500840"/>
            </a:xfrm>
            <a:custGeom>
              <a:avLst/>
              <a:gdLst>
                <a:gd name="textAreaLeft" fmla="*/ 0 w 1204200"/>
                <a:gd name="textAreaRight" fmla="*/ 1204560 w 1204200"/>
                <a:gd name="textAreaTop" fmla="*/ 0 h 1500840"/>
                <a:gd name="textAreaBottom" fmla="*/ 1501200 h 1500840"/>
              </a:gdLst>
              <a:ahLst/>
              <a:rect l="textAreaLeft" t="textAreaTop" r="textAreaRight" b="textAreaBottom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1dc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6595920" y="4781520"/>
              <a:ext cx="199800" cy="138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908040" y="4970880"/>
              <a:ext cx="199800" cy="129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6819120" y="4559760"/>
              <a:ext cx="198360" cy="145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6290280" y="4604760"/>
              <a:ext cx="198360" cy="138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3"/>
            <p:cNvSpPr/>
            <p:nvPr/>
          </p:nvSpPr>
          <p:spPr>
            <a:xfrm>
              <a:off x="6358680" y="5011920"/>
              <a:ext cx="198360" cy="145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4"/>
            <p:cNvSpPr/>
            <p:nvPr/>
          </p:nvSpPr>
          <p:spPr>
            <a:xfrm>
              <a:off x="6394680" y="538200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5"/>
            <p:cNvSpPr/>
            <p:nvPr/>
          </p:nvSpPr>
          <p:spPr>
            <a:xfrm>
              <a:off x="6680880" y="5360040"/>
              <a:ext cx="198360" cy="1314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6"/>
            <p:cNvSpPr/>
            <p:nvPr/>
          </p:nvSpPr>
          <p:spPr>
            <a:xfrm>
              <a:off x="6964560" y="5338080"/>
              <a:ext cx="198360" cy="129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7"/>
            <p:cNvSpPr/>
            <p:nvPr/>
          </p:nvSpPr>
          <p:spPr>
            <a:xfrm>
              <a:off x="6375240" y="575028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8"/>
            <p:cNvSpPr/>
            <p:nvPr/>
          </p:nvSpPr>
          <p:spPr>
            <a:xfrm>
              <a:off x="6649920" y="5736240"/>
              <a:ext cx="198360" cy="129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9"/>
            <p:cNvSpPr/>
            <p:nvPr/>
          </p:nvSpPr>
          <p:spPr>
            <a:xfrm>
              <a:off x="6919560" y="571176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0"/>
            <p:cNvSpPr/>
            <p:nvPr/>
          </p:nvSpPr>
          <p:spPr>
            <a:xfrm>
              <a:off x="6147000" y="5171760"/>
              <a:ext cx="21600" cy="1918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1"/>
            <p:cNvSpPr/>
            <p:nvPr/>
          </p:nvSpPr>
          <p:spPr>
            <a:xfrm>
              <a:off x="6116040" y="480060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"/>
            <p:cNvSpPr/>
            <p:nvPr/>
          </p:nvSpPr>
          <p:spPr>
            <a:xfrm>
              <a:off x="6176880" y="5572440"/>
              <a:ext cx="23040" cy="190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4"/>
            <p:cNvSpPr/>
            <p:nvPr/>
          </p:nvSpPr>
          <p:spPr>
            <a:xfrm>
              <a:off x="6098040" y="4608720"/>
              <a:ext cx="1172160" cy="1280520"/>
            </a:xfrm>
            <a:custGeom>
              <a:avLst/>
              <a:gdLst>
                <a:gd name="textAreaLeft" fmla="*/ 0 w 1172160"/>
                <a:gd name="textAreaRight" fmla="*/ 1172520 w 1172160"/>
                <a:gd name="textAreaTop" fmla="*/ 0 h 1280520"/>
                <a:gd name="textAreaBottom" fmla="*/ 1280880 h 128052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4e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5"/>
            <p:cNvSpPr/>
            <p:nvPr/>
          </p:nvSpPr>
          <p:spPr>
            <a:xfrm>
              <a:off x="6147000" y="5171760"/>
              <a:ext cx="18000" cy="75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6"/>
            <p:cNvSpPr/>
            <p:nvPr/>
          </p:nvSpPr>
          <p:spPr>
            <a:xfrm>
              <a:off x="6116040" y="480060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7"/>
            <p:cNvSpPr/>
            <p:nvPr/>
          </p:nvSpPr>
          <p:spPr>
            <a:xfrm>
              <a:off x="6223320" y="5204160"/>
              <a:ext cx="126360" cy="1339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8"/>
            <p:cNvSpPr/>
            <p:nvPr/>
          </p:nvSpPr>
          <p:spPr>
            <a:xfrm>
              <a:off x="7130880" y="5173200"/>
              <a:ext cx="117000" cy="55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5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868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39"/>
          <p:cNvSpPr/>
          <p:nvPr/>
        </p:nvSpPr>
        <p:spPr>
          <a:xfrm>
            <a:off x="2357280" y="68580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40"/>
          <p:cNvSpPr/>
          <p:nvPr/>
        </p:nvSpPr>
        <p:spPr>
          <a:xfrm>
            <a:off x="3857760" y="68580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75"/>
          <p:cNvSpPr/>
          <p:nvPr/>
        </p:nvSpPr>
        <p:spPr>
          <a:xfrm>
            <a:off x="5400720" y="68580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77"/>
          <p:cNvSpPr/>
          <p:nvPr/>
        </p:nvSpPr>
        <p:spPr>
          <a:xfrm>
            <a:off x="2357280" y="218592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78"/>
          <p:cNvSpPr/>
          <p:nvPr/>
        </p:nvSpPr>
        <p:spPr>
          <a:xfrm>
            <a:off x="3857760" y="218592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79"/>
          <p:cNvSpPr/>
          <p:nvPr/>
        </p:nvSpPr>
        <p:spPr>
          <a:xfrm>
            <a:off x="5400720" y="218592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189"/>
          <p:cNvSpPr/>
          <p:nvPr/>
        </p:nvSpPr>
        <p:spPr>
          <a:xfrm>
            <a:off x="2819520" y="114300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90"/>
          <p:cNvSpPr/>
          <p:nvPr/>
        </p:nvSpPr>
        <p:spPr>
          <a:xfrm>
            <a:off x="4000680" y="8190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1"/>
          <p:cNvSpPr/>
          <p:nvPr/>
        </p:nvSpPr>
        <p:spPr>
          <a:xfrm>
            <a:off x="4633920" y="150012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92"/>
          <p:cNvSpPr/>
          <p:nvPr/>
        </p:nvSpPr>
        <p:spPr>
          <a:xfrm>
            <a:off x="5562720" y="8190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193"/>
          <p:cNvSpPr/>
          <p:nvPr/>
        </p:nvSpPr>
        <p:spPr>
          <a:xfrm>
            <a:off x="6195960" y="150012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94"/>
          <p:cNvSpPr/>
          <p:nvPr/>
        </p:nvSpPr>
        <p:spPr>
          <a:xfrm>
            <a:off x="5877000" y="117144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199"/>
          <p:cNvSpPr/>
          <p:nvPr/>
        </p:nvSpPr>
        <p:spPr>
          <a:xfrm>
            <a:off x="317196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00"/>
          <p:cNvSpPr/>
          <p:nvPr/>
        </p:nvSpPr>
        <p:spPr>
          <a:xfrm>
            <a:off x="248616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201"/>
          <p:cNvSpPr/>
          <p:nvPr/>
        </p:nvSpPr>
        <p:spPr>
          <a:xfrm>
            <a:off x="317196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202"/>
          <p:cNvSpPr/>
          <p:nvPr/>
        </p:nvSpPr>
        <p:spPr>
          <a:xfrm>
            <a:off x="248616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03"/>
          <p:cNvSpPr/>
          <p:nvPr/>
        </p:nvSpPr>
        <p:spPr>
          <a:xfrm>
            <a:off x="467676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04"/>
          <p:cNvSpPr/>
          <p:nvPr/>
        </p:nvSpPr>
        <p:spPr>
          <a:xfrm>
            <a:off x="399096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05"/>
          <p:cNvSpPr/>
          <p:nvPr/>
        </p:nvSpPr>
        <p:spPr>
          <a:xfrm>
            <a:off x="467676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06"/>
          <p:cNvSpPr/>
          <p:nvPr/>
        </p:nvSpPr>
        <p:spPr>
          <a:xfrm>
            <a:off x="399096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07"/>
          <p:cNvSpPr/>
          <p:nvPr/>
        </p:nvSpPr>
        <p:spPr>
          <a:xfrm>
            <a:off x="4338720" y="265284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08"/>
          <p:cNvSpPr/>
          <p:nvPr/>
        </p:nvSpPr>
        <p:spPr>
          <a:xfrm>
            <a:off x="621504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09"/>
          <p:cNvSpPr/>
          <p:nvPr/>
        </p:nvSpPr>
        <p:spPr>
          <a:xfrm>
            <a:off x="552924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10"/>
          <p:cNvSpPr/>
          <p:nvPr/>
        </p:nvSpPr>
        <p:spPr>
          <a:xfrm>
            <a:off x="621504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11"/>
          <p:cNvSpPr/>
          <p:nvPr/>
        </p:nvSpPr>
        <p:spPr>
          <a:xfrm>
            <a:off x="552924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12"/>
          <p:cNvSpPr/>
          <p:nvPr/>
        </p:nvSpPr>
        <p:spPr>
          <a:xfrm>
            <a:off x="6215040" y="266220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13"/>
          <p:cNvSpPr/>
          <p:nvPr/>
        </p:nvSpPr>
        <p:spPr>
          <a:xfrm>
            <a:off x="5529240" y="266220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16"/>
          <p:cNvSpPr/>
          <p:nvPr/>
        </p:nvSpPr>
        <p:spPr>
          <a:xfrm>
            <a:off x="2357280" y="372420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17"/>
          <p:cNvSpPr/>
          <p:nvPr/>
        </p:nvSpPr>
        <p:spPr>
          <a:xfrm>
            <a:off x="3857760" y="372420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18"/>
          <p:cNvSpPr/>
          <p:nvPr/>
        </p:nvSpPr>
        <p:spPr>
          <a:xfrm>
            <a:off x="5400720" y="372420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19"/>
          <p:cNvSpPr/>
          <p:nvPr/>
        </p:nvSpPr>
        <p:spPr>
          <a:xfrm>
            <a:off x="2357280" y="522432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20"/>
          <p:cNvSpPr/>
          <p:nvPr/>
        </p:nvSpPr>
        <p:spPr>
          <a:xfrm>
            <a:off x="3857760" y="522432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21"/>
          <p:cNvSpPr/>
          <p:nvPr/>
        </p:nvSpPr>
        <p:spPr>
          <a:xfrm>
            <a:off x="5400720" y="522432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222"/>
          <p:cNvSpPr/>
          <p:nvPr/>
        </p:nvSpPr>
        <p:spPr>
          <a:xfrm>
            <a:off x="2819520" y="41814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223"/>
          <p:cNvSpPr/>
          <p:nvPr/>
        </p:nvSpPr>
        <p:spPr>
          <a:xfrm>
            <a:off x="4000680" y="38577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224"/>
          <p:cNvSpPr/>
          <p:nvPr/>
        </p:nvSpPr>
        <p:spPr>
          <a:xfrm>
            <a:off x="4633920" y="453852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225"/>
          <p:cNvSpPr/>
          <p:nvPr/>
        </p:nvSpPr>
        <p:spPr>
          <a:xfrm>
            <a:off x="5562720" y="38577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26"/>
          <p:cNvSpPr/>
          <p:nvPr/>
        </p:nvSpPr>
        <p:spPr>
          <a:xfrm>
            <a:off x="6195960" y="453852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27"/>
          <p:cNvSpPr/>
          <p:nvPr/>
        </p:nvSpPr>
        <p:spPr>
          <a:xfrm>
            <a:off x="5877000" y="421020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228"/>
          <p:cNvSpPr/>
          <p:nvPr/>
        </p:nvSpPr>
        <p:spPr>
          <a:xfrm>
            <a:off x="317196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29"/>
          <p:cNvSpPr/>
          <p:nvPr/>
        </p:nvSpPr>
        <p:spPr>
          <a:xfrm>
            <a:off x="248616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30"/>
          <p:cNvSpPr/>
          <p:nvPr/>
        </p:nvSpPr>
        <p:spPr>
          <a:xfrm>
            <a:off x="317196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31"/>
          <p:cNvSpPr/>
          <p:nvPr/>
        </p:nvSpPr>
        <p:spPr>
          <a:xfrm>
            <a:off x="248616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232"/>
          <p:cNvSpPr/>
          <p:nvPr/>
        </p:nvSpPr>
        <p:spPr>
          <a:xfrm>
            <a:off x="467676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33"/>
          <p:cNvSpPr/>
          <p:nvPr/>
        </p:nvSpPr>
        <p:spPr>
          <a:xfrm>
            <a:off x="399096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34"/>
          <p:cNvSpPr/>
          <p:nvPr/>
        </p:nvSpPr>
        <p:spPr>
          <a:xfrm>
            <a:off x="467676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235"/>
          <p:cNvSpPr/>
          <p:nvPr/>
        </p:nvSpPr>
        <p:spPr>
          <a:xfrm>
            <a:off x="399096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236"/>
          <p:cNvSpPr/>
          <p:nvPr/>
        </p:nvSpPr>
        <p:spPr>
          <a:xfrm>
            <a:off x="4338720" y="569124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37"/>
          <p:cNvSpPr/>
          <p:nvPr/>
        </p:nvSpPr>
        <p:spPr>
          <a:xfrm>
            <a:off x="621504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38"/>
          <p:cNvSpPr/>
          <p:nvPr/>
        </p:nvSpPr>
        <p:spPr>
          <a:xfrm>
            <a:off x="552924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239"/>
          <p:cNvSpPr/>
          <p:nvPr/>
        </p:nvSpPr>
        <p:spPr>
          <a:xfrm>
            <a:off x="621504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240"/>
          <p:cNvSpPr/>
          <p:nvPr/>
        </p:nvSpPr>
        <p:spPr>
          <a:xfrm>
            <a:off x="552924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241"/>
          <p:cNvSpPr/>
          <p:nvPr/>
        </p:nvSpPr>
        <p:spPr>
          <a:xfrm>
            <a:off x="6215040" y="57006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242"/>
          <p:cNvSpPr/>
          <p:nvPr/>
        </p:nvSpPr>
        <p:spPr>
          <a:xfrm>
            <a:off x="5529240" y="57006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97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9"/>
          <p:cNvGrpSpPr/>
          <p:nvPr/>
        </p:nvGrpSpPr>
        <p:grpSpPr>
          <a:xfrm>
            <a:off x="2128680" y="3524040"/>
            <a:ext cx="5092920" cy="857160"/>
            <a:chOff x="2128680" y="3524040"/>
            <a:chExt cx="5092920" cy="857160"/>
          </a:xfrm>
        </p:grpSpPr>
        <p:sp>
          <p:nvSpPr>
            <p:cNvPr id="100" name="Прямая соединительная линия 122"/>
            <p:cNvSpPr/>
            <p:nvPr/>
          </p:nvSpPr>
          <p:spPr>
            <a:xfrm flipV="1">
              <a:off x="463860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122"/>
            <p:cNvSpPr/>
            <p:nvPr/>
          </p:nvSpPr>
          <p:spPr>
            <a:xfrm flipV="1">
              <a:off x="212868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122"/>
            <p:cNvSpPr/>
            <p:nvPr/>
          </p:nvSpPr>
          <p:spPr>
            <a:xfrm flipV="1">
              <a:off x="721692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7"/>
          <p:cNvGrpSpPr/>
          <p:nvPr/>
        </p:nvGrpSpPr>
        <p:grpSpPr>
          <a:xfrm>
            <a:off x="1257480" y="4286160"/>
            <a:ext cx="1625400" cy="1866960"/>
            <a:chOff x="1257480" y="4286160"/>
            <a:chExt cx="1625400" cy="1866960"/>
          </a:xfrm>
        </p:grpSpPr>
        <p:sp>
          <p:nvSpPr>
            <p:cNvPr id="105" name="Freeform 7"/>
            <p:cNvSpPr/>
            <p:nvPr/>
          </p:nvSpPr>
          <p:spPr>
            <a:xfrm>
              <a:off x="1257480" y="4286160"/>
              <a:ext cx="1625400" cy="18669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3"/>
            <p:cNvSpPr/>
            <p:nvPr/>
          </p:nvSpPr>
          <p:spPr>
            <a:xfrm>
              <a:off x="1338120" y="4811040"/>
              <a:ext cx="1424520" cy="1312200"/>
            </a:xfrm>
            <a:custGeom>
              <a:avLst/>
              <a:gdLst>
                <a:gd name="textAreaLeft" fmla="*/ 0 w 1424520"/>
                <a:gd name="textAreaRight" fmla="*/ 1424880 w 1424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888560" y="5352480"/>
              <a:ext cx="169200" cy="110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оугольник 121"/>
          <p:cNvSpPr/>
          <p:nvPr/>
        </p:nvSpPr>
        <p:spPr>
          <a:xfrm>
            <a:off x="1825560" y="46814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21"/>
          <p:cNvSpPr/>
          <p:nvPr/>
        </p:nvSpPr>
        <p:spPr>
          <a:xfrm rot="21313200">
            <a:off x="1327320" y="53355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21"/>
          <p:cNvSpPr/>
          <p:nvPr/>
        </p:nvSpPr>
        <p:spPr>
          <a:xfrm rot="581400">
            <a:off x="2153880" y="54198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S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1"/>
          <p:cNvGrpSpPr/>
          <p:nvPr/>
        </p:nvGrpSpPr>
        <p:grpSpPr>
          <a:xfrm>
            <a:off x="3797280" y="4286160"/>
            <a:ext cx="1625760" cy="1866960"/>
            <a:chOff x="3797280" y="4286160"/>
            <a:chExt cx="1625760" cy="1866960"/>
          </a:xfrm>
        </p:grpSpPr>
        <p:sp>
          <p:nvSpPr>
            <p:cNvPr id="112" name="Freeform 7"/>
            <p:cNvSpPr/>
            <p:nvPr/>
          </p:nvSpPr>
          <p:spPr>
            <a:xfrm>
              <a:off x="3797280" y="4286160"/>
              <a:ext cx="1625760" cy="18669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3878280" y="4811040"/>
              <a:ext cx="1424880" cy="1312200"/>
            </a:xfrm>
            <a:custGeom>
              <a:avLst/>
              <a:gdLst>
                <a:gd name="textAreaLeft" fmla="*/ 0 w 1424880"/>
                <a:gd name="textAreaRight" fmla="*/ 1425240 w 142488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9"/>
            <p:cNvSpPr/>
            <p:nvPr/>
          </p:nvSpPr>
          <p:spPr>
            <a:xfrm>
              <a:off x="4428720" y="5352480"/>
              <a:ext cx="169200" cy="110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Прямоугольник 121"/>
          <p:cNvSpPr/>
          <p:nvPr/>
        </p:nvSpPr>
        <p:spPr>
          <a:xfrm>
            <a:off x="4284720" y="4681440"/>
            <a:ext cx="6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ha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21"/>
          <p:cNvSpPr/>
          <p:nvPr/>
        </p:nvSpPr>
        <p:spPr>
          <a:xfrm rot="21313200">
            <a:off x="3790440" y="5307120"/>
            <a:ext cx="7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21"/>
          <p:cNvSpPr/>
          <p:nvPr/>
        </p:nvSpPr>
        <p:spPr>
          <a:xfrm rot="581400">
            <a:off x="4694040" y="54198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58"/>
          <p:cNvGrpSpPr/>
          <p:nvPr/>
        </p:nvGrpSpPr>
        <p:grpSpPr>
          <a:xfrm>
            <a:off x="6337440" y="4286160"/>
            <a:ext cx="1625400" cy="1866960"/>
            <a:chOff x="6337440" y="4286160"/>
            <a:chExt cx="1625400" cy="1866960"/>
          </a:xfrm>
        </p:grpSpPr>
        <p:sp>
          <p:nvSpPr>
            <p:cNvPr id="119" name="Freeform 7"/>
            <p:cNvSpPr/>
            <p:nvPr/>
          </p:nvSpPr>
          <p:spPr>
            <a:xfrm>
              <a:off x="6337440" y="4286160"/>
              <a:ext cx="1625400" cy="18669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3"/>
            <p:cNvSpPr/>
            <p:nvPr/>
          </p:nvSpPr>
          <p:spPr>
            <a:xfrm>
              <a:off x="6418080" y="4811040"/>
              <a:ext cx="1424520" cy="1312200"/>
            </a:xfrm>
            <a:custGeom>
              <a:avLst/>
              <a:gdLst>
                <a:gd name="textAreaLeft" fmla="*/ 0 w 1424520"/>
                <a:gd name="textAreaRight" fmla="*/ 1424880 w 1424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6968520" y="5352480"/>
              <a:ext cx="169200" cy="110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Прямоугольник 121"/>
          <p:cNvSpPr/>
          <p:nvPr/>
        </p:nvSpPr>
        <p:spPr>
          <a:xfrm>
            <a:off x="6905520" y="4681440"/>
            <a:ext cx="5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1"/>
          <p:cNvSpPr/>
          <p:nvPr/>
        </p:nvSpPr>
        <p:spPr>
          <a:xfrm rot="21313200">
            <a:off x="6407280" y="533232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Pro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21"/>
          <p:cNvSpPr/>
          <p:nvPr/>
        </p:nvSpPr>
        <p:spPr>
          <a:xfrm rot="581400">
            <a:off x="7234200" y="54273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In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5"/>
          <p:cNvGrpSpPr/>
          <p:nvPr/>
        </p:nvGrpSpPr>
        <p:grpSpPr>
          <a:xfrm>
            <a:off x="795240" y="1071720"/>
            <a:ext cx="2382840" cy="2581200"/>
            <a:chOff x="795240" y="1071720"/>
            <a:chExt cx="2382840" cy="2581200"/>
          </a:xfrm>
        </p:grpSpPr>
        <p:sp>
          <p:nvSpPr>
            <p:cNvPr id="126" name="Round Diagonal Corner Rectangle 66"/>
            <p:cNvSpPr/>
            <p:nvPr/>
          </p:nvSpPr>
          <p:spPr>
            <a:xfrm>
              <a:off x="79524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ound Diagonal Corner Rectangle 67"/>
            <p:cNvSpPr/>
            <p:nvPr/>
          </p:nvSpPr>
          <p:spPr>
            <a:xfrm>
              <a:off x="85068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Прямоугольник 121"/>
          <p:cNvSpPr/>
          <p:nvPr/>
        </p:nvSpPr>
        <p:spPr>
          <a:xfrm>
            <a:off x="107640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3382920" y="1071720"/>
            <a:ext cx="2382840" cy="2581200"/>
            <a:chOff x="3382920" y="1071720"/>
            <a:chExt cx="2382840" cy="2581200"/>
          </a:xfrm>
        </p:grpSpPr>
        <p:sp>
          <p:nvSpPr>
            <p:cNvPr id="130" name="Round Diagonal Corner Rectangle 70"/>
            <p:cNvSpPr/>
            <p:nvPr/>
          </p:nvSpPr>
          <p:spPr>
            <a:xfrm>
              <a:off x="338292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 Diagonal Corner Rectangle 71"/>
            <p:cNvSpPr/>
            <p:nvPr/>
          </p:nvSpPr>
          <p:spPr>
            <a:xfrm>
              <a:off x="343836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Прямоугольник 121"/>
          <p:cNvSpPr/>
          <p:nvPr/>
        </p:nvSpPr>
        <p:spPr>
          <a:xfrm>
            <a:off x="366408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3"/>
          <p:cNvGrpSpPr/>
          <p:nvPr/>
        </p:nvGrpSpPr>
        <p:grpSpPr>
          <a:xfrm>
            <a:off x="5964120" y="1071720"/>
            <a:ext cx="2382840" cy="2581200"/>
            <a:chOff x="5964120" y="1071720"/>
            <a:chExt cx="2382840" cy="2581200"/>
          </a:xfrm>
        </p:grpSpPr>
        <p:sp>
          <p:nvSpPr>
            <p:cNvPr id="134" name="Round Diagonal Corner Rectangle 74"/>
            <p:cNvSpPr/>
            <p:nvPr/>
          </p:nvSpPr>
          <p:spPr>
            <a:xfrm>
              <a:off x="596412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ound Diagonal Corner Rectangle 75"/>
            <p:cNvSpPr/>
            <p:nvPr/>
          </p:nvSpPr>
          <p:spPr>
            <a:xfrm>
              <a:off x="601956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121"/>
          <p:cNvSpPr/>
          <p:nvPr/>
        </p:nvSpPr>
        <p:spPr>
          <a:xfrm>
            <a:off x="624528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8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141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7"/>
          <p:cNvGrpSpPr/>
          <p:nvPr/>
        </p:nvGrpSpPr>
        <p:grpSpPr>
          <a:xfrm>
            <a:off x="3857760" y="2981160"/>
            <a:ext cx="1625400" cy="1866960"/>
            <a:chOff x="3857760" y="2981160"/>
            <a:chExt cx="1625400" cy="1866960"/>
          </a:xfrm>
        </p:grpSpPr>
        <p:sp>
          <p:nvSpPr>
            <p:cNvPr id="145" name="Freeform 7"/>
            <p:cNvSpPr/>
            <p:nvPr/>
          </p:nvSpPr>
          <p:spPr>
            <a:xfrm>
              <a:off x="3857760" y="2981160"/>
              <a:ext cx="1625400" cy="18669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3938400" y="3506040"/>
              <a:ext cx="1424520" cy="1312200"/>
            </a:xfrm>
            <a:custGeom>
              <a:avLst/>
              <a:gdLst>
                <a:gd name="textAreaLeft" fmla="*/ 0 w 1424520"/>
                <a:gd name="textAreaRight" fmla="*/ 1424880 w 1424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4488840" y="4047480"/>
              <a:ext cx="169200" cy="110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Прямоугольник 121"/>
          <p:cNvSpPr/>
          <p:nvPr/>
        </p:nvSpPr>
        <p:spPr>
          <a:xfrm>
            <a:off x="4425840" y="3376440"/>
            <a:ext cx="5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1"/>
          <p:cNvSpPr/>
          <p:nvPr/>
        </p:nvSpPr>
        <p:spPr>
          <a:xfrm rot="21313200">
            <a:off x="3927600" y="40305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21"/>
          <p:cNvSpPr/>
          <p:nvPr/>
        </p:nvSpPr>
        <p:spPr>
          <a:xfrm rot="581400">
            <a:off x="4754160" y="41148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S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5"/>
          <p:cNvGrpSpPr/>
          <p:nvPr/>
        </p:nvGrpSpPr>
        <p:grpSpPr>
          <a:xfrm>
            <a:off x="571680" y="1500120"/>
            <a:ext cx="2144520" cy="2324160"/>
            <a:chOff x="571680" y="1500120"/>
            <a:chExt cx="2144520" cy="2324160"/>
          </a:xfrm>
        </p:grpSpPr>
        <p:sp>
          <p:nvSpPr>
            <p:cNvPr id="152" name="Round Diagonal Corner Rectangle 66"/>
            <p:cNvSpPr/>
            <p:nvPr/>
          </p:nvSpPr>
          <p:spPr>
            <a:xfrm>
              <a:off x="571680" y="1500120"/>
              <a:ext cx="2144520" cy="232416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 Diagonal Corner Rectangle 67"/>
            <p:cNvSpPr/>
            <p:nvPr/>
          </p:nvSpPr>
          <p:spPr>
            <a:xfrm>
              <a:off x="622440" y="1550880"/>
              <a:ext cx="2030400" cy="2200320"/>
            </a:xfrm>
            <a:custGeom>
              <a:avLst/>
              <a:gdLst/>
              <a:ahLst/>
              <a:rect l="l" t="t" r="r" b="b"/>
              <a:pathLst>
                <a:path w="1731348" h="1875658">
                  <a:moveTo>
                    <a:pt x="365505" y="0"/>
                  </a:moveTo>
                  <a:lnTo>
                    <a:pt x="1731348" y="0"/>
                  </a:lnTo>
                  <a:lnTo>
                    <a:pt x="1731348" y="0"/>
                  </a:lnTo>
                  <a:lnTo>
                    <a:pt x="1731348" y="1510153"/>
                  </a:lnTo>
                  <a:cubicBezTo>
                    <a:pt x="1731348" y="1712016"/>
                    <a:pt x="1567706" y="1875658"/>
                    <a:pt x="1365843" y="1875658"/>
                  </a:cubicBezTo>
                  <a:lnTo>
                    <a:pt x="0" y="1875658"/>
                  </a:lnTo>
                  <a:lnTo>
                    <a:pt x="0" y="1875658"/>
                  </a:lnTo>
                  <a:lnTo>
                    <a:pt x="0" y="365505"/>
                  </a:lnTo>
                  <a:cubicBezTo>
                    <a:pt x="0" y="163642"/>
                    <a:pt x="163642" y="0"/>
                    <a:pt x="36550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оугольник 121"/>
          <p:cNvSpPr/>
          <p:nvPr/>
        </p:nvSpPr>
        <p:spPr>
          <a:xfrm>
            <a:off x="733320" y="1925640"/>
            <a:ext cx="1862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21"/>
          <p:cNvSpPr/>
          <p:nvPr/>
        </p:nvSpPr>
        <p:spPr>
          <a:xfrm>
            <a:off x="6786720" y="5338800"/>
            <a:ext cx="128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22"/>
          <p:cNvSpPr/>
          <p:nvPr/>
        </p:nvSpPr>
        <p:spPr>
          <a:xfrm>
            <a:off x="5286240" y="4624560"/>
            <a:ext cx="1500480" cy="78552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21"/>
          <p:cNvSpPr/>
          <p:nvPr/>
        </p:nvSpPr>
        <p:spPr>
          <a:xfrm>
            <a:off x="1386000" y="533880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22"/>
          <p:cNvSpPr/>
          <p:nvPr/>
        </p:nvSpPr>
        <p:spPr>
          <a:xfrm flipV="1">
            <a:off x="2500200" y="4624560"/>
            <a:ext cx="1500480" cy="78552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21"/>
          <p:cNvSpPr/>
          <p:nvPr/>
        </p:nvSpPr>
        <p:spPr>
          <a:xfrm>
            <a:off x="4091040" y="69516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22"/>
          <p:cNvSpPr/>
          <p:nvPr/>
        </p:nvSpPr>
        <p:spPr>
          <a:xfrm flipV="1">
            <a:off x="4714920" y="1480680"/>
            <a:ext cx="1440" cy="142884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16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2"/>
          <p:cNvGrpSpPr/>
          <p:nvPr/>
        </p:nvGrpSpPr>
        <p:grpSpPr>
          <a:xfrm>
            <a:off x="4711680" y="4649760"/>
            <a:ext cx="1217520" cy="1517760"/>
            <a:chOff x="4711680" y="4649760"/>
            <a:chExt cx="1217520" cy="1517760"/>
          </a:xfrm>
        </p:grpSpPr>
        <p:sp>
          <p:nvSpPr>
            <p:cNvPr id="169" name="Freeform 18"/>
            <p:cNvSpPr/>
            <p:nvPr/>
          </p:nvSpPr>
          <p:spPr>
            <a:xfrm>
              <a:off x="4711680" y="4649760"/>
              <a:ext cx="1217520" cy="151776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9"/>
            <p:cNvSpPr/>
            <p:nvPr/>
          </p:nvSpPr>
          <p:spPr>
            <a:xfrm>
              <a:off x="5225400" y="4974120"/>
              <a:ext cx="201960" cy="1404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>
              <a:off x="5540760" y="5165640"/>
              <a:ext cx="201960" cy="1314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1"/>
            <p:cNvSpPr/>
            <p:nvPr/>
          </p:nvSpPr>
          <p:spPr>
            <a:xfrm>
              <a:off x="5450760" y="4749840"/>
              <a:ext cx="200520" cy="1472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"/>
            <p:cNvSpPr/>
            <p:nvPr/>
          </p:nvSpPr>
          <p:spPr>
            <a:xfrm>
              <a:off x="4916160" y="4795560"/>
              <a:ext cx="200520" cy="14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3"/>
            <p:cNvSpPr/>
            <p:nvPr/>
          </p:nvSpPr>
          <p:spPr>
            <a:xfrm>
              <a:off x="4985280" y="5207400"/>
              <a:ext cx="200520" cy="1472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"/>
            <p:cNvSpPr/>
            <p:nvPr/>
          </p:nvSpPr>
          <p:spPr>
            <a:xfrm>
              <a:off x="5022000" y="5581440"/>
              <a:ext cx="199440" cy="1328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"/>
            <p:cNvSpPr/>
            <p:nvPr/>
          </p:nvSpPr>
          <p:spPr>
            <a:xfrm>
              <a:off x="5311440" y="5559120"/>
              <a:ext cx="200520" cy="1328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6"/>
            <p:cNvSpPr/>
            <p:nvPr/>
          </p:nvSpPr>
          <p:spPr>
            <a:xfrm>
              <a:off x="5598000" y="5537160"/>
              <a:ext cx="200520" cy="131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7"/>
            <p:cNvSpPr/>
            <p:nvPr/>
          </p:nvSpPr>
          <p:spPr>
            <a:xfrm>
              <a:off x="5002200" y="5954040"/>
              <a:ext cx="199440" cy="1328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8"/>
            <p:cNvSpPr/>
            <p:nvPr/>
          </p:nvSpPr>
          <p:spPr>
            <a:xfrm>
              <a:off x="5280120" y="5939640"/>
              <a:ext cx="200520" cy="131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9"/>
            <p:cNvSpPr/>
            <p:nvPr/>
          </p:nvSpPr>
          <p:spPr>
            <a:xfrm>
              <a:off x="5552640" y="5914800"/>
              <a:ext cx="199440" cy="1328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4771440" y="5369040"/>
              <a:ext cx="21960" cy="194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4740120" y="4993560"/>
              <a:ext cx="21960" cy="19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2"/>
            <p:cNvSpPr/>
            <p:nvPr/>
          </p:nvSpPr>
          <p:spPr>
            <a:xfrm>
              <a:off x="4801320" y="5774040"/>
              <a:ext cx="23400" cy="1926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4721760" y="4799520"/>
              <a:ext cx="1185120" cy="129528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4771440" y="5369040"/>
              <a:ext cx="18000" cy="766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4740120" y="4993560"/>
              <a:ext cx="21960" cy="19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4848480" y="5401440"/>
              <a:ext cx="127440" cy="1353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5766480" y="5370120"/>
              <a:ext cx="118440" cy="5580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83"/>
          <p:cNvGrpSpPr/>
          <p:nvPr/>
        </p:nvGrpSpPr>
        <p:grpSpPr>
          <a:xfrm>
            <a:off x="2868480" y="4500720"/>
            <a:ext cx="1413000" cy="1622160"/>
            <a:chOff x="2868480" y="4500720"/>
            <a:chExt cx="1413000" cy="1622160"/>
          </a:xfrm>
        </p:grpSpPr>
        <p:sp>
          <p:nvSpPr>
            <p:cNvPr id="190" name="Freeform 7"/>
            <p:cNvSpPr/>
            <p:nvPr/>
          </p:nvSpPr>
          <p:spPr>
            <a:xfrm>
              <a:off x="2868480" y="4500720"/>
              <a:ext cx="1413000" cy="1622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3481200" y="4870800"/>
              <a:ext cx="201960" cy="1393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9"/>
            <p:cNvSpPr/>
            <p:nvPr/>
          </p:nvSpPr>
          <p:spPr>
            <a:xfrm>
              <a:off x="3869640" y="4924080"/>
              <a:ext cx="200520" cy="131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3535920" y="4590360"/>
              <a:ext cx="192960" cy="1393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>
              <a:off x="3117240" y="4823640"/>
              <a:ext cx="186120" cy="14724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3435480" y="5149440"/>
              <a:ext cx="209880" cy="13932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"/>
            <p:cNvSpPr/>
            <p:nvPr/>
          </p:nvSpPr>
          <p:spPr>
            <a:xfrm>
              <a:off x="3822840" y="5540400"/>
              <a:ext cx="158760" cy="171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3246480" y="5430960"/>
              <a:ext cx="122400" cy="1731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"/>
            <p:cNvSpPr/>
            <p:nvPr/>
          </p:nvSpPr>
          <p:spPr>
            <a:xfrm>
              <a:off x="2924280" y="5085720"/>
              <a:ext cx="120960" cy="1731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"/>
            <p:cNvSpPr/>
            <p:nvPr/>
          </p:nvSpPr>
          <p:spPr>
            <a:xfrm>
              <a:off x="3250440" y="5783040"/>
              <a:ext cx="120960" cy="1731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7"/>
            <p:cNvSpPr/>
            <p:nvPr/>
          </p:nvSpPr>
          <p:spPr>
            <a:xfrm>
              <a:off x="2932200" y="5457240"/>
              <a:ext cx="120960" cy="1746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3"/>
            <p:cNvSpPr/>
            <p:nvPr/>
          </p:nvSpPr>
          <p:spPr>
            <a:xfrm>
              <a:off x="2938680" y="4956840"/>
              <a:ext cx="1238400" cy="114012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1140120"/>
                <a:gd name="textAreaBottom" fmla="*/ 1140480 h 11401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5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9"/>
            <p:cNvSpPr/>
            <p:nvPr/>
          </p:nvSpPr>
          <p:spPr>
            <a:xfrm>
              <a:off x="3417120" y="5427000"/>
              <a:ext cx="147240" cy="96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f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ounded Rectangle 71"/>
          <p:cNvSpPr/>
          <p:nvPr/>
        </p:nvSpPr>
        <p:spPr>
          <a:xfrm>
            <a:off x="857160" y="1143000"/>
            <a:ext cx="1785960" cy="25002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500200"/>
              <a:gd name="textAreaBottom" fmla="*/ 2413080 h 25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73"/>
          <p:cNvSpPr/>
          <p:nvPr/>
        </p:nvSpPr>
        <p:spPr>
          <a:xfrm>
            <a:off x="6429240" y="1143000"/>
            <a:ext cx="1785960" cy="25002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500200"/>
              <a:gd name="textAreaBottom" fmla="*/ 2413080 h 25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122"/>
          <p:cNvSpPr/>
          <p:nvPr/>
        </p:nvSpPr>
        <p:spPr>
          <a:xfrm flipV="1">
            <a:off x="5715000" y="3785760"/>
            <a:ext cx="1500120" cy="7858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22"/>
          <p:cNvSpPr/>
          <p:nvPr/>
        </p:nvSpPr>
        <p:spPr>
          <a:xfrm flipH="1" flipV="1">
            <a:off x="1642680" y="3785760"/>
            <a:ext cx="1500120" cy="7858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966960" y="1238400"/>
            <a:ext cx="473040" cy="552240"/>
          </a:xfrm>
          <a:custGeom>
            <a:avLst/>
            <a:gdLst/>
            <a:ahLst/>
            <a:rect l="l" t="t" r="r" b="b"/>
            <a:pathLst>
              <a:path w="1309" h="1525">
                <a:moveTo>
                  <a:pt x="684" y="0"/>
                </a:moveTo>
                <a:lnTo>
                  <a:pt x="1063" y="514"/>
                </a:lnTo>
                <a:lnTo>
                  <a:pt x="1103" y="571"/>
                </a:lnTo>
                <a:lnTo>
                  <a:pt x="1140" y="624"/>
                </a:lnTo>
                <a:lnTo>
                  <a:pt x="1172" y="672"/>
                </a:lnTo>
                <a:lnTo>
                  <a:pt x="1199" y="716"/>
                </a:lnTo>
                <a:lnTo>
                  <a:pt x="1224" y="756"/>
                </a:lnTo>
                <a:lnTo>
                  <a:pt x="1243" y="791"/>
                </a:lnTo>
                <a:lnTo>
                  <a:pt x="1260" y="824"/>
                </a:lnTo>
                <a:lnTo>
                  <a:pt x="1274" y="852"/>
                </a:lnTo>
                <a:lnTo>
                  <a:pt x="1285" y="878"/>
                </a:lnTo>
                <a:lnTo>
                  <a:pt x="1293" y="900"/>
                </a:lnTo>
                <a:lnTo>
                  <a:pt x="1299" y="919"/>
                </a:lnTo>
                <a:lnTo>
                  <a:pt x="1303" y="935"/>
                </a:lnTo>
                <a:lnTo>
                  <a:pt x="1306" y="947"/>
                </a:lnTo>
                <a:lnTo>
                  <a:pt x="1308" y="958"/>
                </a:lnTo>
                <a:lnTo>
                  <a:pt x="1309" y="965"/>
                </a:lnTo>
                <a:lnTo>
                  <a:pt x="1309" y="974"/>
                </a:lnTo>
                <a:lnTo>
                  <a:pt x="1308" y="1023"/>
                </a:lnTo>
                <a:lnTo>
                  <a:pt x="1302" y="1066"/>
                </a:lnTo>
                <a:lnTo>
                  <a:pt x="1291" y="1104"/>
                </a:lnTo>
                <a:lnTo>
                  <a:pt x="1276" y="1139"/>
                </a:lnTo>
                <a:lnTo>
                  <a:pt x="1259" y="1169"/>
                </a:lnTo>
                <a:lnTo>
                  <a:pt x="1239" y="1196"/>
                </a:lnTo>
                <a:lnTo>
                  <a:pt x="1217" y="1219"/>
                </a:lnTo>
                <a:lnTo>
                  <a:pt x="1193" y="1239"/>
                </a:lnTo>
                <a:lnTo>
                  <a:pt x="1168" y="1256"/>
                </a:lnTo>
                <a:lnTo>
                  <a:pt x="1142" y="1269"/>
                </a:lnTo>
                <a:lnTo>
                  <a:pt x="1118" y="1281"/>
                </a:lnTo>
                <a:lnTo>
                  <a:pt x="1094" y="1289"/>
                </a:lnTo>
                <a:lnTo>
                  <a:pt x="1071" y="1298"/>
                </a:lnTo>
                <a:lnTo>
                  <a:pt x="1050" y="1303"/>
                </a:lnTo>
                <a:lnTo>
                  <a:pt x="1031" y="1306"/>
                </a:lnTo>
                <a:lnTo>
                  <a:pt x="1017" y="1308"/>
                </a:lnTo>
                <a:lnTo>
                  <a:pt x="1004" y="1310"/>
                </a:lnTo>
                <a:lnTo>
                  <a:pt x="998" y="1311"/>
                </a:lnTo>
                <a:lnTo>
                  <a:pt x="995" y="1311"/>
                </a:lnTo>
                <a:lnTo>
                  <a:pt x="953" y="1310"/>
                </a:lnTo>
                <a:lnTo>
                  <a:pt x="914" y="1302"/>
                </a:lnTo>
                <a:lnTo>
                  <a:pt x="880" y="1291"/>
                </a:lnTo>
                <a:lnTo>
                  <a:pt x="849" y="1275"/>
                </a:lnTo>
                <a:lnTo>
                  <a:pt x="822" y="1256"/>
                </a:lnTo>
                <a:lnTo>
                  <a:pt x="797" y="1234"/>
                </a:lnTo>
                <a:lnTo>
                  <a:pt x="777" y="1211"/>
                </a:lnTo>
                <a:lnTo>
                  <a:pt x="759" y="1187"/>
                </a:lnTo>
                <a:lnTo>
                  <a:pt x="745" y="1162"/>
                </a:lnTo>
                <a:lnTo>
                  <a:pt x="732" y="1139"/>
                </a:lnTo>
                <a:lnTo>
                  <a:pt x="723" y="1118"/>
                </a:lnTo>
                <a:lnTo>
                  <a:pt x="715" y="1097"/>
                </a:lnTo>
                <a:lnTo>
                  <a:pt x="709" y="1081"/>
                </a:lnTo>
                <a:lnTo>
                  <a:pt x="705" y="1068"/>
                </a:lnTo>
                <a:lnTo>
                  <a:pt x="703" y="1059"/>
                </a:lnTo>
                <a:lnTo>
                  <a:pt x="703" y="1057"/>
                </a:lnTo>
                <a:lnTo>
                  <a:pt x="696" y="1065"/>
                </a:lnTo>
                <a:lnTo>
                  <a:pt x="693" y="1078"/>
                </a:lnTo>
                <a:lnTo>
                  <a:pt x="693" y="1096"/>
                </a:lnTo>
                <a:lnTo>
                  <a:pt x="696" y="1118"/>
                </a:lnTo>
                <a:lnTo>
                  <a:pt x="703" y="1142"/>
                </a:lnTo>
                <a:lnTo>
                  <a:pt x="709" y="1170"/>
                </a:lnTo>
                <a:lnTo>
                  <a:pt x="720" y="1200"/>
                </a:lnTo>
                <a:lnTo>
                  <a:pt x="731" y="1233"/>
                </a:lnTo>
                <a:lnTo>
                  <a:pt x="743" y="1265"/>
                </a:lnTo>
                <a:lnTo>
                  <a:pt x="757" y="1298"/>
                </a:lnTo>
                <a:lnTo>
                  <a:pt x="772" y="1331"/>
                </a:lnTo>
                <a:lnTo>
                  <a:pt x="799" y="1394"/>
                </a:lnTo>
                <a:lnTo>
                  <a:pt x="811" y="1422"/>
                </a:lnTo>
                <a:lnTo>
                  <a:pt x="823" y="1448"/>
                </a:lnTo>
                <a:lnTo>
                  <a:pt x="850" y="1502"/>
                </a:lnTo>
                <a:lnTo>
                  <a:pt x="854" y="1511"/>
                </a:lnTo>
                <a:lnTo>
                  <a:pt x="856" y="1514"/>
                </a:lnTo>
                <a:lnTo>
                  <a:pt x="485" y="1525"/>
                </a:lnTo>
                <a:lnTo>
                  <a:pt x="517" y="1468"/>
                </a:lnTo>
                <a:lnTo>
                  <a:pt x="544" y="1417"/>
                </a:lnTo>
                <a:lnTo>
                  <a:pt x="567" y="1368"/>
                </a:lnTo>
                <a:lnTo>
                  <a:pt x="586" y="1325"/>
                </a:lnTo>
                <a:lnTo>
                  <a:pt x="601" y="1285"/>
                </a:lnTo>
                <a:lnTo>
                  <a:pt x="612" y="1249"/>
                </a:lnTo>
                <a:lnTo>
                  <a:pt x="620" y="1216"/>
                </a:lnTo>
                <a:lnTo>
                  <a:pt x="625" y="1187"/>
                </a:lnTo>
                <a:lnTo>
                  <a:pt x="630" y="1161"/>
                </a:lnTo>
                <a:lnTo>
                  <a:pt x="630" y="1119"/>
                </a:lnTo>
                <a:lnTo>
                  <a:pt x="628" y="1103"/>
                </a:lnTo>
                <a:lnTo>
                  <a:pt x="625" y="1089"/>
                </a:lnTo>
                <a:lnTo>
                  <a:pt x="621" y="1078"/>
                </a:lnTo>
                <a:lnTo>
                  <a:pt x="619" y="1069"/>
                </a:lnTo>
                <a:lnTo>
                  <a:pt x="615" y="1062"/>
                </a:lnTo>
                <a:lnTo>
                  <a:pt x="612" y="1058"/>
                </a:lnTo>
                <a:lnTo>
                  <a:pt x="611" y="1055"/>
                </a:lnTo>
                <a:lnTo>
                  <a:pt x="609" y="1054"/>
                </a:lnTo>
                <a:lnTo>
                  <a:pt x="608" y="1093"/>
                </a:lnTo>
                <a:lnTo>
                  <a:pt x="601" y="1128"/>
                </a:lnTo>
                <a:lnTo>
                  <a:pt x="590" y="1158"/>
                </a:lnTo>
                <a:lnTo>
                  <a:pt x="575" y="1185"/>
                </a:lnTo>
                <a:lnTo>
                  <a:pt x="558" y="1208"/>
                </a:lnTo>
                <a:lnTo>
                  <a:pt x="538" y="1227"/>
                </a:lnTo>
                <a:lnTo>
                  <a:pt x="516" y="1243"/>
                </a:lnTo>
                <a:lnTo>
                  <a:pt x="493" y="1256"/>
                </a:lnTo>
                <a:lnTo>
                  <a:pt x="471" y="1266"/>
                </a:lnTo>
                <a:lnTo>
                  <a:pt x="450" y="1275"/>
                </a:lnTo>
                <a:lnTo>
                  <a:pt x="429" y="1281"/>
                </a:lnTo>
                <a:lnTo>
                  <a:pt x="410" y="1285"/>
                </a:lnTo>
                <a:lnTo>
                  <a:pt x="395" y="1288"/>
                </a:lnTo>
                <a:lnTo>
                  <a:pt x="383" y="1289"/>
                </a:lnTo>
                <a:lnTo>
                  <a:pt x="375" y="1291"/>
                </a:lnTo>
                <a:lnTo>
                  <a:pt x="314" y="1291"/>
                </a:lnTo>
                <a:lnTo>
                  <a:pt x="263" y="1287"/>
                </a:lnTo>
                <a:lnTo>
                  <a:pt x="217" y="1280"/>
                </a:lnTo>
                <a:lnTo>
                  <a:pt x="176" y="1269"/>
                </a:lnTo>
                <a:lnTo>
                  <a:pt x="141" y="1257"/>
                </a:lnTo>
                <a:lnTo>
                  <a:pt x="111" y="1242"/>
                </a:lnTo>
                <a:lnTo>
                  <a:pt x="85" y="1225"/>
                </a:lnTo>
                <a:lnTo>
                  <a:pt x="64" y="1206"/>
                </a:lnTo>
                <a:lnTo>
                  <a:pt x="46" y="1187"/>
                </a:lnTo>
                <a:lnTo>
                  <a:pt x="31" y="1166"/>
                </a:lnTo>
                <a:lnTo>
                  <a:pt x="21" y="1145"/>
                </a:lnTo>
                <a:lnTo>
                  <a:pt x="12" y="1124"/>
                </a:lnTo>
                <a:lnTo>
                  <a:pt x="6" y="1103"/>
                </a:lnTo>
                <a:lnTo>
                  <a:pt x="3" y="1084"/>
                </a:lnTo>
                <a:lnTo>
                  <a:pt x="0" y="1063"/>
                </a:lnTo>
                <a:lnTo>
                  <a:pt x="0" y="1031"/>
                </a:lnTo>
                <a:lnTo>
                  <a:pt x="2" y="1016"/>
                </a:lnTo>
                <a:lnTo>
                  <a:pt x="3" y="1005"/>
                </a:lnTo>
                <a:lnTo>
                  <a:pt x="4" y="996"/>
                </a:lnTo>
                <a:lnTo>
                  <a:pt x="6" y="990"/>
                </a:lnTo>
                <a:lnTo>
                  <a:pt x="6" y="989"/>
                </a:lnTo>
                <a:lnTo>
                  <a:pt x="8" y="959"/>
                </a:lnTo>
                <a:lnTo>
                  <a:pt x="15" y="927"/>
                </a:lnTo>
                <a:lnTo>
                  <a:pt x="26" y="893"/>
                </a:lnTo>
                <a:lnTo>
                  <a:pt x="41" y="859"/>
                </a:lnTo>
                <a:lnTo>
                  <a:pt x="58" y="824"/>
                </a:lnTo>
                <a:lnTo>
                  <a:pt x="77" y="789"/>
                </a:lnTo>
                <a:lnTo>
                  <a:pt x="99" y="753"/>
                </a:lnTo>
                <a:lnTo>
                  <a:pt x="121" y="720"/>
                </a:lnTo>
                <a:lnTo>
                  <a:pt x="144" y="686"/>
                </a:lnTo>
                <a:lnTo>
                  <a:pt x="167" y="655"/>
                </a:lnTo>
                <a:lnTo>
                  <a:pt x="190" y="625"/>
                </a:lnTo>
                <a:lnTo>
                  <a:pt x="210" y="598"/>
                </a:lnTo>
                <a:lnTo>
                  <a:pt x="230" y="573"/>
                </a:lnTo>
                <a:lnTo>
                  <a:pt x="247" y="553"/>
                </a:lnTo>
                <a:lnTo>
                  <a:pt x="261" y="536"/>
                </a:lnTo>
                <a:lnTo>
                  <a:pt x="272" y="523"/>
                </a:lnTo>
                <a:lnTo>
                  <a:pt x="279" y="515"/>
                </a:lnTo>
                <a:lnTo>
                  <a:pt x="282" y="513"/>
                </a:lnTo>
                <a:lnTo>
                  <a:pt x="684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6558120" y="1265400"/>
            <a:ext cx="465120" cy="504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1288" h="1394">
                <a:moveTo>
                  <a:pt x="355" y="0"/>
                </a:moveTo>
                <a:lnTo>
                  <a:pt x="390" y="2"/>
                </a:lnTo>
                <a:lnTo>
                  <a:pt x="422" y="10"/>
                </a:lnTo>
                <a:lnTo>
                  <a:pt x="453" y="21"/>
                </a:lnTo>
                <a:lnTo>
                  <a:pt x="483" y="35"/>
                </a:lnTo>
                <a:lnTo>
                  <a:pt x="509" y="50"/>
                </a:lnTo>
                <a:lnTo>
                  <a:pt x="533" y="66"/>
                </a:lnTo>
                <a:lnTo>
                  <a:pt x="555" y="84"/>
                </a:lnTo>
                <a:lnTo>
                  <a:pt x="575" y="101"/>
                </a:lnTo>
                <a:lnTo>
                  <a:pt x="591" y="117"/>
                </a:lnTo>
                <a:lnTo>
                  <a:pt x="605" y="132"/>
                </a:lnTo>
                <a:lnTo>
                  <a:pt x="616" y="144"/>
                </a:lnTo>
                <a:lnTo>
                  <a:pt x="624" y="154"/>
                </a:lnTo>
                <a:lnTo>
                  <a:pt x="629" y="161"/>
                </a:lnTo>
                <a:lnTo>
                  <a:pt x="631" y="163"/>
                </a:lnTo>
                <a:lnTo>
                  <a:pt x="682" y="120"/>
                </a:lnTo>
                <a:lnTo>
                  <a:pt x="729" y="84"/>
                </a:lnTo>
                <a:lnTo>
                  <a:pt x="777" y="54"/>
                </a:lnTo>
                <a:lnTo>
                  <a:pt x="820" y="32"/>
                </a:lnTo>
                <a:lnTo>
                  <a:pt x="862" y="16"/>
                </a:lnTo>
                <a:lnTo>
                  <a:pt x="901" y="6"/>
                </a:lnTo>
                <a:lnTo>
                  <a:pt x="939" y="1"/>
                </a:lnTo>
                <a:lnTo>
                  <a:pt x="974" y="0"/>
                </a:lnTo>
                <a:lnTo>
                  <a:pt x="1007" y="4"/>
                </a:lnTo>
                <a:lnTo>
                  <a:pt x="1038" y="10"/>
                </a:lnTo>
                <a:lnTo>
                  <a:pt x="1066" y="21"/>
                </a:lnTo>
                <a:lnTo>
                  <a:pt x="1092" y="33"/>
                </a:lnTo>
                <a:lnTo>
                  <a:pt x="1117" y="48"/>
                </a:lnTo>
                <a:lnTo>
                  <a:pt x="1138" y="65"/>
                </a:lnTo>
                <a:lnTo>
                  <a:pt x="1158" y="82"/>
                </a:lnTo>
                <a:lnTo>
                  <a:pt x="1176" y="100"/>
                </a:lnTo>
                <a:lnTo>
                  <a:pt x="1192" y="117"/>
                </a:lnTo>
                <a:lnTo>
                  <a:pt x="1206" y="135"/>
                </a:lnTo>
                <a:lnTo>
                  <a:pt x="1217" y="150"/>
                </a:lnTo>
                <a:lnTo>
                  <a:pt x="1226" y="165"/>
                </a:lnTo>
                <a:lnTo>
                  <a:pt x="1233" y="176"/>
                </a:lnTo>
                <a:lnTo>
                  <a:pt x="1238" y="185"/>
                </a:lnTo>
                <a:lnTo>
                  <a:pt x="1242" y="193"/>
                </a:lnTo>
                <a:lnTo>
                  <a:pt x="1264" y="238"/>
                </a:lnTo>
                <a:lnTo>
                  <a:pt x="1278" y="284"/>
                </a:lnTo>
                <a:lnTo>
                  <a:pt x="1286" y="330"/>
                </a:lnTo>
                <a:lnTo>
                  <a:pt x="1288" y="375"/>
                </a:lnTo>
                <a:lnTo>
                  <a:pt x="1284" y="419"/>
                </a:lnTo>
                <a:lnTo>
                  <a:pt x="1278" y="464"/>
                </a:lnTo>
                <a:lnTo>
                  <a:pt x="1265" y="507"/>
                </a:lnTo>
                <a:lnTo>
                  <a:pt x="1250" y="549"/>
                </a:lnTo>
                <a:lnTo>
                  <a:pt x="1234" y="590"/>
                </a:lnTo>
                <a:lnTo>
                  <a:pt x="1214" y="629"/>
                </a:lnTo>
                <a:lnTo>
                  <a:pt x="1192" y="666"/>
                </a:lnTo>
                <a:lnTo>
                  <a:pt x="1171" y="699"/>
                </a:lnTo>
                <a:lnTo>
                  <a:pt x="1149" y="732"/>
                </a:lnTo>
                <a:lnTo>
                  <a:pt x="1127" y="762"/>
                </a:lnTo>
                <a:lnTo>
                  <a:pt x="1106" y="787"/>
                </a:lnTo>
                <a:lnTo>
                  <a:pt x="1087" y="810"/>
                </a:lnTo>
                <a:lnTo>
                  <a:pt x="1069" y="829"/>
                </a:lnTo>
                <a:lnTo>
                  <a:pt x="1054" y="846"/>
                </a:lnTo>
                <a:lnTo>
                  <a:pt x="1034" y="866"/>
                </a:lnTo>
                <a:lnTo>
                  <a:pt x="1003" y="896"/>
                </a:lnTo>
                <a:lnTo>
                  <a:pt x="972" y="929"/>
                </a:lnTo>
                <a:lnTo>
                  <a:pt x="941" y="965"/>
                </a:lnTo>
                <a:lnTo>
                  <a:pt x="909" y="1001"/>
                </a:lnTo>
                <a:lnTo>
                  <a:pt x="878" y="1039"/>
                </a:lnTo>
                <a:lnTo>
                  <a:pt x="847" y="1078"/>
                </a:lnTo>
                <a:lnTo>
                  <a:pt x="817" y="1118"/>
                </a:lnTo>
                <a:lnTo>
                  <a:pt x="789" y="1156"/>
                </a:lnTo>
                <a:lnTo>
                  <a:pt x="762" y="1193"/>
                </a:lnTo>
                <a:lnTo>
                  <a:pt x="738" y="1230"/>
                </a:lnTo>
                <a:lnTo>
                  <a:pt x="713" y="1264"/>
                </a:lnTo>
                <a:lnTo>
                  <a:pt x="693" y="1295"/>
                </a:lnTo>
                <a:lnTo>
                  <a:pt x="674" y="1323"/>
                </a:lnTo>
                <a:lnTo>
                  <a:pt x="658" y="1346"/>
                </a:lnTo>
                <a:lnTo>
                  <a:pt x="646" y="1367"/>
                </a:lnTo>
                <a:lnTo>
                  <a:pt x="636" y="1382"/>
                </a:lnTo>
                <a:lnTo>
                  <a:pt x="629" y="1391"/>
                </a:lnTo>
                <a:lnTo>
                  <a:pt x="628" y="1394"/>
                </a:lnTo>
                <a:lnTo>
                  <a:pt x="616" y="1359"/>
                </a:lnTo>
                <a:lnTo>
                  <a:pt x="600" y="1322"/>
                </a:lnTo>
                <a:lnTo>
                  <a:pt x="581" y="1284"/>
                </a:lnTo>
                <a:lnTo>
                  <a:pt x="559" y="1246"/>
                </a:lnTo>
                <a:lnTo>
                  <a:pt x="535" y="1208"/>
                </a:lnTo>
                <a:lnTo>
                  <a:pt x="508" y="1170"/>
                </a:lnTo>
                <a:lnTo>
                  <a:pt x="479" y="1132"/>
                </a:lnTo>
                <a:lnTo>
                  <a:pt x="451" y="1096"/>
                </a:lnTo>
                <a:lnTo>
                  <a:pt x="421" y="1059"/>
                </a:lnTo>
                <a:lnTo>
                  <a:pt x="392" y="1026"/>
                </a:lnTo>
                <a:lnTo>
                  <a:pt x="363" y="993"/>
                </a:lnTo>
                <a:lnTo>
                  <a:pt x="336" y="962"/>
                </a:lnTo>
                <a:lnTo>
                  <a:pt x="309" y="934"/>
                </a:lnTo>
                <a:lnTo>
                  <a:pt x="284" y="909"/>
                </a:lnTo>
                <a:lnTo>
                  <a:pt x="263" y="886"/>
                </a:lnTo>
                <a:lnTo>
                  <a:pt x="227" y="851"/>
                </a:lnTo>
                <a:lnTo>
                  <a:pt x="215" y="840"/>
                </a:lnTo>
                <a:lnTo>
                  <a:pt x="206" y="831"/>
                </a:lnTo>
                <a:lnTo>
                  <a:pt x="157" y="770"/>
                </a:lnTo>
                <a:lnTo>
                  <a:pt x="115" y="712"/>
                </a:lnTo>
                <a:lnTo>
                  <a:pt x="81" y="655"/>
                </a:lnTo>
                <a:lnTo>
                  <a:pt x="54" y="602"/>
                </a:lnTo>
                <a:lnTo>
                  <a:pt x="34" y="550"/>
                </a:lnTo>
                <a:lnTo>
                  <a:pt x="18" y="502"/>
                </a:lnTo>
                <a:lnTo>
                  <a:pt x="8" y="456"/>
                </a:lnTo>
                <a:lnTo>
                  <a:pt x="1" y="412"/>
                </a:lnTo>
                <a:lnTo>
                  <a:pt x="0" y="372"/>
                </a:lnTo>
                <a:lnTo>
                  <a:pt x="1" y="334"/>
                </a:lnTo>
                <a:lnTo>
                  <a:pt x="5" y="300"/>
                </a:lnTo>
                <a:lnTo>
                  <a:pt x="11" y="269"/>
                </a:lnTo>
                <a:lnTo>
                  <a:pt x="19" y="241"/>
                </a:lnTo>
                <a:lnTo>
                  <a:pt x="27" y="216"/>
                </a:lnTo>
                <a:lnTo>
                  <a:pt x="35" y="194"/>
                </a:lnTo>
                <a:lnTo>
                  <a:pt x="45" y="177"/>
                </a:lnTo>
                <a:lnTo>
                  <a:pt x="51" y="163"/>
                </a:lnTo>
                <a:lnTo>
                  <a:pt x="58" y="154"/>
                </a:lnTo>
                <a:lnTo>
                  <a:pt x="62" y="148"/>
                </a:lnTo>
                <a:lnTo>
                  <a:pt x="64" y="146"/>
                </a:lnTo>
                <a:lnTo>
                  <a:pt x="110" y="102"/>
                </a:lnTo>
                <a:lnTo>
                  <a:pt x="154" y="67"/>
                </a:lnTo>
                <a:lnTo>
                  <a:pt x="196" y="40"/>
                </a:lnTo>
                <a:lnTo>
                  <a:pt x="238" y="20"/>
                </a:lnTo>
                <a:lnTo>
                  <a:pt x="279" y="8"/>
                </a:lnTo>
                <a:lnTo>
                  <a:pt x="318" y="1"/>
                </a:lnTo>
                <a:lnTo>
                  <a:pt x="355" y="0"/>
                </a:lnTo>
                <a:close/>
              </a:path>
            </a:pathLst>
          </a:cu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21"/>
          <p:cNvSpPr/>
          <p:nvPr/>
        </p:nvSpPr>
        <p:spPr>
          <a:xfrm>
            <a:off x="1071720" y="199224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21"/>
          <p:cNvSpPr/>
          <p:nvPr/>
        </p:nvSpPr>
        <p:spPr>
          <a:xfrm>
            <a:off x="6715080" y="19922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21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29"/>
          <p:cNvGrpSpPr/>
          <p:nvPr/>
        </p:nvGrpSpPr>
        <p:grpSpPr>
          <a:xfrm>
            <a:off x="3909960" y="3666960"/>
            <a:ext cx="1474920" cy="1694160"/>
            <a:chOff x="3909960" y="3666960"/>
            <a:chExt cx="1474920" cy="1694160"/>
          </a:xfrm>
        </p:grpSpPr>
        <p:sp>
          <p:nvSpPr>
            <p:cNvPr id="219" name="Freeform 7"/>
            <p:cNvSpPr/>
            <p:nvPr/>
          </p:nvSpPr>
          <p:spPr>
            <a:xfrm>
              <a:off x="3909960" y="3666960"/>
              <a:ext cx="147492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4549320" y="4053240"/>
              <a:ext cx="210600" cy="1454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4628880" y="508284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396828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430848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3"/>
            <p:cNvSpPr/>
            <p:nvPr/>
          </p:nvSpPr>
          <p:spPr>
            <a:xfrm>
              <a:off x="3983400" y="4143240"/>
              <a:ext cx="1292760" cy="119088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9"/>
            <p:cNvSpPr/>
            <p:nvPr/>
          </p:nvSpPr>
          <p:spPr>
            <a:xfrm>
              <a:off x="448272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4130280" y="46612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4634640" y="48826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4646520" y="4673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5103720" y="48034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5109480" y="46029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5121000" y="43945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Equal 131"/>
          <p:cNvSpPr/>
          <p:nvPr/>
        </p:nvSpPr>
        <p:spPr>
          <a:xfrm>
            <a:off x="5553000" y="4076640"/>
            <a:ext cx="928800" cy="92880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123098" y="191310"/>
                </a:moveTo>
                <a:lnTo>
                  <a:pt x="805590" y="191310"/>
                </a:lnTo>
                <a:lnTo>
                  <a:pt x="805590" y="409737"/>
                </a:lnTo>
                <a:lnTo>
                  <a:pt x="123098" y="409737"/>
                </a:lnTo>
                <a:lnTo>
                  <a:pt x="123098" y="191310"/>
                </a:lnTo>
                <a:close/>
                <a:moveTo>
                  <a:pt x="123098" y="518951"/>
                </a:moveTo>
                <a:lnTo>
                  <a:pt x="805590" y="518951"/>
                </a:lnTo>
                <a:lnTo>
                  <a:pt x="805590" y="737378"/>
                </a:lnTo>
                <a:lnTo>
                  <a:pt x="123098" y="737378"/>
                </a:lnTo>
                <a:lnTo>
                  <a:pt x="123098" y="5189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32"/>
          <p:cNvGrpSpPr/>
          <p:nvPr/>
        </p:nvGrpSpPr>
        <p:grpSpPr>
          <a:xfrm>
            <a:off x="6510240" y="1214280"/>
            <a:ext cx="1828800" cy="1981440"/>
            <a:chOff x="6510240" y="1214280"/>
            <a:chExt cx="1828800" cy="1981440"/>
          </a:xfrm>
        </p:grpSpPr>
        <p:sp>
          <p:nvSpPr>
            <p:cNvPr id="234" name="Round Diagonal Corner Rectangle 133"/>
            <p:cNvSpPr/>
            <p:nvPr/>
          </p:nvSpPr>
          <p:spPr>
            <a:xfrm>
              <a:off x="651024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ound Diagonal Corner Rectangle 134"/>
            <p:cNvSpPr/>
            <p:nvPr/>
          </p:nvSpPr>
          <p:spPr>
            <a:xfrm>
              <a:off x="655308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4" h="1876438">
                  <a:moveTo>
                    <a:pt x="365637" y="0"/>
                  </a:moveTo>
                  <a:lnTo>
                    <a:pt x="1731974" y="0"/>
                  </a:lnTo>
                  <a:lnTo>
                    <a:pt x="1731974" y="0"/>
                  </a:lnTo>
                  <a:lnTo>
                    <a:pt x="1731974" y="1510801"/>
                  </a:lnTo>
                  <a:cubicBezTo>
                    <a:pt x="1731974" y="1712737"/>
                    <a:pt x="1568273" y="1876438"/>
                    <a:pt x="1366337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Прямоугольник 121"/>
          <p:cNvSpPr/>
          <p:nvPr/>
        </p:nvSpPr>
        <p:spPr>
          <a:xfrm>
            <a:off x="681516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53"/>
          <p:cNvGrpSpPr/>
          <p:nvPr/>
        </p:nvGrpSpPr>
        <p:grpSpPr>
          <a:xfrm>
            <a:off x="6705720" y="3666960"/>
            <a:ext cx="1488960" cy="1711440"/>
            <a:chOff x="6705720" y="3666960"/>
            <a:chExt cx="1488960" cy="1711440"/>
          </a:xfrm>
        </p:grpSpPr>
        <p:sp>
          <p:nvSpPr>
            <p:cNvPr id="238" name="Freeform 7"/>
            <p:cNvSpPr/>
            <p:nvPr/>
          </p:nvSpPr>
          <p:spPr>
            <a:xfrm>
              <a:off x="6705720" y="3666960"/>
              <a:ext cx="1488960" cy="171144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"/>
            <p:cNvSpPr/>
            <p:nvPr/>
          </p:nvSpPr>
          <p:spPr>
            <a:xfrm>
              <a:off x="7351200" y="4057200"/>
              <a:ext cx="212760" cy="146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>
              <a:off x="7760880" y="4113720"/>
              <a:ext cx="211320" cy="1386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7409160" y="3761640"/>
              <a:ext cx="203040" cy="1468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6967800" y="4007880"/>
              <a:ext cx="196200" cy="155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7303320" y="4351320"/>
              <a:ext cx="221040" cy="1468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7711200" y="4763880"/>
              <a:ext cx="167400" cy="181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7103880" y="4648320"/>
              <a:ext cx="128880" cy="182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6764760" y="428400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7108200" y="501984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6773040" y="4676040"/>
              <a:ext cx="127440" cy="1839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6779880" y="4147920"/>
              <a:ext cx="1305000" cy="1202760"/>
            </a:xfrm>
            <a:custGeom>
              <a:avLst/>
              <a:gdLst>
                <a:gd name="textAreaLeft" fmla="*/ 0 w 1305000"/>
                <a:gd name="textAreaRight" fmla="*/ 1305360 w 1305000"/>
                <a:gd name="textAreaTop" fmla="*/ 0 h 1202760"/>
                <a:gd name="textAreaBottom" fmla="*/ 1203120 h 120276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9"/>
            <p:cNvSpPr/>
            <p:nvPr/>
          </p:nvSpPr>
          <p:spPr>
            <a:xfrm>
              <a:off x="7283880" y="4644360"/>
              <a:ext cx="155160" cy="101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80"/>
          <p:cNvGrpSpPr/>
          <p:nvPr/>
        </p:nvGrpSpPr>
        <p:grpSpPr>
          <a:xfrm>
            <a:off x="1025640" y="3666960"/>
            <a:ext cx="1474560" cy="1694160"/>
            <a:chOff x="1025640" y="3666960"/>
            <a:chExt cx="1474560" cy="1694160"/>
          </a:xfrm>
        </p:grpSpPr>
        <p:sp>
          <p:nvSpPr>
            <p:cNvPr id="252" name="Freeform 7"/>
            <p:cNvSpPr/>
            <p:nvPr/>
          </p:nvSpPr>
          <p:spPr>
            <a:xfrm>
              <a:off x="1025640" y="3666960"/>
              <a:ext cx="147456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1231560" y="40219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2021400" y="47530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1420200" y="463860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108396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142416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1092240" y="466596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3"/>
            <p:cNvSpPr/>
            <p:nvPr/>
          </p:nvSpPr>
          <p:spPr>
            <a:xfrm>
              <a:off x="1099080" y="4143240"/>
              <a:ext cx="1292400" cy="11908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9"/>
            <p:cNvSpPr/>
            <p:nvPr/>
          </p:nvSpPr>
          <p:spPr>
            <a:xfrm>
              <a:off x="159840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2257560" y="44143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"/>
            <p:cNvSpPr/>
            <p:nvPr/>
          </p:nvSpPr>
          <p:spPr>
            <a:xfrm>
              <a:off x="2282760" y="4794840"/>
              <a:ext cx="13968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"/>
            <p:cNvSpPr/>
            <p:nvPr/>
          </p:nvSpPr>
          <p:spPr>
            <a:xfrm>
              <a:off x="1748160" y="5069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"/>
            <p:cNvSpPr/>
            <p:nvPr/>
          </p:nvSpPr>
          <p:spPr>
            <a:xfrm>
              <a:off x="1748160" y="46875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2"/>
            <p:cNvSpPr/>
            <p:nvPr/>
          </p:nvSpPr>
          <p:spPr>
            <a:xfrm>
              <a:off x="1428120" y="42022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8280" y="43801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1687320" y="37630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1884240" y="39430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"/>
            <p:cNvSpPr/>
            <p:nvPr/>
          </p:nvSpPr>
          <p:spPr>
            <a:xfrm>
              <a:off x="2084400" y="41212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Minus 78"/>
          <p:cNvSpPr/>
          <p:nvPr/>
        </p:nvSpPr>
        <p:spPr>
          <a:xfrm>
            <a:off x="2727360" y="4108320"/>
            <a:ext cx="879480" cy="879480"/>
          </a:xfrm>
          <a:custGeom>
            <a:avLst/>
            <a:gdLst/>
            <a:ahLst/>
            <a:rect l="l" t="t" r="r" b="b"/>
            <a:pathLst>
              <a:path w="879475" h="879475">
                <a:moveTo>
                  <a:pt x="116574" y="336311"/>
                </a:moveTo>
                <a:lnTo>
                  <a:pt x="762901" y="336311"/>
                </a:lnTo>
                <a:lnTo>
                  <a:pt x="762901" y="543164"/>
                </a:lnTo>
                <a:lnTo>
                  <a:pt x="116574" y="543164"/>
                </a:lnTo>
                <a:lnTo>
                  <a:pt x="116574" y="33631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7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27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68"/>
          <p:cNvGrpSpPr/>
          <p:nvPr/>
        </p:nvGrpSpPr>
        <p:grpSpPr>
          <a:xfrm>
            <a:off x="1959120" y="4286160"/>
            <a:ext cx="898560" cy="1121040"/>
            <a:chOff x="1959120" y="4286160"/>
            <a:chExt cx="898560" cy="1121040"/>
          </a:xfrm>
        </p:grpSpPr>
        <p:sp>
          <p:nvSpPr>
            <p:cNvPr id="279" name="Freeform 18"/>
            <p:cNvSpPr/>
            <p:nvPr/>
          </p:nvSpPr>
          <p:spPr>
            <a:xfrm>
              <a:off x="1959120" y="4286160"/>
              <a:ext cx="898560" cy="112104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2338200" y="4525560"/>
              <a:ext cx="149040" cy="103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2571120" y="4667040"/>
              <a:ext cx="149040" cy="97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2504520" y="4359960"/>
              <a:ext cx="147960" cy="1087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2109960" y="4393800"/>
              <a:ext cx="147960" cy="1036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2161080" y="4698000"/>
              <a:ext cx="147960" cy="1087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2188080" y="4974120"/>
              <a:ext cx="147240" cy="979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2401560" y="4957920"/>
              <a:ext cx="147960" cy="979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2613240" y="4941360"/>
              <a:ext cx="147960" cy="972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2173680" y="5249520"/>
              <a:ext cx="147240" cy="979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2378520" y="5239080"/>
              <a:ext cx="147960" cy="972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2579760" y="5220720"/>
              <a:ext cx="147240" cy="9792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2003040" y="4817160"/>
              <a:ext cx="16200" cy="143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1980000" y="4539960"/>
              <a:ext cx="16200" cy="142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2025360" y="5116680"/>
              <a:ext cx="17280" cy="1422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4"/>
            <p:cNvSpPr/>
            <p:nvPr/>
          </p:nvSpPr>
          <p:spPr>
            <a:xfrm>
              <a:off x="1967040" y="4397040"/>
              <a:ext cx="874800" cy="956160"/>
            </a:xfrm>
            <a:custGeom>
              <a:avLst/>
              <a:gdLst/>
              <a:ahLst/>
              <a:rect l="l" t="t" r="r" b="b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5"/>
            <p:cNvSpPr/>
            <p:nvPr/>
          </p:nvSpPr>
          <p:spPr>
            <a:xfrm>
              <a:off x="2003040" y="4817160"/>
              <a:ext cx="13320" cy="565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6"/>
            <p:cNvSpPr/>
            <p:nvPr/>
          </p:nvSpPr>
          <p:spPr>
            <a:xfrm>
              <a:off x="1980000" y="4539960"/>
              <a:ext cx="16200" cy="142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7"/>
            <p:cNvSpPr/>
            <p:nvPr/>
          </p:nvSpPr>
          <p:spPr>
            <a:xfrm>
              <a:off x="2060640" y="4842000"/>
              <a:ext cx="93600" cy="99720"/>
            </a:xfrm>
            <a:custGeom>
              <a:avLst/>
              <a:gdLst/>
              <a:ahLst/>
              <a:rect l="l" t="t" r="r" b="b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8"/>
            <p:cNvSpPr/>
            <p:nvPr/>
          </p:nvSpPr>
          <p:spPr>
            <a:xfrm>
              <a:off x="2737080" y="4818240"/>
              <a:ext cx="87120" cy="41040"/>
            </a:xfrm>
            <a:custGeom>
              <a:avLst/>
              <a:gdLst/>
              <a:ahLst/>
              <a:rect l="l" t="t" r="r" b="b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67"/>
          <p:cNvGrpSpPr/>
          <p:nvPr/>
        </p:nvGrpSpPr>
        <p:grpSpPr>
          <a:xfrm>
            <a:off x="5786280" y="4592520"/>
            <a:ext cx="1413000" cy="1622520"/>
            <a:chOff x="5786280" y="4592520"/>
            <a:chExt cx="1413000" cy="1622520"/>
          </a:xfrm>
        </p:grpSpPr>
        <p:sp>
          <p:nvSpPr>
            <p:cNvPr id="300" name="Freeform 7"/>
            <p:cNvSpPr/>
            <p:nvPr/>
          </p:nvSpPr>
          <p:spPr>
            <a:xfrm>
              <a:off x="5786280" y="4592520"/>
              <a:ext cx="1413000" cy="162252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8"/>
            <p:cNvSpPr/>
            <p:nvPr/>
          </p:nvSpPr>
          <p:spPr>
            <a:xfrm>
              <a:off x="6399000" y="4962600"/>
              <a:ext cx="201960" cy="1393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"/>
            <p:cNvSpPr/>
            <p:nvPr/>
          </p:nvSpPr>
          <p:spPr>
            <a:xfrm>
              <a:off x="6787440" y="5015880"/>
              <a:ext cx="200520" cy="131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"/>
            <p:cNvSpPr/>
            <p:nvPr/>
          </p:nvSpPr>
          <p:spPr>
            <a:xfrm>
              <a:off x="6453720" y="4682160"/>
              <a:ext cx="192960" cy="1393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"/>
            <p:cNvSpPr/>
            <p:nvPr/>
          </p:nvSpPr>
          <p:spPr>
            <a:xfrm>
              <a:off x="6035040" y="4915440"/>
              <a:ext cx="186120" cy="14724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2"/>
            <p:cNvSpPr/>
            <p:nvPr/>
          </p:nvSpPr>
          <p:spPr>
            <a:xfrm>
              <a:off x="6353280" y="5241600"/>
              <a:ext cx="209880" cy="13932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3"/>
            <p:cNvSpPr/>
            <p:nvPr/>
          </p:nvSpPr>
          <p:spPr>
            <a:xfrm>
              <a:off x="6740640" y="5632560"/>
              <a:ext cx="158760" cy="171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>
              <a:off x="6164280" y="5523120"/>
              <a:ext cx="122400" cy="1731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5"/>
            <p:cNvSpPr/>
            <p:nvPr/>
          </p:nvSpPr>
          <p:spPr>
            <a:xfrm>
              <a:off x="5842080" y="5177520"/>
              <a:ext cx="120960" cy="1731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"/>
            <p:cNvSpPr/>
            <p:nvPr/>
          </p:nvSpPr>
          <p:spPr>
            <a:xfrm>
              <a:off x="6168240" y="5874840"/>
              <a:ext cx="120960" cy="1731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7"/>
            <p:cNvSpPr/>
            <p:nvPr/>
          </p:nvSpPr>
          <p:spPr>
            <a:xfrm>
              <a:off x="5850000" y="5549040"/>
              <a:ext cx="120960" cy="1746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3"/>
            <p:cNvSpPr/>
            <p:nvPr/>
          </p:nvSpPr>
          <p:spPr>
            <a:xfrm>
              <a:off x="5856120" y="5047920"/>
              <a:ext cx="1238400" cy="114156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9"/>
            <p:cNvSpPr/>
            <p:nvPr/>
          </p:nvSpPr>
          <p:spPr>
            <a:xfrm>
              <a:off x="6335640" y="5519880"/>
              <a:ext cx="145800" cy="9504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ounded Rectangle 71"/>
          <p:cNvSpPr/>
          <p:nvPr/>
        </p:nvSpPr>
        <p:spPr>
          <a:xfrm>
            <a:off x="2500200" y="1143000"/>
            <a:ext cx="1785960" cy="25002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500200"/>
              <a:gd name="textAreaBottom" fmla="*/ 2413080 h 25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73"/>
          <p:cNvSpPr/>
          <p:nvPr/>
        </p:nvSpPr>
        <p:spPr>
          <a:xfrm>
            <a:off x="4929120" y="1143000"/>
            <a:ext cx="1785960" cy="25002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500200"/>
              <a:gd name="textAreaBottom" fmla="*/ 2413080 h 25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ая соединительная линия 122"/>
          <p:cNvSpPr/>
          <p:nvPr/>
        </p:nvSpPr>
        <p:spPr>
          <a:xfrm flipH="1" flipV="1">
            <a:off x="5786280" y="3714480"/>
            <a:ext cx="500400" cy="8571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122"/>
          <p:cNvSpPr/>
          <p:nvPr/>
        </p:nvSpPr>
        <p:spPr>
          <a:xfrm flipV="1">
            <a:off x="2714760" y="3714480"/>
            <a:ext cx="642960" cy="50004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2600280" y="1243080"/>
            <a:ext cx="536760" cy="541440"/>
          </a:xfrm>
          <a:custGeom>
            <a:avLst/>
            <a:gdLst>
              <a:gd name="textAreaLeft" fmla="*/ 0 w 536760"/>
              <a:gd name="textAreaRight" fmla="*/ 537120 w 53676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1483" h="1497">
                <a:moveTo>
                  <a:pt x="740" y="885"/>
                </a:moveTo>
                <a:lnTo>
                  <a:pt x="737" y="911"/>
                </a:lnTo>
                <a:lnTo>
                  <a:pt x="732" y="935"/>
                </a:lnTo>
                <a:lnTo>
                  <a:pt x="751" y="927"/>
                </a:lnTo>
                <a:lnTo>
                  <a:pt x="745" y="907"/>
                </a:lnTo>
                <a:lnTo>
                  <a:pt x="740" y="885"/>
                </a:lnTo>
                <a:close/>
                <a:moveTo>
                  <a:pt x="732" y="743"/>
                </a:moveTo>
                <a:lnTo>
                  <a:pt x="737" y="763"/>
                </a:lnTo>
                <a:lnTo>
                  <a:pt x="741" y="783"/>
                </a:lnTo>
                <a:lnTo>
                  <a:pt x="745" y="764"/>
                </a:lnTo>
                <a:lnTo>
                  <a:pt x="748" y="744"/>
                </a:lnTo>
                <a:lnTo>
                  <a:pt x="732" y="743"/>
                </a:lnTo>
                <a:close/>
                <a:moveTo>
                  <a:pt x="768" y="0"/>
                </a:moveTo>
                <a:lnTo>
                  <a:pt x="819" y="4"/>
                </a:lnTo>
                <a:lnTo>
                  <a:pt x="866" y="13"/>
                </a:lnTo>
                <a:lnTo>
                  <a:pt x="912" y="28"/>
                </a:lnTo>
                <a:lnTo>
                  <a:pt x="955" y="50"/>
                </a:lnTo>
                <a:lnTo>
                  <a:pt x="994" y="76"/>
                </a:lnTo>
                <a:lnTo>
                  <a:pt x="1031" y="107"/>
                </a:lnTo>
                <a:lnTo>
                  <a:pt x="1064" y="142"/>
                </a:lnTo>
                <a:lnTo>
                  <a:pt x="1091" y="182"/>
                </a:lnTo>
                <a:lnTo>
                  <a:pt x="1112" y="226"/>
                </a:lnTo>
                <a:lnTo>
                  <a:pt x="1128" y="272"/>
                </a:lnTo>
                <a:lnTo>
                  <a:pt x="1139" y="322"/>
                </a:lnTo>
                <a:lnTo>
                  <a:pt x="1142" y="369"/>
                </a:lnTo>
                <a:lnTo>
                  <a:pt x="1139" y="415"/>
                </a:lnTo>
                <a:lnTo>
                  <a:pt x="1131" y="460"/>
                </a:lnTo>
                <a:lnTo>
                  <a:pt x="1183" y="467"/>
                </a:lnTo>
                <a:lnTo>
                  <a:pt x="1233" y="480"/>
                </a:lnTo>
                <a:lnTo>
                  <a:pt x="1279" y="501"/>
                </a:lnTo>
                <a:lnTo>
                  <a:pt x="1322" y="526"/>
                </a:lnTo>
                <a:lnTo>
                  <a:pt x="1361" y="557"/>
                </a:lnTo>
                <a:lnTo>
                  <a:pt x="1396" y="594"/>
                </a:lnTo>
                <a:lnTo>
                  <a:pt x="1426" y="635"/>
                </a:lnTo>
                <a:lnTo>
                  <a:pt x="1451" y="679"/>
                </a:lnTo>
                <a:lnTo>
                  <a:pt x="1468" y="729"/>
                </a:lnTo>
                <a:lnTo>
                  <a:pt x="1479" y="781"/>
                </a:lnTo>
                <a:lnTo>
                  <a:pt x="1483" y="831"/>
                </a:lnTo>
                <a:lnTo>
                  <a:pt x="1479" y="881"/>
                </a:lnTo>
                <a:lnTo>
                  <a:pt x="1470" y="928"/>
                </a:lnTo>
                <a:lnTo>
                  <a:pt x="1455" y="974"/>
                </a:lnTo>
                <a:lnTo>
                  <a:pt x="1433" y="1018"/>
                </a:lnTo>
                <a:lnTo>
                  <a:pt x="1407" y="1057"/>
                </a:lnTo>
                <a:lnTo>
                  <a:pt x="1376" y="1093"/>
                </a:lnTo>
                <a:lnTo>
                  <a:pt x="1341" y="1126"/>
                </a:lnTo>
                <a:lnTo>
                  <a:pt x="1300" y="1153"/>
                </a:lnTo>
                <a:lnTo>
                  <a:pt x="1257" y="1175"/>
                </a:lnTo>
                <a:lnTo>
                  <a:pt x="1211" y="1191"/>
                </a:lnTo>
                <a:lnTo>
                  <a:pt x="1161" y="1202"/>
                </a:lnTo>
                <a:lnTo>
                  <a:pt x="1108" y="1206"/>
                </a:lnTo>
                <a:lnTo>
                  <a:pt x="1057" y="1202"/>
                </a:lnTo>
                <a:lnTo>
                  <a:pt x="1008" y="1191"/>
                </a:lnTo>
                <a:lnTo>
                  <a:pt x="961" y="1173"/>
                </a:lnTo>
                <a:lnTo>
                  <a:pt x="916" y="1150"/>
                </a:lnTo>
                <a:lnTo>
                  <a:pt x="875" y="1122"/>
                </a:lnTo>
                <a:lnTo>
                  <a:pt x="840" y="1087"/>
                </a:lnTo>
                <a:lnTo>
                  <a:pt x="808" y="1049"/>
                </a:lnTo>
                <a:lnTo>
                  <a:pt x="917" y="1497"/>
                </a:lnTo>
                <a:lnTo>
                  <a:pt x="595" y="1495"/>
                </a:lnTo>
                <a:lnTo>
                  <a:pt x="704" y="1005"/>
                </a:lnTo>
                <a:lnTo>
                  <a:pt x="678" y="1049"/>
                </a:lnTo>
                <a:lnTo>
                  <a:pt x="647" y="1088"/>
                </a:lnTo>
                <a:lnTo>
                  <a:pt x="610" y="1122"/>
                </a:lnTo>
                <a:lnTo>
                  <a:pt x="570" y="1152"/>
                </a:lnTo>
                <a:lnTo>
                  <a:pt x="524" y="1176"/>
                </a:lnTo>
                <a:lnTo>
                  <a:pt x="475" y="1194"/>
                </a:lnTo>
                <a:lnTo>
                  <a:pt x="423" y="1204"/>
                </a:lnTo>
                <a:lnTo>
                  <a:pt x="373" y="1208"/>
                </a:lnTo>
                <a:lnTo>
                  <a:pt x="323" y="1204"/>
                </a:lnTo>
                <a:lnTo>
                  <a:pt x="276" y="1195"/>
                </a:lnTo>
                <a:lnTo>
                  <a:pt x="231" y="1180"/>
                </a:lnTo>
                <a:lnTo>
                  <a:pt x="188" y="1158"/>
                </a:lnTo>
                <a:lnTo>
                  <a:pt x="149" y="1133"/>
                </a:lnTo>
                <a:lnTo>
                  <a:pt x="112" y="1102"/>
                </a:lnTo>
                <a:lnTo>
                  <a:pt x="80" y="1065"/>
                </a:lnTo>
                <a:lnTo>
                  <a:pt x="53" y="1026"/>
                </a:lnTo>
                <a:lnTo>
                  <a:pt x="31" y="982"/>
                </a:lnTo>
                <a:lnTo>
                  <a:pt x="15" y="936"/>
                </a:lnTo>
                <a:lnTo>
                  <a:pt x="4" y="886"/>
                </a:lnTo>
                <a:lnTo>
                  <a:pt x="0" y="836"/>
                </a:lnTo>
                <a:lnTo>
                  <a:pt x="4" y="786"/>
                </a:lnTo>
                <a:lnTo>
                  <a:pt x="13" y="739"/>
                </a:lnTo>
                <a:lnTo>
                  <a:pt x="28" y="693"/>
                </a:lnTo>
                <a:lnTo>
                  <a:pt x="50" y="649"/>
                </a:lnTo>
                <a:lnTo>
                  <a:pt x="76" y="610"/>
                </a:lnTo>
                <a:lnTo>
                  <a:pt x="107" y="574"/>
                </a:lnTo>
                <a:lnTo>
                  <a:pt x="142" y="541"/>
                </a:lnTo>
                <a:lnTo>
                  <a:pt x="182" y="514"/>
                </a:lnTo>
                <a:lnTo>
                  <a:pt x="226" y="492"/>
                </a:lnTo>
                <a:lnTo>
                  <a:pt x="272" y="476"/>
                </a:lnTo>
                <a:lnTo>
                  <a:pt x="322" y="465"/>
                </a:lnTo>
                <a:lnTo>
                  <a:pt x="367" y="463"/>
                </a:lnTo>
                <a:lnTo>
                  <a:pt x="410" y="465"/>
                </a:lnTo>
                <a:lnTo>
                  <a:pt x="404" y="445"/>
                </a:lnTo>
                <a:lnTo>
                  <a:pt x="400" y="423"/>
                </a:lnTo>
                <a:lnTo>
                  <a:pt x="396" y="373"/>
                </a:lnTo>
                <a:lnTo>
                  <a:pt x="400" y="323"/>
                </a:lnTo>
                <a:lnTo>
                  <a:pt x="410" y="276"/>
                </a:lnTo>
                <a:lnTo>
                  <a:pt x="425" y="231"/>
                </a:lnTo>
                <a:lnTo>
                  <a:pt x="446" y="188"/>
                </a:lnTo>
                <a:lnTo>
                  <a:pt x="472" y="149"/>
                </a:lnTo>
                <a:lnTo>
                  <a:pt x="503" y="112"/>
                </a:lnTo>
                <a:lnTo>
                  <a:pt x="538" y="80"/>
                </a:lnTo>
                <a:lnTo>
                  <a:pt x="579" y="53"/>
                </a:lnTo>
                <a:lnTo>
                  <a:pt x="622" y="31"/>
                </a:lnTo>
                <a:lnTo>
                  <a:pt x="668" y="15"/>
                </a:lnTo>
                <a:lnTo>
                  <a:pt x="718" y="4"/>
                </a:lnTo>
                <a:lnTo>
                  <a:pt x="7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21"/>
          <p:cNvSpPr/>
          <p:nvPr/>
        </p:nvSpPr>
        <p:spPr>
          <a:xfrm>
            <a:off x="2714760" y="199224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21"/>
          <p:cNvSpPr/>
          <p:nvPr/>
        </p:nvSpPr>
        <p:spPr>
          <a:xfrm>
            <a:off x="5214960" y="19922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iamond 66"/>
          <p:cNvSpPr/>
          <p:nvPr/>
        </p:nvSpPr>
        <p:spPr>
          <a:xfrm>
            <a:off x="5043600" y="1208160"/>
            <a:ext cx="414360" cy="579240"/>
          </a:xfrm>
          <a:prstGeom prst="diamond">
            <a:avLst/>
          </a:pr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32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03"/>
          <p:cNvGrpSpPr/>
          <p:nvPr/>
        </p:nvGrpSpPr>
        <p:grpSpPr>
          <a:xfrm>
            <a:off x="1025640" y="3666960"/>
            <a:ext cx="1474560" cy="1694160"/>
            <a:chOff x="1025640" y="3666960"/>
            <a:chExt cx="1474560" cy="1694160"/>
          </a:xfrm>
        </p:grpSpPr>
        <p:sp>
          <p:nvSpPr>
            <p:cNvPr id="329" name="Freeform 7"/>
            <p:cNvSpPr/>
            <p:nvPr/>
          </p:nvSpPr>
          <p:spPr>
            <a:xfrm>
              <a:off x="1025640" y="3666960"/>
              <a:ext cx="147456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231560" y="40219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2021400" y="47530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1420200" y="463860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108396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42416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1092240" y="466596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1099080" y="4143240"/>
              <a:ext cx="1292400" cy="11908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9"/>
            <p:cNvSpPr/>
            <p:nvPr/>
          </p:nvSpPr>
          <p:spPr>
            <a:xfrm>
              <a:off x="159840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3"/>
            <p:cNvSpPr/>
            <p:nvPr/>
          </p:nvSpPr>
          <p:spPr>
            <a:xfrm>
              <a:off x="2257560" y="44143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2282760" y="4794840"/>
              <a:ext cx="13968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1748160" y="5069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1748160" y="46875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2"/>
            <p:cNvSpPr/>
            <p:nvPr/>
          </p:nvSpPr>
          <p:spPr>
            <a:xfrm>
              <a:off x="2071440" y="41115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9"/>
          <p:cNvGrpSpPr/>
          <p:nvPr/>
        </p:nvGrpSpPr>
        <p:grpSpPr>
          <a:xfrm>
            <a:off x="3909960" y="3666960"/>
            <a:ext cx="1474920" cy="1694160"/>
            <a:chOff x="3909960" y="3666960"/>
            <a:chExt cx="1474920" cy="1694160"/>
          </a:xfrm>
        </p:grpSpPr>
        <p:sp>
          <p:nvSpPr>
            <p:cNvPr id="344" name="Freeform 7"/>
            <p:cNvSpPr/>
            <p:nvPr/>
          </p:nvSpPr>
          <p:spPr>
            <a:xfrm>
              <a:off x="3909960" y="3666960"/>
              <a:ext cx="147492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"/>
            <p:cNvSpPr/>
            <p:nvPr/>
          </p:nvSpPr>
          <p:spPr>
            <a:xfrm>
              <a:off x="4549320" y="4053240"/>
              <a:ext cx="210600" cy="1454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4628880" y="508284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"/>
            <p:cNvSpPr/>
            <p:nvPr/>
          </p:nvSpPr>
          <p:spPr>
            <a:xfrm>
              <a:off x="396828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6"/>
            <p:cNvSpPr/>
            <p:nvPr/>
          </p:nvSpPr>
          <p:spPr>
            <a:xfrm>
              <a:off x="430848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3"/>
            <p:cNvSpPr/>
            <p:nvPr/>
          </p:nvSpPr>
          <p:spPr>
            <a:xfrm>
              <a:off x="3983400" y="4143240"/>
              <a:ext cx="1292760" cy="119088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>
              <a:off x="448272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130280" y="46612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>
              <a:off x="4634640" y="48826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3"/>
            <p:cNvSpPr/>
            <p:nvPr/>
          </p:nvSpPr>
          <p:spPr>
            <a:xfrm>
              <a:off x="4646520" y="4673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5103720" y="48034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5109480" y="46029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5121000" y="43945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28"/>
          <p:cNvGrpSpPr/>
          <p:nvPr/>
        </p:nvGrpSpPr>
        <p:grpSpPr>
          <a:xfrm>
            <a:off x="6678720" y="3666960"/>
            <a:ext cx="1474560" cy="1694160"/>
            <a:chOff x="6678720" y="3666960"/>
            <a:chExt cx="1474560" cy="1694160"/>
          </a:xfrm>
        </p:grpSpPr>
        <p:sp>
          <p:nvSpPr>
            <p:cNvPr id="358" name="Freeform 7"/>
            <p:cNvSpPr/>
            <p:nvPr/>
          </p:nvSpPr>
          <p:spPr>
            <a:xfrm>
              <a:off x="6678720" y="3666960"/>
              <a:ext cx="147456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6884640" y="40219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4"/>
            <p:cNvSpPr/>
            <p:nvPr/>
          </p:nvSpPr>
          <p:spPr>
            <a:xfrm>
              <a:off x="7073280" y="463860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"/>
            <p:cNvSpPr/>
            <p:nvPr/>
          </p:nvSpPr>
          <p:spPr>
            <a:xfrm>
              <a:off x="673704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6"/>
            <p:cNvSpPr/>
            <p:nvPr/>
          </p:nvSpPr>
          <p:spPr>
            <a:xfrm>
              <a:off x="707724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"/>
            <p:cNvSpPr/>
            <p:nvPr/>
          </p:nvSpPr>
          <p:spPr>
            <a:xfrm>
              <a:off x="6745320" y="466596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6752160" y="4143240"/>
              <a:ext cx="1292400" cy="11908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725148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3"/>
            <p:cNvSpPr/>
            <p:nvPr/>
          </p:nvSpPr>
          <p:spPr>
            <a:xfrm>
              <a:off x="7910640" y="44143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7401240" y="5069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7724520" y="41115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2"/>
            <p:cNvSpPr/>
            <p:nvPr/>
          </p:nvSpPr>
          <p:spPr>
            <a:xfrm>
              <a:off x="7304400" y="40651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6900480" y="46436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us 130"/>
          <p:cNvSpPr/>
          <p:nvPr/>
        </p:nvSpPr>
        <p:spPr>
          <a:xfrm>
            <a:off x="2705040" y="4081320"/>
            <a:ext cx="928800" cy="928800"/>
          </a:xfrm>
          <a:custGeom>
            <a:avLst/>
            <a:gdLst/>
            <a:ahLst/>
            <a:rect l="l" t="t" r="r" b="b"/>
            <a:pathLst>
              <a:path w="928688" h="928687">
                <a:moveTo>
                  <a:pt x="123098" y="355130"/>
                </a:moveTo>
                <a:lnTo>
                  <a:pt x="355130" y="355130"/>
                </a:lnTo>
                <a:lnTo>
                  <a:pt x="355130" y="123097"/>
                </a:lnTo>
                <a:lnTo>
                  <a:pt x="573558" y="123097"/>
                </a:lnTo>
                <a:lnTo>
                  <a:pt x="573558" y="355130"/>
                </a:lnTo>
                <a:lnTo>
                  <a:pt x="805590" y="355130"/>
                </a:lnTo>
                <a:lnTo>
                  <a:pt x="805590" y="573557"/>
                </a:lnTo>
                <a:lnTo>
                  <a:pt x="573558" y="573557"/>
                </a:lnTo>
                <a:lnTo>
                  <a:pt x="573558" y="805590"/>
                </a:lnTo>
                <a:lnTo>
                  <a:pt x="355130" y="805590"/>
                </a:lnTo>
                <a:lnTo>
                  <a:pt x="355130" y="573557"/>
                </a:lnTo>
                <a:lnTo>
                  <a:pt x="123098" y="573557"/>
                </a:lnTo>
                <a:lnTo>
                  <a:pt x="123098" y="3551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qual 131"/>
          <p:cNvSpPr/>
          <p:nvPr/>
        </p:nvSpPr>
        <p:spPr>
          <a:xfrm>
            <a:off x="5553000" y="4076640"/>
            <a:ext cx="928800" cy="92880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123098" y="191310"/>
                </a:moveTo>
                <a:lnTo>
                  <a:pt x="805590" y="191310"/>
                </a:lnTo>
                <a:lnTo>
                  <a:pt x="805590" y="409737"/>
                </a:lnTo>
                <a:lnTo>
                  <a:pt x="123098" y="409737"/>
                </a:lnTo>
                <a:lnTo>
                  <a:pt x="123098" y="191310"/>
                </a:lnTo>
                <a:close/>
                <a:moveTo>
                  <a:pt x="123098" y="518951"/>
                </a:moveTo>
                <a:lnTo>
                  <a:pt x="805590" y="518951"/>
                </a:lnTo>
                <a:lnTo>
                  <a:pt x="805590" y="737378"/>
                </a:lnTo>
                <a:lnTo>
                  <a:pt x="123098" y="737378"/>
                </a:lnTo>
                <a:lnTo>
                  <a:pt x="123098" y="5189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32"/>
          <p:cNvGrpSpPr/>
          <p:nvPr/>
        </p:nvGrpSpPr>
        <p:grpSpPr>
          <a:xfrm>
            <a:off x="6510240" y="1214280"/>
            <a:ext cx="1828800" cy="1981440"/>
            <a:chOff x="6510240" y="1214280"/>
            <a:chExt cx="1828800" cy="1981440"/>
          </a:xfrm>
        </p:grpSpPr>
        <p:sp>
          <p:nvSpPr>
            <p:cNvPr id="374" name="Round Diagonal Corner Rectangle 133"/>
            <p:cNvSpPr/>
            <p:nvPr/>
          </p:nvSpPr>
          <p:spPr>
            <a:xfrm>
              <a:off x="651024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ound Diagonal Corner Rectangle 134"/>
            <p:cNvSpPr/>
            <p:nvPr/>
          </p:nvSpPr>
          <p:spPr>
            <a:xfrm>
              <a:off x="655308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4" h="1876438">
                  <a:moveTo>
                    <a:pt x="365637" y="0"/>
                  </a:moveTo>
                  <a:lnTo>
                    <a:pt x="1731974" y="0"/>
                  </a:lnTo>
                  <a:lnTo>
                    <a:pt x="1731974" y="0"/>
                  </a:lnTo>
                  <a:lnTo>
                    <a:pt x="1731974" y="1510801"/>
                  </a:lnTo>
                  <a:cubicBezTo>
                    <a:pt x="1731974" y="1712737"/>
                    <a:pt x="1568273" y="1876438"/>
                    <a:pt x="1366337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Прямоугольник 121"/>
          <p:cNvSpPr/>
          <p:nvPr/>
        </p:nvSpPr>
        <p:spPr>
          <a:xfrm>
            <a:off x="681516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8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381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68"/>
          <p:cNvGrpSpPr/>
          <p:nvPr/>
        </p:nvGrpSpPr>
        <p:grpSpPr>
          <a:xfrm>
            <a:off x="954000" y="4067280"/>
            <a:ext cx="1474920" cy="1693800"/>
            <a:chOff x="954000" y="4067280"/>
            <a:chExt cx="1474920" cy="1693800"/>
          </a:xfrm>
        </p:grpSpPr>
        <p:sp>
          <p:nvSpPr>
            <p:cNvPr id="385" name="Freeform 7"/>
            <p:cNvSpPr/>
            <p:nvPr/>
          </p:nvSpPr>
          <p:spPr>
            <a:xfrm>
              <a:off x="954000" y="4067280"/>
              <a:ext cx="14749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1159920" y="44222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1950120" y="51530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1348560" y="503856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1012320" y="46782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6"/>
            <p:cNvSpPr/>
            <p:nvPr/>
          </p:nvSpPr>
          <p:spPr>
            <a:xfrm>
              <a:off x="1352520" y="540612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7"/>
            <p:cNvSpPr/>
            <p:nvPr/>
          </p:nvSpPr>
          <p:spPr>
            <a:xfrm>
              <a:off x="1020600" y="506592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1027440" y="4543200"/>
              <a:ext cx="1292760" cy="119052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9"/>
            <p:cNvSpPr/>
            <p:nvPr/>
          </p:nvSpPr>
          <p:spPr>
            <a:xfrm>
              <a:off x="1526760" y="503460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2186280" y="48146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"/>
            <p:cNvSpPr/>
            <p:nvPr/>
          </p:nvSpPr>
          <p:spPr>
            <a:xfrm>
              <a:off x="2211480" y="519480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>
              <a:off x="1676880" y="54698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3"/>
            <p:cNvSpPr/>
            <p:nvPr/>
          </p:nvSpPr>
          <p:spPr>
            <a:xfrm>
              <a:off x="1676880" y="508788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>
              <a:off x="2000160" y="45115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70"/>
          <p:cNvGrpSpPr/>
          <p:nvPr/>
        </p:nvGrpSpPr>
        <p:grpSpPr>
          <a:xfrm>
            <a:off x="2786040" y="4067280"/>
            <a:ext cx="1474920" cy="1693800"/>
            <a:chOff x="2786040" y="4067280"/>
            <a:chExt cx="1474920" cy="1693800"/>
          </a:xfrm>
        </p:grpSpPr>
        <p:sp>
          <p:nvSpPr>
            <p:cNvPr id="400" name="Freeform 7"/>
            <p:cNvSpPr/>
            <p:nvPr/>
          </p:nvSpPr>
          <p:spPr>
            <a:xfrm>
              <a:off x="2786040" y="4067280"/>
              <a:ext cx="14749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2"/>
            <p:cNvSpPr/>
            <p:nvPr/>
          </p:nvSpPr>
          <p:spPr>
            <a:xfrm>
              <a:off x="2991960" y="44222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3180600" y="503856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2844360" y="46782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3184560" y="540612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2852640" y="506592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3"/>
            <p:cNvSpPr/>
            <p:nvPr/>
          </p:nvSpPr>
          <p:spPr>
            <a:xfrm>
              <a:off x="2858760" y="4543560"/>
              <a:ext cx="1292400" cy="119052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3359160" y="5033880"/>
              <a:ext cx="153720" cy="10152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3"/>
            <p:cNvSpPr/>
            <p:nvPr/>
          </p:nvSpPr>
          <p:spPr>
            <a:xfrm>
              <a:off x="4018320" y="48146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3"/>
            <p:cNvSpPr/>
            <p:nvPr/>
          </p:nvSpPr>
          <p:spPr>
            <a:xfrm>
              <a:off x="3508920" y="54698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3832200" y="45115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"/>
            <p:cNvSpPr/>
            <p:nvPr/>
          </p:nvSpPr>
          <p:spPr>
            <a:xfrm>
              <a:off x="3411720" y="44654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"/>
            <p:cNvSpPr/>
            <p:nvPr/>
          </p:nvSpPr>
          <p:spPr>
            <a:xfrm>
              <a:off x="3007800" y="50439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32"/>
          <p:cNvGrpSpPr/>
          <p:nvPr/>
        </p:nvGrpSpPr>
        <p:grpSpPr>
          <a:xfrm>
            <a:off x="6510240" y="1214280"/>
            <a:ext cx="1828800" cy="1981440"/>
            <a:chOff x="6510240" y="1214280"/>
            <a:chExt cx="1828800" cy="1981440"/>
          </a:xfrm>
        </p:grpSpPr>
        <p:sp>
          <p:nvSpPr>
            <p:cNvPr id="414" name="Round Diagonal Corner Rectangle 133"/>
            <p:cNvSpPr/>
            <p:nvPr/>
          </p:nvSpPr>
          <p:spPr>
            <a:xfrm>
              <a:off x="651024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ound Diagonal Corner Rectangle 134"/>
            <p:cNvSpPr/>
            <p:nvPr/>
          </p:nvSpPr>
          <p:spPr>
            <a:xfrm>
              <a:off x="655308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4" h="1876438">
                  <a:moveTo>
                    <a:pt x="365637" y="0"/>
                  </a:moveTo>
                  <a:lnTo>
                    <a:pt x="1731974" y="0"/>
                  </a:lnTo>
                  <a:lnTo>
                    <a:pt x="1731974" y="0"/>
                  </a:lnTo>
                  <a:lnTo>
                    <a:pt x="1731974" y="1510801"/>
                  </a:lnTo>
                  <a:cubicBezTo>
                    <a:pt x="1731974" y="1712737"/>
                    <a:pt x="1568273" y="1876438"/>
                    <a:pt x="1366337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Прямоугольник 121"/>
          <p:cNvSpPr/>
          <p:nvPr/>
        </p:nvSpPr>
        <p:spPr>
          <a:xfrm>
            <a:off x="681516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69"/>
          <p:cNvGrpSpPr/>
          <p:nvPr/>
        </p:nvGrpSpPr>
        <p:grpSpPr>
          <a:xfrm>
            <a:off x="6583320" y="4062240"/>
            <a:ext cx="1488960" cy="1711440"/>
            <a:chOff x="6583320" y="4062240"/>
            <a:chExt cx="1488960" cy="1711440"/>
          </a:xfrm>
        </p:grpSpPr>
        <p:sp>
          <p:nvSpPr>
            <p:cNvPr id="418" name="Freeform 7"/>
            <p:cNvSpPr/>
            <p:nvPr/>
          </p:nvSpPr>
          <p:spPr>
            <a:xfrm>
              <a:off x="6583320" y="4062240"/>
              <a:ext cx="1488960" cy="171144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1ec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7228800" y="4452480"/>
              <a:ext cx="212760" cy="146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7638480" y="4509000"/>
              <a:ext cx="211320" cy="1386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86760" y="4156920"/>
              <a:ext cx="203040" cy="1468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845400" y="4403160"/>
              <a:ext cx="196200" cy="155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180920" y="4746600"/>
              <a:ext cx="221040" cy="1468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7588800" y="5159160"/>
              <a:ext cx="167400" cy="181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6981480" y="5043600"/>
              <a:ext cx="128880" cy="182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6642360" y="467928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6"/>
            <p:cNvSpPr/>
            <p:nvPr/>
          </p:nvSpPr>
          <p:spPr>
            <a:xfrm>
              <a:off x="6985800" y="541512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"/>
            <p:cNvSpPr/>
            <p:nvPr/>
          </p:nvSpPr>
          <p:spPr>
            <a:xfrm>
              <a:off x="6650640" y="5071320"/>
              <a:ext cx="127440" cy="1839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3"/>
            <p:cNvSpPr/>
            <p:nvPr/>
          </p:nvSpPr>
          <p:spPr>
            <a:xfrm>
              <a:off x="6657840" y="4543200"/>
              <a:ext cx="1305000" cy="120348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9"/>
            <p:cNvSpPr/>
            <p:nvPr/>
          </p:nvSpPr>
          <p:spPr>
            <a:xfrm>
              <a:off x="7161480" y="5039640"/>
              <a:ext cx="155160" cy="101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69"/>
          <p:cNvGrpSpPr/>
          <p:nvPr/>
        </p:nvGrpSpPr>
        <p:grpSpPr>
          <a:xfrm>
            <a:off x="4668840" y="4062240"/>
            <a:ext cx="1474920" cy="1694160"/>
            <a:chOff x="4668840" y="4062240"/>
            <a:chExt cx="1474920" cy="1694160"/>
          </a:xfrm>
        </p:grpSpPr>
        <p:sp>
          <p:nvSpPr>
            <p:cNvPr id="432" name="Freeform 7"/>
            <p:cNvSpPr/>
            <p:nvPr/>
          </p:nvSpPr>
          <p:spPr>
            <a:xfrm>
              <a:off x="4668840" y="4062240"/>
              <a:ext cx="147492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4874760" y="44172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3"/>
            <p:cNvSpPr/>
            <p:nvPr/>
          </p:nvSpPr>
          <p:spPr>
            <a:xfrm>
              <a:off x="5664960" y="51483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>
              <a:off x="5063400" y="503388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"/>
            <p:cNvSpPr/>
            <p:nvPr/>
          </p:nvSpPr>
          <p:spPr>
            <a:xfrm>
              <a:off x="4727160" y="4673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5067360" y="54014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7"/>
            <p:cNvSpPr/>
            <p:nvPr/>
          </p:nvSpPr>
          <p:spPr>
            <a:xfrm>
              <a:off x="4735440" y="506124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3"/>
            <p:cNvSpPr/>
            <p:nvPr/>
          </p:nvSpPr>
          <p:spPr>
            <a:xfrm>
              <a:off x="4742280" y="4538520"/>
              <a:ext cx="1292760" cy="119088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9"/>
            <p:cNvSpPr/>
            <p:nvPr/>
          </p:nvSpPr>
          <p:spPr>
            <a:xfrm>
              <a:off x="5241600" y="502992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5901120" y="480960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"/>
            <p:cNvSpPr/>
            <p:nvPr/>
          </p:nvSpPr>
          <p:spPr>
            <a:xfrm>
              <a:off x="5926320" y="5190120"/>
              <a:ext cx="13968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"/>
            <p:cNvSpPr/>
            <p:nvPr/>
          </p:nvSpPr>
          <p:spPr>
            <a:xfrm>
              <a:off x="5391720" y="54651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391720" y="508284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5071680" y="45975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5271840" y="47754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5330520" y="41583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"/>
            <p:cNvSpPr/>
            <p:nvPr/>
          </p:nvSpPr>
          <p:spPr>
            <a:xfrm>
              <a:off x="5527440" y="43383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5727600" y="45165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32"/>
          <p:cNvGrpSpPr/>
          <p:nvPr/>
        </p:nvGrpSpPr>
        <p:grpSpPr>
          <a:xfrm>
            <a:off x="4286160" y="1214280"/>
            <a:ext cx="1828800" cy="1981440"/>
            <a:chOff x="4286160" y="1214280"/>
            <a:chExt cx="1828800" cy="1981440"/>
          </a:xfrm>
        </p:grpSpPr>
        <p:sp>
          <p:nvSpPr>
            <p:cNvPr id="451" name="Round Diagonal Corner Rectangle 122"/>
            <p:cNvSpPr/>
            <p:nvPr/>
          </p:nvSpPr>
          <p:spPr>
            <a:xfrm>
              <a:off x="428616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ound Diagonal Corner Rectangle 124"/>
            <p:cNvSpPr/>
            <p:nvPr/>
          </p:nvSpPr>
          <p:spPr>
            <a:xfrm>
              <a:off x="432900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3" h="1876438">
                  <a:moveTo>
                    <a:pt x="365637" y="0"/>
                  </a:moveTo>
                  <a:lnTo>
                    <a:pt x="1731973" y="0"/>
                  </a:lnTo>
                  <a:lnTo>
                    <a:pt x="1731973" y="0"/>
                  </a:lnTo>
                  <a:lnTo>
                    <a:pt x="1731973" y="1510801"/>
                  </a:lnTo>
                  <a:cubicBezTo>
                    <a:pt x="1731973" y="1712737"/>
                    <a:pt x="1568272" y="1876438"/>
                    <a:pt x="1366336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Прямоугольник 121"/>
          <p:cNvSpPr/>
          <p:nvPr/>
        </p:nvSpPr>
        <p:spPr>
          <a:xfrm>
            <a:off x="459108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7"/>
          <p:cNvSpPr/>
          <p:nvPr/>
        </p:nvSpPr>
        <p:spPr>
          <a:xfrm>
            <a:off x="1800360" y="2454120"/>
            <a:ext cx="714240" cy="831960"/>
          </a:xfrm>
          <a:custGeom>
            <a:avLst/>
            <a:gdLst/>
            <a:ahLst/>
            <a:rect l="l" t="t" r="r" b="b"/>
            <a:pathLst>
              <a:path w="1309" h="1525">
                <a:moveTo>
                  <a:pt x="684" y="0"/>
                </a:moveTo>
                <a:lnTo>
                  <a:pt x="1063" y="514"/>
                </a:lnTo>
                <a:lnTo>
                  <a:pt x="1103" y="571"/>
                </a:lnTo>
                <a:lnTo>
                  <a:pt x="1140" y="624"/>
                </a:lnTo>
                <a:lnTo>
                  <a:pt x="1172" y="672"/>
                </a:lnTo>
                <a:lnTo>
                  <a:pt x="1199" y="716"/>
                </a:lnTo>
                <a:lnTo>
                  <a:pt x="1224" y="756"/>
                </a:lnTo>
                <a:lnTo>
                  <a:pt x="1243" y="791"/>
                </a:lnTo>
                <a:lnTo>
                  <a:pt x="1260" y="824"/>
                </a:lnTo>
                <a:lnTo>
                  <a:pt x="1274" y="852"/>
                </a:lnTo>
                <a:lnTo>
                  <a:pt x="1285" y="878"/>
                </a:lnTo>
                <a:lnTo>
                  <a:pt x="1293" y="900"/>
                </a:lnTo>
                <a:lnTo>
                  <a:pt x="1299" y="919"/>
                </a:lnTo>
                <a:lnTo>
                  <a:pt x="1303" y="935"/>
                </a:lnTo>
                <a:lnTo>
                  <a:pt x="1306" y="947"/>
                </a:lnTo>
                <a:lnTo>
                  <a:pt x="1308" y="958"/>
                </a:lnTo>
                <a:lnTo>
                  <a:pt x="1309" y="965"/>
                </a:lnTo>
                <a:lnTo>
                  <a:pt x="1309" y="974"/>
                </a:lnTo>
                <a:lnTo>
                  <a:pt x="1308" y="1023"/>
                </a:lnTo>
                <a:lnTo>
                  <a:pt x="1302" y="1066"/>
                </a:lnTo>
                <a:lnTo>
                  <a:pt x="1291" y="1104"/>
                </a:lnTo>
                <a:lnTo>
                  <a:pt x="1276" y="1139"/>
                </a:lnTo>
                <a:lnTo>
                  <a:pt x="1259" y="1169"/>
                </a:lnTo>
                <a:lnTo>
                  <a:pt x="1239" y="1196"/>
                </a:lnTo>
                <a:lnTo>
                  <a:pt x="1217" y="1219"/>
                </a:lnTo>
                <a:lnTo>
                  <a:pt x="1193" y="1239"/>
                </a:lnTo>
                <a:lnTo>
                  <a:pt x="1168" y="1256"/>
                </a:lnTo>
                <a:lnTo>
                  <a:pt x="1142" y="1269"/>
                </a:lnTo>
                <a:lnTo>
                  <a:pt x="1118" y="1281"/>
                </a:lnTo>
                <a:lnTo>
                  <a:pt x="1094" y="1289"/>
                </a:lnTo>
                <a:lnTo>
                  <a:pt x="1071" y="1298"/>
                </a:lnTo>
                <a:lnTo>
                  <a:pt x="1050" y="1303"/>
                </a:lnTo>
                <a:lnTo>
                  <a:pt x="1031" y="1306"/>
                </a:lnTo>
                <a:lnTo>
                  <a:pt x="1017" y="1308"/>
                </a:lnTo>
                <a:lnTo>
                  <a:pt x="1004" y="1310"/>
                </a:lnTo>
                <a:lnTo>
                  <a:pt x="998" y="1311"/>
                </a:lnTo>
                <a:lnTo>
                  <a:pt x="995" y="1311"/>
                </a:lnTo>
                <a:lnTo>
                  <a:pt x="953" y="1310"/>
                </a:lnTo>
                <a:lnTo>
                  <a:pt x="914" y="1302"/>
                </a:lnTo>
                <a:lnTo>
                  <a:pt x="880" y="1291"/>
                </a:lnTo>
                <a:lnTo>
                  <a:pt x="849" y="1275"/>
                </a:lnTo>
                <a:lnTo>
                  <a:pt x="822" y="1256"/>
                </a:lnTo>
                <a:lnTo>
                  <a:pt x="797" y="1234"/>
                </a:lnTo>
                <a:lnTo>
                  <a:pt x="777" y="1211"/>
                </a:lnTo>
                <a:lnTo>
                  <a:pt x="759" y="1187"/>
                </a:lnTo>
                <a:lnTo>
                  <a:pt x="745" y="1162"/>
                </a:lnTo>
                <a:lnTo>
                  <a:pt x="732" y="1139"/>
                </a:lnTo>
                <a:lnTo>
                  <a:pt x="723" y="1118"/>
                </a:lnTo>
                <a:lnTo>
                  <a:pt x="715" y="1097"/>
                </a:lnTo>
                <a:lnTo>
                  <a:pt x="709" y="1081"/>
                </a:lnTo>
                <a:lnTo>
                  <a:pt x="705" y="1068"/>
                </a:lnTo>
                <a:lnTo>
                  <a:pt x="703" y="1059"/>
                </a:lnTo>
                <a:lnTo>
                  <a:pt x="703" y="1057"/>
                </a:lnTo>
                <a:lnTo>
                  <a:pt x="696" y="1065"/>
                </a:lnTo>
                <a:lnTo>
                  <a:pt x="693" y="1078"/>
                </a:lnTo>
                <a:lnTo>
                  <a:pt x="693" y="1096"/>
                </a:lnTo>
                <a:lnTo>
                  <a:pt x="696" y="1118"/>
                </a:lnTo>
                <a:lnTo>
                  <a:pt x="703" y="1142"/>
                </a:lnTo>
                <a:lnTo>
                  <a:pt x="709" y="1170"/>
                </a:lnTo>
                <a:lnTo>
                  <a:pt x="720" y="1200"/>
                </a:lnTo>
                <a:lnTo>
                  <a:pt x="731" y="1233"/>
                </a:lnTo>
                <a:lnTo>
                  <a:pt x="743" y="1265"/>
                </a:lnTo>
                <a:lnTo>
                  <a:pt x="757" y="1298"/>
                </a:lnTo>
                <a:lnTo>
                  <a:pt x="772" y="1331"/>
                </a:lnTo>
                <a:lnTo>
                  <a:pt x="799" y="1394"/>
                </a:lnTo>
                <a:lnTo>
                  <a:pt x="811" y="1422"/>
                </a:lnTo>
                <a:lnTo>
                  <a:pt x="823" y="1448"/>
                </a:lnTo>
                <a:lnTo>
                  <a:pt x="850" y="1502"/>
                </a:lnTo>
                <a:lnTo>
                  <a:pt x="854" y="1511"/>
                </a:lnTo>
                <a:lnTo>
                  <a:pt x="856" y="1514"/>
                </a:lnTo>
                <a:lnTo>
                  <a:pt x="485" y="1525"/>
                </a:lnTo>
                <a:lnTo>
                  <a:pt x="517" y="1468"/>
                </a:lnTo>
                <a:lnTo>
                  <a:pt x="544" y="1417"/>
                </a:lnTo>
                <a:lnTo>
                  <a:pt x="567" y="1368"/>
                </a:lnTo>
                <a:lnTo>
                  <a:pt x="586" y="1325"/>
                </a:lnTo>
                <a:lnTo>
                  <a:pt x="601" y="1285"/>
                </a:lnTo>
                <a:lnTo>
                  <a:pt x="612" y="1249"/>
                </a:lnTo>
                <a:lnTo>
                  <a:pt x="620" y="1216"/>
                </a:lnTo>
                <a:lnTo>
                  <a:pt x="625" y="1187"/>
                </a:lnTo>
                <a:lnTo>
                  <a:pt x="630" y="1161"/>
                </a:lnTo>
                <a:lnTo>
                  <a:pt x="630" y="1119"/>
                </a:lnTo>
                <a:lnTo>
                  <a:pt x="628" y="1103"/>
                </a:lnTo>
                <a:lnTo>
                  <a:pt x="625" y="1089"/>
                </a:lnTo>
                <a:lnTo>
                  <a:pt x="621" y="1078"/>
                </a:lnTo>
                <a:lnTo>
                  <a:pt x="619" y="1069"/>
                </a:lnTo>
                <a:lnTo>
                  <a:pt x="615" y="1062"/>
                </a:lnTo>
                <a:lnTo>
                  <a:pt x="612" y="1058"/>
                </a:lnTo>
                <a:lnTo>
                  <a:pt x="611" y="1055"/>
                </a:lnTo>
                <a:lnTo>
                  <a:pt x="609" y="1054"/>
                </a:lnTo>
                <a:lnTo>
                  <a:pt x="608" y="1093"/>
                </a:lnTo>
                <a:lnTo>
                  <a:pt x="601" y="1128"/>
                </a:lnTo>
                <a:lnTo>
                  <a:pt x="590" y="1158"/>
                </a:lnTo>
                <a:lnTo>
                  <a:pt x="575" y="1185"/>
                </a:lnTo>
                <a:lnTo>
                  <a:pt x="558" y="1208"/>
                </a:lnTo>
                <a:lnTo>
                  <a:pt x="538" y="1227"/>
                </a:lnTo>
                <a:lnTo>
                  <a:pt x="516" y="1243"/>
                </a:lnTo>
                <a:lnTo>
                  <a:pt x="493" y="1256"/>
                </a:lnTo>
                <a:lnTo>
                  <a:pt x="471" y="1266"/>
                </a:lnTo>
                <a:lnTo>
                  <a:pt x="450" y="1275"/>
                </a:lnTo>
                <a:lnTo>
                  <a:pt x="429" y="1281"/>
                </a:lnTo>
                <a:lnTo>
                  <a:pt x="410" y="1285"/>
                </a:lnTo>
                <a:lnTo>
                  <a:pt x="395" y="1288"/>
                </a:lnTo>
                <a:lnTo>
                  <a:pt x="383" y="1289"/>
                </a:lnTo>
                <a:lnTo>
                  <a:pt x="375" y="1291"/>
                </a:lnTo>
                <a:lnTo>
                  <a:pt x="314" y="1291"/>
                </a:lnTo>
                <a:lnTo>
                  <a:pt x="263" y="1287"/>
                </a:lnTo>
                <a:lnTo>
                  <a:pt x="217" y="1280"/>
                </a:lnTo>
                <a:lnTo>
                  <a:pt x="176" y="1269"/>
                </a:lnTo>
                <a:lnTo>
                  <a:pt x="141" y="1257"/>
                </a:lnTo>
                <a:lnTo>
                  <a:pt x="111" y="1242"/>
                </a:lnTo>
                <a:lnTo>
                  <a:pt x="85" y="1225"/>
                </a:lnTo>
                <a:lnTo>
                  <a:pt x="64" y="1206"/>
                </a:lnTo>
                <a:lnTo>
                  <a:pt x="46" y="1187"/>
                </a:lnTo>
                <a:lnTo>
                  <a:pt x="31" y="1166"/>
                </a:lnTo>
                <a:lnTo>
                  <a:pt x="21" y="1145"/>
                </a:lnTo>
                <a:lnTo>
                  <a:pt x="12" y="1124"/>
                </a:lnTo>
                <a:lnTo>
                  <a:pt x="6" y="1103"/>
                </a:lnTo>
                <a:lnTo>
                  <a:pt x="3" y="1084"/>
                </a:lnTo>
                <a:lnTo>
                  <a:pt x="0" y="1063"/>
                </a:lnTo>
                <a:lnTo>
                  <a:pt x="0" y="1031"/>
                </a:lnTo>
                <a:lnTo>
                  <a:pt x="2" y="1016"/>
                </a:lnTo>
                <a:lnTo>
                  <a:pt x="3" y="1005"/>
                </a:lnTo>
                <a:lnTo>
                  <a:pt x="4" y="996"/>
                </a:lnTo>
                <a:lnTo>
                  <a:pt x="6" y="990"/>
                </a:lnTo>
                <a:lnTo>
                  <a:pt x="6" y="989"/>
                </a:lnTo>
                <a:lnTo>
                  <a:pt x="8" y="959"/>
                </a:lnTo>
                <a:lnTo>
                  <a:pt x="15" y="927"/>
                </a:lnTo>
                <a:lnTo>
                  <a:pt x="26" y="893"/>
                </a:lnTo>
                <a:lnTo>
                  <a:pt x="41" y="859"/>
                </a:lnTo>
                <a:lnTo>
                  <a:pt x="58" y="824"/>
                </a:lnTo>
                <a:lnTo>
                  <a:pt x="77" y="789"/>
                </a:lnTo>
                <a:lnTo>
                  <a:pt x="99" y="753"/>
                </a:lnTo>
                <a:lnTo>
                  <a:pt x="121" y="720"/>
                </a:lnTo>
                <a:lnTo>
                  <a:pt x="144" y="686"/>
                </a:lnTo>
                <a:lnTo>
                  <a:pt x="167" y="655"/>
                </a:lnTo>
                <a:lnTo>
                  <a:pt x="190" y="625"/>
                </a:lnTo>
                <a:lnTo>
                  <a:pt x="210" y="598"/>
                </a:lnTo>
                <a:lnTo>
                  <a:pt x="230" y="573"/>
                </a:lnTo>
                <a:lnTo>
                  <a:pt x="247" y="553"/>
                </a:lnTo>
                <a:lnTo>
                  <a:pt x="261" y="536"/>
                </a:lnTo>
                <a:lnTo>
                  <a:pt x="272" y="523"/>
                </a:lnTo>
                <a:lnTo>
                  <a:pt x="279" y="515"/>
                </a:lnTo>
                <a:lnTo>
                  <a:pt x="282" y="513"/>
                </a:lnTo>
                <a:lnTo>
                  <a:pt x="684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8"/>
          <p:cNvSpPr/>
          <p:nvPr/>
        </p:nvSpPr>
        <p:spPr>
          <a:xfrm>
            <a:off x="2655720" y="1949400"/>
            <a:ext cx="702000" cy="760320"/>
          </a:xfrm>
          <a:custGeom>
            <a:avLst/>
            <a:gdLst>
              <a:gd name="textAreaLeft" fmla="*/ 0 w 702000"/>
              <a:gd name="textAreaRight" fmla="*/ 702360 w 7020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288" h="1394">
                <a:moveTo>
                  <a:pt x="355" y="0"/>
                </a:moveTo>
                <a:lnTo>
                  <a:pt x="390" y="2"/>
                </a:lnTo>
                <a:lnTo>
                  <a:pt x="422" y="10"/>
                </a:lnTo>
                <a:lnTo>
                  <a:pt x="453" y="21"/>
                </a:lnTo>
                <a:lnTo>
                  <a:pt x="483" y="35"/>
                </a:lnTo>
                <a:lnTo>
                  <a:pt x="509" y="50"/>
                </a:lnTo>
                <a:lnTo>
                  <a:pt x="533" y="66"/>
                </a:lnTo>
                <a:lnTo>
                  <a:pt x="555" y="84"/>
                </a:lnTo>
                <a:lnTo>
                  <a:pt x="575" y="101"/>
                </a:lnTo>
                <a:lnTo>
                  <a:pt x="591" y="117"/>
                </a:lnTo>
                <a:lnTo>
                  <a:pt x="605" y="132"/>
                </a:lnTo>
                <a:lnTo>
                  <a:pt x="616" y="144"/>
                </a:lnTo>
                <a:lnTo>
                  <a:pt x="624" y="154"/>
                </a:lnTo>
                <a:lnTo>
                  <a:pt x="629" y="161"/>
                </a:lnTo>
                <a:lnTo>
                  <a:pt x="631" y="163"/>
                </a:lnTo>
                <a:lnTo>
                  <a:pt x="682" y="120"/>
                </a:lnTo>
                <a:lnTo>
                  <a:pt x="729" y="84"/>
                </a:lnTo>
                <a:lnTo>
                  <a:pt x="777" y="54"/>
                </a:lnTo>
                <a:lnTo>
                  <a:pt x="820" y="32"/>
                </a:lnTo>
                <a:lnTo>
                  <a:pt x="862" y="16"/>
                </a:lnTo>
                <a:lnTo>
                  <a:pt x="901" y="6"/>
                </a:lnTo>
                <a:lnTo>
                  <a:pt x="939" y="1"/>
                </a:lnTo>
                <a:lnTo>
                  <a:pt x="974" y="0"/>
                </a:lnTo>
                <a:lnTo>
                  <a:pt x="1007" y="4"/>
                </a:lnTo>
                <a:lnTo>
                  <a:pt x="1038" y="10"/>
                </a:lnTo>
                <a:lnTo>
                  <a:pt x="1066" y="21"/>
                </a:lnTo>
                <a:lnTo>
                  <a:pt x="1092" y="33"/>
                </a:lnTo>
                <a:lnTo>
                  <a:pt x="1117" y="48"/>
                </a:lnTo>
                <a:lnTo>
                  <a:pt x="1138" y="65"/>
                </a:lnTo>
                <a:lnTo>
                  <a:pt x="1158" y="82"/>
                </a:lnTo>
                <a:lnTo>
                  <a:pt x="1176" y="100"/>
                </a:lnTo>
                <a:lnTo>
                  <a:pt x="1192" y="117"/>
                </a:lnTo>
                <a:lnTo>
                  <a:pt x="1206" y="135"/>
                </a:lnTo>
                <a:lnTo>
                  <a:pt x="1217" y="150"/>
                </a:lnTo>
                <a:lnTo>
                  <a:pt x="1226" y="165"/>
                </a:lnTo>
                <a:lnTo>
                  <a:pt x="1233" y="176"/>
                </a:lnTo>
                <a:lnTo>
                  <a:pt x="1238" y="185"/>
                </a:lnTo>
                <a:lnTo>
                  <a:pt x="1242" y="193"/>
                </a:lnTo>
                <a:lnTo>
                  <a:pt x="1264" y="238"/>
                </a:lnTo>
                <a:lnTo>
                  <a:pt x="1278" y="284"/>
                </a:lnTo>
                <a:lnTo>
                  <a:pt x="1286" y="330"/>
                </a:lnTo>
                <a:lnTo>
                  <a:pt x="1288" y="375"/>
                </a:lnTo>
                <a:lnTo>
                  <a:pt x="1284" y="419"/>
                </a:lnTo>
                <a:lnTo>
                  <a:pt x="1278" y="464"/>
                </a:lnTo>
                <a:lnTo>
                  <a:pt x="1265" y="507"/>
                </a:lnTo>
                <a:lnTo>
                  <a:pt x="1250" y="549"/>
                </a:lnTo>
                <a:lnTo>
                  <a:pt x="1234" y="590"/>
                </a:lnTo>
                <a:lnTo>
                  <a:pt x="1214" y="629"/>
                </a:lnTo>
                <a:lnTo>
                  <a:pt x="1192" y="666"/>
                </a:lnTo>
                <a:lnTo>
                  <a:pt x="1171" y="699"/>
                </a:lnTo>
                <a:lnTo>
                  <a:pt x="1149" y="732"/>
                </a:lnTo>
                <a:lnTo>
                  <a:pt x="1127" y="762"/>
                </a:lnTo>
                <a:lnTo>
                  <a:pt x="1106" y="787"/>
                </a:lnTo>
                <a:lnTo>
                  <a:pt x="1087" y="810"/>
                </a:lnTo>
                <a:lnTo>
                  <a:pt x="1069" y="829"/>
                </a:lnTo>
                <a:lnTo>
                  <a:pt x="1054" y="846"/>
                </a:lnTo>
                <a:lnTo>
                  <a:pt x="1034" y="866"/>
                </a:lnTo>
                <a:lnTo>
                  <a:pt x="1003" y="896"/>
                </a:lnTo>
                <a:lnTo>
                  <a:pt x="972" y="929"/>
                </a:lnTo>
                <a:lnTo>
                  <a:pt x="941" y="965"/>
                </a:lnTo>
                <a:lnTo>
                  <a:pt x="909" y="1001"/>
                </a:lnTo>
                <a:lnTo>
                  <a:pt x="878" y="1039"/>
                </a:lnTo>
                <a:lnTo>
                  <a:pt x="847" y="1078"/>
                </a:lnTo>
                <a:lnTo>
                  <a:pt x="817" y="1118"/>
                </a:lnTo>
                <a:lnTo>
                  <a:pt x="789" y="1156"/>
                </a:lnTo>
                <a:lnTo>
                  <a:pt x="762" y="1193"/>
                </a:lnTo>
                <a:lnTo>
                  <a:pt x="738" y="1230"/>
                </a:lnTo>
                <a:lnTo>
                  <a:pt x="713" y="1264"/>
                </a:lnTo>
                <a:lnTo>
                  <a:pt x="693" y="1295"/>
                </a:lnTo>
                <a:lnTo>
                  <a:pt x="674" y="1323"/>
                </a:lnTo>
                <a:lnTo>
                  <a:pt x="658" y="1346"/>
                </a:lnTo>
                <a:lnTo>
                  <a:pt x="646" y="1367"/>
                </a:lnTo>
                <a:lnTo>
                  <a:pt x="636" y="1382"/>
                </a:lnTo>
                <a:lnTo>
                  <a:pt x="629" y="1391"/>
                </a:lnTo>
                <a:lnTo>
                  <a:pt x="628" y="1394"/>
                </a:lnTo>
                <a:lnTo>
                  <a:pt x="616" y="1359"/>
                </a:lnTo>
                <a:lnTo>
                  <a:pt x="600" y="1322"/>
                </a:lnTo>
                <a:lnTo>
                  <a:pt x="581" y="1284"/>
                </a:lnTo>
                <a:lnTo>
                  <a:pt x="559" y="1246"/>
                </a:lnTo>
                <a:lnTo>
                  <a:pt x="535" y="1208"/>
                </a:lnTo>
                <a:lnTo>
                  <a:pt x="508" y="1170"/>
                </a:lnTo>
                <a:lnTo>
                  <a:pt x="479" y="1132"/>
                </a:lnTo>
                <a:lnTo>
                  <a:pt x="451" y="1096"/>
                </a:lnTo>
                <a:lnTo>
                  <a:pt x="421" y="1059"/>
                </a:lnTo>
                <a:lnTo>
                  <a:pt x="392" y="1026"/>
                </a:lnTo>
                <a:lnTo>
                  <a:pt x="363" y="993"/>
                </a:lnTo>
                <a:lnTo>
                  <a:pt x="336" y="962"/>
                </a:lnTo>
                <a:lnTo>
                  <a:pt x="309" y="934"/>
                </a:lnTo>
                <a:lnTo>
                  <a:pt x="284" y="909"/>
                </a:lnTo>
                <a:lnTo>
                  <a:pt x="263" y="886"/>
                </a:lnTo>
                <a:lnTo>
                  <a:pt x="227" y="851"/>
                </a:lnTo>
                <a:lnTo>
                  <a:pt x="215" y="840"/>
                </a:lnTo>
                <a:lnTo>
                  <a:pt x="206" y="831"/>
                </a:lnTo>
                <a:lnTo>
                  <a:pt x="157" y="770"/>
                </a:lnTo>
                <a:lnTo>
                  <a:pt x="115" y="712"/>
                </a:lnTo>
                <a:lnTo>
                  <a:pt x="81" y="655"/>
                </a:lnTo>
                <a:lnTo>
                  <a:pt x="54" y="602"/>
                </a:lnTo>
                <a:lnTo>
                  <a:pt x="34" y="550"/>
                </a:lnTo>
                <a:lnTo>
                  <a:pt x="18" y="502"/>
                </a:lnTo>
                <a:lnTo>
                  <a:pt x="8" y="456"/>
                </a:lnTo>
                <a:lnTo>
                  <a:pt x="1" y="412"/>
                </a:lnTo>
                <a:lnTo>
                  <a:pt x="0" y="372"/>
                </a:lnTo>
                <a:lnTo>
                  <a:pt x="1" y="334"/>
                </a:lnTo>
                <a:lnTo>
                  <a:pt x="5" y="300"/>
                </a:lnTo>
                <a:lnTo>
                  <a:pt x="11" y="269"/>
                </a:lnTo>
                <a:lnTo>
                  <a:pt x="19" y="241"/>
                </a:lnTo>
                <a:lnTo>
                  <a:pt x="27" y="216"/>
                </a:lnTo>
                <a:lnTo>
                  <a:pt x="35" y="194"/>
                </a:lnTo>
                <a:lnTo>
                  <a:pt x="45" y="177"/>
                </a:lnTo>
                <a:lnTo>
                  <a:pt x="51" y="163"/>
                </a:lnTo>
                <a:lnTo>
                  <a:pt x="58" y="154"/>
                </a:lnTo>
                <a:lnTo>
                  <a:pt x="62" y="148"/>
                </a:lnTo>
                <a:lnTo>
                  <a:pt x="64" y="146"/>
                </a:lnTo>
                <a:lnTo>
                  <a:pt x="110" y="102"/>
                </a:lnTo>
                <a:lnTo>
                  <a:pt x="154" y="67"/>
                </a:lnTo>
                <a:lnTo>
                  <a:pt x="196" y="40"/>
                </a:lnTo>
                <a:lnTo>
                  <a:pt x="238" y="20"/>
                </a:lnTo>
                <a:lnTo>
                  <a:pt x="279" y="8"/>
                </a:lnTo>
                <a:lnTo>
                  <a:pt x="318" y="1"/>
                </a:lnTo>
                <a:lnTo>
                  <a:pt x="355" y="0"/>
                </a:lnTo>
                <a:close/>
              </a:path>
            </a:pathLst>
          </a:cu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9"/>
          <p:cNvSpPr/>
          <p:nvPr/>
        </p:nvSpPr>
        <p:spPr>
          <a:xfrm>
            <a:off x="936720" y="1773360"/>
            <a:ext cx="809640" cy="815760"/>
          </a:xfrm>
          <a:custGeom>
            <a:avLst/>
            <a:gdLst>
              <a:gd name="textAreaLeft" fmla="*/ 0 w 809640"/>
              <a:gd name="textAreaRight" fmla="*/ 810000 w 80964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1483" h="1497">
                <a:moveTo>
                  <a:pt x="740" y="885"/>
                </a:moveTo>
                <a:lnTo>
                  <a:pt x="737" y="911"/>
                </a:lnTo>
                <a:lnTo>
                  <a:pt x="732" y="935"/>
                </a:lnTo>
                <a:lnTo>
                  <a:pt x="751" y="927"/>
                </a:lnTo>
                <a:lnTo>
                  <a:pt x="745" y="907"/>
                </a:lnTo>
                <a:lnTo>
                  <a:pt x="740" y="885"/>
                </a:lnTo>
                <a:close/>
                <a:moveTo>
                  <a:pt x="732" y="743"/>
                </a:moveTo>
                <a:lnTo>
                  <a:pt x="737" y="763"/>
                </a:lnTo>
                <a:lnTo>
                  <a:pt x="741" y="783"/>
                </a:lnTo>
                <a:lnTo>
                  <a:pt x="745" y="764"/>
                </a:lnTo>
                <a:lnTo>
                  <a:pt x="748" y="744"/>
                </a:lnTo>
                <a:lnTo>
                  <a:pt x="732" y="743"/>
                </a:lnTo>
                <a:close/>
                <a:moveTo>
                  <a:pt x="768" y="0"/>
                </a:moveTo>
                <a:lnTo>
                  <a:pt x="819" y="4"/>
                </a:lnTo>
                <a:lnTo>
                  <a:pt x="866" y="13"/>
                </a:lnTo>
                <a:lnTo>
                  <a:pt x="912" y="28"/>
                </a:lnTo>
                <a:lnTo>
                  <a:pt x="955" y="50"/>
                </a:lnTo>
                <a:lnTo>
                  <a:pt x="994" y="76"/>
                </a:lnTo>
                <a:lnTo>
                  <a:pt x="1031" y="107"/>
                </a:lnTo>
                <a:lnTo>
                  <a:pt x="1064" y="142"/>
                </a:lnTo>
                <a:lnTo>
                  <a:pt x="1091" y="182"/>
                </a:lnTo>
                <a:lnTo>
                  <a:pt x="1112" y="226"/>
                </a:lnTo>
                <a:lnTo>
                  <a:pt x="1128" y="272"/>
                </a:lnTo>
                <a:lnTo>
                  <a:pt x="1139" y="322"/>
                </a:lnTo>
                <a:lnTo>
                  <a:pt x="1142" y="369"/>
                </a:lnTo>
                <a:lnTo>
                  <a:pt x="1139" y="415"/>
                </a:lnTo>
                <a:lnTo>
                  <a:pt x="1131" y="460"/>
                </a:lnTo>
                <a:lnTo>
                  <a:pt x="1183" y="467"/>
                </a:lnTo>
                <a:lnTo>
                  <a:pt x="1233" y="480"/>
                </a:lnTo>
                <a:lnTo>
                  <a:pt x="1279" y="501"/>
                </a:lnTo>
                <a:lnTo>
                  <a:pt x="1322" y="526"/>
                </a:lnTo>
                <a:lnTo>
                  <a:pt x="1361" y="557"/>
                </a:lnTo>
                <a:lnTo>
                  <a:pt x="1396" y="594"/>
                </a:lnTo>
                <a:lnTo>
                  <a:pt x="1426" y="635"/>
                </a:lnTo>
                <a:lnTo>
                  <a:pt x="1451" y="679"/>
                </a:lnTo>
                <a:lnTo>
                  <a:pt x="1468" y="729"/>
                </a:lnTo>
                <a:lnTo>
                  <a:pt x="1479" y="781"/>
                </a:lnTo>
                <a:lnTo>
                  <a:pt x="1483" y="831"/>
                </a:lnTo>
                <a:lnTo>
                  <a:pt x="1479" y="881"/>
                </a:lnTo>
                <a:lnTo>
                  <a:pt x="1470" y="928"/>
                </a:lnTo>
                <a:lnTo>
                  <a:pt x="1455" y="974"/>
                </a:lnTo>
                <a:lnTo>
                  <a:pt x="1433" y="1018"/>
                </a:lnTo>
                <a:lnTo>
                  <a:pt x="1407" y="1057"/>
                </a:lnTo>
                <a:lnTo>
                  <a:pt x="1376" y="1093"/>
                </a:lnTo>
                <a:lnTo>
                  <a:pt x="1341" y="1126"/>
                </a:lnTo>
                <a:lnTo>
                  <a:pt x="1300" y="1153"/>
                </a:lnTo>
                <a:lnTo>
                  <a:pt x="1257" y="1175"/>
                </a:lnTo>
                <a:lnTo>
                  <a:pt x="1211" y="1191"/>
                </a:lnTo>
                <a:lnTo>
                  <a:pt x="1161" y="1202"/>
                </a:lnTo>
                <a:lnTo>
                  <a:pt x="1108" y="1206"/>
                </a:lnTo>
                <a:lnTo>
                  <a:pt x="1057" y="1202"/>
                </a:lnTo>
                <a:lnTo>
                  <a:pt x="1008" y="1191"/>
                </a:lnTo>
                <a:lnTo>
                  <a:pt x="961" y="1173"/>
                </a:lnTo>
                <a:lnTo>
                  <a:pt x="916" y="1150"/>
                </a:lnTo>
                <a:lnTo>
                  <a:pt x="875" y="1122"/>
                </a:lnTo>
                <a:lnTo>
                  <a:pt x="840" y="1087"/>
                </a:lnTo>
                <a:lnTo>
                  <a:pt x="808" y="1049"/>
                </a:lnTo>
                <a:lnTo>
                  <a:pt x="917" y="1497"/>
                </a:lnTo>
                <a:lnTo>
                  <a:pt x="595" y="1495"/>
                </a:lnTo>
                <a:lnTo>
                  <a:pt x="704" y="1005"/>
                </a:lnTo>
                <a:lnTo>
                  <a:pt x="678" y="1049"/>
                </a:lnTo>
                <a:lnTo>
                  <a:pt x="647" y="1088"/>
                </a:lnTo>
                <a:lnTo>
                  <a:pt x="610" y="1122"/>
                </a:lnTo>
                <a:lnTo>
                  <a:pt x="570" y="1152"/>
                </a:lnTo>
                <a:lnTo>
                  <a:pt x="524" y="1176"/>
                </a:lnTo>
                <a:lnTo>
                  <a:pt x="475" y="1194"/>
                </a:lnTo>
                <a:lnTo>
                  <a:pt x="423" y="1204"/>
                </a:lnTo>
                <a:lnTo>
                  <a:pt x="373" y="1208"/>
                </a:lnTo>
                <a:lnTo>
                  <a:pt x="323" y="1204"/>
                </a:lnTo>
                <a:lnTo>
                  <a:pt x="276" y="1195"/>
                </a:lnTo>
                <a:lnTo>
                  <a:pt x="231" y="1180"/>
                </a:lnTo>
                <a:lnTo>
                  <a:pt x="188" y="1158"/>
                </a:lnTo>
                <a:lnTo>
                  <a:pt x="149" y="1133"/>
                </a:lnTo>
                <a:lnTo>
                  <a:pt x="112" y="1102"/>
                </a:lnTo>
                <a:lnTo>
                  <a:pt x="80" y="1065"/>
                </a:lnTo>
                <a:lnTo>
                  <a:pt x="53" y="1026"/>
                </a:lnTo>
                <a:lnTo>
                  <a:pt x="31" y="982"/>
                </a:lnTo>
                <a:lnTo>
                  <a:pt x="15" y="936"/>
                </a:lnTo>
                <a:lnTo>
                  <a:pt x="4" y="886"/>
                </a:lnTo>
                <a:lnTo>
                  <a:pt x="0" y="836"/>
                </a:lnTo>
                <a:lnTo>
                  <a:pt x="4" y="786"/>
                </a:lnTo>
                <a:lnTo>
                  <a:pt x="13" y="739"/>
                </a:lnTo>
                <a:lnTo>
                  <a:pt x="28" y="693"/>
                </a:lnTo>
                <a:lnTo>
                  <a:pt x="50" y="649"/>
                </a:lnTo>
                <a:lnTo>
                  <a:pt x="76" y="610"/>
                </a:lnTo>
                <a:lnTo>
                  <a:pt x="107" y="574"/>
                </a:lnTo>
                <a:lnTo>
                  <a:pt x="142" y="541"/>
                </a:lnTo>
                <a:lnTo>
                  <a:pt x="182" y="514"/>
                </a:lnTo>
                <a:lnTo>
                  <a:pt x="226" y="492"/>
                </a:lnTo>
                <a:lnTo>
                  <a:pt x="272" y="476"/>
                </a:lnTo>
                <a:lnTo>
                  <a:pt x="322" y="465"/>
                </a:lnTo>
                <a:lnTo>
                  <a:pt x="367" y="463"/>
                </a:lnTo>
                <a:lnTo>
                  <a:pt x="410" y="465"/>
                </a:lnTo>
                <a:lnTo>
                  <a:pt x="404" y="445"/>
                </a:lnTo>
                <a:lnTo>
                  <a:pt x="400" y="423"/>
                </a:lnTo>
                <a:lnTo>
                  <a:pt x="396" y="373"/>
                </a:lnTo>
                <a:lnTo>
                  <a:pt x="400" y="323"/>
                </a:lnTo>
                <a:lnTo>
                  <a:pt x="410" y="276"/>
                </a:lnTo>
                <a:lnTo>
                  <a:pt x="425" y="231"/>
                </a:lnTo>
                <a:lnTo>
                  <a:pt x="446" y="188"/>
                </a:lnTo>
                <a:lnTo>
                  <a:pt x="472" y="149"/>
                </a:lnTo>
                <a:lnTo>
                  <a:pt x="503" y="112"/>
                </a:lnTo>
                <a:lnTo>
                  <a:pt x="538" y="80"/>
                </a:lnTo>
                <a:lnTo>
                  <a:pt x="579" y="53"/>
                </a:lnTo>
                <a:lnTo>
                  <a:pt x="622" y="31"/>
                </a:lnTo>
                <a:lnTo>
                  <a:pt x="668" y="15"/>
                </a:lnTo>
                <a:lnTo>
                  <a:pt x="718" y="4"/>
                </a:lnTo>
                <a:lnTo>
                  <a:pt x="7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iamond 137"/>
          <p:cNvSpPr/>
          <p:nvPr/>
        </p:nvSpPr>
        <p:spPr>
          <a:xfrm>
            <a:off x="1895400" y="998640"/>
            <a:ext cx="623880" cy="874440"/>
          </a:xfrm>
          <a:prstGeom prst="diamond">
            <a:avLst/>
          </a:pr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260280" y="6359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0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463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95"/>
          <p:cNvGrpSpPr/>
          <p:nvPr/>
        </p:nvGrpSpPr>
        <p:grpSpPr>
          <a:xfrm>
            <a:off x="7396560" y="4365360"/>
            <a:ext cx="1365840" cy="1595520"/>
            <a:chOff x="7396560" y="4365360"/>
            <a:chExt cx="1365840" cy="1595520"/>
          </a:xfrm>
        </p:grpSpPr>
        <p:sp>
          <p:nvSpPr>
            <p:cNvPr id="467" name="Freeform 18"/>
            <p:cNvSpPr/>
            <p:nvPr/>
          </p:nvSpPr>
          <p:spPr>
            <a:xfrm rot="21006000">
              <a:off x="7509960" y="4452480"/>
              <a:ext cx="1138320" cy="142092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 rot="21006000">
              <a:off x="7931520" y="4760280"/>
              <a:ext cx="188640" cy="131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 rot="21006000">
              <a:off x="8252280" y="4886280"/>
              <a:ext cx="188640" cy="1231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1"/>
            <p:cNvSpPr/>
            <p:nvPr/>
          </p:nvSpPr>
          <p:spPr>
            <a:xfrm rot="21006000">
              <a:off x="8103600" y="4517280"/>
              <a:ext cx="187560" cy="1375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2"/>
            <p:cNvSpPr/>
            <p:nvPr/>
          </p:nvSpPr>
          <p:spPr>
            <a:xfrm rot="21006000">
              <a:off x="7618320" y="4645440"/>
              <a:ext cx="187560" cy="1314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3"/>
            <p:cNvSpPr/>
            <p:nvPr/>
          </p:nvSpPr>
          <p:spPr>
            <a:xfrm rot="21006000">
              <a:off x="7748640" y="5014080"/>
              <a:ext cx="187560" cy="1375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"/>
            <p:cNvSpPr/>
            <p:nvPr/>
          </p:nvSpPr>
          <p:spPr>
            <a:xfrm rot="21006000">
              <a:off x="7841160" y="5353560"/>
              <a:ext cx="186480" cy="1242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5"/>
            <p:cNvSpPr/>
            <p:nvPr/>
          </p:nvSpPr>
          <p:spPr>
            <a:xfrm rot="21006000">
              <a:off x="8104320" y="5286240"/>
              <a:ext cx="187560" cy="1242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"/>
            <p:cNvSpPr/>
            <p:nvPr/>
          </p:nvSpPr>
          <p:spPr>
            <a:xfrm rot="21006000">
              <a:off x="8364960" y="5219640"/>
              <a:ext cx="187560" cy="1231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7"/>
            <p:cNvSpPr/>
            <p:nvPr/>
          </p:nvSpPr>
          <p:spPr>
            <a:xfrm rot="21006000">
              <a:off x="7883280" y="5700240"/>
              <a:ext cx="186480" cy="1242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8"/>
            <p:cNvSpPr/>
            <p:nvPr/>
          </p:nvSpPr>
          <p:spPr>
            <a:xfrm rot="21006000">
              <a:off x="8136720" y="5641920"/>
              <a:ext cx="187560" cy="1231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9"/>
            <p:cNvSpPr/>
            <p:nvPr/>
          </p:nvSpPr>
          <p:spPr>
            <a:xfrm rot="21006000">
              <a:off x="8383680" y="5575680"/>
              <a:ext cx="186480" cy="1242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 rot="21006000">
              <a:off x="7582680" y="5211720"/>
              <a:ext cx="20520" cy="18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1"/>
            <p:cNvSpPr/>
            <p:nvPr/>
          </p:nvSpPr>
          <p:spPr>
            <a:xfrm rot="21006000">
              <a:off x="7493400" y="4870440"/>
              <a:ext cx="20520" cy="180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2"/>
            <p:cNvSpPr/>
            <p:nvPr/>
          </p:nvSpPr>
          <p:spPr>
            <a:xfrm rot="21006000">
              <a:off x="7675560" y="5580720"/>
              <a:ext cx="21600" cy="1803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4"/>
            <p:cNvSpPr/>
            <p:nvPr/>
          </p:nvSpPr>
          <p:spPr>
            <a:xfrm rot="21006000">
              <a:off x="7526160" y="4593240"/>
              <a:ext cx="1108080" cy="1212480"/>
            </a:xfrm>
            <a:custGeom>
              <a:avLst/>
              <a:gdLst>
                <a:gd name="textAreaLeft" fmla="*/ 0 w 1108080"/>
                <a:gd name="textAreaRight" fmla="*/ 1108440 w 1108080"/>
                <a:gd name="textAreaTop" fmla="*/ 0 h 1212480"/>
                <a:gd name="textAreaBottom" fmla="*/ 1212840 h 121248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5"/>
            <p:cNvSpPr/>
            <p:nvPr/>
          </p:nvSpPr>
          <p:spPr>
            <a:xfrm rot="21006000">
              <a:off x="7573320" y="5212800"/>
              <a:ext cx="16920" cy="71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"/>
            <p:cNvSpPr/>
            <p:nvPr/>
          </p:nvSpPr>
          <p:spPr>
            <a:xfrm rot="21006000">
              <a:off x="7493400" y="4870440"/>
              <a:ext cx="20520" cy="180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7"/>
            <p:cNvSpPr/>
            <p:nvPr/>
          </p:nvSpPr>
          <p:spPr>
            <a:xfrm rot="21006000">
              <a:off x="7653240" y="5221080"/>
              <a:ext cx="119160" cy="1267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8"/>
            <p:cNvSpPr/>
            <p:nvPr/>
          </p:nvSpPr>
          <p:spPr>
            <a:xfrm rot="21006000">
              <a:off x="8487720" y="5046120"/>
              <a:ext cx="110880" cy="52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68"/>
          <p:cNvGrpSpPr/>
          <p:nvPr/>
        </p:nvGrpSpPr>
        <p:grpSpPr>
          <a:xfrm>
            <a:off x="6424920" y="3992400"/>
            <a:ext cx="1601280" cy="1764360"/>
            <a:chOff x="6424920" y="3992400"/>
            <a:chExt cx="1601280" cy="1764360"/>
          </a:xfrm>
        </p:grpSpPr>
        <p:sp>
          <p:nvSpPr>
            <p:cNvPr id="488" name="Freeform 7"/>
            <p:cNvSpPr/>
            <p:nvPr/>
          </p:nvSpPr>
          <p:spPr>
            <a:xfrm rot="21006000">
              <a:off x="6548400" y="4097160"/>
              <a:ext cx="1354320" cy="155448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21006000">
              <a:off x="6676920" y="4495320"/>
              <a:ext cx="200880" cy="1335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3"/>
            <p:cNvSpPr/>
            <p:nvPr/>
          </p:nvSpPr>
          <p:spPr>
            <a:xfrm rot="21006000">
              <a:off x="7510320" y="5034960"/>
              <a:ext cx="152280" cy="164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4"/>
            <p:cNvSpPr/>
            <p:nvPr/>
          </p:nvSpPr>
          <p:spPr>
            <a:xfrm rot="21006000">
              <a:off x="6948360" y="5029560"/>
              <a:ext cx="117360" cy="1659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5"/>
            <p:cNvSpPr/>
            <p:nvPr/>
          </p:nvSpPr>
          <p:spPr>
            <a:xfrm rot="21006000">
              <a:off x="6587280" y="4756680"/>
              <a:ext cx="115920" cy="1659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6"/>
            <p:cNvSpPr/>
            <p:nvPr/>
          </p:nvSpPr>
          <p:spPr>
            <a:xfrm rot="21006000">
              <a:off x="7009920" y="5361120"/>
              <a:ext cx="115920" cy="1659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"/>
            <p:cNvSpPr/>
            <p:nvPr/>
          </p:nvSpPr>
          <p:spPr>
            <a:xfrm rot="21006000">
              <a:off x="6656040" y="5105880"/>
              <a:ext cx="115920" cy="1670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3"/>
            <p:cNvSpPr/>
            <p:nvPr/>
          </p:nvSpPr>
          <p:spPr>
            <a:xfrm rot="21006000">
              <a:off x="6651360" y="4533480"/>
              <a:ext cx="1186920" cy="1092600"/>
            </a:xfrm>
            <a:custGeom>
              <a:avLst/>
              <a:gdLst>
                <a:gd name="textAreaLeft" fmla="*/ 0 w 1186920"/>
                <a:gd name="textAreaRight" fmla="*/ 1187280 w 1186920"/>
                <a:gd name="textAreaTop" fmla="*/ 0 h 1092600"/>
                <a:gd name="textAreaBottom" fmla="*/ 1092960 h 10926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9"/>
            <p:cNvSpPr/>
            <p:nvPr/>
          </p:nvSpPr>
          <p:spPr>
            <a:xfrm rot="21006000">
              <a:off x="7102440" y="4996440"/>
              <a:ext cx="141120" cy="921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3"/>
            <p:cNvSpPr/>
            <p:nvPr/>
          </p:nvSpPr>
          <p:spPr>
            <a:xfrm rot="21006000">
              <a:off x="7670520" y="4691880"/>
              <a:ext cx="152280" cy="164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 rot="21006000">
              <a:off x="7751520" y="5033520"/>
              <a:ext cx="12852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 rot="21006000">
              <a:off x="7312680" y="5364360"/>
              <a:ext cx="152280" cy="164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3"/>
            <p:cNvSpPr/>
            <p:nvPr/>
          </p:nvSpPr>
          <p:spPr>
            <a:xfrm rot="21006000">
              <a:off x="7252560" y="5019480"/>
              <a:ext cx="152280" cy="164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 rot="21006000">
              <a:off x="7450920" y="4443480"/>
              <a:ext cx="200880" cy="1335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70"/>
          <p:cNvGrpSpPr/>
          <p:nvPr/>
        </p:nvGrpSpPr>
        <p:grpSpPr>
          <a:xfrm>
            <a:off x="1231920" y="1465200"/>
            <a:ext cx="1211400" cy="1392480"/>
            <a:chOff x="1231920" y="1465200"/>
            <a:chExt cx="1211400" cy="1392480"/>
          </a:xfrm>
        </p:grpSpPr>
        <p:sp>
          <p:nvSpPr>
            <p:cNvPr id="503" name="Freeform 7"/>
            <p:cNvSpPr/>
            <p:nvPr/>
          </p:nvSpPr>
          <p:spPr>
            <a:xfrm>
              <a:off x="1231920" y="1465200"/>
              <a:ext cx="1211400" cy="139248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400760" y="1756800"/>
              <a:ext cx="179640" cy="119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1555920" y="2263680"/>
              <a:ext cx="104760" cy="148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1279800" y="1967400"/>
              <a:ext cx="103680" cy="1486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1559160" y="2565720"/>
              <a:ext cx="103680" cy="1486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1286640" y="2286000"/>
              <a:ext cx="103680" cy="1497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"/>
            <p:cNvSpPr/>
            <p:nvPr/>
          </p:nvSpPr>
          <p:spPr>
            <a:xfrm>
              <a:off x="1292040" y="1857240"/>
              <a:ext cx="1062360" cy="97812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9"/>
            <p:cNvSpPr/>
            <p:nvPr/>
          </p:nvSpPr>
          <p:spPr>
            <a:xfrm>
              <a:off x="1701720" y="2260800"/>
              <a:ext cx="126720" cy="8244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3"/>
            <p:cNvSpPr/>
            <p:nvPr/>
          </p:nvSpPr>
          <p:spPr>
            <a:xfrm>
              <a:off x="2243880" y="2079360"/>
              <a:ext cx="136080" cy="1476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3"/>
            <p:cNvSpPr/>
            <p:nvPr/>
          </p:nvSpPr>
          <p:spPr>
            <a:xfrm>
              <a:off x="1825560" y="2618280"/>
              <a:ext cx="136080" cy="1476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"/>
            <p:cNvSpPr/>
            <p:nvPr/>
          </p:nvSpPr>
          <p:spPr>
            <a:xfrm>
              <a:off x="2090880" y="1830600"/>
              <a:ext cx="179640" cy="119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"/>
            <p:cNvSpPr/>
            <p:nvPr/>
          </p:nvSpPr>
          <p:spPr>
            <a:xfrm>
              <a:off x="1746000" y="1792440"/>
              <a:ext cx="179640" cy="119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1414080" y="2268000"/>
              <a:ext cx="103680" cy="1486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93"/>
          <p:cNvGrpSpPr/>
          <p:nvPr/>
        </p:nvGrpSpPr>
        <p:grpSpPr>
          <a:xfrm>
            <a:off x="2514600" y="428760"/>
            <a:ext cx="3772080" cy="5929200"/>
            <a:chOff x="2514600" y="428760"/>
            <a:chExt cx="3772080" cy="5929200"/>
          </a:xfrm>
        </p:grpSpPr>
        <p:sp>
          <p:nvSpPr>
            <p:cNvPr id="517" name="Round Diagonal Corner Rectangle 85"/>
            <p:cNvSpPr/>
            <p:nvPr/>
          </p:nvSpPr>
          <p:spPr>
            <a:xfrm>
              <a:off x="2514600" y="428760"/>
              <a:ext cx="3772080" cy="5929200"/>
            </a:xfrm>
            <a:custGeom>
              <a:avLst/>
              <a:gdLst/>
              <a:ahLst/>
              <a:rect l="l" t="t" r="r" b="b"/>
              <a:pathLst>
                <a:path w="3771916" h="5929354">
                  <a:moveTo>
                    <a:pt x="796289" y="0"/>
                  </a:moveTo>
                  <a:lnTo>
                    <a:pt x="3771916" y="0"/>
                  </a:lnTo>
                  <a:lnTo>
                    <a:pt x="3771916" y="0"/>
                  </a:lnTo>
                  <a:lnTo>
                    <a:pt x="3771916" y="5133065"/>
                  </a:lnTo>
                  <a:cubicBezTo>
                    <a:pt x="3771916" y="5572843"/>
                    <a:pt x="3415405" y="5929354"/>
                    <a:pt x="2975627" y="5929354"/>
                  </a:cubicBezTo>
                  <a:lnTo>
                    <a:pt x="0" y="5929354"/>
                  </a:lnTo>
                  <a:lnTo>
                    <a:pt x="0" y="5929354"/>
                  </a:lnTo>
                  <a:lnTo>
                    <a:pt x="0" y="796289"/>
                  </a:lnTo>
                  <a:cubicBezTo>
                    <a:pt x="0" y="356511"/>
                    <a:pt x="356511" y="0"/>
                    <a:pt x="79628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ound Diagonal Corner Rectangle 90"/>
            <p:cNvSpPr/>
            <p:nvPr/>
          </p:nvSpPr>
          <p:spPr>
            <a:xfrm>
              <a:off x="2584440" y="500040"/>
              <a:ext cx="3626280" cy="5786640"/>
            </a:xfrm>
            <a:custGeom>
              <a:avLst/>
              <a:gdLst/>
              <a:ahLst/>
              <a:rect l="l" t="t" r="r" b="b"/>
              <a:pathLst>
                <a:path w="3625865" h="5786477">
                  <a:moveTo>
                    <a:pt x="765456" y="0"/>
                  </a:moveTo>
                  <a:lnTo>
                    <a:pt x="3625865" y="0"/>
                  </a:lnTo>
                  <a:lnTo>
                    <a:pt x="3625865" y="0"/>
                  </a:lnTo>
                  <a:lnTo>
                    <a:pt x="3625865" y="5021021"/>
                  </a:lnTo>
                  <a:cubicBezTo>
                    <a:pt x="3625865" y="5443771"/>
                    <a:pt x="3283159" y="5786477"/>
                    <a:pt x="2860409" y="5786477"/>
                  </a:cubicBezTo>
                  <a:lnTo>
                    <a:pt x="0" y="5786477"/>
                  </a:lnTo>
                  <a:lnTo>
                    <a:pt x="0" y="5786477"/>
                  </a:lnTo>
                  <a:lnTo>
                    <a:pt x="0" y="765456"/>
                  </a:lnTo>
                  <a:cubicBezTo>
                    <a:pt x="0" y="342706"/>
                    <a:pt x="342706" y="0"/>
                    <a:pt x="76545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Прямоугольник 121"/>
          <p:cNvSpPr/>
          <p:nvPr/>
        </p:nvSpPr>
        <p:spPr>
          <a:xfrm>
            <a:off x="3100320" y="2786040"/>
            <a:ext cx="2624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48"/>
          <p:cNvGrpSpPr/>
          <p:nvPr/>
        </p:nvGrpSpPr>
        <p:grpSpPr>
          <a:xfrm>
            <a:off x="304920" y="1246320"/>
            <a:ext cx="1203120" cy="1500120"/>
            <a:chOff x="304920" y="1246320"/>
            <a:chExt cx="1203120" cy="1500120"/>
          </a:xfrm>
        </p:grpSpPr>
        <p:sp>
          <p:nvSpPr>
            <p:cNvPr id="521" name="Freeform 18"/>
            <p:cNvSpPr/>
            <p:nvPr/>
          </p:nvSpPr>
          <p:spPr>
            <a:xfrm>
              <a:off x="304920" y="1246320"/>
              <a:ext cx="1203120" cy="150012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9"/>
            <p:cNvSpPr/>
            <p:nvPr/>
          </p:nvSpPr>
          <p:spPr>
            <a:xfrm>
              <a:off x="812520" y="1566720"/>
              <a:ext cx="199440" cy="138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0"/>
            <p:cNvSpPr/>
            <p:nvPr/>
          </p:nvSpPr>
          <p:spPr>
            <a:xfrm>
              <a:off x="1124280" y="1756080"/>
              <a:ext cx="199440" cy="129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1"/>
            <p:cNvSpPr/>
            <p:nvPr/>
          </p:nvSpPr>
          <p:spPr>
            <a:xfrm>
              <a:off x="1035360" y="1345320"/>
              <a:ext cx="198360" cy="145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2"/>
            <p:cNvSpPr/>
            <p:nvPr/>
          </p:nvSpPr>
          <p:spPr>
            <a:xfrm>
              <a:off x="506880" y="1390320"/>
              <a:ext cx="198360" cy="138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3"/>
            <p:cNvSpPr/>
            <p:nvPr/>
          </p:nvSpPr>
          <p:spPr>
            <a:xfrm>
              <a:off x="575280" y="1797480"/>
              <a:ext cx="198360" cy="145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4"/>
            <p:cNvSpPr/>
            <p:nvPr/>
          </p:nvSpPr>
          <p:spPr>
            <a:xfrm>
              <a:off x="611280" y="2167200"/>
              <a:ext cx="196920" cy="131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5"/>
            <p:cNvSpPr/>
            <p:nvPr/>
          </p:nvSpPr>
          <p:spPr>
            <a:xfrm>
              <a:off x="897480" y="2145240"/>
              <a:ext cx="198360" cy="131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6"/>
            <p:cNvSpPr/>
            <p:nvPr/>
          </p:nvSpPr>
          <p:spPr>
            <a:xfrm>
              <a:off x="1180800" y="2123280"/>
              <a:ext cx="198360" cy="129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7"/>
            <p:cNvSpPr/>
            <p:nvPr/>
          </p:nvSpPr>
          <p:spPr>
            <a:xfrm>
              <a:off x="592200" y="2535480"/>
              <a:ext cx="196920" cy="131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8"/>
            <p:cNvSpPr/>
            <p:nvPr/>
          </p:nvSpPr>
          <p:spPr>
            <a:xfrm>
              <a:off x="866520" y="2521080"/>
              <a:ext cx="198360" cy="129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9"/>
            <p:cNvSpPr/>
            <p:nvPr/>
          </p:nvSpPr>
          <p:spPr>
            <a:xfrm>
              <a:off x="1135800" y="2496600"/>
              <a:ext cx="196920" cy="131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0"/>
            <p:cNvSpPr/>
            <p:nvPr/>
          </p:nvSpPr>
          <p:spPr>
            <a:xfrm>
              <a:off x="363960" y="1956960"/>
              <a:ext cx="21600" cy="1918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1"/>
            <p:cNvSpPr/>
            <p:nvPr/>
          </p:nvSpPr>
          <p:spPr>
            <a:xfrm>
              <a:off x="333000" y="158616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2"/>
            <p:cNvSpPr/>
            <p:nvPr/>
          </p:nvSpPr>
          <p:spPr>
            <a:xfrm>
              <a:off x="393480" y="2357640"/>
              <a:ext cx="23040" cy="190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4"/>
            <p:cNvSpPr/>
            <p:nvPr/>
          </p:nvSpPr>
          <p:spPr>
            <a:xfrm>
              <a:off x="314280" y="1393920"/>
              <a:ext cx="1171440" cy="1281240"/>
            </a:xfrm>
            <a:custGeom>
              <a:avLst/>
              <a:gdLst/>
              <a:ahLst/>
              <a:rect l="l" t="t" r="r" b="b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5"/>
            <p:cNvSpPr/>
            <p:nvPr/>
          </p:nvSpPr>
          <p:spPr>
            <a:xfrm>
              <a:off x="363960" y="1956960"/>
              <a:ext cx="18000" cy="75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6"/>
            <p:cNvSpPr/>
            <p:nvPr/>
          </p:nvSpPr>
          <p:spPr>
            <a:xfrm>
              <a:off x="333000" y="158616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7"/>
            <p:cNvSpPr/>
            <p:nvPr/>
          </p:nvSpPr>
          <p:spPr>
            <a:xfrm>
              <a:off x="439560" y="1989360"/>
              <a:ext cx="126720" cy="133200"/>
            </a:xfrm>
            <a:custGeom>
              <a:avLst/>
              <a:gdLst/>
              <a:ahLst/>
              <a:rect l="l" t="t" r="r" b="b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8"/>
            <p:cNvSpPr/>
            <p:nvPr/>
          </p:nvSpPr>
          <p:spPr>
            <a:xfrm>
              <a:off x="1347840" y="1959120"/>
              <a:ext cx="115560" cy="53640"/>
            </a:xfrm>
            <a:custGeom>
              <a:avLst/>
              <a:gdLst/>
              <a:ahLst/>
              <a:rect l="l" t="t" r="r" b="b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7:26:42Z</dcterms:created>
  <dc:creator>Admin</dc:creator>
  <dc:description/>
  <dc:language>en-US</dc:language>
  <cp:lastModifiedBy>yu wang</cp:lastModifiedBy>
  <dcterms:modified xsi:type="dcterms:W3CDTF">2015-08-03T12:25:45Z</dcterms:modified>
  <cp:revision>103</cp:revision>
  <dc:subject/>
  <dc:title>Slide 1</dc:title>
</cp:coreProperties>
</file>