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3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arrow.wav" ContentType="audio/x-wav"/>
  <Override PartName="/ppt/media/image13.jpeg" ContentType="image/jpeg"/>
  <Override PartName="/ppt/media/image12.png" ContentType="image/png"/>
  <Override PartName="/ppt/media/laser.wav" ContentType="audio/x-wav"/>
  <Override PartName="/ppt/media/image17.png" ContentType="image/png"/>
  <Override PartName="/ppt/media/type.wav" ContentType="audio/x-wav"/>
  <Override PartName="/ppt/media/image11.png" ContentType="image/png"/>
  <Override PartName="/ppt/media/applause.wav" ContentType="audio/x-wav"/>
  <Override PartName="/ppt/media/breeze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408-1B31-44D7-81F1-0DB5B3C7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B68-0C47-41DC-8E7F-DD042F4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C6F-14AA-4EDA-BAA1-73852D40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D49-F97A-4C33-8BD3-0B83CD47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FF5-4FF5-4D6A-A49C-B9D1393F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4DF-D1A3-41C6-8D45-07CBD06A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867-E40D-476D-A86E-50121CED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44B-3A4D-4F56-B92F-64EB642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E6F-5AB9-4282-B30E-51966D7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44B-ACFE-4614-9A5C-A5216B9E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192-4FFB-4802-B4DA-AA26F2B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DDE-433F-4432-A989-263055D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39B-18E7-400E-AE48-DBF5576F20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audio" Target="../media/breeze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4.xml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6"/>
          <a:stretch/>
        </p:blipFill>
        <p:spPr>
          <a:xfrm>
            <a:off x="-716040" y="-33480"/>
            <a:ext cx="13565160" cy="7810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181240" y="3530520"/>
            <a:ext cx="8304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纸鹤蓝色创意</a:t>
            </a: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9"/>
          <p:cNvPicPr/>
          <p:nvPr/>
        </p:nvPicPr>
        <p:blipFill>
          <a:blip r:embed="rId17"/>
          <a:stretch/>
        </p:blipFill>
        <p:spPr>
          <a:xfrm>
            <a:off x="5308560" y="2222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9副本"/>
          <p:cNvPicPr/>
          <p:nvPr/>
        </p:nvPicPr>
        <p:blipFill>
          <a:blip r:embed="rId18"/>
          <a:stretch/>
        </p:blipFill>
        <p:spPr>
          <a:xfrm>
            <a:off x="5423040" y="3656160"/>
            <a:ext cx="1368360" cy="15552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78768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50800" cy="691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7"/>
          <p:cNvPicPr/>
          <p:nvPr/>
        </p:nvPicPr>
        <p:blipFill>
          <a:blip r:embed="rId2"/>
          <a:stretch/>
        </p:blipFill>
        <p:spPr>
          <a:xfrm>
            <a:off x="4826160" y="2139840"/>
            <a:ext cx="7613640" cy="380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6"/>
          <p:cNvPicPr/>
          <p:nvPr/>
        </p:nvPicPr>
        <p:blipFill>
          <a:blip r:embed="rId3"/>
          <a:stretch/>
        </p:blipFill>
        <p:spPr>
          <a:xfrm>
            <a:off x="7643880" y="1189080"/>
            <a:ext cx="4070160" cy="452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"/>
          <p:cNvPicPr/>
          <p:nvPr/>
        </p:nvPicPr>
        <p:blipFill>
          <a:blip r:embed="rId4"/>
          <a:stretch/>
        </p:blipFill>
        <p:spPr>
          <a:xfrm>
            <a:off x="9244080" y="1620720"/>
            <a:ext cx="253800" cy="24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1"/>
          <p:cNvPicPr/>
          <p:nvPr/>
        </p:nvPicPr>
        <p:blipFill>
          <a:blip r:embed="rId5"/>
          <a:stretch/>
        </p:blipFill>
        <p:spPr>
          <a:xfrm>
            <a:off x="11385720" y="4940280"/>
            <a:ext cx="339480" cy="335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244520" y="313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中倩简体"/>
              </a:rPr>
              <a:t>目录</a:t>
            </a: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细倩简体"/>
              </a:rPr>
              <a:t> </a:t>
            </a:r>
            <a:r>
              <a:rPr b="0" lang="zh-CN" sz="4000" spc="-1" strike="noStrike" baseline="18000">
                <a:solidFill>
                  <a:srgbClr val="00ccff"/>
                </a:solidFill>
                <a:latin typeface="Boring Boron"/>
                <a:ea typeface="Dotum"/>
              </a:rPr>
              <a:t>Catal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992920" y="35067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9">
            <a:hlinkClick r:id="rId6" action="ppaction://hlinksldjump"/>
          </p:cNvPr>
          <p:cNvSpPr/>
          <p:nvPr/>
        </p:nvSpPr>
        <p:spPr>
          <a:xfrm>
            <a:off x="6729480" y="22050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424560" y="2852640"/>
            <a:ext cx="234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319720" y="49482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599080" y="4237200"/>
            <a:ext cx="41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副本"/>
          <p:cNvPicPr/>
          <p:nvPr/>
        </p:nvPicPr>
        <p:blipFill>
          <a:blip r:embed="rId1"/>
          <a:stretch/>
        </p:blipFill>
        <p:spPr>
          <a:xfrm>
            <a:off x="-28440" y="-42840"/>
            <a:ext cx="12252240" cy="688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"/>
          <p:cNvPicPr/>
          <p:nvPr/>
        </p:nvPicPr>
        <p:blipFill>
          <a:blip r:embed="rId2"/>
          <a:stretch/>
        </p:blipFill>
        <p:spPr>
          <a:xfrm>
            <a:off x="-27000" y="3294000"/>
            <a:ext cx="12249000" cy="3598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7013520" y="3073320"/>
            <a:ext cx="4753080" cy="443160"/>
          </a:xfrm>
          <a:prstGeom prst="flowChartTerminator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1"/>
          <p:cNvPicPr/>
          <p:nvPr/>
        </p:nvPicPr>
        <p:blipFill>
          <a:blip r:embed="rId3"/>
          <a:stretch/>
        </p:blipFill>
        <p:spPr>
          <a:xfrm>
            <a:off x="-28440" y="-42840"/>
            <a:ext cx="6426000" cy="6558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8112240" y="3111480"/>
            <a:ext cx="28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961240" y="1409760"/>
            <a:ext cx="6248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000000"/>
                </a:solidFill>
                <a:latin typeface="方正中倩简体"/>
                <a:ea typeface="方正中倩简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50800" cy="691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13"/>
          <p:cNvPicPr/>
          <p:nvPr/>
        </p:nvPicPr>
        <p:blipFill>
          <a:blip r:embed="rId2"/>
          <a:stretch/>
        </p:blipFill>
        <p:spPr>
          <a:xfrm>
            <a:off x="2627280" y="1746360"/>
            <a:ext cx="4862520" cy="38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"/>
          <p:cNvPicPr/>
          <p:nvPr/>
        </p:nvPicPr>
        <p:blipFill>
          <a:blip r:embed="rId3"/>
          <a:stretch/>
        </p:blipFill>
        <p:spPr>
          <a:xfrm>
            <a:off x="6432480" y="1733400"/>
            <a:ext cx="6308640" cy="334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6"/>
          <p:cNvPicPr/>
          <p:nvPr/>
        </p:nvPicPr>
        <p:blipFill>
          <a:blip r:embed="rId4"/>
          <a:stretch/>
        </p:blipFill>
        <p:spPr>
          <a:xfrm>
            <a:off x="7534440" y="3983040"/>
            <a:ext cx="3477960" cy="9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5"/>
          <p:cNvPicPr/>
          <p:nvPr/>
        </p:nvPicPr>
        <p:blipFill>
          <a:blip r:embed="rId5"/>
          <a:stretch/>
        </p:blipFill>
        <p:spPr>
          <a:xfrm>
            <a:off x="6988320" y="1857240"/>
            <a:ext cx="5622840" cy="198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4"/>
          <p:cNvPicPr/>
          <p:nvPr/>
        </p:nvPicPr>
        <p:blipFill>
          <a:blip r:embed="rId6"/>
          <a:stretch/>
        </p:blipFill>
        <p:spPr>
          <a:xfrm>
            <a:off x="5707080" y="1262160"/>
            <a:ext cx="2170080" cy="480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3659040" y="31035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05240" y="18162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938760" y="2463840"/>
            <a:ext cx="234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048120" y="45594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35320" y="383364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035840" y="1268280"/>
            <a:ext cx="48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5f5f5f"/>
                </a:solidFill>
                <a:latin typeface="Calibri"/>
                <a:ea typeface="方正中倩简体"/>
              </a:rPr>
              <a:t>「好的工作计划，是保证工作顺利实施的开端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8589960" y="5245200"/>
            <a:ext cx="141120" cy="141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8956800" y="5235480"/>
            <a:ext cx="141120" cy="1396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9331200" y="5240160"/>
            <a:ext cx="141480" cy="141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49000" cy="6915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18"/>
          <p:cNvPicPr/>
          <p:nvPr/>
        </p:nvPicPr>
        <p:blipFill>
          <a:blip r:embed="rId2"/>
          <a:stretch/>
        </p:blipFill>
        <p:spPr>
          <a:xfrm>
            <a:off x="5324400" y="2550960"/>
            <a:ext cx="1236600" cy="689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027760" y="3133800"/>
            <a:ext cx="2152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baseline="-25000">
                <a:solidFill>
                  <a:srgbClr val="5b9bd5"/>
                </a:solidFill>
                <a:latin typeface="Boring Boron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yu wang</cp:lastModifiedBy>
  <dcterms:modified xsi:type="dcterms:W3CDTF">2015-08-03T12:24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