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A00-F92D-429C-9432-5F5B6A30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324-10CE-4599-95B1-E483B90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F29-EA79-4A9E-A59F-C3B2CEE5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54C-E4FC-4DA0-B6D0-66F6E15D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B64-FA19-4F3C-AD6E-BE3DC11B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256-FFA3-4DB4-9E3C-3CFAEA2C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39C-DADF-419B-8235-005A2B5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C41-354E-498B-B88A-A7D447C5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CF2-3BB6-4FEF-9E07-73F1490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393-9B5C-47A3-88EB-B6AC9E5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BE-BF20-423C-8152-E0C9A03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EDD-9491-40B1-A303-FA8AE23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Users\leshengjie\Desktop\未标题-1.jpg"/>
          <p:cNvPicPr/>
          <p:nvPr/>
        </p:nvPicPr>
        <p:blipFill>
          <a:blip r:embed="rId2"/>
          <a:stretch/>
        </p:blipFill>
        <p:spPr>
          <a:xfrm>
            <a:off x="-3240" y="-3240"/>
            <a:ext cx="12201480" cy="686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18D-0032-4C92-9C7C-4F431B882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54716" t="-22399" r="0" b="0"/>
          <a:stretch/>
        </p:blipFill>
        <p:spPr>
          <a:xfrm>
            <a:off x="7886880" y="3408480"/>
            <a:ext cx="7867440" cy="8046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3243240" y="3133800"/>
            <a:ext cx="3956040" cy="841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7551720" y="3132000"/>
            <a:ext cx="961920" cy="962280"/>
            <a:chOff x="7551720" y="3132000"/>
            <a:chExt cx="961920" cy="962280"/>
          </a:xfrm>
        </p:grpSpPr>
        <p:sp>
          <p:nvSpPr>
            <p:cNvPr id="45" name="椭圆 8"/>
            <p:cNvSpPr/>
            <p:nvPr/>
          </p:nvSpPr>
          <p:spPr>
            <a:xfrm>
              <a:off x="7551720" y="3132000"/>
              <a:ext cx="961920" cy="962280"/>
            </a:xfrm>
            <a:prstGeom prst="ellipse">
              <a:avLst/>
            </a:prstGeom>
            <a:solidFill>
              <a:srgbClr val="3b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7597800" y="330804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G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7" descr="C:\Users\leshengjie\Desktop\未标题-3.png"/>
          <p:cNvPicPr/>
          <p:nvPr/>
        </p:nvPicPr>
        <p:blipFill>
          <a:blip r:embed="rId3"/>
          <a:stretch/>
        </p:blipFill>
        <p:spPr>
          <a:xfrm>
            <a:off x="7842240" y="3340080"/>
            <a:ext cx="1797120" cy="1797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2080" y="1403280"/>
            <a:ext cx="47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办公白色简约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5.41667E-006 3.33333E-006 C 0.01354 -0.0081 0.03124 0.00116 0.04479 0.00926 C 0.05182 0.01342 0.04843 0.0081 0.0552 0.01481 C 0.06432 0.02361 0.05833 0.02037 0.06562 0.02592 C 0.07421 0.03241 0.08346 0.03796 0.09166 0.04629 C 0.10064 0.05532 0.11002 0.06643 0.11979 0.07222 C 0.12395 0.07477 0.12812 0.07546 0.13229 0.07778 C 0.13736 0.08055 0.14361 0.08611 0.14895 0.08704 C 0.15455 0.08796 0.16002 0.08819 0.16562 0.08889 C 0.19231 0.10463 0.16965 0.09259 0.23645 0.09074 C 0.24387 0.08634 0.25273 0.08495 0.26041 0.08333 C 0.28137 0.07083 0.29921 0.04699 0.31874 0.02963 C 0.322 0.02662 0.3259 0.02708 0.32916 0.02407 C 0.33215 0.02129 0.33541 0.0169 0.33854 0.01481 C 0.35195 0.00602 0.36718 0.00324 0.38124 3.33333E-006 C 0.41822 0.00116 0.43619 -0.00903 0.46249 0.02222 C 0.46627 0.02662 0.48242 0.03171 0.48541 0.03704 E">
                                      <p:cBhvr>
                                        <p:cTn id="19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2587680" y="3208320"/>
            <a:ext cx="17370360" cy="6573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4419360" y="3336840"/>
            <a:ext cx="3600360" cy="1506240"/>
            <a:chOff x="4419360" y="3336840"/>
            <a:chExt cx="3600360" cy="1506240"/>
          </a:xfrm>
        </p:grpSpPr>
        <p:grpSp>
          <p:nvGrpSpPr>
            <p:cNvPr id="52" name="Group 4"/>
            <p:cNvGrpSpPr/>
            <p:nvPr/>
          </p:nvGrpSpPr>
          <p:grpSpPr>
            <a:xfrm>
              <a:off x="4419360" y="3585600"/>
              <a:ext cx="3600360" cy="719640"/>
              <a:chOff x="4419360" y="3585600"/>
              <a:chExt cx="3600360" cy="719640"/>
            </a:xfrm>
          </p:grpSpPr>
          <p:sp>
            <p:nvSpPr>
              <p:cNvPr id="53" name="直接连接符 24"/>
              <p:cNvSpPr/>
              <p:nvPr/>
            </p:nvSpPr>
            <p:spPr>
              <a:xfrm flipV="1">
                <a:off x="6144120" y="3585600"/>
                <a:ext cx="0" cy="71964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直接连接符 25"/>
              <p:cNvSpPr/>
              <p:nvPr/>
            </p:nvSpPr>
            <p:spPr>
              <a:xfrm flipH="1">
                <a:off x="4419360" y="4305240"/>
                <a:ext cx="3600360" cy="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Group 7"/>
            <p:cNvGrpSpPr/>
            <p:nvPr/>
          </p:nvGrpSpPr>
          <p:grpSpPr>
            <a:xfrm>
              <a:off x="4790520" y="3336840"/>
              <a:ext cx="2817360" cy="1506240"/>
              <a:chOff x="4790520" y="3336840"/>
              <a:chExt cx="2817360" cy="1506240"/>
            </a:xfrm>
          </p:grpSpPr>
          <p:sp>
            <p:nvSpPr>
              <p:cNvPr id="56" name="TextBox 5"/>
              <p:cNvSpPr/>
              <p:nvPr/>
            </p:nvSpPr>
            <p:spPr>
              <a:xfrm>
                <a:off x="4790520" y="4322520"/>
                <a:ext cx="281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PS Offic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优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5962680" y="3336840"/>
                <a:ext cx="360360" cy="360360"/>
                <a:chOff x="5962680" y="3336840"/>
                <a:chExt cx="360360" cy="360360"/>
              </a:xfrm>
            </p:grpSpPr>
            <p:sp>
              <p:nvSpPr>
                <p:cNvPr id="58" name="椭圆 11"/>
                <p:cNvSpPr/>
                <p:nvPr/>
              </p:nvSpPr>
              <p:spPr>
                <a:xfrm>
                  <a:off x="5962680" y="3336840"/>
                  <a:ext cx="36036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椭圆 12"/>
                <p:cNvSpPr/>
                <p:nvPr/>
              </p:nvSpPr>
              <p:spPr>
                <a:xfrm>
                  <a:off x="6030000" y="3404160"/>
                  <a:ext cx="22536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0" name="Group 12"/>
          <p:cNvGrpSpPr/>
          <p:nvPr/>
        </p:nvGrpSpPr>
        <p:grpSpPr>
          <a:xfrm>
            <a:off x="8305920" y="1946160"/>
            <a:ext cx="3600360" cy="1979640"/>
            <a:chOff x="8305920" y="1946160"/>
            <a:chExt cx="3600360" cy="1979640"/>
          </a:xfrm>
        </p:grpSpPr>
        <p:grpSp>
          <p:nvGrpSpPr>
            <p:cNvPr id="61" name="Group 13"/>
            <p:cNvGrpSpPr/>
            <p:nvPr/>
          </p:nvGrpSpPr>
          <p:grpSpPr>
            <a:xfrm>
              <a:off x="8305920" y="2489040"/>
              <a:ext cx="3600360" cy="1368360"/>
              <a:chOff x="8305920" y="2489040"/>
              <a:chExt cx="3600360" cy="1368360"/>
            </a:xfrm>
          </p:grpSpPr>
          <p:sp>
            <p:nvSpPr>
              <p:cNvPr id="62" name="直接连接符 30"/>
              <p:cNvSpPr/>
              <p:nvPr/>
            </p:nvSpPr>
            <p:spPr>
              <a:xfrm flipH="1">
                <a:off x="10523880" y="2489040"/>
                <a:ext cx="360" cy="136836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直接连接符 31"/>
              <p:cNvSpPr/>
              <p:nvPr/>
            </p:nvSpPr>
            <p:spPr>
              <a:xfrm>
                <a:off x="8305920" y="2489040"/>
                <a:ext cx="3600360" cy="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TextBox 6"/>
            <p:cNvSpPr/>
            <p:nvPr/>
          </p:nvSpPr>
          <p:spPr>
            <a:xfrm>
              <a:off x="8665200" y="19461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 Office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应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Group 17"/>
            <p:cNvGrpSpPr/>
            <p:nvPr/>
          </p:nvGrpSpPr>
          <p:grpSpPr>
            <a:xfrm>
              <a:off x="10344240" y="3565440"/>
              <a:ext cx="360360" cy="360360"/>
              <a:chOff x="10344240" y="3565440"/>
              <a:chExt cx="360360" cy="360360"/>
            </a:xfrm>
          </p:grpSpPr>
          <p:sp>
            <p:nvSpPr>
              <p:cNvPr id="66" name="椭圆 14"/>
              <p:cNvSpPr/>
              <p:nvPr/>
            </p:nvSpPr>
            <p:spPr>
              <a:xfrm>
                <a:off x="10344240" y="3565440"/>
                <a:ext cx="360360" cy="36036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椭圆 15"/>
              <p:cNvSpPr/>
              <p:nvPr/>
            </p:nvSpPr>
            <p:spPr>
              <a:xfrm>
                <a:off x="10411560" y="3632760"/>
                <a:ext cx="225360" cy="225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" name="Group 20"/>
          <p:cNvGrpSpPr/>
          <p:nvPr/>
        </p:nvGrpSpPr>
        <p:grpSpPr>
          <a:xfrm>
            <a:off x="285840" y="2351160"/>
            <a:ext cx="3600720" cy="1117440"/>
            <a:chOff x="285840" y="2351160"/>
            <a:chExt cx="3600720" cy="1117440"/>
          </a:xfrm>
        </p:grpSpPr>
        <p:sp>
          <p:nvSpPr>
            <p:cNvPr id="69" name="TextBox 4"/>
            <p:cNvSpPr/>
            <p:nvPr/>
          </p:nvSpPr>
          <p:spPr>
            <a:xfrm>
              <a:off x="591120" y="2351160"/>
              <a:ext cx="31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Office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接连接符 19"/>
            <p:cNvSpPr/>
            <p:nvPr/>
          </p:nvSpPr>
          <p:spPr>
            <a:xfrm>
              <a:off x="1761480" y="2889360"/>
              <a:ext cx="0" cy="5396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接连接符 21"/>
            <p:cNvSpPr/>
            <p:nvPr/>
          </p:nvSpPr>
          <p:spPr>
            <a:xfrm>
              <a:off x="285840" y="2889360"/>
              <a:ext cx="360072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Group 24"/>
            <p:cNvGrpSpPr/>
            <p:nvPr/>
          </p:nvGrpSpPr>
          <p:grpSpPr>
            <a:xfrm>
              <a:off x="1581120" y="3108600"/>
              <a:ext cx="360360" cy="360000"/>
              <a:chOff x="1581120" y="3108600"/>
              <a:chExt cx="360360" cy="360000"/>
            </a:xfrm>
          </p:grpSpPr>
          <p:sp>
            <p:nvSpPr>
              <p:cNvPr id="73" name="椭圆 7"/>
              <p:cNvSpPr/>
              <p:nvPr/>
            </p:nvSpPr>
            <p:spPr>
              <a:xfrm>
                <a:off x="1581120" y="3108600"/>
                <a:ext cx="360360" cy="36000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椭圆 8"/>
              <p:cNvSpPr/>
              <p:nvPr/>
            </p:nvSpPr>
            <p:spPr>
              <a:xfrm>
                <a:off x="1648440" y="3175920"/>
                <a:ext cx="225360" cy="22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5" name="Group 27"/>
          <p:cNvGrpSpPr/>
          <p:nvPr/>
        </p:nvGrpSpPr>
        <p:grpSpPr>
          <a:xfrm>
            <a:off x="-1225440" y="3182760"/>
            <a:ext cx="961920" cy="962280"/>
            <a:chOff x="-1225440" y="3182760"/>
            <a:chExt cx="961920" cy="962280"/>
          </a:xfrm>
        </p:grpSpPr>
        <p:sp>
          <p:nvSpPr>
            <p:cNvPr id="76" name="椭圆 25"/>
            <p:cNvSpPr/>
            <p:nvPr/>
          </p:nvSpPr>
          <p:spPr>
            <a:xfrm>
              <a:off x="-1225440" y="3182760"/>
              <a:ext cx="961920" cy="962280"/>
            </a:xfrm>
            <a:prstGeom prst="ellipse">
              <a:avLst/>
            </a:prstGeom>
            <a:solidFill>
              <a:srgbClr val="3b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26"/>
            <p:cNvSpPr/>
            <p:nvPr/>
          </p:nvSpPr>
          <p:spPr>
            <a:xfrm>
              <a:off x="-1179000" y="335880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G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1438200" y="2892600"/>
            <a:ext cx="127332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08119E-006 -7.03704E-006 C 0.03592 0.00902 0.00326 -0.00348 0.02343 0.01249 C 0.02798 0.01597 0.0328 0.01805 0.03748 0.02083 C 0.03982 0.02222 0.04451 0.02499 0.04451 0.02499 C 0.07885 0.0236 0.11307 0.02337 0.14755 0.02083 C 0.15783 0.02013 0.15249 0.01458 0.15926 0.00416 C 0.15926 0.00416 0.17682 -0.01667 0.18034 -0.02084 C 0.1845 -0.0257 0.18983 -0.02524 0.19439 -0.02917 C 0.20714 -0.04052 0.22028 -0.04815 0.2342 -0.05417 C 0.25762 -0.05278 0.28104 -0.05255 0.30446 -0.05001 C 0.31396 -0.04908 0.31448 -0.04329 0.32319 -0.03751 C 0.33855 -0.02732 0.35429 -0.0176 0.37003 -0.00834 C 0.37654 -0.0044 0.38421 0.00208 0.39111 0.00416 C 0.40724 0.00902 0.4222 0.01573 0.43795 0.02499 C 0.43977 0.02615 0.49858 0.03333 0.49884 0.03333 C 0.51185 0.03147 0.53436 0.03286 0.54802 0.02083 C 0.56519 0.00555 0.58067 -0.01251 0.59954 -0.02084 C 0.62114 -0.0463 0.64755 -0.04954 0.67214 -0.05834 C 0.68762 -0.05695 0.70337 -0.05649 0.71898 -0.05417 C 0.72561 -0.05325 0.73134 -0.04468 0.73771 -0.04167 C 0.74214 -0.03936 0.74708 -0.0389 0.75176 -0.03751 C 0.76595 -0.02501 0.77896 -0.0213 0.79392 -0.01251 C 0.80069 -0.00834 0.8258 0.0074 0.83139 0.00833 C 0.84076 0.00972 0.85013 0.0111 0.85949 0.01249 C 0.87198 0.01805 0.88135 0.02198 0.89462 0.02499 C 0.89696 0.02638 0.89905 0.02916 0.90165 0.02916 C 0.91336 0.02916 0.9252 0.02847 0.93678 0.02499 C 0.93938 0.02407 0.9412 0.01897 0.9438 0.01666 C 0.94588 0.01481 0.94862 0.01458 0.95083 0.01249 C 0.97347 -0.00996 0.95577 -0.000240000000000001 0.97425 -0.00834 C 0.98544 -0.02153 0.97854 -0.01505 0.99532 -0.02501 C 0.99767 -0.0264 1.00235 -0.02917 1.00235 -0.02917 C 1.00378 -0.03334 1.00443 -0.03936 1.00703 -0.04167 C 1.01263 -0.04677 1.01952 -0.04723 1.02577 -0.05001 C 1.05895 -0.06482 1.01783 -0.05348 1.05856 -0.06251 C 1.08354 -0.06112 1.10865 -0.06181 1.1335 -0.05834 C 1.14508 -0.05672 1.15913 -0.04283 1.17097 -0.03751 C 1.17331 -0.03473 1.17539 -0.03126 1.17799 -0.02917 C 1.18255 -0.0257 1.18788 -0.0257 1.19205 -0.02084 C 1.19439 -0.01806 1.19907 -0.01251 1.19907 -0.01251 E">
                                      <p:cBhvr>
                                        <p:cTn id="2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1000" fill="hold"/>
                                        <p:tgtEl>
                                          <p:spTgt spid="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 repeatCount="300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3006720" y="339840"/>
            <a:ext cx="6178680" cy="6178320"/>
            <a:chOff x="3006720" y="339840"/>
            <a:chExt cx="6178680" cy="6178320"/>
          </a:xfrm>
        </p:grpSpPr>
        <p:pic>
          <p:nvPicPr>
            <p:cNvPr id="80" name="组合 9" descr=""/>
            <p:cNvPicPr/>
            <p:nvPr/>
          </p:nvPicPr>
          <p:blipFill>
            <a:blip r:embed="rId1"/>
            <a:stretch/>
          </p:blipFill>
          <p:spPr>
            <a:xfrm>
              <a:off x="3006720" y="339840"/>
              <a:ext cx="617868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"/>
            <p:cNvSpPr/>
            <p:nvPr/>
          </p:nvSpPr>
          <p:spPr>
            <a:xfrm>
              <a:off x="4300920" y="3119040"/>
              <a:ext cx="354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Office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7308720" y="3340080"/>
            <a:ext cx="1797120" cy="179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44444E-006 L 2.91667E-006 0.21666 E">
                                      <p:cBhvr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4444 E">
                                      <p:cBhvr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5"/>
          <p:cNvSpPr/>
          <p:nvPr/>
        </p:nvSpPr>
        <p:spPr>
          <a:xfrm>
            <a:off x="1581120" y="290520"/>
            <a:ext cx="902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00b05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(Word Processing System),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意为文字编辑系统，是金山软件公司的一种办公软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组合 5" descr=""/>
          <p:cNvPicPr/>
          <p:nvPr/>
        </p:nvPicPr>
        <p:blipFill>
          <a:blip r:embed="rId1"/>
          <a:stretch/>
        </p:blipFill>
        <p:spPr>
          <a:xfrm>
            <a:off x="2962440" y="4432320"/>
            <a:ext cx="6314760" cy="6308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537800" y="592308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9"/>
          <p:cNvSpPr/>
          <p:nvPr/>
        </p:nvSpPr>
        <p:spPr>
          <a:xfrm>
            <a:off x="8362800" y="6040440"/>
            <a:ext cx="31464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5938920" y="4602240"/>
            <a:ext cx="314280" cy="31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11"/>
          <p:cNvSpPr/>
          <p:nvPr/>
        </p:nvSpPr>
        <p:spPr>
          <a:xfrm>
            <a:off x="3503520" y="6040440"/>
            <a:ext cx="31284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1581120" y="1820880"/>
            <a:ext cx="902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出现于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9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在微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出现以前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盛行的年代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是中国最流行的文字处理软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1581120" y="3300480"/>
            <a:ext cx="902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新正式版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201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另外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2009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版也已面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3308400" y="5899320"/>
            <a:ext cx="1415880" cy="141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leshengjie\Desktop\未标题-3.png"/>
          <p:cNvPicPr/>
          <p:nvPr/>
        </p:nvPicPr>
        <p:blipFill>
          <a:blip r:embed="rId3"/>
          <a:stretch/>
        </p:blipFill>
        <p:spPr>
          <a:xfrm>
            <a:off x="5770440" y="4449600"/>
            <a:ext cx="14162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leshengjie\Desktop\未标题-3.png"/>
          <p:cNvPicPr/>
          <p:nvPr/>
        </p:nvPicPr>
        <p:blipFill>
          <a:blip r:embed="rId4"/>
          <a:stretch/>
        </p:blipFill>
        <p:spPr>
          <a:xfrm>
            <a:off x="8190000" y="588636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08333E-007 -2.22222E-006 C -0.11484 -0.05648 -0.22969 -0.1125 -0.25469 -0.24606 C -0.27969 -0.37916 -0.17214 -0.68426 -0.15039 -0.79977 E">
                                      <p:cBhvr>
                                        <p:cTn id="9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013 -0.00208 C -0.15937 0.02871 -0.3181 0.05949 -0.37643 -0.00208 C -0.43477 -0.06366 -0.35573 -0.29444 -0.35026 -0.37129 E">
                                      <p:cBhvr>
                                        <p:cTn id="11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013 -2.22222E-006 C -0.09349 -0.02315 -0.46901 -0.0794 -0.56068 -0.13912 C -0.65235 -0.19884 -0.55209 -0.31319 -0.54987 -0.35903 E">
                                      <p:cBhvr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2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A39-E14B-4B7E-A207-7E1E4887E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8"/>
          <p:cNvSpPr/>
          <p:nvPr/>
        </p:nvSpPr>
        <p:spPr>
          <a:xfrm>
            <a:off x="440064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541656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643284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1"/>
          <p:cNvSpPr/>
          <p:nvPr/>
        </p:nvSpPr>
        <p:spPr>
          <a:xfrm>
            <a:off x="744876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-911160" y="3249720"/>
            <a:ext cx="14015880" cy="360360"/>
            <a:chOff x="-911160" y="3249720"/>
            <a:chExt cx="14015880" cy="360360"/>
          </a:xfrm>
        </p:grpSpPr>
        <p:grpSp>
          <p:nvGrpSpPr>
            <p:cNvPr id="103" name="Group 7"/>
            <p:cNvGrpSpPr/>
            <p:nvPr/>
          </p:nvGrpSpPr>
          <p:grpSpPr>
            <a:xfrm>
              <a:off x="-911160" y="3249720"/>
              <a:ext cx="2207520" cy="360360"/>
              <a:chOff x="-911160" y="3249720"/>
              <a:chExt cx="2207520" cy="360360"/>
            </a:xfrm>
          </p:grpSpPr>
          <p:grpSp>
            <p:nvGrpSpPr>
              <p:cNvPr id="104" name="Group 8"/>
              <p:cNvGrpSpPr/>
              <p:nvPr/>
            </p:nvGrpSpPr>
            <p:grpSpPr>
              <a:xfrm>
                <a:off x="12600" y="3249720"/>
                <a:ext cx="360000" cy="360360"/>
                <a:chOff x="12600" y="3249720"/>
                <a:chExt cx="360000" cy="360360"/>
              </a:xfrm>
            </p:grpSpPr>
            <p:sp>
              <p:nvSpPr>
                <p:cNvPr id="105" name="椭圆 11"/>
                <p:cNvSpPr/>
                <p:nvPr/>
              </p:nvSpPr>
              <p:spPr>
                <a:xfrm>
                  <a:off x="1260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椭圆 12"/>
                <p:cNvSpPr/>
                <p:nvPr/>
              </p:nvSpPr>
              <p:spPr>
                <a:xfrm>
                  <a:off x="7992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" name="Group 11"/>
              <p:cNvGrpSpPr/>
              <p:nvPr/>
            </p:nvGrpSpPr>
            <p:grpSpPr>
              <a:xfrm>
                <a:off x="936360" y="3249720"/>
                <a:ext cx="360000" cy="360360"/>
                <a:chOff x="936360" y="3249720"/>
                <a:chExt cx="360000" cy="360360"/>
              </a:xfrm>
            </p:grpSpPr>
            <p:sp>
              <p:nvSpPr>
                <p:cNvPr id="108" name="椭圆 14"/>
                <p:cNvSpPr/>
                <p:nvPr/>
              </p:nvSpPr>
              <p:spPr>
                <a:xfrm>
                  <a:off x="93636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椭圆 15"/>
                <p:cNvSpPr/>
                <p:nvPr/>
              </p:nvSpPr>
              <p:spPr>
                <a:xfrm>
                  <a:off x="10036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0" name="Group 14"/>
              <p:cNvGrpSpPr/>
              <p:nvPr/>
            </p:nvGrpSpPr>
            <p:grpSpPr>
              <a:xfrm>
                <a:off x="-911160" y="3249720"/>
                <a:ext cx="360000" cy="360360"/>
                <a:chOff x="-911160" y="3249720"/>
                <a:chExt cx="360000" cy="360360"/>
              </a:xfrm>
            </p:grpSpPr>
            <p:sp>
              <p:nvSpPr>
                <p:cNvPr id="111" name="椭圆 7"/>
                <p:cNvSpPr/>
                <p:nvPr/>
              </p:nvSpPr>
              <p:spPr>
                <a:xfrm>
                  <a:off x="-91116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椭圆 8"/>
                <p:cNvSpPr/>
                <p:nvPr/>
              </p:nvSpPr>
              <p:spPr>
                <a:xfrm>
                  <a:off x="-8434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3" name="Group 17"/>
            <p:cNvGrpSpPr/>
            <p:nvPr/>
          </p:nvGrpSpPr>
          <p:grpSpPr>
            <a:xfrm>
              <a:off x="1831320" y="3249720"/>
              <a:ext cx="2207520" cy="360360"/>
              <a:chOff x="1831320" y="3249720"/>
              <a:chExt cx="2207520" cy="360360"/>
            </a:xfrm>
          </p:grpSpPr>
          <p:grpSp>
            <p:nvGrpSpPr>
              <p:cNvPr id="114" name="Group 18"/>
              <p:cNvGrpSpPr/>
              <p:nvPr/>
            </p:nvGrpSpPr>
            <p:grpSpPr>
              <a:xfrm>
                <a:off x="2755080" y="3249720"/>
                <a:ext cx="360000" cy="360360"/>
                <a:chOff x="2755080" y="3249720"/>
                <a:chExt cx="360000" cy="360360"/>
              </a:xfrm>
            </p:grpSpPr>
            <p:sp>
              <p:nvSpPr>
                <p:cNvPr id="115" name="椭圆 11"/>
                <p:cNvSpPr/>
                <p:nvPr/>
              </p:nvSpPr>
              <p:spPr>
                <a:xfrm>
                  <a:off x="275508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椭圆 12"/>
                <p:cNvSpPr/>
                <p:nvPr/>
              </p:nvSpPr>
              <p:spPr>
                <a:xfrm>
                  <a:off x="282240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Group 21"/>
              <p:cNvGrpSpPr/>
              <p:nvPr/>
            </p:nvGrpSpPr>
            <p:grpSpPr>
              <a:xfrm>
                <a:off x="3678840" y="3249720"/>
                <a:ext cx="360000" cy="360360"/>
                <a:chOff x="3678840" y="3249720"/>
                <a:chExt cx="360000" cy="360360"/>
              </a:xfrm>
            </p:grpSpPr>
            <p:sp>
              <p:nvSpPr>
                <p:cNvPr id="118" name="椭圆 14"/>
                <p:cNvSpPr/>
                <p:nvPr/>
              </p:nvSpPr>
              <p:spPr>
                <a:xfrm>
                  <a:off x="367884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 15"/>
                <p:cNvSpPr/>
                <p:nvPr/>
              </p:nvSpPr>
              <p:spPr>
                <a:xfrm>
                  <a:off x="374616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Group 24"/>
              <p:cNvGrpSpPr/>
              <p:nvPr/>
            </p:nvGrpSpPr>
            <p:grpSpPr>
              <a:xfrm>
                <a:off x="1831320" y="3249720"/>
                <a:ext cx="360000" cy="360360"/>
                <a:chOff x="1831320" y="3249720"/>
                <a:chExt cx="360000" cy="360360"/>
              </a:xfrm>
            </p:grpSpPr>
            <p:sp>
              <p:nvSpPr>
                <p:cNvPr id="121" name="椭圆 7"/>
                <p:cNvSpPr/>
                <p:nvPr/>
              </p:nvSpPr>
              <p:spPr>
                <a:xfrm>
                  <a:off x="183132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椭圆 8"/>
                <p:cNvSpPr/>
                <p:nvPr/>
              </p:nvSpPr>
              <p:spPr>
                <a:xfrm>
                  <a:off x="189864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3" name="Group 27"/>
            <p:cNvGrpSpPr/>
            <p:nvPr/>
          </p:nvGrpSpPr>
          <p:grpSpPr>
            <a:xfrm>
              <a:off x="8154360" y="3249720"/>
              <a:ext cx="2207520" cy="360360"/>
              <a:chOff x="8154360" y="3249720"/>
              <a:chExt cx="2207520" cy="360360"/>
            </a:xfrm>
          </p:grpSpPr>
          <p:grpSp>
            <p:nvGrpSpPr>
              <p:cNvPr id="124" name="Group 28"/>
              <p:cNvGrpSpPr/>
              <p:nvPr/>
            </p:nvGrpSpPr>
            <p:grpSpPr>
              <a:xfrm>
                <a:off x="9078120" y="3249720"/>
                <a:ext cx="360000" cy="360360"/>
                <a:chOff x="9078120" y="3249720"/>
                <a:chExt cx="360000" cy="360360"/>
              </a:xfrm>
            </p:grpSpPr>
            <p:sp>
              <p:nvSpPr>
                <p:cNvPr id="125" name="椭圆 11"/>
                <p:cNvSpPr/>
                <p:nvPr/>
              </p:nvSpPr>
              <p:spPr>
                <a:xfrm>
                  <a:off x="907812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 12"/>
                <p:cNvSpPr/>
                <p:nvPr/>
              </p:nvSpPr>
              <p:spPr>
                <a:xfrm>
                  <a:off x="914544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Group 31"/>
              <p:cNvGrpSpPr/>
              <p:nvPr/>
            </p:nvGrpSpPr>
            <p:grpSpPr>
              <a:xfrm>
                <a:off x="10001880" y="3249720"/>
                <a:ext cx="360000" cy="360360"/>
                <a:chOff x="10001880" y="3249720"/>
                <a:chExt cx="360000" cy="360360"/>
              </a:xfrm>
            </p:grpSpPr>
            <p:sp>
              <p:nvSpPr>
                <p:cNvPr id="128" name="椭圆 14"/>
                <p:cNvSpPr/>
                <p:nvPr/>
              </p:nvSpPr>
              <p:spPr>
                <a:xfrm>
                  <a:off x="1000188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椭圆 15"/>
                <p:cNvSpPr/>
                <p:nvPr/>
              </p:nvSpPr>
              <p:spPr>
                <a:xfrm>
                  <a:off x="1006920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0" name="Group 34"/>
              <p:cNvGrpSpPr/>
              <p:nvPr/>
            </p:nvGrpSpPr>
            <p:grpSpPr>
              <a:xfrm>
                <a:off x="8154360" y="3249720"/>
                <a:ext cx="360000" cy="360360"/>
                <a:chOff x="8154360" y="3249720"/>
                <a:chExt cx="360000" cy="360360"/>
              </a:xfrm>
            </p:grpSpPr>
            <p:sp>
              <p:nvSpPr>
                <p:cNvPr id="131" name="椭圆 7"/>
                <p:cNvSpPr/>
                <p:nvPr/>
              </p:nvSpPr>
              <p:spPr>
                <a:xfrm>
                  <a:off x="815436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 8"/>
                <p:cNvSpPr/>
                <p:nvPr/>
              </p:nvSpPr>
              <p:spPr>
                <a:xfrm>
                  <a:off x="82216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3" name="Group 37"/>
            <p:cNvGrpSpPr/>
            <p:nvPr/>
          </p:nvGrpSpPr>
          <p:grpSpPr>
            <a:xfrm>
              <a:off x="10897200" y="3249720"/>
              <a:ext cx="2207520" cy="360360"/>
              <a:chOff x="10897200" y="3249720"/>
              <a:chExt cx="2207520" cy="360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11820960" y="3249720"/>
                <a:ext cx="360000" cy="360360"/>
                <a:chOff x="11820960" y="3249720"/>
                <a:chExt cx="360000" cy="360360"/>
              </a:xfrm>
            </p:grpSpPr>
            <p:sp>
              <p:nvSpPr>
                <p:cNvPr id="135" name="椭圆 11"/>
                <p:cNvSpPr/>
                <p:nvPr/>
              </p:nvSpPr>
              <p:spPr>
                <a:xfrm>
                  <a:off x="1182096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椭圆 12"/>
                <p:cNvSpPr/>
                <p:nvPr/>
              </p:nvSpPr>
              <p:spPr>
                <a:xfrm>
                  <a:off x="118882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" name="Group 41"/>
              <p:cNvGrpSpPr/>
              <p:nvPr/>
            </p:nvGrpSpPr>
            <p:grpSpPr>
              <a:xfrm>
                <a:off x="12744720" y="3249720"/>
                <a:ext cx="360000" cy="360360"/>
                <a:chOff x="12744720" y="3249720"/>
                <a:chExt cx="360000" cy="360360"/>
              </a:xfrm>
            </p:grpSpPr>
            <p:sp>
              <p:nvSpPr>
                <p:cNvPr id="138" name="椭圆 14"/>
                <p:cNvSpPr/>
                <p:nvPr/>
              </p:nvSpPr>
              <p:spPr>
                <a:xfrm>
                  <a:off x="1274472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椭圆 15"/>
                <p:cNvSpPr/>
                <p:nvPr/>
              </p:nvSpPr>
              <p:spPr>
                <a:xfrm>
                  <a:off x="1281204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44"/>
              <p:cNvGrpSpPr/>
              <p:nvPr/>
            </p:nvGrpSpPr>
            <p:grpSpPr>
              <a:xfrm>
                <a:off x="10897200" y="3249720"/>
                <a:ext cx="360000" cy="360360"/>
                <a:chOff x="10897200" y="3249720"/>
                <a:chExt cx="360000" cy="360360"/>
              </a:xfrm>
            </p:grpSpPr>
            <p:sp>
              <p:nvSpPr>
                <p:cNvPr id="141" name="椭圆 7"/>
                <p:cNvSpPr/>
                <p:nvPr/>
              </p:nvSpPr>
              <p:spPr>
                <a:xfrm>
                  <a:off x="1089720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椭圆 8"/>
                <p:cNvSpPr/>
                <p:nvPr/>
              </p:nvSpPr>
              <p:spPr>
                <a:xfrm>
                  <a:off x="1096452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43" name="TextBox 73" descr=""/>
          <p:cNvPicPr/>
          <p:nvPr/>
        </p:nvPicPr>
        <p:blipFill>
          <a:blip r:embed="rId1"/>
          <a:stretch/>
        </p:blipFill>
        <p:spPr>
          <a:xfrm>
            <a:off x="4145040" y="3303720"/>
            <a:ext cx="4084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123</cp:lastModifiedBy>
  <dcterms:modified xsi:type="dcterms:W3CDTF">2015-08-09T01:09:08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