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6F75-6721-4A55-9459-EE75F69F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7360" y="103320"/>
            <a:ext cx="7078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AC58-F480-4E03-B68C-35EC608E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7360" y="103320"/>
            <a:ext cx="7078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26F4-81A7-41A2-BBB8-802F3D89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7360" y="103320"/>
            <a:ext cx="7078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AD9B-23C0-4A93-A739-C848F05A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7360" y="103320"/>
            <a:ext cx="7078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4D44-EB28-4454-BA32-9B1F3AC9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7360" y="103320"/>
            <a:ext cx="7078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2E5D-499F-4A2D-B854-E541AA2A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7360" y="103320"/>
            <a:ext cx="7078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0523-1055-421A-A6F5-D6450327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7360" y="103320"/>
            <a:ext cx="7078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2D73-A1DB-4712-B888-D023F07E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77360" y="189000"/>
            <a:ext cx="707868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19D1-97DA-4797-8F33-1526C605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7360" y="103320"/>
            <a:ext cx="7078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6463-2804-40C3-AA99-A16B0886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7360" y="103320"/>
            <a:ext cx="7078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F8E5-518B-4FB0-AA25-DB85F6B7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7360" y="103320"/>
            <a:ext cx="7078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E660-A163-43EB-B1C1-826DD617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E:\PAT 图片资源素材\PPT\待整理\精选 0 (13).jpg"/>
          <p:cNvPicPr/>
          <p:nvPr/>
        </p:nvPicPr>
        <p:blipFill>
          <a:blip r:embed="rId2"/>
          <a:srcRect l="0" t="5074" r="20205" b="3262"/>
          <a:stretch/>
        </p:blipFill>
        <p:spPr>
          <a:xfrm>
            <a:off x="5353200" y="764280"/>
            <a:ext cx="3790800" cy="6093000"/>
          </a:xfrm>
          <a:prstGeom prst="rect">
            <a:avLst/>
          </a:prstGeom>
          <a:ln w="0">
            <a:noFill/>
          </a:ln>
        </p:spPr>
      </p:pic>
      <p:sp>
        <p:nvSpPr>
          <p:cNvPr id="1" name="梯形 34"/>
          <p:cNvSpPr/>
          <p:nvPr/>
        </p:nvSpPr>
        <p:spPr>
          <a:xfrm flipV="1" rot="16200000">
            <a:off x="4179240" y="-4199400"/>
            <a:ext cx="785520" cy="9144000"/>
          </a:xfrm>
          <a:custGeom>
            <a:avLst/>
            <a:gdLst>
              <a:gd name="textAreaLeft" fmla="*/ 63360 w 785520"/>
              <a:gd name="textAreaRight" fmla="*/ 722160 w 785520"/>
              <a:gd name="textAreaTop" fmla="*/ 740520 h 9144000"/>
              <a:gd name="textAreaBottom" fmla="*/ 840348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14"/>
          <p:cNvSpPr/>
          <p:nvPr/>
        </p:nvSpPr>
        <p:spPr>
          <a:xfrm>
            <a:off x="0" y="765000"/>
            <a:ext cx="8675640" cy="561672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2"/>
          </p:nvPr>
        </p:nvSpPr>
        <p:spPr>
          <a:xfrm>
            <a:off x="6531120" y="6453000"/>
            <a:ext cx="2133360" cy="2682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</a:t>
            </a:r>
            <a:fld id="{D3D439D7-1C82-4B2D-9A97-ACE89E6D0D0C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" descr=""/>
          <p:cNvPicPr/>
          <p:nvPr/>
        </p:nvPicPr>
        <p:blipFill>
          <a:blip r:embed="rId3"/>
          <a:stretch/>
        </p:blipFill>
        <p:spPr>
          <a:xfrm>
            <a:off x="477720" y="6381720"/>
            <a:ext cx="8188560" cy="1159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"/>
          <p:cNvPicPr/>
          <p:nvPr/>
        </p:nvPicPr>
        <p:blipFill>
          <a:blip r:embed="rId4"/>
          <a:stretch/>
        </p:blipFill>
        <p:spPr>
          <a:xfrm>
            <a:off x="0" y="765000"/>
            <a:ext cx="8666280" cy="1238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77360" y="189000"/>
            <a:ext cx="70786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15"/>
          <p:cNvSpPr/>
          <p:nvPr/>
        </p:nvSpPr>
        <p:spPr>
          <a:xfrm>
            <a:off x="7556400" y="1890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:\PAT 图片资源素材\PPT\待整理\精选 0 (13).jpg"/>
          <p:cNvPicPr/>
          <p:nvPr/>
        </p:nvPicPr>
        <p:blipFill>
          <a:blip r:embed="rId1"/>
          <a:srcRect l="0" t="5074" r="11655" b="3262"/>
          <a:stretch/>
        </p:blipFill>
        <p:spPr>
          <a:xfrm flipH="1" rot="10800000">
            <a:off x="3111480" y="0"/>
            <a:ext cx="6058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8"/>
          <p:cNvSpPr/>
          <p:nvPr/>
        </p:nvSpPr>
        <p:spPr>
          <a:xfrm>
            <a:off x="468360" y="731880"/>
            <a:ext cx="110952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右箭头 25"/>
          <p:cNvSpPr/>
          <p:nvPr/>
        </p:nvSpPr>
        <p:spPr>
          <a:xfrm rot="5400000">
            <a:off x="-650160" y="277920"/>
            <a:ext cx="485640" cy="48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bfbfb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7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右箭头 26"/>
          <p:cNvSpPr/>
          <p:nvPr/>
        </p:nvSpPr>
        <p:spPr>
          <a:xfrm rot="5400000">
            <a:off x="-1134360" y="495720"/>
            <a:ext cx="485640" cy="48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bfbfb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右箭头 27"/>
          <p:cNvSpPr/>
          <p:nvPr/>
        </p:nvSpPr>
        <p:spPr>
          <a:xfrm rot="5400000">
            <a:off x="-586080" y="3008160"/>
            <a:ext cx="3571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右箭头 28"/>
          <p:cNvSpPr/>
          <p:nvPr/>
        </p:nvSpPr>
        <p:spPr>
          <a:xfrm rot="5400000">
            <a:off x="-650160" y="5896440"/>
            <a:ext cx="485640" cy="48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bfbfb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8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右箭头 29"/>
          <p:cNvSpPr/>
          <p:nvPr/>
        </p:nvSpPr>
        <p:spPr>
          <a:xfrm rot="5400000">
            <a:off x="-1134720" y="5968080"/>
            <a:ext cx="486000" cy="484200"/>
          </a:xfrm>
          <a:prstGeom prst="rightArrow">
            <a:avLst>
              <a:gd name="adj1" fmla="val 50000"/>
              <a:gd name="adj2" fmla="val 50051"/>
            </a:avLst>
          </a:prstGeom>
          <a:solidFill>
            <a:srgbClr val="bfbfb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8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右箭头 30"/>
          <p:cNvSpPr/>
          <p:nvPr/>
        </p:nvSpPr>
        <p:spPr>
          <a:xfrm rot="5400000">
            <a:off x="-1562760" y="6256800"/>
            <a:ext cx="485640" cy="48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bfbfb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箭头 31"/>
          <p:cNvSpPr/>
          <p:nvPr/>
        </p:nvSpPr>
        <p:spPr>
          <a:xfrm>
            <a:off x="-15840" y="-674640"/>
            <a:ext cx="485640" cy="48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bfbfb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右箭头 32"/>
          <p:cNvSpPr/>
          <p:nvPr/>
        </p:nvSpPr>
        <p:spPr>
          <a:xfrm>
            <a:off x="4086360" y="-674640"/>
            <a:ext cx="485640" cy="48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bfbfb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右箭头 33"/>
          <p:cNvSpPr/>
          <p:nvPr/>
        </p:nvSpPr>
        <p:spPr>
          <a:xfrm>
            <a:off x="8190000" y="-674640"/>
            <a:ext cx="485640" cy="48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bfbfb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1"/>
          <p:cNvSpPr/>
          <p:nvPr/>
        </p:nvSpPr>
        <p:spPr>
          <a:xfrm>
            <a:off x="19080" y="6886440"/>
            <a:ext cx="9144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-15840" y="5877000"/>
            <a:ext cx="305892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504000" tIns="46800" bIns="46800" anchor="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8640" y="2427120"/>
            <a:ext cx="7569360" cy="6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博士生论文答辩幻灯片在线下载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74840" y="3003480"/>
            <a:ext cx="604656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副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77720" y="6381720"/>
            <a:ext cx="8188560" cy="115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7360" y="189000"/>
            <a:ext cx="70786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击此处添加标题文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2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fld id="{5622CF2D-C0F5-4717-BD45-8ABE98382B4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内容文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需对此处占位符文本进行修改，</a:t>
            </a:r>
            <a:r>
              <a:rPr b="1" lang="en-US" sz="1800" spc="-1" strike="noStrike">
                <a:solidFill>
                  <a:srgbClr val="6daa2d"/>
                </a:solidFill>
                <a:latin typeface="Arial"/>
              </a:rPr>
              <a:t>07/10</a:t>
            </a:r>
            <a:r>
              <a:rPr b="1" lang="zh-CN" sz="1800" spc="-1" strike="noStrike">
                <a:solidFill>
                  <a:srgbClr val="6daa2d"/>
                </a:solidFill>
                <a:latin typeface="Arial"/>
              </a:rPr>
              <a:t>版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中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修改；</a:t>
            </a:r>
            <a:r>
              <a:rPr b="1" lang="en-US" sz="1800" spc="-1" strike="noStrike">
                <a:solidFill>
                  <a:srgbClr val="6daa2d"/>
                </a:solidFill>
                <a:latin typeface="Arial"/>
              </a:rPr>
              <a:t>03</a:t>
            </a:r>
            <a:r>
              <a:rPr b="1" lang="zh-CN" sz="1800" spc="-1" strike="noStrike">
                <a:solidFill>
                  <a:srgbClr val="6daa2d"/>
                </a:solidFill>
                <a:latin typeface="Arial"/>
              </a:rPr>
              <a:t>版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组合 1"/>
          <p:cNvGrpSpPr/>
          <p:nvPr/>
        </p:nvGrpSpPr>
        <p:grpSpPr>
          <a:xfrm>
            <a:off x="740880" y="1398600"/>
            <a:ext cx="7673040" cy="4811760"/>
            <a:chOff x="740880" y="1398600"/>
            <a:chExt cx="7673040" cy="4811760"/>
          </a:xfrm>
        </p:grpSpPr>
        <p:sp>
          <p:nvSpPr>
            <p:cNvPr id="69" name="矩形 5"/>
            <p:cNvSpPr/>
            <p:nvPr/>
          </p:nvSpPr>
          <p:spPr>
            <a:xfrm>
              <a:off x="7284240" y="2882520"/>
              <a:ext cx="1129680" cy="1133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6"/>
            <p:cNvSpPr/>
            <p:nvPr/>
          </p:nvSpPr>
          <p:spPr>
            <a:xfrm>
              <a:off x="3353400" y="2882520"/>
              <a:ext cx="1129680" cy="1133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7"/>
            <p:cNvSpPr/>
            <p:nvPr/>
          </p:nvSpPr>
          <p:spPr>
            <a:xfrm>
              <a:off x="741240" y="2882520"/>
              <a:ext cx="2433240" cy="1133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左大括号 9"/>
            <p:cNvSpPr/>
            <p:nvPr/>
          </p:nvSpPr>
          <p:spPr>
            <a:xfrm rot="5400000">
              <a:off x="4357800" y="-1829160"/>
              <a:ext cx="424440" cy="7658280"/>
            </a:xfrm>
            <a:custGeom>
              <a:avLst/>
              <a:gdLst>
                <a:gd name="textAreaLeft" fmla="*/ 271080 w 424440"/>
                <a:gd name="textAreaRight" fmla="*/ 424800 w 424440"/>
                <a:gd name="textAreaTop" fmla="*/ 67680 h 7658280"/>
                <a:gd name="textAreaBottom" fmla="*/ 7590600 h 765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06"/>
                    <a:pt x="10800" y="612"/>
                  </a:cubicBezTo>
                  <a:lnTo>
                    <a:pt x="10800" y="10188"/>
                  </a:lnTo>
                  <a:cubicBezTo>
                    <a:pt x="10800" y="10494"/>
                    <a:pt x="5400" y="10800"/>
                    <a:pt x="0" y="10800"/>
                  </a:cubicBezTo>
                  <a:cubicBezTo>
                    <a:pt x="5400" y="10800"/>
                    <a:pt x="10800" y="11106"/>
                    <a:pt x="10800" y="11412"/>
                  </a:cubicBezTo>
                  <a:lnTo>
                    <a:pt x="10800" y="20988"/>
                  </a:lnTo>
                  <a:cubicBezTo>
                    <a:pt x="10800" y="21294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10"/>
            <p:cNvSpPr/>
            <p:nvPr/>
          </p:nvSpPr>
          <p:spPr>
            <a:xfrm>
              <a:off x="741240" y="2647080"/>
              <a:ext cx="470520" cy="47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椭圆 11"/>
            <p:cNvSpPr/>
            <p:nvPr/>
          </p:nvSpPr>
          <p:spPr>
            <a:xfrm>
              <a:off x="1395360" y="264708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椭圆 12"/>
            <p:cNvSpPr/>
            <p:nvPr/>
          </p:nvSpPr>
          <p:spPr>
            <a:xfrm>
              <a:off x="2049840" y="2647080"/>
              <a:ext cx="470520" cy="47052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椭圆 13"/>
            <p:cNvSpPr/>
            <p:nvPr/>
          </p:nvSpPr>
          <p:spPr>
            <a:xfrm>
              <a:off x="2703960" y="2647080"/>
              <a:ext cx="470520" cy="470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14"/>
            <p:cNvSpPr/>
            <p:nvPr/>
          </p:nvSpPr>
          <p:spPr>
            <a:xfrm>
              <a:off x="3358440" y="2647080"/>
              <a:ext cx="470520" cy="47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椭圆 15"/>
            <p:cNvSpPr/>
            <p:nvPr/>
          </p:nvSpPr>
          <p:spPr>
            <a:xfrm>
              <a:off x="4012560" y="2647080"/>
              <a:ext cx="470520" cy="470520"/>
            </a:xfrm>
            <a:prstGeom prst="ellipse">
              <a:avLst/>
            </a:prstGeom>
            <a:solidFill>
              <a:srgbClr val="6da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椭圆 16"/>
            <p:cNvSpPr/>
            <p:nvPr/>
          </p:nvSpPr>
          <p:spPr>
            <a:xfrm>
              <a:off x="4667040" y="2647080"/>
              <a:ext cx="470520" cy="47052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椭圆 17"/>
            <p:cNvSpPr/>
            <p:nvPr/>
          </p:nvSpPr>
          <p:spPr>
            <a:xfrm>
              <a:off x="5321520" y="2647080"/>
              <a:ext cx="470520" cy="4705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椭圆 18"/>
            <p:cNvSpPr/>
            <p:nvPr/>
          </p:nvSpPr>
          <p:spPr>
            <a:xfrm>
              <a:off x="5975640" y="2647080"/>
              <a:ext cx="470520" cy="470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椭圆 19"/>
            <p:cNvSpPr/>
            <p:nvPr/>
          </p:nvSpPr>
          <p:spPr>
            <a:xfrm>
              <a:off x="6630120" y="2647080"/>
              <a:ext cx="470520" cy="470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椭圆 20"/>
            <p:cNvSpPr/>
            <p:nvPr/>
          </p:nvSpPr>
          <p:spPr>
            <a:xfrm>
              <a:off x="7284240" y="2647080"/>
              <a:ext cx="470520" cy="4705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椭圆 21"/>
            <p:cNvSpPr/>
            <p:nvPr/>
          </p:nvSpPr>
          <p:spPr>
            <a:xfrm>
              <a:off x="7938720" y="2647080"/>
              <a:ext cx="470520" cy="470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左大括号 22"/>
            <p:cNvSpPr/>
            <p:nvPr/>
          </p:nvSpPr>
          <p:spPr>
            <a:xfrm rot="5400000">
              <a:off x="3791880" y="1887840"/>
              <a:ext cx="212040" cy="10792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9280"/>
                <a:gd name="textAreaBottom" fmla="*/ 10454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7"/>
                    <a:pt x="10800" y="2174"/>
                  </a:cubicBezTo>
                  <a:lnTo>
                    <a:pt x="10800" y="8626"/>
                  </a:lnTo>
                  <a:cubicBezTo>
                    <a:pt x="10800" y="9713"/>
                    <a:pt x="5400" y="10800"/>
                    <a:pt x="0" y="10800"/>
                  </a:cubicBezTo>
                  <a:cubicBezTo>
                    <a:pt x="5400" y="10800"/>
                    <a:pt x="10800" y="11887"/>
                    <a:pt x="10800" y="12974"/>
                  </a:cubicBezTo>
                  <a:lnTo>
                    <a:pt x="10800" y="19426"/>
                  </a:lnTo>
                  <a:cubicBezTo>
                    <a:pt x="10800" y="20513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左大括号 23"/>
            <p:cNvSpPr/>
            <p:nvPr/>
          </p:nvSpPr>
          <p:spPr>
            <a:xfrm rot="5400000">
              <a:off x="5800320" y="1233360"/>
              <a:ext cx="212040" cy="23878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87880"/>
                <a:gd name="textAreaBottom" fmla="*/ 2354040 h 238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91"/>
                    <a:pt x="10800" y="982"/>
                  </a:cubicBezTo>
                  <a:lnTo>
                    <a:pt x="10800" y="9818"/>
                  </a:lnTo>
                  <a:cubicBezTo>
                    <a:pt x="10800" y="10309"/>
                    <a:pt x="5400" y="10800"/>
                    <a:pt x="0" y="10800"/>
                  </a:cubicBezTo>
                  <a:cubicBezTo>
                    <a:pt x="5400" y="10800"/>
                    <a:pt x="10800" y="11291"/>
                    <a:pt x="10800" y="11782"/>
                  </a:cubicBezTo>
                  <a:lnTo>
                    <a:pt x="10800" y="20618"/>
                  </a:lnTo>
                  <a:cubicBezTo>
                    <a:pt x="10800" y="2110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左大括号 24"/>
            <p:cNvSpPr/>
            <p:nvPr/>
          </p:nvSpPr>
          <p:spPr>
            <a:xfrm rot="5400000">
              <a:off x="7717680" y="1887840"/>
              <a:ext cx="212040" cy="10792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9280"/>
                <a:gd name="textAreaBottom" fmla="*/ 10454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7"/>
                    <a:pt x="10800" y="2174"/>
                  </a:cubicBezTo>
                  <a:lnTo>
                    <a:pt x="10800" y="8626"/>
                  </a:lnTo>
                  <a:cubicBezTo>
                    <a:pt x="10800" y="9713"/>
                    <a:pt x="5400" y="10800"/>
                    <a:pt x="0" y="10800"/>
                  </a:cubicBezTo>
                  <a:cubicBezTo>
                    <a:pt x="5400" y="10800"/>
                    <a:pt x="10800" y="11887"/>
                    <a:pt x="10800" y="12974"/>
                  </a:cubicBezTo>
                  <a:lnTo>
                    <a:pt x="10800" y="19426"/>
                  </a:lnTo>
                  <a:cubicBezTo>
                    <a:pt x="10800" y="20513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左大括号 25"/>
            <p:cNvSpPr/>
            <p:nvPr/>
          </p:nvSpPr>
          <p:spPr>
            <a:xfrm rot="5400000">
              <a:off x="1802520" y="1259640"/>
              <a:ext cx="212040" cy="233532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35320"/>
                <a:gd name="textAreaBottom" fmla="*/ 2301480 h 233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502"/>
                    <a:pt x="10800" y="1004"/>
                  </a:cubicBezTo>
                  <a:lnTo>
                    <a:pt x="10800" y="9796"/>
                  </a:lnTo>
                  <a:cubicBezTo>
                    <a:pt x="10800" y="10298"/>
                    <a:pt x="5400" y="10800"/>
                    <a:pt x="0" y="10800"/>
                  </a:cubicBezTo>
                  <a:cubicBezTo>
                    <a:pt x="5400" y="10800"/>
                    <a:pt x="10800" y="11302"/>
                    <a:pt x="10800" y="11804"/>
                  </a:cubicBezTo>
                  <a:lnTo>
                    <a:pt x="10800" y="20596"/>
                  </a:lnTo>
                  <a:cubicBezTo>
                    <a:pt x="10800" y="21098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左大括号 26"/>
            <p:cNvSpPr/>
            <p:nvPr/>
          </p:nvSpPr>
          <p:spPr>
            <a:xfrm flipH="1" rot="5400000">
              <a:off x="4357440" y="843120"/>
              <a:ext cx="388080" cy="7622280"/>
            </a:xfrm>
            <a:custGeom>
              <a:avLst/>
              <a:gdLst>
                <a:gd name="textAreaLeft" fmla="*/ 248040 w 388080"/>
                <a:gd name="textAreaRight" fmla="*/ 388440 w 388080"/>
                <a:gd name="textAreaTop" fmla="*/ 61920 h 7622280"/>
                <a:gd name="textAreaBottom" fmla="*/ 7560360 h 76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82"/>
                    <a:pt x="10800" y="563"/>
                  </a:cubicBezTo>
                  <a:lnTo>
                    <a:pt x="10800" y="10237"/>
                  </a:lnTo>
                  <a:cubicBezTo>
                    <a:pt x="10800" y="10519"/>
                    <a:pt x="5400" y="10800"/>
                    <a:pt x="0" y="10800"/>
                  </a:cubicBezTo>
                  <a:cubicBezTo>
                    <a:pt x="5400" y="10800"/>
                    <a:pt x="10800" y="11082"/>
                    <a:pt x="10800" y="11363"/>
                  </a:cubicBezTo>
                  <a:lnTo>
                    <a:pt x="10800" y="21037"/>
                  </a:lnTo>
                  <a:cubicBezTo>
                    <a:pt x="10800" y="2131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内容占位符 4"/>
            <p:cNvSpPr/>
            <p:nvPr/>
          </p:nvSpPr>
          <p:spPr>
            <a:xfrm>
              <a:off x="741240" y="4928760"/>
              <a:ext cx="7658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3</a:t>
              </a: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8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28"/>
            <p:cNvSpPr/>
            <p:nvPr/>
          </p:nvSpPr>
          <p:spPr>
            <a:xfrm>
              <a:off x="1657080" y="204192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文字与背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29"/>
            <p:cNvSpPr/>
            <p:nvPr/>
          </p:nvSpPr>
          <p:spPr>
            <a:xfrm>
              <a:off x="369324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常用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30"/>
            <p:cNvSpPr/>
            <p:nvPr/>
          </p:nvSpPr>
          <p:spPr>
            <a:xfrm>
              <a:off x="570168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辅助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31"/>
            <p:cNvSpPr/>
            <p:nvPr/>
          </p:nvSpPr>
          <p:spPr>
            <a:xfrm>
              <a:off x="758952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链接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32"/>
            <p:cNvSpPr/>
            <p:nvPr/>
          </p:nvSpPr>
          <p:spPr>
            <a:xfrm flipH="1">
              <a:off x="81000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直接连接符 33"/>
            <p:cNvSpPr/>
            <p:nvPr/>
          </p:nvSpPr>
          <p:spPr>
            <a:xfrm flipH="1">
              <a:off x="146448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直接连接符 34"/>
            <p:cNvSpPr/>
            <p:nvPr/>
          </p:nvSpPr>
          <p:spPr>
            <a:xfrm flipH="1">
              <a:off x="211860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35"/>
            <p:cNvSpPr/>
            <p:nvPr/>
          </p:nvSpPr>
          <p:spPr>
            <a:xfrm flipH="1">
              <a:off x="277308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36"/>
            <p:cNvSpPr/>
            <p:nvPr/>
          </p:nvSpPr>
          <p:spPr>
            <a:xfrm>
              <a:off x="741240" y="5490720"/>
              <a:ext cx="7658280" cy="719640"/>
            </a:xfrm>
            <a:prstGeom prst="rect">
              <a:avLst/>
            </a:prstGeom>
            <a:solidFill>
              <a:srgbClr val="fff2cc">
                <a:alpha val="27000"/>
              </a:srgbClr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配色规则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通常情况下，配色方案中的前四种色彩文——“字与背景色”固定不变。常用色与模板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/logo/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企业标准色一致。辅助色可根据对色彩的要求进行调整。链接色可根据需求进行调整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配色方案的编辑：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07/10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【设计】菜单中 【颜色】中修改；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03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【格式】菜单【幻灯片设计】 【配色方案】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37"/>
            <p:cNvSpPr/>
            <p:nvPr/>
          </p:nvSpPr>
          <p:spPr>
            <a:xfrm>
              <a:off x="741240" y="3780360"/>
              <a:ext cx="470520" cy="47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38"/>
            <p:cNvSpPr/>
            <p:nvPr/>
          </p:nvSpPr>
          <p:spPr>
            <a:xfrm>
              <a:off x="1395360" y="378036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39"/>
            <p:cNvSpPr/>
            <p:nvPr/>
          </p:nvSpPr>
          <p:spPr>
            <a:xfrm>
              <a:off x="2049840" y="3780360"/>
              <a:ext cx="470520" cy="47052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椭圆 40"/>
            <p:cNvSpPr/>
            <p:nvPr/>
          </p:nvSpPr>
          <p:spPr>
            <a:xfrm>
              <a:off x="2703960" y="3780360"/>
              <a:ext cx="470520" cy="470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直接连接符 41"/>
            <p:cNvSpPr/>
            <p:nvPr/>
          </p:nvSpPr>
          <p:spPr>
            <a:xfrm flipH="1">
              <a:off x="81000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42"/>
            <p:cNvSpPr/>
            <p:nvPr/>
          </p:nvSpPr>
          <p:spPr>
            <a:xfrm flipH="1">
              <a:off x="146448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43"/>
            <p:cNvSpPr/>
            <p:nvPr/>
          </p:nvSpPr>
          <p:spPr>
            <a:xfrm flipH="1">
              <a:off x="211860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44"/>
            <p:cNvSpPr/>
            <p:nvPr/>
          </p:nvSpPr>
          <p:spPr>
            <a:xfrm flipH="1">
              <a:off x="277308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45"/>
            <p:cNvSpPr/>
            <p:nvPr/>
          </p:nvSpPr>
          <p:spPr>
            <a:xfrm>
              <a:off x="3358440" y="3780360"/>
              <a:ext cx="470520" cy="47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46"/>
            <p:cNvSpPr/>
            <p:nvPr/>
          </p:nvSpPr>
          <p:spPr>
            <a:xfrm>
              <a:off x="4012560" y="3780360"/>
              <a:ext cx="470520" cy="470520"/>
            </a:xfrm>
            <a:prstGeom prst="ellipse">
              <a:avLst/>
            </a:prstGeom>
            <a:solidFill>
              <a:srgbClr val="6daa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47"/>
            <p:cNvSpPr/>
            <p:nvPr/>
          </p:nvSpPr>
          <p:spPr>
            <a:xfrm>
              <a:off x="7284240" y="3780360"/>
              <a:ext cx="470520" cy="4705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 48"/>
            <p:cNvSpPr/>
            <p:nvPr/>
          </p:nvSpPr>
          <p:spPr>
            <a:xfrm>
              <a:off x="7938720" y="3780360"/>
              <a:ext cx="470520" cy="470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内容占位符 4"/>
            <p:cNvSpPr/>
            <p:nvPr/>
          </p:nvSpPr>
          <p:spPr>
            <a:xfrm>
              <a:off x="741240" y="1398600"/>
              <a:ext cx="7658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7/2010</a:t>
              </a: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 txBox="1"/>
          <p:nvPr/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fld id="{BDFE87AC-D598-447F-9EC7-059F4A46234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7360" y="189000"/>
            <a:ext cx="70786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色方案说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70c0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B4BF-6242-4223-A8B2-A4848263C9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E:\PAT 图片资源素材\PPT\待整理\精选 0 (13).jpg"/>
          <p:cNvPicPr/>
          <p:nvPr/>
        </p:nvPicPr>
        <p:blipFill>
          <a:blip r:embed="rId1"/>
          <a:srcRect l="0" t="14658" r="33230" b="6423"/>
          <a:stretch/>
        </p:blipFill>
        <p:spPr>
          <a:xfrm>
            <a:off x="385128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5886360"/>
            <a:ext cx="334656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504000" tIns="46800" bIns="46800" anchor="t">
            <a:noAutofit/>
          </a:bodyPr>
          <a:p>
            <a:pPr marL="3556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标题 3"/>
          <p:cNvSpPr/>
          <p:nvPr/>
        </p:nvSpPr>
        <p:spPr>
          <a:xfrm>
            <a:off x="450720" y="1989000"/>
            <a:ext cx="50403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各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副标题 4"/>
          <p:cNvSpPr/>
          <p:nvPr/>
        </p:nvSpPr>
        <p:spPr>
          <a:xfrm>
            <a:off x="450720" y="2717640"/>
            <a:ext cx="504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副标题</a:t>
            </a:r>
            <a:r>
              <a:rPr b="0" lang="en-US" sz="1700" spc="-1" strike="noStrike">
                <a:solidFill>
                  <a:srgbClr val="000000"/>
                </a:solidFill>
                <a:latin typeface="微软雅黑"/>
                <a:ea typeface="微软雅黑"/>
              </a:rPr>
              <a:t>/18</a:t>
            </a:r>
            <a:r>
              <a:rPr b="0" lang="zh-CN" sz="1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字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468360" y="981000"/>
            <a:ext cx="110952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02:06:00Z</dcterms:created>
  <dc:creator>Nordri® Design</dc:creator>
  <dc:description>Nordri® _x005F_x000d_
专注于有效的信息传递设计_x005F_x000d_
www.nordridesign.com</dc:description>
  <dc:language>en-US</dc:language>
  <cp:lastModifiedBy>Administrator</cp:lastModifiedBy>
  <dcterms:modified xsi:type="dcterms:W3CDTF">2015-08-09T01:09:12Z</dcterms:modified>
  <cp:revision>374</cp:revision>
  <dc:subject>PPT模板/图示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NXPowerLiteLastOptimized">
    <vt:lpwstr>280499</vt:lpwstr>
  </property>
  <property fmtid="{D5CDD505-2E9C-101B-9397-08002B2CF9AE}" pid="4" name="NXPowerLiteSettings">
    <vt:lpwstr>F7000400038000</vt:lpwstr>
  </property>
  <property fmtid="{D5CDD505-2E9C-101B-9397-08002B2CF9AE}" pid="5" name="NXPowerLiteVersion">
    <vt:lpwstr>D5.0.6</vt:lpwstr>
  </property>
</Properties>
</file>