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54A-15D9-427A-9C50-35436D2D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1F1-D37E-4B77-8F4B-06075ED3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AA5-7CB1-4237-AE6A-EC4F0432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ED6-88EE-44A8-898B-C7E45F88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F43-BAB6-4C33-9B54-9342EDC8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AF5-251A-4C87-AFAB-5EDF681B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01F-3B80-4B84-B943-A786DD48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BA9-63CF-4648-80CC-CB19945B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DBC0-EE68-4A8E-9DCB-B3D37A53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C5C-16A7-4598-A793-EDA83F1F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4B8-C035-48C5-A52E-F56B1E36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3A9-71B9-4A4E-AF0D-38FE484D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8282-8511-4579-B904-0853340CF2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00AF-50E1-4127-B555-3DE0AC1967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4"/>
          <p:cNvGrpSpPr/>
          <p:nvPr/>
        </p:nvGrpSpPr>
        <p:grpSpPr>
          <a:xfrm>
            <a:off x="4714920" y="866880"/>
            <a:ext cx="7350120" cy="3675960"/>
            <a:chOff x="4714920" y="866880"/>
            <a:chExt cx="7350120" cy="3675960"/>
          </a:xfrm>
        </p:grpSpPr>
        <p:grpSp>
          <p:nvGrpSpPr>
            <p:cNvPr id="42" name="组合 31"/>
            <p:cNvGrpSpPr/>
            <p:nvPr/>
          </p:nvGrpSpPr>
          <p:grpSpPr>
            <a:xfrm>
              <a:off x="4714920" y="866880"/>
              <a:ext cx="7210080" cy="2502360"/>
              <a:chOff x="4714920" y="866880"/>
              <a:chExt cx="7210080" cy="2502360"/>
            </a:xfrm>
          </p:grpSpPr>
          <p:grpSp>
            <p:nvGrpSpPr>
              <p:cNvPr id="43" name="组合 28"/>
              <p:cNvGrpSpPr/>
              <p:nvPr/>
            </p:nvGrpSpPr>
            <p:grpSpPr>
              <a:xfrm>
                <a:off x="7658640" y="866880"/>
                <a:ext cx="1591200" cy="1591560"/>
                <a:chOff x="7658640" y="866880"/>
                <a:chExt cx="1591200" cy="1591560"/>
              </a:xfrm>
            </p:grpSpPr>
            <p:sp>
              <p:nvSpPr>
                <p:cNvPr id="44" name="椭圆 26"/>
                <p:cNvSpPr/>
                <p:nvPr/>
              </p:nvSpPr>
              <p:spPr>
                <a:xfrm>
                  <a:off x="7658640" y="866880"/>
                  <a:ext cx="1591200" cy="1591560"/>
                </a:xfrm>
                <a:prstGeom prst="ellipse">
                  <a:avLst/>
                </a:prstGeom>
                <a:solidFill>
                  <a:srgbClr val="4144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" name="组合 24"/>
                <p:cNvGrpSpPr/>
                <p:nvPr/>
              </p:nvGrpSpPr>
              <p:grpSpPr>
                <a:xfrm>
                  <a:off x="7792920" y="1001160"/>
                  <a:ext cx="1322280" cy="1322640"/>
                  <a:chOff x="7792920" y="1001160"/>
                  <a:chExt cx="1322280" cy="1322640"/>
                </a:xfrm>
              </p:grpSpPr>
              <p:sp>
                <p:nvSpPr>
                  <p:cNvPr id="46" name="椭圆 19"/>
                  <p:cNvSpPr/>
                  <p:nvPr/>
                </p:nvSpPr>
                <p:spPr>
                  <a:xfrm>
                    <a:off x="7792920" y="1001160"/>
                    <a:ext cx="1322280" cy="1322640"/>
                  </a:xfrm>
                  <a:prstGeom prst="ellipse">
                    <a:avLst/>
                  </a:prstGeom>
                  <a:solidFill>
                    <a:srgbClr val="b6b7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矩形 18"/>
                  <p:cNvSpPr/>
                  <p:nvPr/>
                </p:nvSpPr>
                <p:spPr>
                  <a:xfrm>
                    <a:off x="8100720" y="1108080"/>
                    <a:ext cx="729360" cy="119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7200" spc="-1" strike="noStrike">
                        <a:solidFill>
                          <a:srgbClr val="6c6d72"/>
                        </a:solidFill>
                        <a:latin typeface="蒙纳简超刚黑"/>
                        <a:ea typeface="蒙纳简超刚黑"/>
                      </a:rPr>
                      <a:t>斃</a:t>
                    </a:r>
                    <a:endParaRPr b="0" lang="en-US" sz="7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组合 23"/>
                <p:cNvGrpSpPr/>
                <p:nvPr/>
              </p:nvGrpSpPr>
              <p:grpSpPr>
                <a:xfrm>
                  <a:off x="7726680" y="934920"/>
                  <a:ext cx="1454760" cy="1455120"/>
                  <a:chOff x="7726680" y="934920"/>
                  <a:chExt cx="1454760" cy="1455120"/>
                </a:xfrm>
              </p:grpSpPr>
              <p:sp>
                <p:nvSpPr>
                  <p:cNvPr id="49" name="直接连接符 21"/>
                  <p:cNvSpPr/>
                  <p:nvPr/>
                </p:nvSpPr>
                <p:spPr>
                  <a:xfrm>
                    <a:off x="7726680" y="1662480"/>
                    <a:ext cx="1454760" cy="0"/>
                  </a:xfrm>
                  <a:prstGeom prst="line">
                    <a:avLst/>
                  </a:prstGeom>
                  <a:ln w="28440">
                    <a:solidFill>
                      <a:srgbClr val="41445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直接连接符 22"/>
                  <p:cNvSpPr/>
                  <p:nvPr/>
                </p:nvSpPr>
                <p:spPr>
                  <a:xfrm>
                    <a:off x="8453880" y="934920"/>
                    <a:ext cx="0" cy="1455120"/>
                  </a:xfrm>
                  <a:prstGeom prst="line">
                    <a:avLst/>
                  </a:prstGeom>
                  <a:ln w="28440">
                    <a:solidFill>
                      <a:srgbClr val="41445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" name="文本框 17"/>
              <p:cNvSpPr/>
              <p:nvPr/>
            </p:nvSpPr>
            <p:spPr>
              <a:xfrm>
                <a:off x="4714920" y="1446840"/>
                <a:ext cx="721008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414455"/>
                    </a:solidFill>
                    <a:latin typeface="蒙纳简超刚黑"/>
                    <a:ea typeface="蒙纳简超刚黑"/>
                  </a:rPr>
                  <a:t>碩士研究生</a:t>
                </a:r>
                <a:r>
                  <a:rPr b="0" lang="zh-CN" sz="7200" spc="-1" strike="noStrike">
                    <a:solidFill>
                      <a:srgbClr val="6c6d72"/>
                    </a:solidFill>
                    <a:latin typeface="蒙纳简超刚黑"/>
                    <a:ea typeface="蒙纳简超刚黑"/>
                  </a:rPr>
                  <a:t>     </a:t>
                </a:r>
                <a:r>
                  <a:rPr b="0" lang="zh-CN" sz="4800" spc="-1" strike="noStrike">
                    <a:solidFill>
                      <a:srgbClr val="414455"/>
                    </a:solidFill>
                    <a:latin typeface="蒙纳简超刚黑"/>
                    <a:ea typeface="蒙纳简超刚黑"/>
                  </a:rPr>
                  <a:t>業論文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414455"/>
                    </a:solidFill>
                    <a:latin typeface="蒙纳简超刚黑"/>
                    <a:ea typeface="蒙纳简超刚黑"/>
                  </a:rPr>
                  <a:t>寫作的六種常見狀況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矩形 32"/>
            <p:cNvSpPr/>
            <p:nvPr/>
          </p:nvSpPr>
          <p:spPr>
            <a:xfrm>
              <a:off x="4854960" y="3426840"/>
              <a:ext cx="6062400" cy="133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33"/>
            <p:cNvSpPr/>
            <p:nvPr/>
          </p:nvSpPr>
          <p:spPr>
            <a:xfrm>
              <a:off x="4854960" y="3595680"/>
              <a:ext cx="7210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文案：文学院院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設計：</a:t>
              </a:r>
              <a:r>
                <a:rPr b="0" lang="en-US" sz="28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dandoliy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38"/>
          <p:cNvGrpSpPr/>
          <p:nvPr/>
        </p:nvGrpSpPr>
        <p:grpSpPr>
          <a:xfrm>
            <a:off x="762120" y="1294560"/>
            <a:ext cx="3829680" cy="4293000"/>
            <a:chOff x="762120" y="1294560"/>
            <a:chExt cx="3829680" cy="4293000"/>
          </a:xfrm>
        </p:grpSpPr>
        <p:grpSp>
          <p:nvGrpSpPr>
            <p:cNvPr id="55" name="组合 14"/>
            <p:cNvGrpSpPr/>
            <p:nvPr/>
          </p:nvGrpSpPr>
          <p:grpSpPr>
            <a:xfrm>
              <a:off x="762120" y="1294560"/>
              <a:ext cx="3829680" cy="4293000"/>
              <a:chOff x="762120" y="1294560"/>
              <a:chExt cx="3829680" cy="4293000"/>
            </a:xfrm>
          </p:grpSpPr>
          <p:sp>
            <p:nvSpPr>
              <p:cNvPr id="56" name="任意多边形 10"/>
              <p:cNvSpPr/>
              <p:nvPr/>
            </p:nvSpPr>
            <p:spPr>
              <a:xfrm rot="20886600">
                <a:off x="1085040" y="1568520"/>
                <a:ext cx="3021480" cy="3449880"/>
              </a:xfrm>
              <a:prstGeom prst="pie">
                <a:avLst/>
              </a:prstGeom>
              <a:solidFill>
                <a:srgbClr val="6c6d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" name="图片 13" descr=""/>
              <p:cNvPicPr/>
              <p:nvPr/>
            </p:nvPicPr>
            <p:blipFill>
              <a:blip r:embed="rId2"/>
              <a:srcRect l="10178" t="0" r="0" b="0"/>
              <a:stretch/>
            </p:blipFill>
            <p:spPr>
              <a:xfrm rot="486600">
                <a:off x="1989000" y="1670040"/>
                <a:ext cx="2348280" cy="3770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" name="同心圆 36"/>
            <p:cNvSpPr/>
            <p:nvPr/>
          </p:nvSpPr>
          <p:spPr>
            <a:xfrm>
              <a:off x="1996560" y="2539080"/>
              <a:ext cx="1085760" cy="1086120"/>
            </a:xfrm>
            <a:prstGeom prst="donut">
              <a:avLst>
                <a:gd name="adj" fmla="val 25000"/>
              </a:avLst>
            </a:prstGeom>
            <a:solidFill>
              <a:srgbClr val="4144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文本框 20"/>
          <p:cNvSpPr/>
          <p:nvPr/>
        </p:nvSpPr>
        <p:spPr>
          <a:xfrm>
            <a:off x="5570640" y="4549680"/>
            <a:ext cx="551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999e"/>
                </a:solidFill>
                <a:latin typeface="蒙纳简超刚黑"/>
                <a:ea typeface="蒙纳简超刚黑"/>
              </a:rPr>
              <a:t>——</a:t>
            </a:r>
            <a:r>
              <a:rPr b="0" lang="zh-CN" sz="3200" spc="-1" strike="noStrike">
                <a:solidFill>
                  <a:srgbClr val="98999e"/>
                </a:solidFill>
                <a:latin typeface="蒙纳简超刚黑"/>
                <a:ea typeface="蒙纳简超刚黑"/>
              </a:rPr>
              <a:t>以美學學科為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8999e"/>
                </a:solidFill>
                <a:latin typeface="蒙纳简超刚黑"/>
                <a:ea typeface="蒙纳简超刚黑"/>
              </a:rPr>
              <a:t>（論文題目皆為應屆生論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47680" y="17784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毕业生论文答辩问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组合 17"/>
          <p:cNvGrpSpPr/>
          <p:nvPr/>
        </p:nvGrpSpPr>
        <p:grpSpPr>
          <a:xfrm>
            <a:off x="1296360" y="57960"/>
            <a:ext cx="9488880" cy="1389960"/>
            <a:chOff x="1296360" y="57960"/>
            <a:chExt cx="9488880" cy="1389960"/>
          </a:xfrm>
        </p:grpSpPr>
        <p:grpSp>
          <p:nvGrpSpPr>
            <p:cNvPr id="63" name="组合 12"/>
            <p:cNvGrpSpPr/>
            <p:nvPr/>
          </p:nvGrpSpPr>
          <p:grpSpPr>
            <a:xfrm>
              <a:off x="1296360" y="57960"/>
              <a:ext cx="9488880" cy="1389960"/>
              <a:chOff x="1296360" y="57960"/>
              <a:chExt cx="9488880" cy="1389960"/>
            </a:xfrm>
          </p:grpSpPr>
          <p:sp>
            <p:nvSpPr>
              <p:cNvPr id="64" name="燕尾形 10"/>
              <p:cNvSpPr/>
              <p:nvPr/>
            </p:nvSpPr>
            <p:spPr>
              <a:xfrm flipH="1">
                <a:off x="1505880" y="660960"/>
                <a:ext cx="9279000" cy="786960"/>
              </a:xfrm>
              <a:prstGeom prst="pie">
                <a:avLst/>
              </a:prstGeom>
              <a:solidFill>
                <a:srgbClr val="b6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燕尾形 11"/>
              <p:cNvSpPr/>
              <p:nvPr/>
            </p:nvSpPr>
            <p:spPr>
              <a:xfrm flipH="1" rot="20662200">
                <a:off x="1359000" y="358920"/>
                <a:ext cx="2342160" cy="786960"/>
              </a:xfrm>
              <a:prstGeom prst="pie">
                <a:avLst/>
              </a:prstGeom>
              <a:solidFill>
                <a:srgbClr val="4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文本框 15"/>
            <p:cNvSpPr/>
            <p:nvPr/>
          </p:nvSpPr>
          <p:spPr>
            <a:xfrm>
              <a:off x="2142000" y="367920"/>
              <a:ext cx="77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8e8e6"/>
                  </a:solidFill>
                  <a:latin typeface="蒙纳简超刚黑"/>
                  <a:ea typeface="蒙纳简超刚黑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16"/>
            <p:cNvSpPr/>
            <p:nvPr/>
          </p:nvSpPr>
          <p:spPr>
            <a:xfrm>
              <a:off x="3763800" y="677880"/>
              <a:ext cx="6088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不明確具體，空洞無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24"/>
          <p:cNvGrpSpPr/>
          <p:nvPr/>
        </p:nvGrpSpPr>
        <p:grpSpPr>
          <a:xfrm>
            <a:off x="2023920" y="3375000"/>
            <a:ext cx="8070840" cy="2627640"/>
            <a:chOff x="2023920" y="3375000"/>
            <a:chExt cx="8070840" cy="2627640"/>
          </a:xfrm>
        </p:grpSpPr>
        <p:sp>
          <p:nvSpPr>
            <p:cNvPr id="69" name="文本框 9"/>
            <p:cNvSpPr/>
            <p:nvPr/>
          </p:nvSpPr>
          <p:spPr>
            <a:xfrm>
              <a:off x="2271960" y="4413600"/>
              <a:ext cx="75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zh-CN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中式傳統婚禮的現代美學意蘊</a:t>
              </a:r>
              <a:r>
                <a:rPr b="0" lang="en-US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3"/>
            <p:cNvSpPr/>
            <p:nvPr/>
          </p:nvSpPr>
          <p:spPr>
            <a:xfrm>
              <a:off x="3411360" y="4464360"/>
              <a:ext cx="830880" cy="483480"/>
            </a:xfrm>
            <a:prstGeom prst="rect">
              <a:avLst/>
            </a:prstGeom>
            <a:noFill/>
            <a:ln w="28440">
              <a:solidFill>
                <a:srgbClr val="b6b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直接箭头连接符 5"/>
            <p:cNvCxnSpPr/>
            <p:nvPr/>
          </p:nvCxnSpPr>
          <p:spPr>
            <a:xfrm>
              <a:off x="3812400" y="4947840"/>
              <a:ext cx="1080" cy="514440"/>
            </a:xfrm>
            <a:prstGeom prst="straightConnector1">
              <a:avLst/>
            </a:prstGeom>
            <a:ln w="12600">
              <a:solidFill>
                <a:srgbClr val="b6b7ba"/>
              </a:solidFill>
              <a:miter/>
              <a:tailEnd len="med" type="triangle" w="med"/>
            </a:ln>
          </p:spPr>
        </p:cxnSp>
        <p:sp>
          <p:nvSpPr>
            <p:cNvPr id="72" name="文本框 13"/>
            <p:cNvSpPr/>
            <p:nvPr/>
          </p:nvSpPr>
          <p:spPr>
            <a:xfrm>
              <a:off x="2023920" y="5482080"/>
              <a:ext cx="36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6b7ba"/>
                  </a:solidFill>
                  <a:latin typeface="蒙纳简超刚黑"/>
                  <a:ea typeface="蒙纳简超刚黑"/>
                </a:rPr>
                <a:t>汉族？彝族？藏族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14"/>
            <p:cNvSpPr/>
            <p:nvPr/>
          </p:nvSpPr>
          <p:spPr>
            <a:xfrm>
              <a:off x="4242600" y="4464360"/>
              <a:ext cx="830880" cy="483480"/>
            </a:xfrm>
            <a:prstGeom prst="rect">
              <a:avLst/>
            </a:prstGeom>
            <a:noFill/>
            <a:ln w="28440">
              <a:solidFill>
                <a:srgbClr val="b6b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9"/>
            <p:cNvSpPr/>
            <p:nvPr/>
          </p:nvSpPr>
          <p:spPr>
            <a:xfrm>
              <a:off x="6260400" y="4452120"/>
              <a:ext cx="830880" cy="483480"/>
            </a:xfrm>
            <a:prstGeom prst="rect">
              <a:avLst/>
            </a:prstGeom>
            <a:noFill/>
            <a:ln w="28440">
              <a:solidFill>
                <a:srgbClr val="b6b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肘形连接符 7"/>
            <p:cNvCxnSpPr>
              <a:stCxn id="73" idx="0"/>
              <a:endCxn id="74" idx="0"/>
            </p:cNvCxnSpPr>
            <p:nvPr/>
          </p:nvCxnSpPr>
          <p:spPr>
            <a:xfrm flipH="1" flipV="1" rot="5400000">
              <a:off x="5659200" y="3449160"/>
              <a:ext cx="12960" cy="2018160"/>
            </a:xfrm>
            <a:prstGeom prst="bentConnector3">
              <a:avLst>
                <a:gd name="adj1" fmla="val 4228571"/>
              </a:avLst>
            </a:prstGeom>
            <a:ln w="19080">
              <a:solidFill>
                <a:srgbClr val="b6b7ba"/>
              </a:solidFill>
              <a:miter/>
            </a:ln>
          </p:spPr>
        </p:cxnSp>
        <p:sp>
          <p:nvSpPr>
            <p:cNvPr id="76" name="文本框 20"/>
            <p:cNvSpPr/>
            <p:nvPr/>
          </p:nvSpPr>
          <p:spPr>
            <a:xfrm>
              <a:off x="3030120" y="3375000"/>
              <a:ext cx="551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6b7ba"/>
                  </a:solidFill>
                  <a:latin typeface="蒙纳简超刚黑"/>
                  <a:ea typeface="蒙纳简超刚黑"/>
                </a:rPr>
                <a:t>“</a:t>
              </a:r>
              <a:r>
                <a:rPr b="0" lang="zh-CN" sz="2800" spc="-1" strike="noStrike">
                  <a:solidFill>
                    <a:srgbClr val="b6b7ba"/>
                  </a:solidFill>
                  <a:latin typeface="蒙纳简超刚黑"/>
                  <a:ea typeface="蒙纳简超刚黑"/>
                </a:rPr>
                <a:t>傳統”對象何來“現代”意義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21"/>
            <p:cNvSpPr/>
            <p:nvPr/>
          </p:nvSpPr>
          <p:spPr>
            <a:xfrm>
              <a:off x="7876080" y="4456080"/>
              <a:ext cx="830880" cy="483480"/>
            </a:xfrm>
            <a:prstGeom prst="rect">
              <a:avLst/>
            </a:prstGeom>
            <a:noFill/>
            <a:ln w="28440">
              <a:solidFill>
                <a:srgbClr val="b6b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直接箭头连接符 22"/>
            <p:cNvCxnSpPr/>
            <p:nvPr/>
          </p:nvCxnSpPr>
          <p:spPr>
            <a:xfrm>
              <a:off x="8295120" y="4868640"/>
              <a:ext cx="1080" cy="514440"/>
            </a:xfrm>
            <a:prstGeom prst="straightConnector1">
              <a:avLst/>
            </a:prstGeom>
            <a:ln w="12600">
              <a:solidFill>
                <a:srgbClr val="b6b7ba"/>
              </a:solidFill>
              <a:miter/>
              <a:tailEnd len="med" type="triangle" w="med"/>
            </a:ln>
          </p:spPr>
        </p:cxnSp>
        <p:sp>
          <p:nvSpPr>
            <p:cNvPr id="79" name="文本框 23"/>
            <p:cNvSpPr/>
            <p:nvPr/>
          </p:nvSpPr>
          <p:spPr>
            <a:xfrm>
              <a:off x="6488640" y="5462280"/>
              <a:ext cx="36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6b7ba"/>
                  </a:solidFill>
                  <a:latin typeface="蒙纳简超刚黑"/>
                  <a:ea typeface="蒙纳简超刚黑"/>
                </a:rPr>
                <a:t>什麼是意蘊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27"/>
          <p:cNvGrpSpPr/>
          <p:nvPr/>
        </p:nvGrpSpPr>
        <p:grpSpPr>
          <a:xfrm>
            <a:off x="-349200" y="2106720"/>
            <a:ext cx="12804840" cy="581400"/>
            <a:chOff x="-349200" y="2106720"/>
            <a:chExt cx="12804840" cy="581400"/>
          </a:xfrm>
        </p:grpSpPr>
        <p:sp>
          <p:nvSpPr>
            <p:cNvPr id="81" name="文本框 1"/>
            <p:cNvSpPr/>
            <p:nvPr/>
          </p:nvSpPr>
          <p:spPr>
            <a:xfrm>
              <a:off x="627120" y="2106720"/>
              <a:ext cx="1086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8999e"/>
                  </a:solidFill>
                  <a:latin typeface="蒙纳简超刚黑"/>
                  <a:ea typeface="蒙纳简超刚黑"/>
                </a:rPr>
                <a:t>論文結構沒有邏輯；研究對象似是而非；概念層次分類不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25"/>
            <p:cNvSpPr/>
            <p:nvPr/>
          </p:nvSpPr>
          <p:spPr>
            <a:xfrm>
              <a:off x="-349200" y="2215800"/>
              <a:ext cx="963000" cy="392400"/>
            </a:xfrm>
            <a:prstGeom prst="rect">
              <a:avLst/>
            </a:prstGeom>
            <a:solidFill>
              <a:srgbClr val="b6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26"/>
            <p:cNvSpPr/>
            <p:nvPr/>
          </p:nvSpPr>
          <p:spPr>
            <a:xfrm>
              <a:off x="11492640" y="2188080"/>
              <a:ext cx="963000" cy="392400"/>
            </a:xfrm>
            <a:prstGeom prst="rect">
              <a:avLst/>
            </a:prstGeom>
            <a:solidFill>
              <a:srgbClr val="b6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"/>
          <p:cNvGrpSpPr/>
          <p:nvPr/>
        </p:nvGrpSpPr>
        <p:grpSpPr>
          <a:xfrm>
            <a:off x="1296360" y="57960"/>
            <a:ext cx="9488880" cy="1389960"/>
            <a:chOff x="1296360" y="57960"/>
            <a:chExt cx="9488880" cy="1389960"/>
          </a:xfrm>
        </p:grpSpPr>
        <p:grpSp>
          <p:nvGrpSpPr>
            <p:cNvPr id="85" name="组合 2"/>
            <p:cNvGrpSpPr/>
            <p:nvPr/>
          </p:nvGrpSpPr>
          <p:grpSpPr>
            <a:xfrm>
              <a:off x="1296360" y="57960"/>
              <a:ext cx="9488880" cy="1389960"/>
              <a:chOff x="1296360" y="57960"/>
              <a:chExt cx="9488880" cy="1389960"/>
            </a:xfrm>
          </p:grpSpPr>
          <p:sp>
            <p:nvSpPr>
              <p:cNvPr id="86" name="燕尾形 10"/>
              <p:cNvSpPr/>
              <p:nvPr/>
            </p:nvSpPr>
            <p:spPr>
              <a:xfrm flipH="1">
                <a:off x="1505880" y="660960"/>
                <a:ext cx="9279000" cy="786960"/>
              </a:xfrm>
              <a:prstGeom prst="pie">
                <a:avLst/>
              </a:prstGeom>
              <a:solidFill>
                <a:srgbClr val="b6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燕尾形 11"/>
              <p:cNvSpPr/>
              <p:nvPr/>
            </p:nvSpPr>
            <p:spPr>
              <a:xfrm flipH="1" rot="20662200">
                <a:off x="1359000" y="358920"/>
                <a:ext cx="2342160" cy="786960"/>
              </a:xfrm>
              <a:prstGeom prst="pie">
                <a:avLst/>
              </a:prstGeom>
              <a:solidFill>
                <a:srgbClr val="4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文本框 3"/>
            <p:cNvSpPr/>
            <p:nvPr/>
          </p:nvSpPr>
          <p:spPr>
            <a:xfrm>
              <a:off x="2142000" y="367920"/>
              <a:ext cx="77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8e8e6"/>
                  </a:solidFill>
                  <a:latin typeface="蒙纳简超刚黑"/>
                  <a:ea typeface="蒙纳简超刚黑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4"/>
            <p:cNvSpPr/>
            <p:nvPr/>
          </p:nvSpPr>
          <p:spPr>
            <a:xfrm>
              <a:off x="3763800" y="677880"/>
              <a:ext cx="6088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亂加限定詞，表里不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7"/>
          <p:cNvGrpSpPr/>
          <p:nvPr/>
        </p:nvGrpSpPr>
        <p:grpSpPr>
          <a:xfrm>
            <a:off x="-349200" y="2106720"/>
            <a:ext cx="12804840" cy="581400"/>
            <a:chOff x="-349200" y="2106720"/>
            <a:chExt cx="12804840" cy="581400"/>
          </a:xfrm>
        </p:grpSpPr>
        <p:sp>
          <p:nvSpPr>
            <p:cNvPr id="91" name="文本框 8"/>
            <p:cNvSpPr/>
            <p:nvPr/>
          </p:nvSpPr>
          <p:spPr>
            <a:xfrm>
              <a:off x="627120" y="2106720"/>
              <a:ext cx="1086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8999e"/>
                  </a:solidFill>
                  <a:latin typeface="蒙纳简超刚黑"/>
                  <a:ea typeface="蒙纳简超刚黑"/>
                </a:rPr>
                <a:t>學派與領域各異；時間與空間不同；群像與個體無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9"/>
            <p:cNvSpPr/>
            <p:nvPr/>
          </p:nvSpPr>
          <p:spPr>
            <a:xfrm>
              <a:off x="-349200" y="2215800"/>
              <a:ext cx="1646640" cy="392400"/>
            </a:xfrm>
            <a:prstGeom prst="rect">
              <a:avLst/>
            </a:prstGeom>
            <a:solidFill>
              <a:srgbClr val="b6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0"/>
            <p:cNvSpPr/>
            <p:nvPr/>
          </p:nvSpPr>
          <p:spPr>
            <a:xfrm>
              <a:off x="10785960" y="2188080"/>
              <a:ext cx="1669680" cy="392400"/>
            </a:xfrm>
            <a:prstGeom prst="rect">
              <a:avLst/>
            </a:prstGeom>
            <a:solidFill>
              <a:srgbClr val="b6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15"/>
          <p:cNvGrpSpPr/>
          <p:nvPr/>
        </p:nvGrpSpPr>
        <p:grpSpPr>
          <a:xfrm>
            <a:off x="627120" y="3127320"/>
            <a:ext cx="8562960" cy="1572120"/>
            <a:chOff x="627120" y="3127320"/>
            <a:chExt cx="8562960" cy="1572120"/>
          </a:xfrm>
        </p:grpSpPr>
        <p:sp>
          <p:nvSpPr>
            <p:cNvPr id="95" name="文本框 11"/>
            <p:cNvSpPr/>
            <p:nvPr/>
          </p:nvSpPr>
          <p:spPr>
            <a:xfrm>
              <a:off x="1602000" y="4118040"/>
              <a:ext cx="75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zh-CN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當代美學視域下的道教符文化</a:t>
              </a:r>
              <a:r>
                <a:rPr b="0" lang="en-US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2"/>
            <p:cNvSpPr/>
            <p:nvPr/>
          </p:nvSpPr>
          <p:spPr>
            <a:xfrm>
              <a:off x="2741400" y="4168800"/>
              <a:ext cx="831240" cy="482760"/>
            </a:xfrm>
            <a:prstGeom prst="rect">
              <a:avLst/>
            </a:prstGeom>
            <a:noFill/>
            <a:ln w="28440">
              <a:solidFill>
                <a:srgbClr val="b6b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直接箭头连接符 13"/>
            <p:cNvCxnSpPr/>
            <p:nvPr/>
          </p:nvCxnSpPr>
          <p:spPr>
            <a:xfrm flipH="1" flipV="1">
              <a:off x="3128040" y="3654000"/>
              <a:ext cx="1080" cy="514440"/>
            </a:xfrm>
            <a:prstGeom prst="straightConnector1">
              <a:avLst/>
            </a:prstGeom>
            <a:ln w="12600">
              <a:solidFill>
                <a:srgbClr val="b6b7ba"/>
              </a:solidFill>
              <a:miter/>
              <a:tailEnd len="med" type="triangle" w="med"/>
            </a:ln>
          </p:spPr>
        </p:cxnSp>
        <p:sp>
          <p:nvSpPr>
            <p:cNvPr id="98" name="文本框 14"/>
            <p:cNvSpPr/>
            <p:nvPr/>
          </p:nvSpPr>
          <p:spPr>
            <a:xfrm>
              <a:off x="627120" y="3127320"/>
              <a:ext cx="551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6b7ba"/>
                  </a:solidFill>
                  <a:latin typeface="蒙纳简超刚黑"/>
                  <a:ea typeface="蒙纳简超刚黑"/>
                </a:rPr>
                <a:t>美學視域本來就是一個當代語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16"/>
          <p:cNvSpPr/>
          <p:nvPr/>
        </p:nvSpPr>
        <p:spPr>
          <a:xfrm>
            <a:off x="1601640" y="4873680"/>
            <a:ext cx="75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《</a:t>
            </a:r>
            <a:r>
              <a:rPr b="0" lang="zh-CN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涼山彝族服飾的符號學研究</a:t>
            </a:r>
            <a:r>
              <a:rPr b="0" lang="en-US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7"/>
          <p:cNvSpPr/>
          <p:nvPr/>
        </p:nvSpPr>
        <p:spPr>
          <a:xfrm>
            <a:off x="5791320" y="4924440"/>
            <a:ext cx="1216080" cy="482760"/>
          </a:xfrm>
          <a:prstGeom prst="rect">
            <a:avLst/>
          </a:prstGeom>
          <a:noFill/>
          <a:ln w="28440">
            <a:solidFill>
              <a:srgbClr val="b6b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直接箭头连接符 18"/>
          <p:cNvCxnSpPr/>
          <p:nvPr/>
        </p:nvCxnSpPr>
        <p:spPr>
          <a:xfrm flipH="1">
            <a:off x="6398640" y="5407200"/>
            <a:ext cx="1080" cy="514440"/>
          </a:xfrm>
          <a:prstGeom prst="straightConnector1">
            <a:avLst/>
          </a:prstGeom>
          <a:ln w="12600">
            <a:solidFill>
              <a:srgbClr val="b6b7ba"/>
            </a:solidFill>
            <a:miter/>
            <a:tailEnd len="med" type="triangle" w="med"/>
          </a:ln>
        </p:spPr>
      </p:cxnSp>
      <p:sp>
        <p:nvSpPr>
          <p:cNvPr id="102" name="文本框 19"/>
          <p:cNvSpPr/>
          <p:nvPr/>
        </p:nvSpPr>
        <p:spPr>
          <a:xfrm>
            <a:off x="627120" y="5942160"/>
            <a:ext cx="107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符號研究≠符號學研究，符號研究屬於美學範圍，符號學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1"/>
          <p:cNvGrpSpPr/>
          <p:nvPr/>
        </p:nvGrpSpPr>
        <p:grpSpPr>
          <a:xfrm>
            <a:off x="1296360" y="57960"/>
            <a:ext cx="9488880" cy="1389960"/>
            <a:chOff x="1296360" y="57960"/>
            <a:chExt cx="9488880" cy="1389960"/>
          </a:xfrm>
        </p:grpSpPr>
        <p:grpSp>
          <p:nvGrpSpPr>
            <p:cNvPr id="104" name="组合 2"/>
            <p:cNvGrpSpPr/>
            <p:nvPr/>
          </p:nvGrpSpPr>
          <p:grpSpPr>
            <a:xfrm>
              <a:off x="1296360" y="57960"/>
              <a:ext cx="9488880" cy="1389960"/>
              <a:chOff x="1296360" y="57960"/>
              <a:chExt cx="9488880" cy="1389960"/>
            </a:xfrm>
          </p:grpSpPr>
          <p:sp>
            <p:nvSpPr>
              <p:cNvPr id="105" name="燕尾形 10"/>
              <p:cNvSpPr/>
              <p:nvPr/>
            </p:nvSpPr>
            <p:spPr>
              <a:xfrm flipH="1">
                <a:off x="1505880" y="660960"/>
                <a:ext cx="9279000" cy="786960"/>
              </a:xfrm>
              <a:prstGeom prst="pie">
                <a:avLst/>
              </a:prstGeom>
              <a:solidFill>
                <a:srgbClr val="b6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燕尾形 11"/>
              <p:cNvSpPr/>
              <p:nvPr/>
            </p:nvSpPr>
            <p:spPr>
              <a:xfrm flipH="1" rot="20662200">
                <a:off x="1359000" y="358920"/>
                <a:ext cx="2342160" cy="786960"/>
              </a:xfrm>
              <a:prstGeom prst="pie">
                <a:avLst/>
              </a:prstGeom>
              <a:solidFill>
                <a:srgbClr val="4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文本框 3"/>
            <p:cNvSpPr/>
            <p:nvPr/>
          </p:nvSpPr>
          <p:spPr>
            <a:xfrm>
              <a:off x="2142000" y="367920"/>
              <a:ext cx="77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8e8e6"/>
                  </a:solidFill>
                  <a:latin typeface="蒙纳简超刚黑"/>
                  <a:ea typeface="蒙纳简超刚黑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4"/>
            <p:cNvSpPr/>
            <p:nvPr/>
          </p:nvSpPr>
          <p:spPr>
            <a:xfrm>
              <a:off x="3763800" y="677880"/>
              <a:ext cx="6088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無理論概括，羅列材料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7"/>
          <p:cNvGrpSpPr/>
          <p:nvPr/>
        </p:nvGrpSpPr>
        <p:grpSpPr>
          <a:xfrm>
            <a:off x="-349200" y="2106720"/>
            <a:ext cx="12804840" cy="581400"/>
            <a:chOff x="-349200" y="2106720"/>
            <a:chExt cx="12804840" cy="581400"/>
          </a:xfrm>
        </p:grpSpPr>
        <p:sp>
          <p:nvSpPr>
            <p:cNvPr id="110" name="文本框 8"/>
            <p:cNvSpPr/>
            <p:nvPr/>
          </p:nvSpPr>
          <p:spPr>
            <a:xfrm>
              <a:off x="627120" y="2106720"/>
              <a:ext cx="1086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8999e"/>
                  </a:solidFill>
                  <a:latin typeface="蒙纳简超刚黑"/>
                  <a:ea typeface="蒙纳简超刚黑"/>
                </a:rPr>
                <a:t>停留於材料的簡單介紹，沒有分析背後的理論依據和概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9"/>
            <p:cNvSpPr/>
            <p:nvPr/>
          </p:nvSpPr>
          <p:spPr>
            <a:xfrm>
              <a:off x="-349200" y="2215800"/>
              <a:ext cx="1183320" cy="392400"/>
            </a:xfrm>
            <a:prstGeom prst="rect">
              <a:avLst/>
            </a:prstGeom>
            <a:solidFill>
              <a:srgbClr val="b6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0"/>
            <p:cNvSpPr/>
            <p:nvPr/>
          </p:nvSpPr>
          <p:spPr>
            <a:xfrm>
              <a:off x="11309760" y="2188080"/>
              <a:ext cx="1145880" cy="392400"/>
            </a:xfrm>
            <a:prstGeom prst="rect">
              <a:avLst/>
            </a:prstGeom>
            <a:solidFill>
              <a:srgbClr val="b6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文本框 11"/>
          <p:cNvSpPr/>
          <p:nvPr/>
        </p:nvSpPr>
        <p:spPr>
          <a:xfrm>
            <a:off x="911160" y="3854520"/>
            <a:ext cx="43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《</a:t>
            </a:r>
            <a:r>
              <a:rPr b="0" lang="zh-CN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災難片的審美訴求</a:t>
            </a:r>
            <a:r>
              <a:rPr b="0" lang="en-US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1452600" y="3894120"/>
            <a:ext cx="1217520" cy="484200"/>
          </a:xfrm>
          <a:prstGeom prst="rect">
            <a:avLst/>
          </a:prstGeom>
          <a:noFill/>
          <a:ln w="28440">
            <a:solidFill>
              <a:srgbClr val="b6b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直接箭头连接符 13"/>
          <p:cNvCxnSpPr/>
          <p:nvPr/>
        </p:nvCxnSpPr>
        <p:spPr>
          <a:xfrm flipH="1" flipV="1">
            <a:off x="1994760" y="3378960"/>
            <a:ext cx="1080" cy="515160"/>
          </a:xfrm>
          <a:prstGeom prst="straightConnector1">
            <a:avLst/>
          </a:prstGeom>
          <a:ln w="12600">
            <a:solidFill>
              <a:srgbClr val="b6b7ba"/>
            </a:solidFill>
            <a:miter/>
            <a:tailEnd len="med" type="triangle" w="med"/>
          </a:ln>
        </p:spPr>
      </p:cxnSp>
      <p:sp>
        <p:nvSpPr>
          <p:cNvPr id="116" name="文本框 14"/>
          <p:cNvSpPr/>
          <p:nvPr/>
        </p:nvSpPr>
        <p:spPr>
          <a:xfrm>
            <a:off x="-272880" y="2871720"/>
            <a:ext cx="11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本篇論文列舉了</a:t>
            </a:r>
            <a:r>
              <a:rPr b="0" lang="en-US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10</a:t>
            </a: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部災難片的电影內容，卻沒有絲毫的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5"/>
          <p:cNvSpPr/>
          <p:nvPr/>
        </p:nvSpPr>
        <p:spPr>
          <a:xfrm>
            <a:off x="627120" y="4421160"/>
            <a:ext cx="772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《</a:t>
            </a:r>
            <a:r>
              <a:rPr b="0" lang="zh-CN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泰国校园青春电影的接受美学研究</a:t>
            </a:r>
            <a:r>
              <a:rPr b="0" lang="en-US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6"/>
          <p:cNvSpPr/>
          <p:nvPr/>
        </p:nvSpPr>
        <p:spPr>
          <a:xfrm>
            <a:off x="2263680" y="4479840"/>
            <a:ext cx="1621080" cy="482760"/>
          </a:xfrm>
          <a:prstGeom prst="rect">
            <a:avLst/>
          </a:prstGeom>
          <a:noFill/>
          <a:ln w="28440">
            <a:solidFill>
              <a:srgbClr val="b6b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直接箭头连接符 17"/>
          <p:cNvCxnSpPr/>
          <p:nvPr/>
        </p:nvCxnSpPr>
        <p:spPr>
          <a:xfrm flipH="1">
            <a:off x="3072600" y="4950000"/>
            <a:ext cx="2520" cy="514440"/>
          </a:xfrm>
          <a:prstGeom prst="straightConnector1">
            <a:avLst/>
          </a:prstGeom>
          <a:ln w="12600">
            <a:solidFill>
              <a:srgbClr val="b6b7ba"/>
            </a:solidFill>
            <a:miter/>
            <a:tailEnd len="med" type="triangle" w="med"/>
          </a:ln>
        </p:spPr>
      </p:cxnSp>
      <p:sp>
        <p:nvSpPr>
          <p:cNvPr id="120" name="文本框 18"/>
          <p:cNvSpPr/>
          <p:nvPr/>
        </p:nvSpPr>
        <p:spPr>
          <a:xfrm>
            <a:off x="1995480" y="545616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本篇論文也極為相似；另外，“接受美學”這個概念在美學界是不存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9"/>
          <p:cNvSpPr/>
          <p:nvPr/>
        </p:nvSpPr>
        <p:spPr>
          <a:xfrm>
            <a:off x="5087880" y="4465800"/>
            <a:ext cx="1620720" cy="484200"/>
          </a:xfrm>
          <a:prstGeom prst="rect">
            <a:avLst/>
          </a:prstGeom>
          <a:noFill/>
          <a:ln w="28440">
            <a:solidFill>
              <a:srgbClr val="b6b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直接箭头连接符 20"/>
          <p:cNvCxnSpPr/>
          <p:nvPr/>
        </p:nvCxnSpPr>
        <p:spPr>
          <a:xfrm flipH="1">
            <a:off x="5924160" y="4935240"/>
            <a:ext cx="2160" cy="515160"/>
          </a:xfrm>
          <a:prstGeom prst="straightConnector1">
            <a:avLst/>
          </a:prstGeom>
          <a:ln w="12600">
            <a:solidFill>
              <a:srgbClr val="b6b7ba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1"/>
          <p:cNvGrpSpPr/>
          <p:nvPr/>
        </p:nvGrpSpPr>
        <p:grpSpPr>
          <a:xfrm>
            <a:off x="1296360" y="57960"/>
            <a:ext cx="9488880" cy="1389960"/>
            <a:chOff x="1296360" y="57960"/>
            <a:chExt cx="9488880" cy="1389960"/>
          </a:xfrm>
        </p:grpSpPr>
        <p:grpSp>
          <p:nvGrpSpPr>
            <p:cNvPr id="125" name="组合 2"/>
            <p:cNvGrpSpPr/>
            <p:nvPr/>
          </p:nvGrpSpPr>
          <p:grpSpPr>
            <a:xfrm>
              <a:off x="1296360" y="57960"/>
              <a:ext cx="9488880" cy="1389960"/>
              <a:chOff x="1296360" y="57960"/>
              <a:chExt cx="9488880" cy="1389960"/>
            </a:xfrm>
          </p:grpSpPr>
          <p:sp>
            <p:nvSpPr>
              <p:cNvPr id="126" name="燕尾形 10"/>
              <p:cNvSpPr/>
              <p:nvPr/>
            </p:nvSpPr>
            <p:spPr>
              <a:xfrm flipH="1">
                <a:off x="1505880" y="660960"/>
                <a:ext cx="9279000" cy="786960"/>
              </a:xfrm>
              <a:prstGeom prst="pie">
                <a:avLst/>
              </a:prstGeom>
              <a:solidFill>
                <a:srgbClr val="b6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燕尾形 11"/>
              <p:cNvSpPr/>
              <p:nvPr/>
            </p:nvSpPr>
            <p:spPr>
              <a:xfrm flipH="1" rot="20662200">
                <a:off x="1359000" y="358920"/>
                <a:ext cx="2342160" cy="786960"/>
              </a:xfrm>
              <a:prstGeom prst="pie">
                <a:avLst/>
              </a:prstGeom>
              <a:solidFill>
                <a:srgbClr val="4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文本框 3"/>
            <p:cNvSpPr/>
            <p:nvPr/>
          </p:nvSpPr>
          <p:spPr>
            <a:xfrm>
              <a:off x="2142000" y="367920"/>
              <a:ext cx="77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8e8e6"/>
                  </a:solidFill>
                  <a:latin typeface="蒙纳简超刚黑"/>
                  <a:ea typeface="蒙纳简超刚黑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4"/>
            <p:cNvSpPr/>
            <p:nvPr/>
          </p:nvSpPr>
          <p:spPr>
            <a:xfrm>
              <a:off x="3763800" y="677880"/>
              <a:ext cx="6088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表達不明確，語義含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7"/>
          <p:cNvGrpSpPr/>
          <p:nvPr/>
        </p:nvGrpSpPr>
        <p:grpSpPr>
          <a:xfrm>
            <a:off x="-349200" y="2106720"/>
            <a:ext cx="12804840" cy="581400"/>
            <a:chOff x="-349200" y="2106720"/>
            <a:chExt cx="12804840" cy="581400"/>
          </a:xfrm>
        </p:grpSpPr>
        <p:sp>
          <p:nvSpPr>
            <p:cNvPr id="131" name="文本框 8"/>
            <p:cNvSpPr/>
            <p:nvPr/>
          </p:nvSpPr>
          <p:spPr>
            <a:xfrm>
              <a:off x="627120" y="2106720"/>
              <a:ext cx="1086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8999e"/>
                  </a:solidFill>
                  <a:latin typeface="蒙纳简超刚黑"/>
                  <a:ea typeface="蒙纳简超刚黑"/>
                </a:rPr>
                <a:t>觀點的吻合度；表達語義的不清晰；沒有明確的傾向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9"/>
            <p:cNvSpPr/>
            <p:nvPr/>
          </p:nvSpPr>
          <p:spPr>
            <a:xfrm>
              <a:off x="-349200" y="2215800"/>
              <a:ext cx="1183320" cy="392400"/>
            </a:xfrm>
            <a:prstGeom prst="rect">
              <a:avLst/>
            </a:prstGeom>
            <a:solidFill>
              <a:srgbClr val="b6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0"/>
            <p:cNvSpPr/>
            <p:nvPr/>
          </p:nvSpPr>
          <p:spPr>
            <a:xfrm>
              <a:off x="11309760" y="2188080"/>
              <a:ext cx="1145880" cy="392400"/>
            </a:xfrm>
            <a:prstGeom prst="rect">
              <a:avLst/>
            </a:prstGeom>
            <a:solidFill>
              <a:srgbClr val="b6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文本框 11"/>
          <p:cNvSpPr/>
          <p:nvPr/>
        </p:nvSpPr>
        <p:spPr>
          <a:xfrm>
            <a:off x="425520" y="3244680"/>
            <a:ext cx="49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《</a:t>
            </a:r>
            <a:r>
              <a:rPr b="0" lang="zh-CN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張藝謀電影的審美訴求</a:t>
            </a:r>
            <a:r>
              <a:rPr b="0" lang="en-US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887400" y="3321000"/>
            <a:ext cx="1217520" cy="484200"/>
          </a:xfrm>
          <a:prstGeom prst="rect">
            <a:avLst/>
          </a:prstGeom>
          <a:noFill/>
          <a:ln w="28440">
            <a:solidFill>
              <a:srgbClr val="b6b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直接箭头连接符 13"/>
          <p:cNvCxnSpPr/>
          <p:nvPr/>
        </p:nvCxnSpPr>
        <p:spPr>
          <a:xfrm flipH="1">
            <a:off x="1488240" y="3804840"/>
            <a:ext cx="1080" cy="515160"/>
          </a:xfrm>
          <a:prstGeom prst="straightConnector1">
            <a:avLst/>
          </a:prstGeom>
          <a:ln w="12600">
            <a:solidFill>
              <a:srgbClr val="b6b7ba"/>
            </a:solidFill>
            <a:miter/>
            <a:tailEnd len="med" type="triangle" w="med"/>
          </a:ln>
        </p:spPr>
      </p:cxnSp>
      <p:sp>
        <p:nvSpPr>
          <p:cNvPr id="137" name="文本框 14"/>
          <p:cNvSpPr/>
          <p:nvPr/>
        </p:nvSpPr>
        <p:spPr>
          <a:xfrm>
            <a:off x="627120" y="4319640"/>
            <a:ext cx="71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選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“</a:t>
            </a: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張藝謀至今仍然堅持中國電影的藝術道路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“</a:t>
            </a: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電影作為藝術家能動的藝術反映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“</a:t>
            </a: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文化的積澱體現了他的導演價值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右大括号 17"/>
          <p:cNvSpPr/>
          <p:nvPr/>
        </p:nvSpPr>
        <p:spPr>
          <a:xfrm>
            <a:off x="7799400" y="4437000"/>
            <a:ext cx="309600" cy="1697040"/>
          </a:xfrm>
          <a:custGeom>
            <a:avLst/>
            <a:gdLst>
              <a:gd name="textAreaLeft" fmla="*/ 0 w 309600"/>
              <a:gd name="textAreaRight" fmla="*/ 111600 w 309600"/>
              <a:gd name="textAreaTop" fmla="*/ 7560 h 1697040"/>
              <a:gd name="textAreaBottom" fmla="*/ 1689480 h 169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7"/>
                  <a:pt x="10800" y="314"/>
                </a:cubicBezTo>
                <a:lnTo>
                  <a:pt x="10800" y="10486"/>
                </a:lnTo>
                <a:cubicBezTo>
                  <a:pt x="10800" y="10643"/>
                  <a:pt x="16200" y="10800"/>
                  <a:pt x="21600" y="10800"/>
                </a:cubicBezTo>
                <a:cubicBezTo>
                  <a:pt x="16200" y="10800"/>
                  <a:pt x="10800" y="10957"/>
                  <a:pt x="10800" y="11114"/>
                </a:cubicBezTo>
                <a:lnTo>
                  <a:pt x="10800" y="21286"/>
                </a:lnTo>
                <a:cubicBezTo>
                  <a:pt x="10800" y="2144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b6b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8"/>
          <p:cNvSpPr/>
          <p:nvPr/>
        </p:nvSpPr>
        <p:spPr>
          <a:xfrm>
            <a:off x="8737560" y="416232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這些話的語言很專業也很漂亮，但完全不知道想表達什麼意思，即“詞不達意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1"/>
          <p:cNvGrpSpPr/>
          <p:nvPr/>
        </p:nvGrpSpPr>
        <p:grpSpPr>
          <a:xfrm>
            <a:off x="1296360" y="57960"/>
            <a:ext cx="9488880" cy="1389960"/>
            <a:chOff x="1296360" y="57960"/>
            <a:chExt cx="9488880" cy="1389960"/>
          </a:xfrm>
        </p:grpSpPr>
        <p:grpSp>
          <p:nvGrpSpPr>
            <p:cNvPr id="141" name="组合 2"/>
            <p:cNvGrpSpPr/>
            <p:nvPr/>
          </p:nvGrpSpPr>
          <p:grpSpPr>
            <a:xfrm>
              <a:off x="1296360" y="57960"/>
              <a:ext cx="9488880" cy="1389960"/>
              <a:chOff x="1296360" y="57960"/>
              <a:chExt cx="9488880" cy="1389960"/>
            </a:xfrm>
          </p:grpSpPr>
          <p:sp>
            <p:nvSpPr>
              <p:cNvPr id="142" name="燕尾形 10"/>
              <p:cNvSpPr/>
              <p:nvPr/>
            </p:nvSpPr>
            <p:spPr>
              <a:xfrm flipH="1">
                <a:off x="1505880" y="660960"/>
                <a:ext cx="9279000" cy="786960"/>
              </a:xfrm>
              <a:prstGeom prst="pie">
                <a:avLst/>
              </a:prstGeom>
              <a:solidFill>
                <a:srgbClr val="b6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燕尾形 11"/>
              <p:cNvSpPr/>
              <p:nvPr/>
            </p:nvSpPr>
            <p:spPr>
              <a:xfrm flipH="1" rot="20662200">
                <a:off x="1359000" y="358920"/>
                <a:ext cx="2342160" cy="786960"/>
              </a:xfrm>
              <a:prstGeom prst="pie">
                <a:avLst/>
              </a:prstGeom>
              <a:solidFill>
                <a:srgbClr val="4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文本框 3"/>
            <p:cNvSpPr/>
            <p:nvPr/>
          </p:nvSpPr>
          <p:spPr>
            <a:xfrm>
              <a:off x="2142000" y="367920"/>
              <a:ext cx="77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8e8e6"/>
                  </a:solidFill>
                  <a:latin typeface="蒙纳简超刚黑"/>
                  <a:ea typeface="蒙纳简超刚黑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4"/>
            <p:cNvSpPr/>
            <p:nvPr/>
          </p:nvSpPr>
          <p:spPr>
            <a:xfrm>
              <a:off x="3763800" y="677880"/>
              <a:ext cx="6088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術語貼標籤，概念混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8"/>
          <p:cNvSpPr/>
          <p:nvPr/>
        </p:nvSpPr>
        <p:spPr>
          <a:xfrm>
            <a:off x="471600" y="2106720"/>
            <a:ext cx="112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8999e"/>
                </a:solidFill>
                <a:latin typeface="蒙纳简超刚黑"/>
                <a:ea typeface="蒙纳简超刚黑"/>
              </a:rPr>
              <a:t>基本立足點混亂；不具備內在的邏輯關聯；離開作品空談理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-671400" y="2216160"/>
            <a:ext cx="1182600" cy="392040"/>
          </a:xfrm>
          <a:prstGeom prst="rect">
            <a:avLst/>
          </a:prstGeom>
          <a:solidFill>
            <a:srgbClr val="b6b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0"/>
          <p:cNvSpPr/>
          <p:nvPr/>
        </p:nvSpPr>
        <p:spPr>
          <a:xfrm>
            <a:off x="11712600" y="2187720"/>
            <a:ext cx="1146240" cy="393480"/>
          </a:xfrm>
          <a:prstGeom prst="rect">
            <a:avLst/>
          </a:prstGeom>
          <a:solidFill>
            <a:srgbClr val="b6b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22"/>
          <p:cNvGrpSpPr/>
          <p:nvPr/>
        </p:nvGrpSpPr>
        <p:grpSpPr>
          <a:xfrm>
            <a:off x="220680" y="3645000"/>
            <a:ext cx="7086600" cy="2525760"/>
            <a:chOff x="220680" y="3645000"/>
            <a:chExt cx="7086600" cy="2525760"/>
          </a:xfrm>
        </p:grpSpPr>
        <p:sp>
          <p:nvSpPr>
            <p:cNvPr id="150" name="文本框 15"/>
            <p:cNvSpPr/>
            <p:nvPr/>
          </p:nvSpPr>
          <p:spPr>
            <a:xfrm>
              <a:off x="220680" y="3645000"/>
              <a:ext cx="701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zh-CN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顧長衛的導演藝術特點及審美之維</a:t>
              </a:r>
              <a:r>
                <a:rPr b="0" lang="en-US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7"/>
            <p:cNvSpPr/>
            <p:nvPr/>
          </p:nvSpPr>
          <p:spPr>
            <a:xfrm>
              <a:off x="287640" y="4130280"/>
              <a:ext cx="701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zh-CN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服飾在影視作品中的審美價值</a:t>
              </a:r>
              <a:r>
                <a:rPr b="0" lang="en-US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18"/>
            <p:cNvSpPr/>
            <p:nvPr/>
          </p:nvSpPr>
          <p:spPr>
            <a:xfrm>
              <a:off x="287640" y="4615560"/>
              <a:ext cx="701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zh-CN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論色彩在繪畫藝術中的審美意義</a:t>
              </a:r>
              <a:r>
                <a:rPr b="0" lang="en-US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19"/>
            <p:cNvSpPr/>
            <p:nvPr/>
          </p:nvSpPr>
          <p:spPr>
            <a:xfrm>
              <a:off x="287640" y="5100840"/>
              <a:ext cx="701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zh-CN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淺析吳哥藝術的地域審美特徵</a:t>
              </a:r>
              <a:r>
                <a:rPr b="0" lang="en-US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20"/>
            <p:cNvSpPr/>
            <p:nvPr/>
          </p:nvSpPr>
          <p:spPr>
            <a:xfrm>
              <a:off x="287640" y="5586480"/>
              <a:ext cx="701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《</a:t>
              </a:r>
              <a:r>
                <a:rPr b="0" lang="en-US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&lt;</a:t>
              </a:r>
              <a:r>
                <a:rPr b="0" lang="zh-CN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考工記</a:t>
              </a:r>
              <a:r>
                <a:rPr b="0" lang="en-US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&gt;</a:t>
              </a:r>
              <a:r>
                <a:rPr b="0" lang="zh-CN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的技術美學思想</a:t>
              </a:r>
              <a:r>
                <a:rPr b="0" lang="en-US" sz="32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21"/>
            <p:cNvSpPr/>
            <p:nvPr/>
          </p:nvSpPr>
          <p:spPr>
            <a:xfrm>
              <a:off x="5163480" y="3645000"/>
              <a:ext cx="1699920" cy="2525760"/>
            </a:xfrm>
            <a:prstGeom prst="rect">
              <a:avLst/>
            </a:prstGeom>
            <a:noFill/>
            <a:ln w="28440">
              <a:solidFill>
                <a:srgbClr val="b6b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6" name="直接箭头连接符 23"/>
          <p:cNvCxnSpPr/>
          <p:nvPr/>
        </p:nvCxnSpPr>
        <p:spPr>
          <a:xfrm>
            <a:off x="6850080" y="4673160"/>
            <a:ext cx="1256400" cy="2520"/>
          </a:xfrm>
          <a:prstGeom prst="straightConnector1">
            <a:avLst/>
          </a:prstGeom>
          <a:ln w="12600">
            <a:solidFill>
              <a:srgbClr val="b6b7ba"/>
            </a:solidFill>
            <a:miter/>
            <a:tailEnd len="med" type="triangle" w="med"/>
          </a:ln>
        </p:spPr>
      </p:cxnSp>
      <p:sp>
        <p:nvSpPr>
          <p:cNvPr id="157" name="文本框 25"/>
          <p:cNvSpPr/>
          <p:nvPr/>
        </p:nvSpPr>
        <p:spPr>
          <a:xfrm>
            <a:off x="8223120" y="378468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這幾個概念都是完全不同的，當貼上一個標籤之後，就意味著一種思考方式的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603-A7DB-4D1E-B306-E814CE199D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1"/>
          <p:cNvGrpSpPr/>
          <p:nvPr/>
        </p:nvGrpSpPr>
        <p:grpSpPr>
          <a:xfrm>
            <a:off x="1296360" y="57960"/>
            <a:ext cx="9488880" cy="1389960"/>
            <a:chOff x="1296360" y="57960"/>
            <a:chExt cx="9488880" cy="1389960"/>
          </a:xfrm>
        </p:grpSpPr>
        <p:grpSp>
          <p:nvGrpSpPr>
            <p:cNvPr id="162" name="组合 2"/>
            <p:cNvGrpSpPr/>
            <p:nvPr/>
          </p:nvGrpSpPr>
          <p:grpSpPr>
            <a:xfrm>
              <a:off x="1296360" y="57960"/>
              <a:ext cx="9488880" cy="1389960"/>
              <a:chOff x="1296360" y="57960"/>
              <a:chExt cx="9488880" cy="1389960"/>
            </a:xfrm>
          </p:grpSpPr>
          <p:sp>
            <p:nvSpPr>
              <p:cNvPr id="163" name="燕尾形 10"/>
              <p:cNvSpPr/>
              <p:nvPr/>
            </p:nvSpPr>
            <p:spPr>
              <a:xfrm flipH="1">
                <a:off x="1505880" y="660960"/>
                <a:ext cx="9279000" cy="786960"/>
              </a:xfrm>
              <a:prstGeom prst="pie">
                <a:avLst/>
              </a:prstGeom>
              <a:solidFill>
                <a:srgbClr val="b6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燕尾形 11"/>
              <p:cNvSpPr/>
              <p:nvPr/>
            </p:nvSpPr>
            <p:spPr>
              <a:xfrm flipH="1" rot="20662200">
                <a:off x="1359000" y="358920"/>
                <a:ext cx="2342160" cy="786960"/>
              </a:xfrm>
              <a:prstGeom prst="pie">
                <a:avLst/>
              </a:prstGeom>
              <a:solidFill>
                <a:srgbClr val="4144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文本框 3"/>
            <p:cNvSpPr/>
            <p:nvPr/>
          </p:nvSpPr>
          <p:spPr>
            <a:xfrm>
              <a:off x="2142000" y="367920"/>
              <a:ext cx="77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8e8e6"/>
                  </a:solidFill>
                  <a:latin typeface="蒙纳简超刚黑"/>
                  <a:ea typeface="蒙纳简超刚黑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4"/>
            <p:cNvSpPr/>
            <p:nvPr/>
          </p:nvSpPr>
          <p:spPr>
            <a:xfrm>
              <a:off x="3763800" y="677880"/>
              <a:ext cx="6088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414455"/>
                  </a:solidFill>
                  <a:latin typeface="蒙纳简超刚黑"/>
                  <a:ea typeface="蒙纳简超刚黑"/>
                </a:rPr>
                <a:t>注釋不規範，文獻無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文本框 7"/>
          <p:cNvSpPr/>
          <p:nvPr/>
        </p:nvSpPr>
        <p:spPr>
          <a:xfrm>
            <a:off x="471600" y="2106720"/>
            <a:ext cx="112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8999e"/>
                </a:solidFill>
                <a:latin typeface="蒙纳简超刚黑"/>
                <a:ea typeface="蒙纳简超刚黑"/>
              </a:rPr>
              <a:t>使用材料無經典性；排序混亂無規則；參考文獻與本文無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8"/>
          <p:cNvSpPr/>
          <p:nvPr/>
        </p:nvSpPr>
        <p:spPr>
          <a:xfrm>
            <a:off x="-671400" y="2216160"/>
            <a:ext cx="1182600" cy="392040"/>
          </a:xfrm>
          <a:prstGeom prst="rect">
            <a:avLst/>
          </a:prstGeom>
          <a:solidFill>
            <a:srgbClr val="b6b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9"/>
          <p:cNvSpPr/>
          <p:nvPr/>
        </p:nvSpPr>
        <p:spPr>
          <a:xfrm>
            <a:off x="11712600" y="2187720"/>
            <a:ext cx="1146240" cy="393480"/>
          </a:xfrm>
          <a:prstGeom prst="rect">
            <a:avLst/>
          </a:prstGeom>
          <a:solidFill>
            <a:srgbClr val="b6b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372960" y="2809800"/>
            <a:ext cx="113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《</a:t>
            </a:r>
            <a:r>
              <a:rPr b="0" lang="zh-CN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“穿越”的審美意識</a:t>
            </a:r>
            <a:r>
              <a:rPr b="0" lang="en-US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——</a:t>
            </a:r>
            <a:r>
              <a:rPr b="0" lang="zh-CN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論現代影視作品中的“穿越”現象</a:t>
            </a:r>
            <a:r>
              <a:rPr b="0" lang="en-US" sz="3200" spc="-1" strike="noStrike">
                <a:solidFill>
                  <a:srgbClr val="414455"/>
                </a:solidFill>
                <a:latin typeface="蒙纳简超刚黑"/>
                <a:ea typeface="蒙纳简超刚黑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6515280" y="3349800"/>
            <a:ext cx="1687320" cy="537840"/>
          </a:xfrm>
          <a:prstGeom prst="rect">
            <a:avLst/>
          </a:prstGeom>
          <a:noFill/>
          <a:ln w="28440">
            <a:solidFill>
              <a:srgbClr val="b6b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直接箭头连接符 13"/>
          <p:cNvCxnSpPr/>
          <p:nvPr/>
        </p:nvCxnSpPr>
        <p:spPr>
          <a:xfrm flipH="1">
            <a:off x="7350840" y="3887280"/>
            <a:ext cx="2520" cy="515160"/>
          </a:xfrm>
          <a:prstGeom prst="straightConnector1">
            <a:avLst/>
          </a:prstGeom>
          <a:ln w="12600">
            <a:solidFill>
              <a:srgbClr val="b6b7ba"/>
            </a:solidFill>
            <a:miter/>
            <a:tailEnd len="med" type="triangle" w="med"/>
          </a:ln>
        </p:spPr>
      </p:cxnSp>
      <p:sp>
        <p:nvSpPr>
          <p:cNvPr id="173" name="文本框 14"/>
          <p:cNvSpPr/>
          <p:nvPr/>
        </p:nvSpPr>
        <p:spPr>
          <a:xfrm>
            <a:off x="4006800" y="4413240"/>
            <a:ext cx="7461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按照主次順序，至少應該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《</a:t>
            </a: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世界電影史</a:t>
            </a:r>
            <a:r>
              <a:rPr b="0" lang="en-US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》</a:t>
            </a: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：喬治薩杜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《</a:t>
            </a: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電影的觀念</a:t>
            </a:r>
            <a:r>
              <a:rPr b="0" lang="en-US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》</a:t>
            </a: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：斯坦利梭羅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《</a:t>
            </a: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影視心理學</a:t>
            </a:r>
            <a:r>
              <a:rPr b="0" lang="en-US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》</a:t>
            </a: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：舒裡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《</a:t>
            </a: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電影美學</a:t>
            </a:r>
            <a:r>
              <a:rPr b="0" lang="en-US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》</a:t>
            </a:r>
            <a:r>
              <a:rPr b="0" lang="zh-CN" sz="2800" spc="-1" strike="noStrike">
                <a:solidFill>
                  <a:srgbClr val="b6b7ba"/>
                </a:solidFill>
                <a:latin typeface="蒙纳简超刚黑"/>
                <a:ea typeface="蒙纳简超刚黑"/>
              </a:rPr>
              <a:t>：姚曉蒙  等，而不是無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2T17:02:00Z</dcterms:created>
  <dc:creator>dandoliya</dc:creator>
  <dc:description/>
  <dc:language>en-US</dc:language>
  <cp:lastModifiedBy>Administrator</cp:lastModifiedBy>
  <dcterms:modified xsi:type="dcterms:W3CDTF">2015-08-09T01:10:43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