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jpeg" ContentType="image/jpeg"/>
  <Override PartName="/ppt/media/image20.jpeg" ContentType="image/jpeg"/>
  <Override PartName="/ppt/media/image23.png" ContentType="image/png"/>
  <Override PartName="/ppt/media/image18.gif" ContentType="image/gif"/>
  <Override PartName="/ppt/media/image15.gif" ContentType="image/gif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jpeg" ContentType="image/jpeg"/>
  <Override PartName="/ppt/media/image9.jpeg" ContentType="image/jpeg"/>
  <Override PartName="/ppt/media/image13.gif" ContentType="image/gif"/>
  <Override PartName="/ppt/media/image30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jpeg" ContentType="image/jpeg"/>
  <Override PartName="/ppt/media/image14.gif" ContentType="image/gif"/>
  <Override PartName="/ppt/media/image16.gif" ContentType="image/gif"/>
  <Override PartName="/ppt/media/image21.png" ContentType="image/png"/>
  <Override PartName="/ppt/media/image1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58AF-CAB1-4176-9019-89F81420F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184-DDEA-4D72-9AA1-BD3211F1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E95-DE03-44E1-B636-C6A52C96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B28-3781-4A17-8C94-D3C10493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38F-5A72-42E7-8C73-CED1AEEC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114-5E90-4799-9025-8F0DAAFF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DCF-A197-4B0F-A891-11333E5A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B9F-5B71-44CB-90FF-B665454C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3C8-6C1D-4CB7-9C01-F486C0D2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4C8-08A9-4787-8C79-8564D94B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8D7-04E9-48F9-AAA3-47FCBFB8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620-7A8B-4E11-8719-E7A40E07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30DB-6D22-43E1-AB90-B22B7AB01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478800" y="946080"/>
            <a:ext cx="8170560" cy="4936320"/>
            <a:chOff x="478800" y="946080"/>
            <a:chExt cx="8170560" cy="4936320"/>
          </a:xfrm>
        </p:grpSpPr>
        <p:pic>
          <p:nvPicPr>
            <p:cNvPr id="42" name="Picture 3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 rot="243000">
              <a:off x="697680" y="1212120"/>
              <a:ext cx="7696080" cy="440280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30000"/>
                </a:srgbClr>
              </a:outerShdw>
            </a:effectLst>
          </p:spPr>
        </p:pic>
        <p:grpSp>
          <p:nvGrpSpPr>
            <p:cNvPr id="43" name="组合 7"/>
            <p:cNvGrpSpPr/>
            <p:nvPr/>
          </p:nvGrpSpPr>
          <p:grpSpPr>
            <a:xfrm>
              <a:off x="478800" y="974520"/>
              <a:ext cx="8170560" cy="4907880"/>
              <a:chOff x="478800" y="974520"/>
              <a:chExt cx="8170560" cy="4907880"/>
            </a:xfrm>
          </p:grpSpPr>
          <p:pic>
            <p:nvPicPr>
              <p:cNvPr id="44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7859880" y="1690560"/>
                <a:ext cx="754200" cy="393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478800" y="1179000"/>
                <a:ext cx="678600" cy="392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780480" y="975240"/>
                <a:ext cx="7868880" cy="87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96800" y="5004360"/>
                <a:ext cx="7863120" cy="87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喽班会</a:t>
            </a:r>
            <a:r>
              <a:rPr b="1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模板在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1600200" y="2819520"/>
            <a:ext cx="59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参加的考</a:t>
            </a: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2057400" y="1219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临考前的通宵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480060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宿舍人一起讨论重点时的画面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1676520" y="4343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曾经有过的挂科和补考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000"/>
                            </p:stCondLst>
                            <p:childTnLst>
                              <p:par>
                                <p:cTn id="3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6858000" y="5486400"/>
            <a:ext cx="2438280" cy="1590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066680" y="12193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还记得四年前我们写下的梦想吗，不管它们有没有实现，我们都不要有遗憾，因为我们即将起航，去完成我们新的人生梦想。。。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1600200" y="502920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后，我会顺利毕业，去到我梦想的公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后，我会考上理想学校的研究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后，我会找到自己心仪的对象，嘿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。。。。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。。。。。。。。。。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4787 L 0.00764 0.08395 L 0.02275 -0.04787 L 0.03872 0.08395 L 0.05469 -0.04787 L 0.06962 0.08395 L 0.08559 -0.04787 L 0.1007 0.08395 L 0.11667 -0.04787 L 0.13264 0.08395 L 0.14775 -0.04787 L 0.16372 0.08395 L 0.17865 -0.04787 L 0.19462 0.08395 L 0.21059 -0.04787 L 0.2257 0.08395 L 0.24167 -0.04787 E">
                                      <p:cBhvr>
                                        <p:cTn id="316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Owner\My Documents\My Pictures\256_498919_ca1e1ed7d466e3f_副本_副本.png"/>
          <p:cNvPicPr/>
          <p:nvPr/>
        </p:nvPicPr>
        <p:blipFill>
          <a:blip r:embed="rId2"/>
          <a:stretch/>
        </p:blipFill>
        <p:spPr>
          <a:xfrm>
            <a:off x="1219320" y="3657600"/>
            <a:ext cx="1019160" cy="1666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Owner\My Documents\My Pictures\256_498919_ca1e、e3f_副本_副本.png"/>
          <p:cNvPicPr/>
          <p:nvPr/>
        </p:nvPicPr>
        <p:blipFill>
          <a:blip r:embed="rId3"/>
          <a:stretch/>
        </p:blipFill>
        <p:spPr>
          <a:xfrm>
            <a:off x="2743200" y="3276720"/>
            <a:ext cx="1190520" cy="22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Owner\My Documents\My Pictures\256_498919_ca1d7d66e3f_副本_副本.png"/>
          <p:cNvPicPr/>
          <p:nvPr/>
        </p:nvPicPr>
        <p:blipFill>
          <a:blip r:embed="rId4"/>
          <a:stretch/>
        </p:blipFill>
        <p:spPr>
          <a:xfrm>
            <a:off x="6553080" y="3733920"/>
            <a:ext cx="990720" cy="1571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Documents and Settings\Owner\My Documents\My Pictures\256_498919_ca1d7d466e3f_副本_副本.png"/>
          <p:cNvPicPr/>
          <p:nvPr/>
        </p:nvPicPr>
        <p:blipFill>
          <a:blip r:embed="rId5"/>
          <a:stretch/>
        </p:blipFill>
        <p:spPr>
          <a:xfrm>
            <a:off x="4572000" y="3352680"/>
            <a:ext cx="1467000" cy="20574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3852360" y="1066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Documents and Settings\Owner\My Documents\My Pictures\u=1373653399,429047420&amp;fm=51&amp;gp=0_副本_副本.png"/>
          <p:cNvPicPr/>
          <p:nvPr/>
        </p:nvPicPr>
        <p:blipFill>
          <a:blip r:embed="rId6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Documents and Settings\Owner\My Documents\My Pictures\u=1373653399,429047420&amp;fm=51&amp;gp=0_副本_副本.png"/>
          <p:cNvPicPr/>
          <p:nvPr/>
        </p:nvPicPr>
        <p:blipFill>
          <a:blip r:embed="rId7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:\Documents and Settings\Owner\My Documents\My Pictures\u=1373653399,429047420&amp;fm=51&amp;gp=0_副本_副本.png"/>
          <p:cNvPicPr/>
          <p:nvPr/>
        </p:nvPicPr>
        <p:blipFill>
          <a:blip r:embed="rId8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:\Documents and Settings\Owner\My Documents\My Pictures\u=1373653399,429047420&amp;fm=51&amp;gp=0_副本_副本.png"/>
          <p:cNvPicPr/>
          <p:nvPr/>
        </p:nvPicPr>
        <p:blipFill>
          <a:blip r:embed="rId9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6087E-006 L 0.00052 0.62026 E">
                                      <p:cBhvr>
                                        <p:cTn id="358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0.01064 L 0.03385 0.58788 E">
                                      <p:cBhvr>
                                        <p:cTn id="361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-0.01249 L 0.00417 0.62026 E">
                                      <p:cBhvr>
                                        <p:cTn id="364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0.00232 L 0.02084 0.56846 E">
                                      <p:cBhvr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83F-900F-4BCE-9236-9D6D0DC9DF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14"/>
          <p:cNvGrpSpPr/>
          <p:nvPr/>
        </p:nvGrpSpPr>
        <p:grpSpPr>
          <a:xfrm>
            <a:off x="762120" y="1143000"/>
            <a:ext cx="7924680" cy="4495680"/>
            <a:chOff x="762120" y="1143000"/>
            <a:chExt cx="7924680" cy="4495680"/>
          </a:xfrm>
        </p:grpSpPr>
        <p:pic>
          <p:nvPicPr>
            <p:cNvPr id="121" name="Picture 5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>
              <a:off x="1447920" y="1676160"/>
              <a:ext cx="6553080" cy="358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组合 8"/>
            <p:cNvGrpSpPr/>
            <p:nvPr/>
          </p:nvGrpSpPr>
          <p:grpSpPr>
            <a:xfrm>
              <a:off x="762120" y="1143000"/>
              <a:ext cx="7924680" cy="4495680"/>
              <a:chOff x="762120" y="1143000"/>
              <a:chExt cx="7924680" cy="4495680"/>
            </a:xfrm>
          </p:grpSpPr>
          <p:pic>
            <p:nvPicPr>
              <p:cNvPr id="123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>
                <a:off x="762120" y="1469520"/>
                <a:ext cx="7924680" cy="37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>
                <a:off x="762120" y="4985640"/>
                <a:ext cx="792468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>
                <a:off x="1194480" y="1143000"/>
                <a:ext cx="474480" cy="443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>
                <a:off x="7779600" y="1208160"/>
                <a:ext cx="474480" cy="443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" name="标题 1"/>
          <p:cNvSpPr/>
          <p:nvPr/>
        </p:nvSpPr>
        <p:spPr>
          <a:xfrm>
            <a:off x="990720" y="2514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明天，你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们来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500"/>
                            </p:stCondLst>
                            <p:childTnLst>
                              <p:par>
                                <p:cTn id="40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7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609480" y="11430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真的就要毕业了吗，昨天还觉得毕业是件很遥远的事，今天却就在眼前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343400" y="38098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有着太多的欢笑和泪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有着太多的付出和收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有着太多太多的回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让我永远都不会忘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ppt模板\个人作品\毕业\1c950a7b02087bf4366585adf2d3572c10dfcfed.jpg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886200" y="20574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校花神马的都是浮云，哥从不谈感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DOTA</a:t>
            </a: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才是我的至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595760" y="8380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艾，你们听说了吗，有人在追校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3809880" y="3581280"/>
            <a:ext cx="48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艾，四儿，我觉得她长得不咋样，你说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5355000" y="4495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呼。呼。呼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655600" y="5410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靠，又睡死过去了，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 rot="470400">
            <a:off x="5743080" y="3504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开过的卧谈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ppt模板\个人作品\毕业\62fb850ftw1dmtcec8wncj.jpg"/>
          <p:cNvPicPr/>
          <p:nvPr/>
        </p:nvPicPr>
        <p:blipFill>
          <a:blip r:embed="rId2"/>
          <a:stretch/>
        </p:blipFill>
        <p:spPr>
          <a:xfrm>
            <a:off x="2514600" y="0"/>
            <a:ext cx="662940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362320" y="4648320"/>
            <a:ext cx="63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逃过的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594720" y="4572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你又不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好吧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026720" y="2666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下次一定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:\ppt模板\个人作品\毕业\cdbf6c81800a19d8b1a82e4333fa828ba71e46c8.jpg"/>
          <p:cNvPicPr/>
          <p:nvPr/>
        </p:nvPicPr>
        <p:blipFill>
          <a:blip r:embed="rId2"/>
          <a:stretch/>
        </p:blipFill>
        <p:spPr>
          <a:xfrm>
            <a:off x="0" y="0"/>
            <a:ext cx="5410080" cy="4432320"/>
          </a:xfrm>
          <a:prstGeom prst="rect">
            <a:avLst/>
          </a:prstGeom>
          <a:ln w="0">
            <a:noFill/>
          </a:ln>
        </p:spPr>
      </p:pic>
      <p:sp>
        <p:nvSpPr>
          <p:cNvPr id="64" name="云形标注 5"/>
          <p:cNvSpPr/>
          <p:nvPr/>
        </p:nvSpPr>
        <p:spPr>
          <a:xfrm rot="1807800">
            <a:off x="5447880" y="185400"/>
            <a:ext cx="3573360" cy="26287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562720" y="9144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你们晒吧，我不晒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天这么好，我再睡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。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941560" y="5170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晒过的被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形标注 8"/>
          <p:cNvSpPr/>
          <p:nvPr/>
        </p:nvSpPr>
        <p:spPr>
          <a:xfrm>
            <a:off x="5486400" y="3505320"/>
            <a:ext cx="3429000" cy="18288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6189120" y="40384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我说拿错哥被子的那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哥毕业了不用还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E:\ppt模板\个人作品\毕业\f222334aaec76c18d48dc23982c9a8f4.jpg"/>
          <p:cNvPicPr/>
          <p:nvPr/>
        </p:nvPicPr>
        <p:blipFill>
          <a:blip r:embed="rId2"/>
          <a:stretch/>
        </p:blipFill>
        <p:spPr>
          <a:xfrm>
            <a:off x="1981080" y="3809880"/>
            <a:ext cx="7162920" cy="3048120"/>
          </a:xfrm>
          <a:prstGeom prst="rect">
            <a:avLst/>
          </a:prstGeom>
          <a:ln w="0">
            <a:noFill/>
          </a:ln>
        </p:spPr>
      </p:pic>
      <p:sp>
        <p:nvSpPr>
          <p:cNvPr id="70" name="云形标注 4"/>
          <p:cNvSpPr/>
          <p:nvPr/>
        </p:nvSpPr>
        <p:spPr>
          <a:xfrm rot="191400">
            <a:off x="69840" y="1239480"/>
            <a:ext cx="3575160" cy="26287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121760" y="19810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爱美的不止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，也有男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734720" y="91440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当然多数的男生是为找不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件干净衣服而发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5695560" y="1523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失恋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C:\DOCUME~1\Owner\LOCALS~1\Temp\5BK2}FOHU$7E{24ILNE_L~K.GIF"/>
          <p:cNvPicPr/>
          <p:nvPr/>
        </p:nvPicPr>
        <p:blipFill>
          <a:blip r:embed="rId2"/>
          <a:stretch/>
        </p:blipFill>
        <p:spPr>
          <a:xfrm>
            <a:off x="7345440" y="1523880"/>
            <a:ext cx="1280880" cy="91440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13"/>
          <p:cNvGrpSpPr/>
          <p:nvPr/>
        </p:nvGrpSpPr>
        <p:grpSpPr>
          <a:xfrm>
            <a:off x="685800" y="685800"/>
            <a:ext cx="2356200" cy="914400"/>
            <a:chOff x="685800" y="685800"/>
            <a:chExt cx="2356200" cy="914400"/>
          </a:xfrm>
        </p:grpSpPr>
        <p:sp>
          <p:nvSpPr>
            <p:cNvPr id="76" name="TextBox 1"/>
            <p:cNvSpPr/>
            <p:nvPr/>
          </p:nvSpPr>
          <p:spPr>
            <a:xfrm>
              <a:off x="2038320" y="685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咋地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2" descr="C:\DOCUME~1\Owner\LOCALS~1\Temp\4}H]JFF@N3H}K1{78KZ[KXS.GIF"/>
            <p:cNvPicPr/>
            <p:nvPr/>
          </p:nvPicPr>
          <p:blipFill>
            <a:blip r:embed="rId3"/>
            <a:stretch/>
          </p:blipFill>
          <p:spPr>
            <a:xfrm>
              <a:off x="685800" y="685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14"/>
          <p:cNvGrpSpPr/>
          <p:nvPr/>
        </p:nvGrpSpPr>
        <p:grpSpPr>
          <a:xfrm>
            <a:off x="762120" y="2895480"/>
            <a:ext cx="4276080" cy="1143000"/>
            <a:chOff x="762120" y="2895480"/>
            <a:chExt cx="4276080" cy="1143000"/>
          </a:xfrm>
        </p:grpSpPr>
        <p:sp>
          <p:nvSpPr>
            <p:cNvPr id="79" name="TextBox 4"/>
            <p:cNvSpPr/>
            <p:nvPr/>
          </p:nvSpPr>
          <p:spPr>
            <a:xfrm>
              <a:off x="2662920" y="312408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上星期不才失恋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3" descr="C:\DOCUME~1\Owner\LOCALS~1\Temp\Q6W_7`0ALYK_0@N4X3$O$QS.gif"/>
            <p:cNvPicPr/>
            <p:nvPr/>
          </p:nvPicPr>
          <p:blipFill>
            <a:blip r:embed="rId4"/>
            <a:stretch/>
          </p:blipFill>
          <p:spPr>
            <a:xfrm>
              <a:off x="762120" y="2895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15"/>
          <p:cNvGrpSpPr/>
          <p:nvPr/>
        </p:nvGrpSpPr>
        <p:grpSpPr>
          <a:xfrm>
            <a:off x="5655600" y="4191120"/>
            <a:ext cx="3213720" cy="914400"/>
            <a:chOff x="5655600" y="4191120"/>
            <a:chExt cx="3213720" cy="914400"/>
          </a:xfrm>
        </p:grpSpPr>
        <p:sp>
          <p:nvSpPr>
            <p:cNvPr id="82" name="TextBox 5"/>
            <p:cNvSpPr/>
            <p:nvPr/>
          </p:nvSpPr>
          <p:spPr>
            <a:xfrm>
              <a:off x="5655600" y="426708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这不又了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C:\DOCUME~1\Owner\LOCALS~1\Temp\O`S2XMW2@EQ~L6((0X}3_{6.gif"/>
            <p:cNvPicPr/>
            <p:nvPr/>
          </p:nvPicPr>
          <p:blipFill>
            <a:blip r:embed="rId5"/>
            <a:stretch/>
          </p:blipFill>
          <p:spPr>
            <a:xfrm>
              <a:off x="7772040" y="4191120"/>
              <a:ext cx="1097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组合 16"/>
          <p:cNvGrpSpPr/>
          <p:nvPr/>
        </p:nvGrpSpPr>
        <p:grpSpPr>
          <a:xfrm>
            <a:off x="934560" y="5105520"/>
            <a:ext cx="3256560" cy="990360"/>
            <a:chOff x="934560" y="5105520"/>
            <a:chExt cx="3256560" cy="990360"/>
          </a:xfrm>
        </p:grpSpPr>
        <p:sp>
          <p:nvSpPr>
            <p:cNvPr id="85" name="TextBox 6"/>
            <p:cNvSpPr/>
            <p:nvPr/>
          </p:nvSpPr>
          <p:spPr>
            <a:xfrm>
              <a:off x="934560" y="51055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5" descr="C:\DOCUME~1\Owner\LOCALS~1\Temp\EXB9GEPZ2Q)3VN2FYL~$$_W.GIF"/>
            <p:cNvPicPr/>
            <p:nvPr/>
          </p:nvPicPr>
          <p:blipFill>
            <a:blip r:embed="rId6"/>
            <a:stretch/>
          </p:blipFill>
          <p:spPr>
            <a:xfrm>
              <a:off x="1904760" y="51814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" descr="C:\DOCUME~1\Owner\LOCALS~1\Temp\)U0M(X$`FJIEH0L(60JB3U8.GIF"/>
            <p:cNvPicPr/>
            <p:nvPr/>
          </p:nvPicPr>
          <p:blipFill>
            <a:blip r:embed="rId7"/>
            <a:stretch/>
          </p:blipFill>
          <p:spPr>
            <a:xfrm>
              <a:off x="3048120" y="5181480"/>
              <a:ext cx="11430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533520" y="228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C:\DOCUME~1\Owner\LOCALS~1\Temp\1TRF@UG4E)W4]9CB0U459LC.jpg"/>
          <p:cNvPicPr/>
          <p:nvPr/>
        </p:nvPicPr>
        <p:blipFill>
          <a:blip r:embed="rId2"/>
          <a:stretch/>
        </p:blipFill>
        <p:spPr>
          <a:xfrm>
            <a:off x="609480" y="3505320"/>
            <a:ext cx="2895840" cy="2692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4259880" y="914400"/>
            <a:ext cx="282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咋就毕业了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哥还没找对象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448160" y="2438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追过的女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E:\ppt模板\个人作品\素材\6474443_103759403174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:\ppt模板\个人作品\素材\7675514_192259942000_2_副本_副本_副本_副本_副本.png"/>
          <p:cNvPicPr/>
          <p:nvPr/>
        </p:nvPicPr>
        <p:blipFill>
          <a:blip r:embed="rId2"/>
          <a:stretch/>
        </p:blipFill>
        <p:spPr>
          <a:xfrm>
            <a:off x="838080" y="542880"/>
            <a:ext cx="7599600" cy="55101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226764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考试科目：英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1876680" y="236232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考试时间：</a:t>
            </a:r>
            <a:r>
              <a:rPr b="0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14:00</a:t>
            </a: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-16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5638680" y="1295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学们按学号坐好不要乱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1962720" y="4800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注意考场纪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1931400" y="29718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考老师：李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*** 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张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290680" y="2971800"/>
            <a:ext cx="51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学们把书和不相关的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都收起来准备考试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0:59:34Z</dcterms:created>
  <dc:creator/>
  <dc:description/>
  <dc:language>en-US</dc:language>
  <cp:lastModifiedBy>微软用户</cp:lastModifiedBy>
  <dcterms:modified xsi:type="dcterms:W3CDTF">2015-08-09T01:10:41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