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0178-7898-419F-93EB-4CBE314E6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FE96-99BB-4380-A310-F7BA7FB7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F04A-3629-4BEE-86E3-DA405E1D2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FBE0-2110-49C7-996A-B24164424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256D-0FC8-4BFB-BC07-CF6A5CC7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662A-A3C1-47BC-BB37-4E5A7E07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4026-A87F-49C1-89C9-CC58AA94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8FF7-15A2-4A38-8B01-C080878F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4A0E-4CC1-4F3F-9062-2E36991F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0D6C-DE71-40CE-B1EE-B5713D9F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9305-4359-46FC-934F-9FF4EDB1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7792-33D7-426A-A409-68A21D89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E253-EA04-45FF-9983-024EE35421E7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269A-6EBA-4A09-8BAE-9FEDF211C36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5"/>
          <p:cNvSpPr/>
          <p:nvPr/>
        </p:nvSpPr>
        <p:spPr>
          <a:xfrm>
            <a:off x="1857240" y="2087640"/>
            <a:ext cx="2428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00440" y="476280"/>
            <a:ext cx="722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彩绘美女工作总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3CF3-1341-455A-90FD-481ED31A0ED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8"/>
          <p:cNvSpPr/>
          <p:nvPr/>
        </p:nvSpPr>
        <p:spPr>
          <a:xfrm>
            <a:off x="-18000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1369080" y="2643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4"/>
          <p:cNvSpPr/>
          <p:nvPr/>
        </p:nvSpPr>
        <p:spPr>
          <a:xfrm>
            <a:off x="3297960" y="5000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5"/>
          <p:cNvSpPr/>
          <p:nvPr/>
        </p:nvSpPr>
        <p:spPr>
          <a:xfrm>
            <a:off x="5441040" y="2786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2797920" y="2643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3940920" y="1785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2940840" y="4429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/>
          <p:cNvSpPr/>
          <p:nvPr/>
        </p:nvSpPr>
        <p:spPr>
          <a:xfrm>
            <a:off x="3940920" y="3500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-37080" y="42876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297880" y="1928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2512080" y="4143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4583880" y="2214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4655160" y="3929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-3708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2154960" y="2143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4512600" y="2000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8"/>
          <p:cNvSpPr/>
          <p:nvPr/>
        </p:nvSpPr>
        <p:spPr>
          <a:xfrm>
            <a:off x="2083680" y="4000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4583880" y="4071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24840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4155120" y="4643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5298120" y="2714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2226600" y="1857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2297880" y="3714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-10872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4941000" y="2643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2226600" y="2143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2083680" y="4071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4583880" y="4143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-18000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869040" y="2500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5655600" y="2571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5583960" y="3643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869040" y="3571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3155040" y="2928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8"/>
          <p:cNvSpPr/>
          <p:nvPr/>
        </p:nvSpPr>
        <p:spPr>
          <a:xfrm>
            <a:off x="-18000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9"/>
          <p:cNvSpPr/>
          <p:nvPr/>
        </p:nvSpPr>
        <p:spPr>
          <a:xfrm>
            <a:off x="1583640" y="2071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1297800" y="4429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5"/>
          <p:cNvSpPr/>
          <p:nvPr/>
        </p:nvSpPr>
        <p:spPr>
          <a:xfrm>
            <a:off x="4798080" y="2214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5"/>
          <p:cNvSpPr/>
          <p:nvPr/>
        </p:nvSpPr>
        <p:spPr>
          <a:xfrm>
            <a:off x="4655160" y="4286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8"/>
          <p:cNvSpPr/>
          <p:nvPr/>
        </p:nvSpPr>
        <p:spPr>
          <a:xfrm>
            <a:off x="-18000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9"/>
          <p:cNvSpPr/>
          <p:nvPr/>
        </p:nvSpPr>
        <p:spPr>
          <a:xfrm>
            <a:off x="1583640" y="4143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2369160" y="2143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4869720" y="2000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4798080" y="4143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bj</dc:creator>
  <dc:description/>
  <dc:language>en-US</dc:language>
  <cp:lastModifiedBy>PC</cp:lastModifiedBy>
  <dcterms:modified xsi:type="dcterms:W3CDTF">2015-08-09T01:10:17Z</dcterms:modified>
  <cp:revision>11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