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9D1-C6ED-4779-8C70-ED31082B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8C4-5C4E-4E75-B092-7F573DA8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F02-2CF9-4EA6-849E-9594F86F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90F-4812-4164-8DA9-EE2CCE38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9B69-6BDE-41BA-A30D-1D1D5628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B54E-8D04-4B4C-A7B0-36CAC37E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4115-333A-49D3-9FD0-1A7A5181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0C18-4656-49E5-84E8-BF5ADA74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5584-DF24-4A36-A03F-813871A0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CA58-64CA-47AB-A2D0-5DD7D6D9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AAD1-1F61-490B-B3AA-9E422F63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9CBA-D042-4824-84A1-FC4E4629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C8F5-234D-42CC-9F99-2E3711FB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062C-33C4-4BD4-B884-E44A0300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509B-D9AF-4E93-8A33-07832BD4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7132-1820-4745-8CE0-196714B6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319B-7A73-4673-9E9B-0E4A2CB8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2DE19-6A00-4130-B7E1-EEC613BC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F5461-D8AD-44B5-9011-8F11BAED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4CD92-1921-4765-86B7-6FB0BC17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EF624-A756-4FDC-BD4D-63B7CF4C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4B0EE-FD7B-474B-8350-D18EBD6D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E69-22A2-4703-8214-94A916DB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91203-586E-4E61-9DEB-A7B0B997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7A88-F931-4FD7-A36C-551C7E04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F9CD8-E2CE-4D99-BBA5-9CB18CAE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5DD56-76A4-4BCD-8926-2B6B2A41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CA0C4-E40C-47FA-916D-9227777C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28492-1E8C-42BA-A84D-C19BE909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45114-7EAF-47A2-AA02-5CBB9EBB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4B0A-B79B-4D83-914B-F15C820A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EE26C-D327-4EDB-A680-B2C4876C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E21D7-0C4C-4707-B0F8-BAAF6165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FAC-4F1B-4AE8-8979-AA06B077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0D52A-9030-4960-8EE0-2D702A05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85D17-C173-41B9-863A-4470C77E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6CEF-F0C9-4507-A24E-91CAED4C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11061-2CB0-494F-ACCA-A2F5D611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97104-94B7-481A-88B4-0AA18C2A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F3276-D86C-47BF-8F49-409C731D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841AB-18F6-4875-9298-8F1964E7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600C8-50BA-4B07-9231-174062AC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90640-DD1E-4780-9893-333EB17E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7EE23-05EE-4AE9-AB92-C2BBC2B3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9D9-2681-47A6-A10B-0B8BF499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9C9E7-92D6-49B0-BD8A-82538E59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08867-AC63-476A-B7DA-42FAD0C1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18EB8-5BE6-4199-B131-12F6BBE7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90F32-2A93-434A-B3AB-6F3C930D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F2B0D-6791-4A2A-9344-487CF671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3174D-8E4D-4B8D-AA21-4BFCF0F0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D519D-E271-4C60-B85F-4C59B060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F3930-815F-4CC8-B5A1-F7DA0366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F7C9E-140E-4FE7-AE20-64133813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2D664-6D65-4951-8661-EB24E413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5AF-990E-4059-BE38-4030DDDD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987DB-5C02-4EED-A408-FE6A40BC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CF80B-0D0B-42D6-AD52-C144F30A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734DC-2182-40D3-98CD-F238F7B0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BFB2B-F427-4ED3-B50B-43C35649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8A2C8-BC18-484B-A439-DD55270C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9412D-BC5D-4E81-844A-012F4E90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C3CC5-2623-4FEC-AFAF-C3E27C1B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19DCA-0126-4766-82AC-68BF5B51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FCF2B-8342-4BA8-8092-3EABC27A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9FEC2-147C-40CA-9C8E-49E051F7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46F-2FD6-4E22-AA9D-4D4A2BE7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428A6-8A9C-4CD1-AF07-104F4DAC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5058C-E75F-4C05-9579-EEB9F9EE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A3F01-2417-40EB-926F-3E2A8BBB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315-C138-48F4-930E-1C2C030A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75C-3025-45EA-97A0-A5165680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6D88-4E40-4A55-A993-15C5515AB76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3830-B13F-4B7A-8611-777190E271E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00F1-84D4-493F-B2EB-6D2A4589B49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C33D-4233-4B52-878A-E8AD2A8DD7B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753C-F891-49F1-B4E6-B8BE223D051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5421-B52E-4CBD-816B-CFDD3DB35EC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6" descr="blu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78BA-907F-46D6-8CC5-59F3F1D7F01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F176-9802-43D9-B3E1-4C17B200414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F818-243E-48D6-88DF-6BF05288417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5B0D-7502-40D8-AED1-9F10E7761B1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6" descr="re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2BBA-EB4E-40DA-B85B-5C45EFCC3B0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C530-589A-481E-814D-E5DD0917D83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15" descr="orange spot.jpg"/>
          <p:cNvPicPr/>
          <p:nvPr/>
        </p:nvPicPr>
        <p:blipFill>
          <a:blip r:embed="rId2"/>
          <a:stretch/>
        </p:blipFill>
        <p:spPr>
          <a:xfrm>
            <a:off x="4324320" y="2523960"/>
            <a:ext cx="4819680" cy="433404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4" descr="double spot.jpg"/>
          <p:cNvPicPr/>
          <p:nvPr/>
        </p:nvPicPr>
        <p:blipFill>
          <a:blip r:embed="rId3"/>
          <a:stretch/>
        </p:blipFill>
        <p:spPr>
          <a:xfrm>
            <a:off x="4324320" y="2523960"/>
            <a:ext cx="4819680" cy="433404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7" descr="~@.png"/>
          <p:cNvPicPr/>
          <p:nvPr/>
        </p:nvPicPr>
        <p:blipFill>
          <a:blip r:embed="rId4">
            <a:lum bright="40000"/>
          </a:blip>
          <a:stretch/>
        </p:blipFill>
        <p:spPr>
          <a:xfrm>
            <a:off x="1440" y="5357880"/>
            <a:ext cx="9142560" cy="217152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9" descr="~~~~@.png"/>
          <p:cNvPicPr/>
          <p:nvPr/>
        </p:nvPicPr>
        <p:blipFill>
          <a:blip r:embed="rId5"/>
          <a:stretch/>
        </p:blipFill>
        <p:spPr>
          <a:xfrm>
            <a:off x="0" y="5072040"/>
            <a:ext cx="9142560" cy="16765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6"/>
          <p:cNvSpPr/>
          <p:nvPr/>
        </p:nvSpPr>
        <p:spPr>
          <a:xfrm>
            <a:off x="7371720" y="635796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3267000" y="32464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66920" y="620640"/>
            <a:ext cx="658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雏菊背景论文答辩精美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4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2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THANK YOU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放射光~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5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4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直接连接符 10"/>
          <p:cNvSpPr/>
          <p:nvPr/>
        </p:nvSpPr>
        <p:spPr>
          <a:xfrm>
            <a:off x="0" y="5429160"/>
            <a:ext cx="911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12" descr="~@.png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1440" y="5143680"/>
            <a:ext cx="9142560" cy="217152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4" descr="deep blue memo.png"/>
          <p:cNvPicPr/>
          <p:nvPr/>
        </p:nvPicPr>
        <p:blipFill>
          <a:blip r:embed="rId3"/>
          <a:stretch/>
        </p:blipFill>
        <p:spPr>
          <a:xfrm>
            <a:off x="357120" y="785880"/>
            <a:ext cx="2752920" cy="27525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3" descr="blue memo.png"/>
          <p:cNvPicPr/>
          <p:nvPr/>
        </p:nvPicPr>
        <p:blipFill>
          <a:blip r:embed="rId4"/>
          <a:stretch/>
        </p:blipFill>
        <p:spPr>
          <a:xfrm>
            <a:off x="2928960" y="714240"/>
            <a:ext cx="2752560" cy="275292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5" descr="orange memo.png"/>
          <p:cNvPicPr/>
          <p:nvPr/>
        </p:nvPicPr>
        <p:blipFill>
          <a:blip r:embed="rId5"/>
          <a:stretch/>
        </p:blipFill>
        <p:spPr>
          <a:xfrm>
            <a:off x="3571920" y="3143160"/>
            <a:ext cx="2752560" cy="275292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7" descr="yellow memo.png"/>
          <p:cNvPicPr/>
          <p:nvPr/>
        </p:nvPicPr>
        <p:blipFill>
          <a:blip r:embed="rId6"/>
          <a:stretch/>
        </p:blipFill>
        <p:spPr>
          <a:xfrm>
            <a:off x="5572080" y="785880"/>
            <a:ext cx="2752920" cy="27525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8"/>
          <p:cNvSpPr/>
          <p:nvPr/>
        </p:nvSpPr>
        <p:spPr>
          <a:xfrm>
            <a:off x="-1069200" y="4643280"/>
            <a:ext cx="574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itannic Bold"/>
                <a:ea typeface="宋体"/>
              </a:rPr>
              <a:t>Team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6" descr="red memo.png"/>
          <p:cNvPicPr/>
          <p:nvPr/>
        </p:nvPicPr>
        <p:blipFill>
          <a:blip r:embed="rId7"/>
          <a:stretch/>
        </p:blipFill>
        <p:spPr>
          <a:xfrm>
            <a:off x="6143760" y="3214800"/>
            <a:ext cx="27525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57"/>
          <p:cNvSpPr/>
          <p:nvPr/>
        </p:nvSpPr>
        <p:spPr>
          <a:xfrm>
            <a:off x="0" y="2500200"/>
            <a:ext cx="4643280" cy="3429000"/>
          </a:xfrm>
          <a:prstGeom prst="rect">
            <a:avLst/>
          </a:prstGeom>
          <a:solidFill>
            <a:srgbClr val="94d7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58"/>
          <p:cNvSpPr/>
          <p:nvPr/>
        </p:nvSpPr>
        <p:spPr>
          <a:xfrm>
            <a:off x="4643280" y="2500200"/>
            <a:ext cx="4500720" cy="3429000"/>
          </a:xfrm>
          <a:prstGeom prst="rect">
            <a:avLst/>
          </a:prstGeom>
          <a:solidFill>
            <a:srgbClr val="fd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5"/>
          <p:cNvSpPr/>
          <p:nvPr/>
        </p:nvSpPr>
        <p:spPr>
          <a:xfrm>
            <a:off x="33480" y="1571760"/>
            <a:ext cx="911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-946440" y="576360"/>
            <a:ext cx="458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Cont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组合 42"/>
          <p:cNvGrpSpPr/>
          <p:nvPr/>
        </p:nvGrpSpPr>
        <p:grpSpPr>
          <a:xfrm>
            <a:off x="484200" y="5203800"/>
            <a:ext cx="792000" cy="949320"/>
            <a:chOff x="484200" y="5203800"/>
            <a:chExt cx="792000" cy="949320"/>
          </a:xfrm>
        </p:grpSpPr>
        <p:pic>
          <p:nvPicPr>
            <p:cNvPr id="269" name="Picture 27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484200" y="5203800"/>
              <a:ext cx="79200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31"/>
            <p:cNvSpPr/>
            <p:nvPr/>
          </p:nvSpPr>
          <p:spPr>
            <a:xfrm>
              <a:off x="830160" y="5340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39"/>
          <p:cNvGrpSpPr/>
          <p:nvPr/>
        </p:nvGrpSpPr>
        <p:grpSpPr>
          <a:xfrm>
            <a:off x="488880" y="2649600"/>
            <a:ext cx="792360" cy="949320"/>
            <a:chOff x="488880" y="2649600"/>
            <a:chExt cx="792360" cy="949320"/>
          </a:xfrm>
        </p:grpSpPr>
        <p:pic>
          <p:nvPicPr>
            <p:cNvPr id="272" name="Picture 30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488880" y="264960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32"/>
            <p:cNvSpPr/>
            <p:nvPr/>
          </p:nvSpPr>
          <p:spPr>
            <a:xfrm>
              <a:off x="809640" y="274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40"/>
          <p:cNvGrpSpPr/>
          <p:nvPr/>
        </p:nvGrpSpPr>
        <p:grpSpPr>
          <a:xfrm>
            <a:off x="500040" y="3506760"/>
            <a:ext cx="792360" cy="949320"/>
            <a:chOff x="500040" y="3506760"/>
            <a:chExt cx="792360" cy="949320"/>
          </a:xfrm>
        </p:grpSpPr>
        <p:pic>
          <p:nvPicPr>
            <p:cNvPr id="275" name="Picture 29" descr="1"/>
            <p:cNvPicPr/>
            <p:nvPr/>
          </p:nvPicPr>
          <p:blipFill>
            <a:blip r:embed="rId4"/>
            <a:srcRect l="42620" t="64489" r="19467" b="0"/>
            <a:stretch/>
          </p:blipFill>
          <p:spPr>
            <a:xfrm>
              <a:off x="500040" y="350676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33"/>
            <p:cNvSpPr/>
            <p:nvPr/>
          </p:nvSpPr>
          <p:spPr>
            <a:xfrm>
              <a:off x="822240" y="3605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41"/>
          <p:cNvGrpSpPr/>
          <p:nvPr/>
        </p:nvGrpSpPr>
        <p:grpSpPr>
          <a:xfrm>
            <a:off x="500040" y="4357800"/>
            <a:ext cx="792360" cy="949320"/>
            <a:chOff x="500040" y="4357800"/>
            <a:chExt cx="792360" cy="949320"/>
          </a:xfrm>
        </p:grpSpPr>
        <p:pic>
          <p:nvPicPr>
            <p:cNvPr id="278" name="Picture 28" descr="1"/>
            <p:cNvPicPr/>
            <p:nvPr/>
          </p:nvPicPr>
          <p:blipFill>
            <a:blip r:embed="rId5"/>
            <a:srcRect l="42620" t="64489" r="19467" b="0"/>
            <a:stretch/>
          </p:blipFill>
          <p:spPr>
            <a:xfrm>
              <a:off x="500040" y="435780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34"/>
            <p:cNvSpPr/>
            <p:nvPr/>
          </p:nvSpPr>
          <p:spPr>
            <a:xfrm>
              <a:off x="822240" y="4492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46"/>
          <p:cNvGrpSpPr/>
          <p:nvPr/>
        </p:nvGrpSpPr>
        <p:grpSpPr>
          <a:xfrm>
            <a:off x="4775040" y="2649600"/>
            <a:ext cx="792360" cy="949320"/>
            <a:chOff x="4775040" y="2649600"/>
            <a:chExt cx="792360" cy="949320"/>
          </a:xfrm>
        </p:grpSpPr>
        <p:pic>
          <p:nvPicPr>
            <p:cNvPr id="281" name="Picture 30" descr="1"/>
            <p:cNvPicPr/>
            <p:nvPr/>
          </p:nvPicPr>
          <p:blipFill>
            <a:blip r:embed="rId6"/>
            <a:srcRect l="42620" t="64489" r="19467" b="0"/>
            <a:stretch/>
          </p:blipFill>
          <p:spPr>
            <a:xfrm>
              <a:off x="4775040" y="264960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32"/>
            <p:cNvSpPr/>
            <p:nvPr/>
          </p:nvSpPr>
          <p:spPr>
            <a:xfrm>
              <a:off x="5095800" y="274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49"/>
          <p:cNvGrpSpPr/>
          <p:nvPr/>
        </p:nvGrpSpPr>
        <p:grpSpPr>
          <a:xfrm>
            <a:off x="4786200" y="3506760"/>
            <a:ext cx="792360" cy="949320"/>
            <a:chOff x="4786200" y="3506760"/>
            <a:chExt cx="792360" cy="949320"/>
          </a:xfrm>
        </p:grpSpPr>
        <p:pic>
          <p:nvPicPr>
            <p:cNvPr id="284" name="Picture 29" descr="1"/>
            <p:cNvPicPr/>
            <p:nvPr/>
          </p:nvPicPr>
          <p:blipFill>
            <a:blip r:embed="rId7"/>
            <a:srcRect l="42620" t="64489" r="19467" b="0"/>
            <a:stretch/>
          </p:blipFill>
          <p:spPr>
            <a:xfrm>
              <a:off x="4786200" y="350676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33"/>
            <p:cNvSpPr/>
            <p:nvPr/>
          </p:nvSpPr>
          <p:spPr>
            <a:xfrm>
              <a:off x="5108400" y="3605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52"/>
          <p:cNvGrpSpPr/>
          <p:nvPr/>
        </p:nvGrpSpPr>
        <p:grpSpPr>
          <a:xfrm>
            <a:off x="4780080" y="4357800"/>
            <a:ext cx="792000" cy="949320"/>
            <a:chOff x="4780080" y="4357800"/>
            <a:chExt cx="792000" cy="949320"/>
          </a:xfrm>
        </p:grpSpPr>
        <p:pic>
          <p:nvPicPr>
            <p:cNvPr id="287" name="Picture 28" descr="1"/>
            <p:cNvPicPr/>
            <p:nvPr/>
          </p:nvPicPr>
          <p:blipFill>
            <a:blip r:embed="rId8"/>
            <a:srcRect l="42620" t="64489" r="19467" b="0"/>
            <a:stretch/>
          </p:blipFill>
          <p:spPr>
            <a:xfrm>
              <a:off x="4780080" y="4357800"/>
              <a:ext cx="79200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34"/>
            <p:cNvSpPr/>
            <p:nvPr/>
          </p:nvSpPr>
          <p:spPr>
            <a:xfrm>
              <a:off x="5102280" y="4492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60"/>
          <p:cNvGrpSpPr/>
          <p:nvPr/>
        </p:nvGrpSpPr>
        <p:grpSpPr>
          <a:xfrm>
            <a:off x="500040" y="1643040"/>
            <a:ext cx="3786120" cy="1191240"/>
            <a:chOff x="500040" y="1643040"/>
            <a:chExt cx="3786120" cy="1191240"/>
          </a:xfrm>
        </p:grpSpPr>
        <p:sp>
          <p:nvSpPr>
            <p:cNvPr id="290" name="矩形标注 30"/>
            <p:cNvSpPr/>
            <p:nvPr/>
          </p:nvSpPr>
          <p:spPr>
            <a:xfrm>
              <a:off x="500040" y="1714320"/>
              <a:ext cx="3786120" cy="642960"/>
            </a:xfrm>
            <a:prstGeom prst="wedgeRectCallout">
              <a:avLst>
                <a:gd name="adj1" fmla="val -39500"/>
                <a:gd name="adj2" fmla="val 95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55"/>
            <p:cNvSpPr/>
            <p:nvPr/>
          </p:nvSpPr>
          <p:spPr>
            <a:xfrm>
              <a:off x="785520" y="164304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Add  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59"/>
          <p:cNvGrpSpPr/>
          <p:nvPr/>
        </p:nvGrpSpPr>
        <p:grpSpPr>
          <a:xfrm>
            <a:off x="4022280" y="1714680"/>
            <a:ext cx="4907520" cy="645840"/>
            <a:chOff x="4022280" y="1714680"/>
            <a:chExt cx="4907520" cy="645840"/>
          </a:xfrm>
        </p:grpSpPr>
        <p:sp>
          <p:nvSpPr>
            <p:cNvPr id="293" name="矩形标注 56"/>
            <p:cNvSpPr/>
            <p:nvPr/>
          </p:nvSpPr>
          <p:spPr>
            <a:xfrm>
              <a:off x="4786200" y="1717560"/>
              <a:ext cx="4143600" cy="642960"/>
            </a:xfrm>
            <a:prstGeom prst="wedgeRectCallout">
              <a:avLst>
                <a:gd name="adj1" fmla="val -38319"/>
                <a:gd name="adj2" fmla="val 7720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68"/>
            <p:cNvSpPr/>
            <p:nvPr/>
          </p:nvSpPr>
          <p:spPr>
            <a:xfrm>
              <a:off x="4022280" y="1714680"/>
              <a:ext cx="32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Add 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矩形 61"/>
          <p:cNvSpPr/>
          <p:nvPr/>
        </p:nvSpPr>
        <p:spPr>
          <a:xfrm>
            <a:off x="438120" y="278604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43"/>
          <p:cNvGrpSpPr/>
          <p:nvPr/>
        </p:nvGrpSpPr>
        <p:grpSpPr>
          <a:xfrm>
            <a:off x="4714920" y="5072040"/>
            <a:ext cx="792000" cy="949320"/>
            <a:chOff x="4714920" y="5072040"/>
            <a:chExt cx="792000" cy="949320"/>
          </a:xfrm>
        </p:grpSpPr>
        <p:pic>
          <p:nvPicPr>
            <p:cNvPr id="297" name="Picture 27" descr="1"/>
            <p:cNvPicPr/>
            <p:nvPr/>
          </p:nvPicPr>
          <p:blipFill>
            <a:blip r:embed="rId9"/>
            <a:srcRect l="42620" t="64489" r="19467" b="0"/>
            <a:stretch/>
          </p:blipFill>
          <p:spPr>
            <a:xfrm>
              <a:off x="4714920" y="5072040"/>
              <a:ext cx="79200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31"/>
            <p:cNvSpPr/>
            <p:nvPr/>
          </p:nvSpPr>
          <p:spPr>
            <a:xfrm>
              <a:off x="5060880" y="520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矩形 72"/>
          <p:cNvSpPr/>
          <p:nvPr/>
        </p:nvSpPr>
        <p:spPr>
          <a:xfrm>
            <a:off x="438120" y="364176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73"/>
          <p:cNvSpPr/>
          <p:nvPr/>
        </p:nvSpPr>
        <p:spPr>
          <a:xfrm>
            <a:off x="438120" y="449892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74"/>
          <p:cNvSpPr/>
          <p:nvPr/>
        </p:nvSpPr>
        <p:spPr>
          <a:xfrm>
            <a:off x="438120" y="528624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75"/>
          <p:cNvSpPr/>
          <p:nvPr/>
        </p:nvSpPr>
        <p:spPr>
          <a:xfrm>
            <a:off x="4724640" y="271476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76"/>
          <p:cNvSpPr/>
          <p:nvPr/>
        </p:nvSpPr>
        <p:spPr>
          <a:xfrm>
            <a:off x="4724640" y="357012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77"/>
          <p:cNvSpPr/>
          <p:nvPr/>
        </p:nvSpPr>
        <p:spPr>
          <a:xfrm>
            <a:off x="4724640" y="442764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78"/>
          <p:cNvSpPr/>
          <p:nvPr/>
        </p:nvSpPr>
        <p:spPr>
          <a:xfrm>
            <a:off x="4724640" y="521496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3" descr="white flow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矩形 4"/>
          <p:cNvSpPr/>
          <p:nvPr/>
        </p:nvSpPr>
        <p:spPr>
          <a:xfrm>
            <a:off x="500040" y="4929120"/>
            <a:ext cx="642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dd tit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矩形 3"/>
          <p:cNvSpPr/>
          <p:nvPr/>
        </p:nvSpPr>
        <p:spPr>
          <a:xfrm>
            <a:off x="214200" y="214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dd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4"/>
          <p:cNvSpPr/>
          <p:nvPr/>
        </p:nvSpPr>
        <p:spPr>
          <a:xfrm>
            <a:off x="1500120" y="2643120"/>
            <a:ext cx="471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3"/>
          <p:cNvSpPr/>
          <p:nvPr/>
        </p:nvSpPr>
        <p:spPr>
          <a:xfrm>
            <a:off x="214200" y="214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dd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"/>
          <p:cNvSpPr/>
          <p:nvPr/>
        </p:nvSpPr>
        <p:spPr>
          <a:xfrm>
            <a:off x="642960" y="4572000"/>
            <a:ext cx="471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1A80D-2D91-4DAA-AFAC-460BFB083D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07:14:00Z</dcterms:created>
  <dc:creator>dt</dc:creator>
  <dc:description/>
  <dc:language>en-US</dc:language>
  <cp:lastModifiedBy>黄炜炜</cp:lastModifiedBy>
  <dcterms:modified xsi:type="dcterms:W3CDTF">2015-08-09T01:11:55Z</dcterms:modified>
  <cp:revision>1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