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19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40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98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19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40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01600" y="169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19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40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98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19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40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1600" y="169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062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1024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5120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24080" y="1665000"/>
            <a:ext cx="7137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3e00"/>
                </a:solidFill>
                <a:latin typeface="Verdana"/>
                <a:ea typeface="宋体"/>
              </a:rPr>
              <a:t>淡淡绿毕业论文设计</a:t>
            </a:r>
            <a:r>
              <a:rPr b="1" lang="en-US" sz="4000" spc="-1" strike="noStrike">
                <a:solidFill>
                  <a:srgbClr val="293e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293e00"/>
                </a:solidFill>
                <a:latin typeface="Verdana"/>
                <a:ea typeface="宋体"/>
              </a:rPr>
              <a:t>模板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e8b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3"/>
          <p:cNvSpPr/>
          <p:nvPr/>
        </p:nvSpPr>
        <p:spPr>
          <a:xfrm>
            <a:off x="177840" y="6365880"/>
            <a:ext cx="194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2440" y="213840"/>
            <a:ext cx="70516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8360" y="1530360"/>
            <a:ext cx="655308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68240" y="10080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07Z</dcterms:created>
  <dc:creator>w</dc:creator>
  <dc:description/>
  <dc:language>en-US</dc:language>
  <cp:lastModifiedBy>Administrator</cp:lastModifiedBy>
  <dcterms:modified xsi:type="dcterms:W3CDTF">2015-08-09T01:10:50Z</dcterms:modified>
  <cp:revision>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