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D3B-AC87-4939-812B-2F494726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63E-6C0E-4F30-A1E7-01C9ACD0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87F-3487-4726-85A2-BB0AF0BD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A49-B165-4A4C-B8BD-22B11790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C87-90A9-4E8D-B88E-FFC70EC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A72-287C-4F10-A463-69DE18B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029-CA3D-405C-8CD0-5965CBC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8F9-7440-4AC6-BA10-05496A0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7C2-2742-4914-AC17-EE2A0984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2C1-678E-4FDC-8E38-49234223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C574-C77D-4312-B95B-FC9F228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0DE-B537-4D60-B247-438C2E9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644-9AF0-4AEF-B8A4-BECCDD2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31A-BB3A-43AB-9399-8E8DC44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1F61-224E-4386-BEE5-3551320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DC1-053C-4C8D-8A96-818214FE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449-168A-495A-8788-2DB18B1A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23E-40F5-46C2-98E7-FD716B72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51D-303E-471B-B555-509F68C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0B2-3650-4EAB-BE46-5CBAD94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D03-DA33-41FD-866A-C8BC48F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4ED-F300-4493-BDE2-6147822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79D-1045-4792-9142-513797D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68F-7E57-41BC-83FE-CE9F4CD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B3C-5A6D-42B5-829D-B8D88D3681D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6B3-381B-4E1E-803B-D997707FD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-36360" y="5006880"/>
            <a:ext cx="9194760" cy="1851120"/>
          </a:xfrm>
          <a:prstGeom prst="rect">
            <a:avLst/>
          </a:prstGeom>
          <a:solidFill>
            <a:srgbClr val="29a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组合 2" descr=""/>
          <p:cNvPicPr/>
          <p:nvPr/>
        </p:nvPicPr>
        <p:blipFill>
          <a:blip r:embed="rId1"/>
          <a:stretch/>
        </p:blipFill>
        <p:spPr>
          <a:xfrm>
            <a:off x="3724200" y="3687840"/>
            <a:ext cx="4919760" cy="26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Users\Administrator.ZGC--20101104KR\Desktop\QQ截图20121216180243.png"/>
          <p:cNvPicPr/>
          <p:nvPr/>
        </p:nvPicPr>
        <p:blipFill>
          <a:blip r:embed="rId2"/>
          <a:stretch/>
        </p:blipFill>
        <p:spPr>
          <a:xfrm>
            <a:off x="503280" y="2232000"/>
            <a:ext cx="283824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159640" y="1085760"/>
            <a:ext cx="52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135400" y="1916280"/>
            <a:ext cx="33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  快乐办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0760" y="38412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感工作轻松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3"/>
          <p:cNvGrpSpPr/>
          <p:nvPr/>
        </p:nvGrpSpPr>
        <p:grpSpPr>
          <a:xfrm>
            <a:off x="-284760" y="1651680"/>
            <a:ext cx="3718800" cy="5750280"/>
            <a:chOff x="-284760" y="1651680"/>
            <a:chExt cx="3718800" cy="5750280"/>
          </a:xfrm>
        </p:grpSpPr>
        <p:sp>
          <p:nvSpPr>
            <p:cNvPr id="90" name="矩形 4"/>
            <p:cNvSpPr/>
            <p:nvPr/>
          </p:nvSpPr>
          <p:spPr>
            <a:xfrm rot="1507200">
              <a:off x="850680" y="1690560"/>
              <a:ext cx="1447560" cy="5672160"/>
            </a:xfrm>
            <a:custGeom>
              <a:avLst/>
              <a:gdLst/>
              <a:ahLst/>
              <a:rect l="l" t="t" r="r" b="b"/>
              <a:pathLst>
                <a:path w="1728586" h="6771677">
                  <a:moveTo>
                    <a:pt x="497434" y="81951"/>
                  </a:moveTo>
                  <a:cubicBezTo>
                    <a:pt x="929513" y="-120664"/>
                    <a:pt x="1444035" y="65354"/>
                    <a:pt x="1646650" y="497434"/>
                  </a:cubicBezTo>
                  <a:cubicBezTo>
                    <a:pt x="1832170" y="893059"/>
                    <a:pt x="1691869" y="1357801"/>
                    <a:pt x="1334649" y="1588107"/>
                  </a:cubicBezTo>
                  <a:cubicBezTo>
                    <a:pt x="1223560" y="3139878"/>
                    <a:pt x="1413694" y="5507498"/>
                    <a:pt x="1228130" y="6324764"/>
                  </a:cubicBezTo>
                  <a:lnTo>
                    <a:pt x="273249" y="6771677"/>
                  </a:lnTo>
                  <a:lnTo>
                    <a:pt x="223836" y="1444434"/>
                  </a:lnTo>
                  <a:cubicBezTo>
                    <a:pt x="167464" y="1382423"/>
                    <a:pt x="119385" y="1310995"/>
                    <a:pt x="81951" y="1231168"/>
                  </a:cubicBezTo>
                  <a:cubicBezTo>
                    <a:pt x="-120664" y="799088"/>
                    <a:pt x="65354" y="284566"/>
                    <a:pt x="497434" y="81951"/>
                  </a:cubicBezTo>
                  <a:close/>
                </a:path>
              </a:pathLst>
            </a:custGeom>
            <a:solidFill>
              <a:srgbClr val="6acff5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5"/>
            <p:cNvSpPr/>
            <p:nvPr/>
          </p:nvSpPr>
          <p:spPr>
            <a:xfrm>
              <a:off x="1928880" y="2058840"/>
              <a:ext cx="1098360" cy="109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组合 56" descr=""/>
          <p:cNvPicPr/>
          <p:nvPr/>
        </p:nvPicPr>
        <p:blipFill>
          <a:blip r:embed="rId1"/>
          <a:stretch/>
        </p:blipFill>
        <p:spPr>
          <a:xfrm>
            <a:off x="23760" y="2786040"/>
            <a:ext cx="4415040" cy="4187880"/>
          </a:xfrm>
          <a:prstGeom prst="rect">
            <a:avLst/>
          </a:prstGeom>
          <a:ln w="0">
            <a:noFill/>
          </a:ln>
        </p:spPr>
      </p:pic>
      <p:pic>
        <p:nvPicPr>
          <p:cNvPr id="93" name="组合 59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5243400" cy="3176640"/>
          </a:xfrm>
          <a:prstGeom prst="rect">
            <a:avLst/>
          </a:prstGeom>
          <a:ln w="0">
            <a:noFill/>
          </a:ln>
        </p:spPr>
      </p:pic>
      <p:pic>
        <p:nvPicPr>
          <p:cNvPr id="94" name="组合 62" descr=""/>
          <p:cNvPicPr/>
          <p:nvPr/>
        </p:nvPicPr>
        <p:blipFill>
          <a:blip r:embed="rId3"/>
          <a:stretch/>
        </p:blipFill>
        <p:spPr>
          <a:xfrm>
            <a:off x="298440" y="5132520"/>
            <a:ext cx="5584680" cy="3133440"/>
          </a:xfrm>
          <a:prstGeom prst="rect">
            <a:avLst/>
          </a:prstGeom>
          <a:ln w="0">
            <a:noFill/>
          </a:ln>
        </p:spPr>
      </p:pic>
      <p:sp>
        <p:nvSpPr>
          <p:cNvPr id="95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6"/>
          <p:cNvSpPr/>
          <p:nvPr/>
        </p:nvSpPr>
        <p:spPr>
          <a:xfrm>
            <a:off x="2260440" y="2284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7"/>
          <p:cNvSpPr/>
          <p:nvPr/>
        </p:nvSpPr>
        <p:spPr>
          <a:xfrm>
            <a:off x="34207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8"/>
          <p:cNvSpPr/>
          <p:nvPr/>
        </p:nvSpPr>
        <p:spPr>
          <a:xfrm>
            <a:off x="5100480" y="3767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4879800" y="5541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0"/>
          <p:cNvSpPr/>
          <p:nvPr/>
        </p:nvSpPr>
        <p:spPr>
          <a:xfrm>
            <a:off x="4369320" y="1655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5814360" y="270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6674760" y="3755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3"/>
          <p:cNvSpPr/>
          <p:nvPr/>
        </p:nvSpPr>
        <p:spPr>
          <a:xfrm>
            <a:off x="6585840" y="563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填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4"/>
          <p:cNvSpPr/>
          <p:nvPr/>
        </p:nvSpPr>
        <p:spPr>
          <a:xfrm>
            <a:off x="94284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直接连接符 7"/>
          <p:cNvSpPr/>
          <p:nvPr/>
        </p:nvSpPr>
        <p:spPr>
          <a:xfrm flipH="1" flipV="1">
            <a:off x="7524720" y="595008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0" y="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8"/>
          <p:cNvSpPr/>
          <p:nvPr/>
        </p:nvSpPr>
        <p:spPr>
          <a:xfrm flipV="1">
            <a:off x="7524720" y="0"/>
            <a:ext cx="162072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2"/>
          <p:cNvSpPr/>
          <p:nvPr/>
        </p:nvSpPr>
        <p:spPr>
          <a:xfrm flipV="1">
            <a:off x="0" y="5950080"/>
            <a:ext cx="1619280" cy="90792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8"/>
          <p:cNvSpPr/>
          <p:nvPr/>
        </p:nvSpPr>
        <p:spPr>
          <a:xfrm>
            <a:off x="1619280" y="907920"/>
            <a:ext cx="0" cy="504216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9"/>
          <p:cNvSpPr/>
          <p:nvPr/>
        </p:nvSpPr>
        <p:spPr>
          <a:xfrm>
            <a:off x="7524720" y="907920"/>
            <a:ext cx="0" cy="504216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6"/>
          <p:cNvSpPr/>
          <p:nvPr/>
        </p:nvSpPr>
        <p:spPr>
          <a:xfrm>
            <a:off x="1619280" y="3422520"/>
            <a:ext cx="590544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9"/>
          <p:cNvSpPr/>
          <p:nvPr/>
        </p:nvSpPr>
        <p:spPr>
          <a:xfrm>
            <a:off x="1628640" y="4149720"/>
            <a:ext cx="589608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0"/>
          <p:cNvSpPr/>
          <p:nvPr/>
        </p:nvSpPr>
        <p:spPr>
          <a:xfrm>
            <a:off x="4528080" y="35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：标题过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"/>
          <p:cNvSpPr/>
          <p:nvPr/>
        </p:nvSpPr>
        <p:spPr>
          <a:xfrm flipH="1">
            <a:off x="3027240" y="998640"/>
            <a:ext cx="2627280" cy="642960"/>
          </a:xfrm>
          <a:custGeom>
            <a:avLst/>
            <a:gdLst/>
            <a:ahLst/>
            <a:rect l="l" t="t" r="r" b="b"/>
            <a:pathLst>
              <a:path w="5162589" h="945035">
                <a:moveTo>
                  <a:pt x="4265021" y="268288"/>
                </a:moveTo>
                <a:cubicBezTo>
                  <a:pt x="3207130" y="268288"/>
                  <a:pt x="2349539" y="549107"/>
                  <a:pt x="2349539" y="895515"/>
                </a:cubicBezTo>
                <a:cubicBezTo>
                  <a:pt x="2349539" y="912072"/>
                  <a:pt x="2351498" y="928478"/>
                  <a:pt x="2357102" y="944563"/>
                </a:cubicBezTo>
                <a:cubicBezTo>
                  <a:pt x="2850401" y="582141"/>
                  <a:pt x="3794125" y="337562"/>
                  <a:pt x="4877054" y="337562"/>
                </a:cubicBezTo>
                <a:lnTo>
                  <a:pt x="5162589" y="343479"/>
                </a:lnTo>
                <a:cubicBezTo>
                  <a:pt x="4895643" y="294751"/>
                  <a:pt x="4589770" y="268288"/>
                  <a:pt x="4265021" y="268288"/>
                </a:cubicBezTo>
                <a:close/>
                <a:moveTo>
                  <a:pt x="749674" y="0"/>
                </a:moveTo>
                <a:cubicBezTo>
                  <a:pt x="478435" y="0"/>
                  <a:pt x="222961" y="36980"/>
                  <a:pt x="0" y="105072"/>
                </a:cubicBezTo>
                <a:lnTo>
                  <a:pt x="238487" y="96804"/>
                </a:lnTo>
                <a:cubicBezTo>
                  <a:pt x="1142980" y="96804"/>
                  <a:pt x="1931205" y="438582"/>
                  <a:pt x="2343222" y="945035"/>
                </a:cubicBezTo>
                <a:cubicBezTo>
                  <a:pt x="2347903" y="922558"/>
                  <a:pt x="2349539" y="899631"/>
                  <a:pt x="2349539" y="876494"/>
                </a:cubicBezTo>
                <a:cubicBezTo>
                  <a:pt x="2349539" y="392420"/>
                  <a:pt x="1633255" y="0"/>
                  <a:pt x="749674" y="0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5"/>
          <p:cNvGrpSpPr/>
          <p:nvPr/>
        </p:nvGrpSpPr>
        <p:grpSpPr>
          <a:xfrm>
            <a:off x="5180040" y="1666800"/>
            <a:ext cx="1027080" cy="363600"/>
            <a:chOff x="5180040" y="1666800"/>
            <a:chExt cx="1027080" cy="363600"/>
          </a:xfrm>
        </p:grpSpPr>
        <p:sp>
          <p:nvSpPr>
            <p:cNvPr id="117" name="椭圆 10"/>
            <p:cNvSpPr/>
            <p:nvPr/>
          </p:nvSpPr>
          <p:spPr>
            <a:xfrm rot="560400">
              <a:off x="5193720" y="1706040"/>
              <a:ext cx="501840" cy="21024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0"/>
            <p:cNvSpPr/>
            <p:nvPr/>
          </p:nvSpPr>
          <p:spPr>
            <a:xfrm rot="560400">
              <a:off x="5692680" y="1780560"/>
              <a:ext cx="500400" cy="21024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52"/>
          <p:cNvGrpSpPr/>
          <p:nvPr/>
        </p:nvGrpSpPr>
        <p:grpSpPr>
          <a:xfrm>
            <a:off x="136440" y="115920"/>
            <a:ext cx="1041480" cy="957240"/>
            <a:chOff x="136440" y="115920"/>
            <a:chExt cx="1041480" cy="957240"/>
          </a:xfrm>
        </p:grpSpPr>
        <p:sp>
          <p:nvSpPr>
            <p:cNvPr id="120" name="椭圆 24"/>
            <p:cNvSpPr/>
            <p:nvPr/>
          </p:nvSpPr>
          <p:spPr>
            <a:xfrm>
              <a:off x="488880" y="444600"/>
              <a:ext cx="288720" cy="29052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25"/>
            <p:cNvSpPr/>
            <p:nvPr/>
          </p:nvSpPr>
          <p:spPr>
            <a:xfrm>
              <a:off x="169560" y="323640"/>
              <a:ext cx="277920" cy="1666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27"/>
            <p:cNvSpPr/>
            <p:nvPr/>
          </p:nvSpPr>
          <p:spPr>
            <a:xfrm flipV="1">
              <a:off x="136440" y="650520"/>
              <a:ext cx="30492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35"/>
            <p:cNvSpPr/>
            <p:nvPr/>
          </p:nvSpPr>
          <p:spPr>
            <a:xfrm>
              <a:off x="801720" y="735120"/>
              <a:ext cx="277920" cy="164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38"/>
            <p:cNvSpPr/>
            <p:nvPr/>
          </p:nvSpPr>
          <p:spPr>
            <a:xfrm flipV="1">
              <a:off x="854280" y="523440"/>
              <a:ext cx="32364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39"/>
            <p:cNvSpPr/>
            <p:nvPr/>
          </p:nvSpPr>
          <p:spPr>
            <a:xfrm>
              <a:off x="558720" y="11592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41"/>
            <p:cNvSpPr/>
            <p:nvPr/>
          </p:nvSpPr>
          <p:spPr>
            <a:xfrm>
              <a:off x="652320" y="79560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42"/>
            <p:cNvSpPr/>
            <p:nvPr/>
          </p:nvSpPr>
          <p:spPr>
            <a:xfrm flipH="1">
              <a:off x="298080" y="768600"/>
              <a:ext cx="188640" cy="2253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5"/>
            <p:cNvSpPr/>
            <p:nvPr/>
          </p:nvSpPr>
          <p:spPr>
            <a:xfrm flipH="1">
              <a:off x="777960" y="210960"/>
              <a:ext cx="188640" cy="2268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"/>
          <p:cNvSpPr/>
          <p:nvPr/>
        </p:nvSpPr>
        <p:spPr>
          <a:xfrm>
            <a:off x="1079640" y="900000"/>
            <a:ext cx="4402080" cy="0"/>
          </a:xfrm>
          <a:prstGeom prst="line">
            <a:avLst/>
          </a:prstGeom>
          <a:ln w="38160">
            <a:solidFill>
              <a:srgbClr val="29a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9"/>
          <p:cNvGrpSpPr/>
          <p:nvPr/>
        </p:nvGrpSpPr>
        <p:grpSpPr>
          <a:xfrm>
            <a:off x="7308360" y="476280"/>
            <a:ext cx="1008720" cy="1008000"/>
            <a:chOff x="7308360" y="476280"/>
            <a:chExt cx="1008720" cy="1008000"/>
          </a:xfrm>
        </p:grpSpPr>
        <p:sp>
          <p:nvSpPr>
            <p:cNvPr id="132" name="矩形 50"/>
            <p:cNvSpPr/>
            <p:nvPr/>
          </p:nvSpPr>
          <p:spPr>
            <a:xfrm>
              <a:off x="7308720" y="476280"/>
              <a:ext cx="1008360" cy="1008000"/>
            </a:xfrm>
            <a:prstGeom prst="rect">
              <a:avLst/>
            </a:prstGeom>
            <a:noFill/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51"/>
            <p:cNvSpPr/>
            <p:nvPr/>
          </p:nvSpPr>
          <p:spPr>
            <a:xfrm>
              <a:off x="7813800" y="476280"/>
              <a:ext cx="0" cy="10080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53"/>
            <p:cNvSpPr/>
            <p:nvPr/>
          </p:nvSpPr>
          <p:spPr>
            <a:xfrm flipH="1">
              <a:off x="7308360" y="981000"/>
              <a:ext cx="1008360" cy="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5"/>
          <p:cNvGrpSpPr/>
          <p:nvPr/>
        </p:nvGrpSpPr>
        <p:grpSpPr>
          <a:xfrm>
            <a:off x="7345800" y="727560"/>
            <a:ext cx="388080" cy="141840"/>
            <a:chOff x="7345800" y="727560"/>
            <a:chExt cx="388080" cy="141840"/>
          </a:xfrm>
        </p:grpSpPr>
        <p:sp>
          <p:nvSpPr>
            <p:cNvPr id="136" name="椭圆 10"/>
            <p:cNvSpPr/>
            <p:nvPr/>
          </p:nvSpPr>
          <p:spPr>
            <a:xfrm flipH="1" rot="561000">
              <a:off x="7538760" y="772200"/>
              <a:ext cx="189360" cy="8208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10"/>
            <p:cNvSpPr/>
            <p:nvPr/>
          </p:nvSpPr>
          <p:spPr>
            <a:xfrm flipH="1" rot="561000">
              <a:off x="7351200" y="741960"/>
              <a:ext cx="187920" cy="82080"/>
            </a:xfrm>
            <a:custGeom>
              <a:avLst/>
              <a:gdLst/>
              <a:ahLst/>
              <a:rect l="l" t="t" r="r" b="b"/>
              <a:pathLst>
                <a:path w="1550904" h="492804">
                  <a:moveTo>
                    <a:pt x="775452" y="0"/>
                  </a:moveTo>
                  <a:cubicBezTo>
                    <a:pt x="1131235" y="0"/>
                    <a:pt x="1434613" y="204861"/>
                    <a:pt x="1550904" y="492804"/>
                  </a:cubicBezTo>
                  <a:cubicBezTo>
                    <a:pt x="1355669" y="275206"/>
                    <a:pt x="1080366" y="140136"/>
                    <a:pt x="775452" y="140136"/>
                  </a:cubicBezTo>
                  <a:cubicBezTo>
                    <a:pt x="470538" y="140136"/>
                    <a:pt x="195236" y="275206"/>
                    <a:pt x="0" y="492804"/>
                  </a:cubicBezTo>
                  <a:cubicBezTo>
                    <a:pt x="116291" y="204861"/>
                    <a:pt x="419669" y="0"/>
                    <a:pt x="775452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20"/>
          <p:cNvSpPr/>
          <p:nvPr/>
        </p:nvSpPr>
        <p:spPr>
          <a:xfrm>
            <a:off x="1513800" y="3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bd6"/>
                </a:solidFill>
                <a:latin typeface="微软雅黑"/>
                <a:ea typeface="微软雅黑"/>
              </a:rPr>
              <a:t>内容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52"/>
          <p:cNvGrpSpPr/>
          <p:nvPr/>
        </p:nvGrpSpPr>
        <p:grpSpPr>
          <a:xfrm>
            <a:off x="611280" y="404640"/>
            <a:ext cx="2022480" cy="1857600"/>
            <a:chOff x="611280" y="404640"/>
            <a:chExt cx="2022480" cy="1857600"/>
          </a:xfrm>
        </p:grpSpPr>
        <p:sp>
          <p:nvSpPr>
            <p:cNvPr id="141" name="椭圆 24"/>
            <p:cNvSpPr/>
            <p:nvPr/>
          </p:nvSpPr>
          <p:spPr>
            <a:xfrm>
              <a:off x="1295280" y="1042920"/>
              <a:ext cx="560160" cy="56196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25"/>
            <p:cNvSpPr/>
            <p:nvPr/>
          </p:nvSpPr>
          <p:spPr>
            <a:xfrm>
              <a:off x="676080" y="809280"/>
              <a:ext cx="539640" cy="322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27"/>
            <p:cNvSpPr/>
            <p:nvPr/>
          </p:nvSpPr>
          <p:spPr>
            <a:xfrm flipV="1">
              <a:off x="611280" y="1444320"/>
              <a:ext cx="590400" cy="968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5"/>
            <p:cNvSpPr/>
            <p:nvPr/>
          </p:nvSpPr>
          <p:spPr>
            <a:xfrm>
              <a:off x="1903680" y="1604880"/>
              <a:ext cx="538200" cy="322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38"/>
            <p:cNvSpPr/>
            <p:nvPr/>
          </p:nvSpPr>
          <p:spPr>
            <a:xfrm flipV="1">
              <a:off x="2006640" y="1194840"/>
              <a:ext cx="627120" cy="982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39"/>
            <p:cNvSpPr/>
            <p:nvPr/>
          </p:nvSpPr>
          <p:spPr>
            <a:xfrm>
              <a:off x="1432080" y="404640"/>
              <a:ext cx="77760" cy="5396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1"/>
            <p:cNvSpPr/>
            <p:nvPr/>
          </p:nvSpPr>
          <p:spPr>
            <a:xfrm>
              <a:off x="1614600" y="1722600"/>
              <a:ext cx="75960" cy="53964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2"/>
            <p:cNvSpPr/>
            <p:nvPr/>
          </p:nvSpPr>
          <p:spPr>
            <a:xfrm flipH="1">
              <a:off x="925200" y="1670040"/>
              <a:ext cx="368280" cy="439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5"/>
            <p:cNvSpPr/>
            <p:nvPr/>
          </p:nvSpPr>
          <p:spPr>
            <a:xfrm flipH="1">
              <a:off x="1855440" y="590400"/>
              <a:ext cx="368280" cy="43812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1"/>
          <p:cNvSpPr/>
          <p:nvPr/>
        </p:nvSpPr>
        <p:spPr>
          <a:xfrm>
            <a:off x="6588000" y="4827600"/>
            <a:ext cx="1476360" cy="169704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8209080" y="5902200"/>
            <a:ext cx="541080" cy="62100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340776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bd6"/>
                </a:solidFill>
                <a:latin typeface="微软雅黑"/>
                <a:ea typeface="微软雅黑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0" y="6540480"/>
            <a:ext cx="9144000" cy="344520"/>
          </a:xfrm>
          <a:custGeom>
            <a:avLst/>
            <a:gdLst/>
            <a:ahLst/>
            <a:rect l="l" t="t" r="r" b="b"/>
            <a:pathLst>
              <a:path w="9144000" h="344962">
                <a:moveTo>
                  <a:pt x="522514" y="29028"/>
                </a:moveTo>
                <a:lnTo>
                  <a:pt x="8505372" y="0"/>
                </a:lnTo>
                <a:lnTo>
                  <a:pt x="9144000" y="344962"/>
                </a:lnTo>
                <a:lnTo>
                  <a:pt x="0" y="344962"/>
                </a:lnTo>
                <a:lnTo>
                  <a:pt x="522514" y="29028"/>
                </a:lnTo>
                <a:close/>
              </a:path>
            </a:pathLst>
          </a:custGeom>
          <a:solidFill>
            <a:srgbClr val="008bd6"/>
          </a:solidFill>
          <a:ln w="25560">
            <a:solidFill>
              <a:srgbClr val="008b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4E6-DC4B-4E22-A621-4818C00DA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18"/>
          <p:cNvSpPr/>
          <p:nvPr/>
        </p:nvSpPr>
        <p:spPr>
          <a:xfrm>
            <a:off x="5003640" y="1398600"/>
            <a:ext cx="1311480" cy="131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853640" y="2698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2"/>
          <p:cNvGrpSpPr/>
          <p:nvPr/>
        </p:nvGrpSpPr>
        <p:grpSpPr>
          <a:xfrm>
            <a:off x="4848120" y="1844280"/>
            <a:ext cx="4332240" cy="3261240"/>
            <a:chOff x="4848120" y="1844280"/>
            <a:chExt cx="4332240" cy="3261240"/>
          </a:xfrm>
        </p:grpSpPr>
        <p:sp>
          <p:nvSpPr>
            <p:cNvPr id="160" name="直接连接符 23"/>
            <p:cNvSpPr/>
            <p:nvPr/>
          </p:nvSpPr>
          <p:spPr>
            <a:xfrm flipH="1" flipV="1">
              <a:off x="8412120" y="4662360"/>
              <a:ext cx="76824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24"/>
            <p:cNvSpPr/>
            <p:nvPr/>
          </p:nvSpPr>
          <p:spPr>
            <a:xfrm>
              <a:off x="4848120" y="1844640"/>
              <a:ext cx="76680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25"/>
            <p:cNvSpPr/>
            <p:nvPr/>
          </p:nvSpPr>
          <p:spPr>
            <a:xfrm flipV="1">
              <a:off x="8412120" y="1844280"/>
              <a:ext cx="76824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26"/>
            <p:cNvSpPr/>
            <p:nvPr/>
          </p:nvSpPr>
          <p:spPr>
            <a:xfrm flipV="1">
              <a:off x="4848120" y="4662360"/>
              <a:ext cx="766800" cy="4302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27"/>
            <p:cNvSpPr/>
            <p:nvPr/>
          </p:nvSpPr>
          <p:spPr>
            <a:xfrm>
              <a:off x="5614920" y="2274840"/>
              <a:ext cx="0" cy="2387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8"/>
            <p:cNvSpPr/>
            <p:nvPr/>
          </p:nvSpPr>
          <p:spPr>
            <a:xfrm>
              <a:off x="8412120" y="2274840"/>
              <a:ext cx="0" cy="2387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"/>
            <p:cNvSpPr/>
            <p:nvPr/>
          </p:nvSpPr>
          <p:spPr>
            <a:xfrm flipH="1">
              <a:off x="6280920" y="2317680"/>
              <a:ext cx="1244520" cy="304560"/>
            </a:xfrm>
            <a:custGeom>
              <a:avLst/>
              <a:gdLst/>
              <a:ahLst/>
              <a:rect l="l" t="t" r="r" b="b"/>
              <a:pathLst>
                <a:path w="5162589" h="945035">
                  <a:moveTo>
                    <a:pt x="4265021" y="268288"/>
                  </a:moveTo>
                  <a:cubicBezTo>
                    <a:pt x="3207130" y="268288"/>
                    <a:pt x="2349539" y="549107"/>
                    <a:pt x="2349539" y="895515"/>
                  </a:cubicBezTo>
                  <a:cubicBezTo>
                    <a:pt x="2349539" y="912072"/>
                    <a:pt x="2351498" y="928478"/>
                    <a:pt x="2357102" y="944563"/>
                  </a:cubicBezTo>
                  <a:cubicBezTo>
                    <a:pt x="2850401" y="582141"/>
                    <a:pt x="3794125" y="337562"/>
                    <a:pt x="4877054" y="337562"/>
                  </a:cubicBezTo>
                  <a:lnTo>
                    <a:pt x="5162589" y="343479"/>
                  </a:lnTo>
                  <a:cubicBezTo>
                    <a:pt x="4895643" y="294751"/>
                    <a:pt x="4589770" y="268288"/>
                    <a:pt x="4265021" y="268288"/>
                  </a:cubicBezTo>
                  <a:close/>
                  <a:moveTo>
                    <a:pt x="749674" y="0"/>
                  </a:moveTo>
                  <a:cubicBezTo>
                    <a:pt x="478435" y="0"/>
                    <a:pt x="222961" y="36980"/>
                    <a:pt x="0" y="105072"/>
                  </a:cubicBezTo>
                  <a:lnTo>
                    <a:pt x="238487" y="96804"/>
                  </a:lnTo>
                  <a:cubicBezTo>
                    <a:pt x="1142980" y="96804"/>
                    <a:pt x="1931205" y="438582"/>
                    <a:pt x="2343222" y="945035"/>
                  </a:cubicBezTo>
                  <a:cubicBezTo>
                    <a:pt x="2347903" y="922558"/>
                    <a:pt x="2349539" y="899631"/>
                    <a:pt x="2349539" y="876494"/>
                  </a:cubicBezTo>
                  <a:cubicBezTo>
                    <a:pt x="2349539" y="392420"/>
                    <a:pt x="1633255" y="0"/>
                    <a:pt x="749674" y="0"/>
                  </a:cubicBezTo>
                  <a:close/>
                </a:path>
              </a:pathLst>
            </a:custGeom>
            <a:solidFill>
              <a:srgbClr val="29ace4"/>
            </a:solidFill>
            <a:ln w="25560">
              <a:solidFill>
                <a:srgbClr val="29ac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3"/>
            <p:cNvSpPr/>
            <p:nvPr/>
          </p:nvSpPr>
          <p:spPr>
            <a:xfrm>
              <a:off x="4848120" y="4942080"/>
              <a:ext cx="4332240" cy="163440"/>
            </a:xfrm>
            <a:custGeom>
              <a:avLst/>
              <a:gdLst/>
              <a:ahLst/>
              <a:rect l="l" t="t" r="r" b="b"/>
              <a:pathLst>
                <a:path w="9144000" h="344962">
                  <a:moveTo>
                    <a:pt x="522514" y="29028"/>
                  </a:moveTo>
                  <a:lnTo>
                    <a:pt x="8505372" y="0"/>
                  </a:lnTo>
                  <a:lnTo>
                    <a:pt x="9144000" y="344962"/>
                  </a:lnTo>
                  <a:lnTo>
                    <a:pt x="0" y="344962"/>
                  </a:lnTo>
                  <a:lnTo>
                    <a:pt x="522514" y="29028"/>
                  </a:lnTo>
                  <a:close/>
                </a:path>
              </a:pathLst>
            </a:custGeom>
            <a:solidFill>
              <a:srgbClr val="008bd6"/>
            </a:solidFill>
            <a:ln w="25560">
              <a:solidFill>
                <a:srgbClr val="008b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15"/>
            <p:cNvGrpSpPr/>
            <p:nvPr/>
          </p:nvGrpSpPr>
          <p:grpSpPr>
            <a:xfrm>
              <a:off x="7302240" y="2631600"/>
              <a:ext cx="486000" cy="175680"/>
              <a:chOff x="7302240" y="2631600"/>
              <a:chExt cx="486000" cy="175680"/>
            </a:xfrm>
          </p:grpSpPr>
          <p:sp>
            <p:nvSpPr>
              <p:cNvPr id="169" name="椭圆 10"/>
              <p:cNvSpPr/>
              <p:nvPr/>
            </p:nvSpPr>
            <p:spPr>
              <a:xfrm rot="560400">
                <a:off x="7308720" y="2649960"/>
                <a:ext cx="237240" cy="102240"/>
              </a:xfrm>
              <a:custGeom>
                <a:avLst/>
                <a:gdLst/>
                <a:ahLst/>
                <a:rect l="l" t="t" r="r" b="b"/>
                <a:pathLst>
                  <a:path w="1550904" h="492804">
                    <a:moveTo>
                      <a:pt x="775452" y="0"/>
                    </a:moveTo>
                    <a:cubicBezTo>
                      <a:pt x="1131235" y="0"/>
                      <a:pt x="1434613" y="204861"/>
                      <a:pt x="1550904" y="492804"/>
                    </a:cubicBezTo>
                    <a:cubicBezTo>
                      <a:pt x="1355669" y="275206"/>
                      <a:pt x="1080366" y="140136"/>
                      <a:pt x="775452" y="140136"/>
                    </a:cubicBezTo>
                    <a:cubicBezTo>
                      <a:pt x="470538" y="140136"/>
                      <a:pt x="195236" y="275206"/>
                      <a:pt x="0" y="492804"/>
                    </a:cubicBezTo>
                    <a:cubicBezTo>
                      <a:pt x="116291" y="204861"/>
                      <a:pt x="419669" y="0"/>
                      <a:pt x="775452" y="0"/>
                    </a:cubicBezTo>
                    <a:close/>
                  </a:path>
                </a:pathLst>
              </a:custGeom>
              <a:solidFill>
                <a:srgbClr val="29ace4"/>
              </a:solidFill>
              <a:ln w="25560">
                <a:solidFill>
                  <a:srgbClr val="29ac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0"/>
              <p:cNvSpPr/>
              <p:nvPr/>
            </p:nvSpPr>
            <p:spPr>
              <a:xfrm rot="560400">
                <a:off x="7544160" y="2687760"/>
                <a:ext cx="237240" cy="100800"/>
              </a:xfrm>
              <a:custGeom>
                <a:avLst/>
                <a:gdLst/>
                <a:ahLst/>
                <a:rect l="l" t="t" r="r" b="b"/>
                <a:pathLst>
                  <a:path w="1550904" h="492804">
                    <a:moveTo>
                      <a:pt x="775452" y="0"/>
                    </a:moveTo>
                    <a:cubicBezTo>
                      <a:pt x="1131235" y="0"/>
                      <a:pt x="1434613" y="204861"/>
                      <a:pt x="1550904" y="492804"/>
                    </a:cubicBezTo>
                    <a:cubicBezTo>
                      <a:pt x="1355669" y="275206"/>
                      <a:pt x="1080366" y="140136"/>
                      <a:pt x="775452" y="140136"/>
                    </a:cubicBezTo>
                    <a:cubicBezTo>
                      <a:pt x="470538" y="140136"/>
                      <a:pt x="195236" y="275206"/>
                      <a:pt x="0" y="492804"/>
                    </a:cubicBezTo>
                    <a:cubicBezTo>
                      <a:pt x="116291" y="204861"/>
                      <a:pt x="419669" y="0"/>
                      <a:pt x="775452" y="0"/>
                    </a:cubicBezTo>
                    <a:close/>
                  </a:path>
                </a:pathLst>
              </a:custGeom>
              <a:solidFill>
                <a:srgbClr val="29ace4"/>
              </a:solidFill>
              <a:ln w="25560">
                <a:solidFill>
                  <a:srgbClr val="29ac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矩形 3"/>
          <p:cNvSpPr/>
          <p:nvPr/>
        </p:nvSpPr>
        <p:spPr>
          <a:xfrm>
            <a:off x="0" y="0"/>
            <a:ext cx="4932360" cy="6885000"/>
          </a:xfrm>
          <a:prstGeom prst="rect">
            <a:avLst/>
          </a:prstGeom>
          <a:solidFill>
            <a:srgbClr val="29a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918440" y="301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收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7392960" y="4106880"/>
            <a:ext cx="541440" cy="62064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7972560" y="4176720"/>
            <a:ext cx="269640" cy="309600"/>
          </a:xfrm>
          <a:custGeom>
            <a:avLst/>
            <a:gdLst/>
            <a:ahLst/>
            <a:rect l="l" t="t" r="r" b="b"/>
            <a:pathLst>
              <a:path w="5127075" h="5893800">
                <a:moveTo>
                  <a:pt x="67280" y="77"/>
                </a:moveTo>
                <a:cubicBezTo>
                  <a:pt x="304883" y="-5665"/>
                  <a:pt x="1110161" y="306957"/>
                  <a:pt x="1463897" y="511980"/>
                </a:cubicBezTo>
                <a:cubicBezTo>
                  <a:pt x="1775449" y="692554"/>
                  <a:pt x="2216931" y="1067983"/>
                  <a:pt x="2373976" y="1286188"/>
                </a:cubicBezTo>
                <a:cubicBezTo>
                  <a:pt x="2386275" y="1283637"/>
                  <a:pt x="2399014" y="1282350"/>
                  <a:pt x="2412053" y="1282350"/>
                </a:cubicBezTo>
                <a:cubicBezTo>
                  <a:pt x="2506744" y="1282350"/>
                  <a:pt x="2585586" y="1350209"/>
                  <a:pt x="2602343" y="1439998"/>
                </a:cubicBezTo>
                <a:cubicBezTo>
                  <a:pt x="2830456" y="1277531"/>
                  <a:pt x="3337255" y="1003847"/>
                  <a:pt x="3626992" y="886050"/>
                </a:cubicBezTo>
                <a:cubicBezTo>
                  <a:pt x="4005743" y="732063"/>
                  <a:pt x="4824597" y="465580"/>
                  <a:pt x="5061558" y="483845"/>
                </a:cubicBezTo>
                <a:cubicBezTo>
                  <a:pt x="5095410" y="486455"/>
                  <a:pt x="5117386" y="494875"/>
                  <a:pt x="5124507" y="510265"/>
                </a:cubicBezTo>
                <a:cubicBezTo>
                  <a:pt x="5181477" y="633384"/>
                  <a:pt x="4276241" y="1189417"/>
                  <a:pt x="3843383" y="1365402"/>
                </a:cubicBezTo>
                <a:cubicBezTo>
                  <a:pt x="3451659" y="1524662"/>
                  <a:pt x="2737803" y="1660927"/>
                  <a:pt x="2563936" y="1592851"/>
                </a:cubicBezTo>
                <a:cubicBezTo>
                  <a:pt x="2533460" y="1636394"/>
                  <a:pt x="2484096" y="1664608"/>
                  <a:pt x="2427953" y="1668645"/>
                </a:cubicBezTo>
                <a:cubicBezTo>
                  <a:pt x="2528792" y="3691893"/>
                  <a:pt x="2643014" y="5046701"/>
                  <a:pt x="2625417" y="5733074"/>
                </a:cubicBezTo>
                <a:lnTo>
                  <a:pt x="2787869" y="5893800"/>
                </a:lnTo>
                <a:lnTo>
                  <a:pt x="2139797" y="5893799"/>
                </a:lnTo>
                <a:lnTo>
                  <a:pt x="2297864" y="5733074"/>
                </a:lnTo>
                <a:lnTo>
                  <a:pt x="2414943" y="1669957"/>
                </a:lnTo>
                <a:cubicBezTo>
                  <a:pt x="2413984" y="1670241"/>
                  <a:pt x="2413019" y="1670248"/>
                  <a:pt x="2412053" y="1670248"/>
                </a:cubicBezTo>
                <a:cubicBezTo>
                  <a:pt x="2398492" y="1670248"/>
                  <a:pt x="2385257" y="1668856"/>
                  <a:pt x="2372491" y="1666160"/>
                </a:cubicBezTo>
                <a:cubicBezTo>
                  <a:pt x="2335563" y="1863856"/>
                  <a:pt x="2026532" y="2512574"/>
                  <a:pt x="1832845" y="2819843"/>
                </a:cubicBezTo>
                <a:cubicBezTo>
                  <a:pt x="1583676" y="3215130"/>
                  <a:pt x="953043" y="4064842"/>
                  <a:pt x="834992" y="3998000"/>
                </a:cubicBezTo>
                <a:cubicBezTo>
                  <a:pt x="716941" y="3931159"/>
                  <a:pt x="1128458" y="2951731"/>
                  <a:pt x="1377627" y="2556444"/>
                </a:cubicBezTo>
                <a:cubicBezTo>
                  <a:pt x="1605837" y="2194405"/>
                  <a:pt x="2115895" y="1659200"/>
                  <a:pt x="2291036" y="1624314"/>
                </a:cubicBezTo>
                <a:cubicBezTo>
                  <a:pt x="2245834" y="1590886"/>
                  <a:pt x="2218104" y="1536831"/>
                  <a:pt x="2218104" y="1476299"/>
                </a:cubicBezTo>
                <a:cubicBezTo>
                  <a:pt x="2218104" y="1459860"/>
                  <a:pt x="2220150" y="1443898"/>
                  <a:pt x="2224650" y="1428819"/>
                </a:cubicBezTo>
                <a:cubicBezTo>
                  <a:pt x="1944204" y="1334945"/>
                  <a:pt x="1469707" y="1122795"/>
                  <a:pt x="1217590" y="976669"/>
                </a:cubicBezTo>
                <a:cubicBezTo>
                  <a:pt x="813320" y="742357"/>
                  <a:pt x="-59232" y="143723"/>
                  <a:pt x="3178" y="23271"/>
                </a:cubicBezTo>
                <a:cubicBezTo>
                  <a:pt x="10979" y="8214"/>
                  <a:pt x="33337" y="897"/>
                  <a:pt x="67280" y="77"/>
                </a:cubicBezTo>
                <a:close/>
              </a:path>
            </a:pathLst>
          </a:custGeom>
          <a:solidFill>
            <a:srgbClr val="29ace4"/>
          </a:solidFill>
          <a:ln w="25560">
            <a:solidFill>
              <a:srgbClr val="29ac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52"/>
          <p:cNvGrpSpPr/>
          <p:nvPr/>
        </p:nvGrpSpPr>
        <p:grpSpPr>
          <a:xfrm>
            <a:off x="4948200" y="879480"/>
            <a:ext cx="1041480" cy="957240"/>
            <a:chOff x="4948200" y="879480"/>
            <a:chExt cx="1041480" cy="957240"/>
          </a:xfrm>
        </p:grpSpPr>
        <p:sp>
          <p:nvSpPr>
            <p:cNvPr id="176" name="椭圆 38"/>
            <p:cNvSpPr/>
            <p:nvPr/>
          </p:nvSpPr>
          <p:spPr>
            <a:xfrm>
              <a:off x="5300640" y="1208160"/>
              <a:ext cx="288720" cy="290520"/>
            </a:xfrm>
            <a:prstGeom prst="ellipse">
              <a:avLst/>
            </a:prstGeom>
            <a:solidFill>
              <a:srgbClr val="29ace4"/>
            </a:solidFill>
            <a:ln w="255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39"/>
            <p:cNvSpPr/>
            <p:nvPr/>
          </p:nvSpPr>
          <p:spPr>
            <a:xfrm>
              <a:off x="4981320" y="1087200"/>
              <a:ext cx="277920" cy="1666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40"/>
            <p:cNvSpPr/>
            <p:nvPr/>
          </p:nvSpPr>
          <p:spPr>
            <a:xfrm flipV="1">
              <a:off x="4948200" y="1414080"/>
              <a:ext cx="30492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41"/>
            <p:cNvSpPr/>
            <p:nvPr/>
          </p:nvSpPr>
          <p:spPr>
            <a:xfrm>
              <a:off x="5613480" y="1498680"/>
              <a:ext cx="277920" cy="16488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42"/>
            <p:cNvSpPr/>
            <p:nvPr/>
          </p:nvSpPr>
          <p:spPr>
            <a:xfrm flipV="1">
              <a:off x="5666040" y="1287000"/>
              <a:ext cx="323640" cy="507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3"/>
            <p:cNvSpPr/>
            <p:nvPr/>
          </p:nvSpPr>
          <p:spPr>
            <a:xfrm>
              <a:off x="5370480" y="87948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4"/>
            <p:cNvSpPr/>
            <p:nvPr/>
          </p:nvSpPr>
          <p:spPr>
            <a:xfrm>
              <a:off x="5464080" y="1559160"/>
              <a:ext cx="39600" cy="2775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45"/>
            <p:cNvSpPr/>
            <p:nvPr/>
          </p:nvSpPr>
          <p:spPr>
            <a:xfrm flipH="1">
              <a:off x="5109840" y="1532160"/>
              <a:ext cx="188640" cy="22536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6"/>
            <p:cNvSpPr/>
            <p:nvPr/>
          </p:nvSpPr>
          <p:spPr>
            <a:xfrm flipH="1">
              <a:off x="5589720" y="974520"/>
              <a:ext cx="188640" cy="226800"/>
            </a:xfrm>
            <a:prstGeom prst="line">
              <a:avLst/>
            </a:prstGeom>
            <a:ln w="38160">
              <a:solidFill>
                <a:srgbClr val="29a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09:09Z</dcterms:modified>
  <cp:revision>10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