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31F9-9DDD-477D-B6EA-A6266D9F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4B57-8EEF-4CE3-B6DB-AA403179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55C9-32BF-44BC-BC7A-5373CF91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5031-ED5D-4B6E-86B6-D24E6E8E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2266-7521-4F58-812B-17ABD709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670A-F174-41D5-9C35-CD3380A5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3A1A-B622-484F-B193-FD5B1EB3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F154-6142-48FA-96D6-39D7E7DE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212A-7257-47BA-8991-95D3C3B0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426C-606F-4DFD-852B-EF7442E5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D160-51E1-4B22-A66E-43235B98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23F2-C194-4A93-8DCC-FE8C4841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6DAE-6616-40C7-BCB4-C0A848069E5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57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457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1038-E321-4C64-B105-4C1B918B36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hyperlink" Target="http://www.eeppt.com/dongtai/" TargetMode="External"/><Relationship Id="rId1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06"/>
          <p:cNvSpPr/>
          <p:nvPr/>
        </p:nvSpPr>
        <p:spPr>
          <a:xfrm>
            <a:off x="982800" y="2217600"/>
            <a:ext cx="7399080" cy="2422800"/>
          </a:xfrm>
          <a:prstGeom prst="rect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107"/>
          <p:cNvSpPr/>
          <p:nvPr/>
        </p:nvSpPr>
        <p:spPr>
          <a:xfrm>
            <a:off x="2286000" y="3013200"/>
            <a:ext cx="501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lide shop  4-5</a:t>
            </a:r>
            <a:r>
              <a:rPr b="1" lang="zh-CN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月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2068560" y="884160"/>
            <a:ext cx="54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多精选国外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图表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reeform 117"/>
          <p:cNvSpPr/>
          <p:nvPr/>
        </p:nvSpPr>
        <p:spPr>
          <a:xfrm>
            <a:off x="6496200" y="4848120"/>
            <a:ext cx="1695240" cy="1001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Chord 122"/>
          <p:cNvSpPr/>
          <p:nvPr/>
        </p:nvSpPr>
        <p:spPr>
          <a:xfrm rot="17989200">
            <a:off x="6196680" y="4727880"/>
            <a:ext cx="611280" cy="650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Rektangel 42"/>
          <p:cNvSpPr/>
          <p:nvPr/>
        </p:nvSpPr>
        <p:spPr>
          <a:xfrm flipV="1" rot="10800000">
            <a:off x="0" y="-1080"/>
            <a:ext cx="9144000" cy="472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ie 94"/>
          <p:cNvSpPr/>
          <p:nvPr/>
        </p:nvSpPr>
        <p:spPr>
          <a:xfrm rot="6763800">
            <a:off x="1526760" y="668160"/>
            <a:ext cx="5618520" cy="5618160"/>
          </a:xfrm>
          <a:prstGeom prst="pie">
            <a:avLst/>
          </a:prstGeom>
          <a:solidFill>
            <a:srgbClr val="90e93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Box 43"/>
          <p:cNvSpPr/>
          <p:nvPr/>
        </p:nvSpPr>
        <p:spPr>
          <a:xfrm>
            <a:off x="2781360" y="444600"/>
            <a:ext cx="133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Cumulative co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Box 44"/>
          <p:cNvSpPr/>
          <p:nvPr/>
        </p:nvSpPr>
        <p:spPr>
          <a:xfrm>
            <a:off x="482760" y="3289320"/>
            <a:ext cx="85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Box 45"/>
          <p:cNvSpPr/>
          <p:nvPr/>
        </p:nvSpPr>
        <p:spPr>
          <a:xfrm>
            <a:off x="965160" y="2514600"/>
            <a:ext cx="1193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Commitment par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46"/>
          <p:cNvSpPr/>
          <p:nvPr/>
        </p:nvSpPr>
        <p:spPr>
          <a:xfrm>
            <a:off x="4610160" y="444600"/>
            <a:ext cx="1193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Progress through ste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Chord 79"/>
          <p:cNvSpPr/>
          <p:nvPr/>
        </p:nvSpPr>
        <p:spPr>
          <a:xfrm rot="10800000">
            <a:off x="1562040" y="940680"/>
            <a:ext cx="5587920" cy="5054760"/>
          </a:xfrm>
          <a:prstGeom prst="pie">
            <a:avLst/>
          </a:prstGeom>
          <a:solidFill>
            <a:srgbClr val="0000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Chord 81"/>
          <p:cNvSpPr/>
          <p:nvPr/>
        </p:nvSpPr>
        <p:spPr>
          <a:xfrm>
            <a:off x="2171880" y="939960"/>
            <a:ext cx="4292280" cy="4394160"/>
          </a:xfrm>
          <a:prstGeom prst="pie">
            <a:avLst/>
          </a:prstGeom>
          <a:solidFill>
            <a:srgbClr val="0000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Quad Arrow 16"/>
          <p:cNvSpPr/>
          <p:nvPr/>
        </p:nvSpPr>
        <p:spPr>
          <a:xfrm>
            <a:off x="1155600" y="482760"/>
            <a:ext cx="6362640" cy="5945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Box 11"/>
          <p:cNvSpPr/>
          <p:nvPr/>
        </p:nvSpPr>
        <p:spPr>
          <a:xfrm>
            <a:off x="4368960" y="548640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Implem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12"/>
          <p:cNvSpPr/>
          <p:nvPr/>
        </p:nvSpPr>
        <p:spPr>
          <a:xfrm>
            <a:off x="5308560" y="5232240"/>
            <a:ext cx="46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T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Box 13"/>
          <p:cNvSpPr/>
          <p:nvPr/>
        </p:nvSpPr>
        <p:spPr>
          <a:xfrm>
            <a:off x="5562720" y="4991040"/>
            <a:ext cx="97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Integ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14"/>
          <p:cNvSpPr/>
          <p:nvPr/>
        </p:nvSpPr>
        <p:spPr>
          <a:xfrm>
            <a:off x="6273720" y="4394160"/>
            <a:ext cx="49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15"/>
          <p:cNvSpPr/>
          <p:nvPr/>
        </p:nvSpPr>
        <p:spPr>
          <a:xfrm>
            <a:off x="6388200" y="3924360"/>
            <a:ext cx="69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Detaile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17"/>
          <p:cNvSpPr/>
          <p:nvPr/>
        </p:nvSpPr>
        <p:spPr>
          <a:xfrm>
            <a:off x="6032520" y="2235240"/>
            <a:ext cx="97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Risk analysi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18"/>
          <p:cNvSpPr/>
          <p:nvPr/>
        </p:nvSpPr>
        <p:spPr>
          <a:xfrm>
            <a:off x="6350040" y="2895480"/>
            <a:ext cx="97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Operational Prototyp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19"/>
          <p:cNvSpPr/>
          <p:nvPr/>
        </p:nvSpPr>
        <p:spPr>
          <a:xfrm>
            <a:off x="5638680" y="3073320"/>
            <a:ext cx="88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Prototype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20"/>
          <p:cNvSpPr/>
          <p:nvPr/>
        </p:nvSpPr>
        <p:spPr>
          <a:xfrm>
            <a:off x="5003640" y="317484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alibri"/>
                <a:ea typeface="MS PGothic"/>
              </a:rPr>
              <a:t>Prototyp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21"/>
          <p:cNvSpPr/>
          <p:nvPr/>
        </p:nvSpPr>
        <p:spPr>
          <a:xfrm>
            <a:off x="5346720" y="2502000"/>
            <a:ext cx="97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Risk analysi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Box 22"/>
          <p:cNvSpPr/>
          <p:nvPr/>
        </p:nvSpPr>
        <p:spPr>
          <a:xfrm>
            <a:off x="4711680" y="2743200"/>
            <a:ext cx="97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Risk analysi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23"/>
          <p:cNvSpPr/>
          <p:nvPr/>
        </p:nvSpPr>
        <p:spPr>
          <a:xfrm>
            <a:off x="4737240" y="3814920"/>
            <a:ext cx="102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Requiremen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Box 24"/>
          <p:cNvSpPr/>
          <p:nvPr/>
        </p:nvSpPr>
        <p:spPr>
          <a:xfrm>
            <a:off x="5791320" y="347508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Model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Box 25"/>
          <p:cNvSpPr/>
          <p:nvPr/>
        </p:nvSpPr>
        <p:spPr>
          <a:xfrm>
            <a:off x="4292640" y="3505320"/>
            <a:ext cx="825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  <a:ea typeface="MS PGothic"/>
              </a:rPr>
              <a:t>Concepts of require-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  <a:ea typeface="MS PGothic"/>
              </a:rPr>
              <a:t>ment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26"/>
          <p:cNvSpPr/>
          <p:nvPr/>
        </p:nvSpPr>
        <p:spPr>
          <a:xfrm>
            <a:off x="3805200" y="3436920"/>
            <a:ext cx="576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  <a:ea typeface="MS PGothic"/>
              </a:rPr>
              <a:t>Rqts Pla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  <a:ea typeface="MS PGothic"/>
              </a:rPr>
              <a:t>Life cycle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  <a:ea typeface="MS PGothic"/>
              </a:rPr>
              <a:t>pla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28"/>
          <p:cNvSpPr/>
          <p:nvPr/>
        </p:nvSpPr>
        <p:spPr>
          <a:xfrm>
            <a:off x="3459240" y="3995640"/>
            <a:ext cx="1023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Development pla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29"/>
          <p:cNvSpPr/>
          <p:nvPr/>
        </p:nvSpPr>
        <p:spPr>
          <a:xfrm>
            <a:off x="3332160" y="4686480"/>
            <a:ext cx="1201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Integration and test pla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36"/>
          <p:cNvSpPr/>
          <p:nvPr/>
        </p:nvSpPr>
        <p:spPr>
          <a:xfrm>
            <a:off x="4351320" y="2908440"/>
            <a:ext cx="51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  <a:ea typeface="MS PGothic"/>
              </a:rPr>
              <a:t>Risk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  <a:ea typeface="MS PGothic"/>
              </a:rPr>
              <a:t>analysi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37"/>
          <p:cNvSpPr/>
          <p:nvPr/>
        </p:nvSpPr>
        <p:spPr>
          <a:xfrm>
            <a:off x="6367320" y="3543480"/>
            <a:ext cx="97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Benchmark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Box 38"/>
          <p:cNvSpPr/>
          <p:nvPr/>
        </p:nvSpPr>
        <p:spPr>
          <a:xfrm rot="289800">
            <a:off x="4991040" y="3413160"/>
            <a:ext cx="82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Emulat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39"/>
          <p:cNvSpPr/>
          <p:nvPr/>
        </p:nvSpPr>
        <p:spPr>
          <a:xfrm>
            <a:off x="4348080" y="4008600"/>
            <a:ext cx="100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Requiremen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valid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40"/>
          <p:cNvSpPr/>
          <p:nvPr/>
        </p:nvSpPr>
        <p:spPr>
          <a:xfrm>
            <a:off x="4381560" y="4686480"/>
            <a:ext cx="138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Design valid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And verific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41"/>
          <p:cNvSpPr/>
          <p:nvPr/>
        </p:nvSpPr>
        <p:spPr>
          <a:xfrm>
            <a:off x="5676840" y="3840120"/>
            <a:ext cx="67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Product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42"/>
          <p:cNvSpPr/>
          <p:nvPr/>
        </p:nvSpPr>
        <p:spPr>
          <a:xfrm>
            <a:off x="5964120" y="4711680"/>
            <a:ext cx="97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Unit t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Circular Arrow 48"/>
          <p:cNvSpPr/>
          <p:nvPr/>
        </p:nvSpPr>
        <p:spPr>
          <a:xfrm>
            <a:off x="1041480" y="2933640"/>
            <a:ext cx="1104840" cy="11048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Circular Arrow 49"/>
          <p:cNvSpPr/>
          <p:nvPr/>
        </p:nvSpPr>
        <p:spPr>
          <a:xfrm rot="20694000">
            <a:off x="3946680" y="756720"/>
            <a:ext cx="715680" cy="482760"/>
          </a:xfrm>
          <a:prstGeom prst="pie">
            <a:avLst/>
          </a:prstGeom>
          <a:solidFill>
            <a:srgbClr val="7f7f7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Block Arc 88"/>
          <p:cNvSpPr/>
          <p:nvPr/>
        </p:nvSpPr>
        <p:spPr>
          <a:xfrm rot="5400000">
            <a:off x="2521080" y="1428480"/>
            <a:ext cx="3695760" cy="4114800"/>
          </a:xfrm>
          <a:prstGeom prst="pie">
            <a:avLst/>
          </a:prstGeom>
          <a:noFill/>
          <a:ln w="9360">
            <a:solidFill>
              <a:srgbClr val="ffffff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Block Arc 89"/>
          <p:cNvSpPr/>
          <p:nvPr/>
        </p:nvSpPr>
        <p:spPr>
          <a:xfrm rot="16200000">
            <a:off x="2800440" y="1720440"/>
            <a:ext cx="3035160" cy="2870280"/>
          </a:xfrm>
          <a:prstGeom prst="pie">
            <a:avLst/>
          </a:prstGeom>
          <a:noFill/>
          <a:ln w="9360">
            <a:solidFill>
              <a:srgbClr val="ffffff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Block Arc 91"/>
          <p:cNvSpPr/>
          <p:nvPr/>
        </p:nvSpPr>
        <p:spPr>
          <a:xfrm rot="5400000">
            <a:off x="3202200" y="2161080"/>
            <a:ext cx="2387520" cy="2637000"/>
          </a:xfrm>
          <a:prstGeom prst="pie">
            <a:avLst/>
          </a:prstGeom>
          <a:noFill/>
          <a:ln w="9360">
            <a:solidFill>
              <a:srgbClr val="ffffff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Block Arc 92"/>
          <p:cNvSpPr/>
          <p:nvPr/>
        </p:nvSpPr>
        <p:spPr>
          <a:xfrm rot="16200000">
            <a:off x="3489120" y="2301840"/>
            <a:ext cx="1733760" cy="1727280"/>
          </a:xfrm>
          <a:prstGeom prst="pie">
            <a:avLst/>
          </a:prstGeom>
          <a:noFill/>
          <a:ln w="9360">
            <a:solidFill>
              <a:srgbClr val="ffffff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Block Arc 93"/>
          <p:cNvSpPr/>
          <p:nvPr/>
        </p:nvSpPr>
        <p:spPr>
          <a:xfrm rot="5400000">
            <a:off x="3766320" y="2750040"/>
            <a:ext cx="1222200" cy="1354320"/>
          </a:xfrm>
          <a:prstGeom prst="pie">
            <a:avLst/>
          </a:prstGeom>
          <a:noFill/>
          <a:ln w="9360">
            <a:solidFill>
              <a:srgbClr val="ffffff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54"/>
          <p:cNvSpPr/>
          <p:nvPr/>
        </p:nvSpPr>
        <p:spPr>
          <a:xfrm>
            <a:off x="314280" y="378000"/>
            <a:ext cx="5641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Calibri"/>
                <a:ea typeface="MS PGothic"/>
              </a:rPr>
              <a:t>SPIRAL CHAR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874800" y="6264360"/>
            <a:ext cx="1538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S PGothic"/>
              </a:rPr>
              <a:t>Your own foot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6767640" y="6264360"/>
            <a:ext cx="1538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S PGothic"/>
              </a:rPr>
              <a:t>Your Log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TextBox 98"/>
          <p:cNvSpPr/>
          <p:nvPr/>
        </p:nvSpPr>
        <p:spPr>
          <a:xfrm>
            <a:off x="6689880" y="5124600"/>
            <a:ext cx="143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3. Development and T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Freeform 104"/>
          <p:cNvSpPr/>
          <p:nvPr/>
        </p:nvSpPr>
        <p:spPr>
          <a:xfrm>
            <a:off x="6496200" y="1063800"/>
            <a:ext cx="1695240" cy="1001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Chord 105"/>
          <p:cNvSpPr/>
          <p:nvPr/>
        </p:nvSpPr>
        <p:spPr>
          <a:xfrm rot="17989200">
            <a:off x="6196680" y="943200"/>
            <a:ext cx="610920" cy="650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TextBox 111"/>
          <p:cNvSpPr/>
          <p:nvPr/>
        </p:nvSpPr>
        <p:spPr>
          <a:xfrm>
            <a:off x="6626160" y="1314360"/>
            <a:ext cx="143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2. Identify and resolve risk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Freeform 128"/>
          <p:cNvSpPr/>
          <p:nvPr/>
        </p:nvSpPr>
        <p:spPr>
          <a:xfrm>
            <a:off x="882720" y="4848120"/>
            <a:ext cx="1695240" cy="1001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Chord 129"/>
          <p:cNvSpPr/>
          <p:nvPr/>
        </p:nvSpPr>
        <p:spPr>
          <a:xfrm rot="17989200">
            <a:off x="583200" y="4727880"/>
            <a:ext cx="611280" cy="650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130"/>
          <p:cNvSpPr/>
          <p:nvPr/>
        </p:nvSpPr>
        <p:spPr>
          <a:xfrm>
            <a:off x="1038240" y="5124600"/>
            <a:ext cx="143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4. Plan the next ite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Freeform 132"/>
          <p:cNvSpPr/>
          <p:nvPr/>
        </p:nvSpPr>
        <p:spPr>
          <a:xfrm>
            <a:off x="882720" y="1063800"/>
            <a:ext cx="1695240" cy="1001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Chord 133"/>
          <p:cNvSpPr/>
          <p:nvPr/>
        </p:nvSpPr>
        <p:spPr>
          <a:xfrm rot="17989200">
            <a:off x="583200" y="943200"/>
            <a:ext cx="610920" cy="650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Box 102"/>
          <p:cNvSpPr/>
          <p:nvPr/>
        </p:nvSpPr>
        <p:spPr>
          <a:xfrm>
            <a:off x="1012680" y="1314360"/>
            <a:ext cx="143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1.Determ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objective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23"/>
          <p:cNvSpPr/>
          <p:nvPr/>
        </p:nvSpPr>
        <p:spPr>
          <a:xfrm>
            <a:off x="0" y="2604960"/>
            <a:ext cx="9144000" cy="21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Ellipse 98"/>
          <p:cNvSpPr/>
          <p:nvPr/>
        </p:nvSpPr>
        <p:spPr>
          <a:xfrm>
            <a:off x="609480" y="3424320"/>
            <a:ext cx="2059200" cy="325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Ellipse 98"/>
          <p:cNvSpPr/>
          <p:nvPr/>
        </p:nvSpPr>
        <p:spPr>
          <a:xfrm>
            <a:off x="1905120" y="3424320"/>
            <a:ext cx="2058840" cy="325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Ellipse 98"/>
          <p:cNvSpPr/>
          <p:nvPr/>
        </p:nvSpPr>
        <p:spPr>
          <a:xfrm>
            <a:off x="3200400" y="3424320"/>
            <a:ext cx="2058840" cy="325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Ellipse 98"/>
          <p:cNvSpPr/>
          <p:nvPr/>
        </p:nvSpPr>
        <p:spPr>
          <a:xfrm>
            <a:off x="4572000" y="3424320"/>
            <a:ext cx="2058840" cy="325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Ellipse 98"/>
          <p:cNvSpPr/>
          <p:nvPr/>
        </p:nvSpPr>
        <p:spPr>
          <a:xfrm>
            <a:off x="5867280" y="3424320"/>
            <a:ext cx="2059200" cy="325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Left-Right Arrow Callout 3"/>
          <p:cNvSpPr/>
          <p:nvPr/>
        </p:nvSpPr>
        <p:spPr>
          <a:xfrm rot="5400000">
            <a:off x="645840" y="1965240"/>
            <a:ext cx="1984680" cy="1257120"/>
          </a:xfrm>
          <a:custGeom>
            <a:avLst/>
            <a:gdLst>
              <a:gd name="textAreaLeft" fmla="*/ 655560 w 1984680"/>
              <a:gd name="textAreaRight" fmla="*/ 1329120 w 1984680"/>
              <a:gd name="textAreaTop" fmla="*/ 0 h 1257120"/>
              <a:gd name="textAreaBottom" fmla="*/ 1257480 h 1257120"/>
            </a:gdLst>
            <a:ahLst/>
            <a:rect l="textAreaLeft" t="textAreaTop" r="textAreaRight" b="textAreaBottom"/>
            <a:pathLst>
              <a:path w="21600" h="21600">
                <a:moveTo>
                  <a:pt x="7136" y="0"/>
                </a:moveTo>
                <a:lnTo>
                  <a:pt x="14464" y="0"/>
                </a:lnTo>
                <a:lnTo>
                  <a:pt x="14464" y="8100"/>
                </a:lnTo>
                <a:lnTo>
                  <a:pt x="16285" y="8100"/>
                </a:lnTo>
                <a:lnTo>
                  <a:pt x="16285" y="5400"/>
                </a:lnTo>
                <a:lnTo>
                  <a:pt x="21600" y="10800"/>
                </a:lnTo>
                <a:lnTo>
                  <a:pt x="16285" y="16200"/>
                </a:lnTo>
                <a:lnTo>
                  <a:pt x="16285" y="13500"/>
                </a:lnTo>
                <a:lnTo>
                  <a:pt x="14464" y="13500"/>
                </a:lnTo>
                <a:lnTo>
                  <a:pt x="14464" y="21600"/>
                </a:lnTo>
                <a:lnTo>
                  <a:pt x="7136" y="21600"/>
                </a:lnTo>
                <a:lnTo>
                  <a:pt x="7136" y="13500"/>
                </a:lnTo>
                <a:lnTo>
                  <a:pt x="5315" y="13500"/>
                </a:lnTo>
                <a:lnTo>
                  <a:pt x="5315" y="16200"/>
                </a:lnTo>
                <a:lnTo>
                  <a:pt x="0" y="10800"/>
                </a:lnTo>
                <a:lnTo>
                  <a:pt x="5315" y="5400"/>
                </a:lnTo>
                <a:lnTo>
                  <a:pt x="5315" y="8100"/>
                </a:lnTo>
                <a:lnTo>
                  <a:pt x="7136" y="8100"/>
                </a:lnTo>
                <a:close/>
              </a:path>
            </a:pathLst>
          </a:cu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Left-Right Arrow Callout 4"/>
          <p:cNvSpPr/>
          <p:nvPr/>
        </p:nvSpPr>
        <p:spPr>
          <a:xfrm rot="5400000">
            <a:off x="1964880" y="1965240"/>
            <a:ext cx="1984680" cy="1257480"/>
          </a:xfrm>
          <a:custGeom>
            <a:avLst/>
            <a:gdLst>
              <a:gd name="textAreaLeft" fmla="*/ 655560 w 1984680"/>
              <a:gd name="textAreaRight" fmla="*/ 1329120 w 198468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21600" h="21600">
                <a:moveTo>
                  <a:pt x="7136" y="0"/>
                </a:moveTo>
                <a:lnTo>
                  <a:pt x="14464" y="0"/>
                </a:lnTo>
                <a:lnTo>
                  <a:pt x="14464" y="8100"/>
                </a:lnTo>
                <a:lnTo>
                  <a:pt x="16285" y="8100"/>
                </a:lnTo>
                <a:lnTo>
                  <a:pt x="16285" y="5400"/>
                </a:lnTo>
                <a:lnTo>
                  <a:pt x="21600" y="10800"/>
                </a:lnTo>
                <a:lnTo>
                  <a:pt x="16285" y="16200"/>
                </a:lnTo>
                <a:lnTo>
                  <a:pt x="16285" y="13500"/>
                </a:lnTo>
                <a:lnTo>
                  <a:pt x="14464" y="13500"/>
                </a:lnTo>
                <a:lnTo>
                  <a:pt x="14464" y="21600"/>
                </a:lnTo>
                <a:lnTo>
                  <a:pt x="7136" y="21600"/>
                </a:lnTo>
                <a:lnTo>
                  <a:pt x="7136" y="13500"/>
                </a:lnTo>
                <a:lnTo>
                  <a:pt x="5315" y="13500"/>
                </a:lnTo>
                <a:lnTo>
                  <a:pt x="5315" y="16200"/>
                </a:lnTo>
                <a:lnTo>
                  <a:pt x="0" y="10800"/>
                </a:lnTo>
                <a:lnTo>
                  <a:pt x="5315" y="5400"/>
                </a:lnTo>
                <a:lnTo>
                  <a:pt x="5315" y="8100"/>
                </a:lnTo>
                <a:lnTo>
                  <a:pt x="7136" y="8100"/>
                </a:lnTo>
                <a:close/>
              </a:path>
            </a:pathLst>
          </a:cu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Left-Right Arrow Callout 5"/>
          <p:cNvSpPr/>
          <p:nvPr/>
        </p:nvSpPr>
        <p:spPr>
          <a:xfrm rot="5400000">
            <a:off x="3284280" y="1965240"/>
            <a:ext cx="1984680" cy="1257120"/>
          </a:xfrm>
          <a:custGeom>
            <a:avLst/>
            <a:gdLst>
              <a:gd name="textAreaLeft" fmla="*/ 655560 w 1984680"/>
              <a:gd name="textAreaRight" fmla="*/ 1329120 w 1984680"/>
              <a:gd name="textAreaTop" fmla="*/ 0 h 1257120"/>
              <a:gd name="textAreaBottom" fmla="*/ 1257480 h 1257120"/>
            </a:gdLst>
            <a:ahLst/>
            <a:rect l="textAreaLeft" t="textAreaTop" r="textAreaRight" b="textAreaBottom"/>
            <a:pathLst>
              <a:path w="21600" h="21600">
                <a:moveTo>
                  <a:pt x="7136" y="0"/>
                </a:moveTo>
                <a:lnTo>
                  <a:pt x="14464" y="0"/>
                </a:lnTo>
                <a:lnTo>
                  <a:pt x="14464" y="8100"/>
                </a:lnTo>
                <a:lnTo>
                  <a:pt x="16285" y="8100"/>
                </a:lnTo>
                <a:lnTo>
                  <a:pt x="16285" y="5400"/>
                </a:lnTo>
                <a:lnTo>
                  <a:pt x="21600" y="10800"/>
                </a:lnTo>
                <a:lnTo>
                  <a:pt x="16285" y="16200"/>
                </a:lnTo>
                <a:lnTo>
                  <a:pt x="16285" y="13500"/>
                </a:lnTo>
                <a:lnTo>
                  <a:pt x="14464" y="13500"/>
                </a:lnTo>
                <a:lnTo>
                  <a:pt x="14464" y="21600"/>
                </a:lnTo>
                <a:lnTo>
                  <a:pt x="7136" y="21600"/>
                </a:lnTo>
                <a:lnTo>
                  <a:pt x="7136" y="13500"/>
                </a:lnTo>
                <a:lnTo>
                  <a:pt x="5315" y="13500"/>
                </a:lnTo>
                <a:lnTo>
                  <a:pt x="5315" y="16200"/>
                </a:lnTo>
                <a:lnTo>
                  <a:pt x="0" y="10800"/>
                </a:lnTo>
                <a:lnTo>
                  <a:pt x="5315" y="5400"/>
                </a:lnTo>
                <a:lnTo>
                  <a:pt x="5315" y="8100"/>
                </a:lnTo>
                <a:lnTo>
                  <a:pt x="7136" y="8100"/>
                </a:lnTo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Left-Right Arrow Callout 6"/>
          <p:cNvSpPr/>
          <p:nvPr/>
        </p:nvSpPr>
        <p:spPr>
          <a:xfrm rot="5400000">
            <a:off x="4603320" y="1965240"/>
            <a:ext cx="1984680" cy="1257480"/>
          </a:xfrm>
          <a:custGeom>
            <a:avLst/>
            <a:gdLst>
              <a:gd name="textAreaLeft" fmla="*/ 655560 w 1984680"/>
              <a:gd name="textAreaRight" fmla="*/ 1329120 w 198468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21600" h="21600">
                <a:moveTo>
                  <a:pt x="7136" y="0"/>
                </a:moveTo>
                <a:lnTo>
                  <a:pt x="14464" y="0"/>
                </a:lnTo>
                <a:lnTo>
                  <a:pt x="14464" y="8100"/>
                </a:lnTo>
                <a:lnTo>
                  <a:pt x="16285" y="8100"/>
                </a:lnTo>
                <a:lnTo>
                  <a:pt x="16285" y="5400"/>
                </a:lnTo>
                <a:lnTo>
                  <a:pt x="21600" y="10800"/>
                </a:lnTo>
                <a:lnTo>
                  <a:pt x="16285" y="16200"/>
                </a:lnTo>
                <a:lnTo>
                  <a:pt x="16285" y="13500"/>
                </a:lnTo>
                <a:lnTo>
                  <a:pt x="14464" y="13500"/>
                </a:lnTo>
                <a:lnTo>
                  <a:pt x="14464" y="21600"/>
                </a:lnTo>
                <a:lnTo>
                  <a:pt x="7136" y="21600"/>
                </a:lnTo>
                <a:lnTo>
                  <a:pt x="7136" y="13500"/>
                </a:lnTo>
                <a:lnTo>
                  <a:pt x="5315" y="13500"/>
                </a:lnTo>
                <a:lnTo>
                  <a:pt x="5315" y="16200"/>
                </a:lnTo>
                <a:lnTo>
                  <a:pt x="0" y="10800"/>
                </a:lnTo>
                <a:lnTo>
                  <a:pt x="5315" y="5400"/>
                </a:lnTo>
                <a:lnTo>
                  <a:pt x="5315" y="8100"/>
                </a:lnTo>
                <a:lnTo>
                  <a:pt x="7136" y="8100"/>
                </a:lnTo>
                <a:close/>
              </a:path>
            </a:pathLst>
          </a:cu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Left-Right Arrow Callout 7"/>
          <p:cNvSpPr/>
          <p:nvPr/>
        </p:nvSpPr>
        <p:spPr>
          <a:xfrm rot="5400000">
            <a:off x="5922720" y="1965240"/>
            <a:ext cx="1984680" cy="1257120"/>
          </a:xfrm>
          <a:custGeom>
            <a:avLst/>
            <a:gdLst>
              <a:gd name="textAreaLeft" fmla="*/ 655560 w 1984680"/>
              <a:gd name="textAreaRight" fmla="*/ 1329120 w 1984680"/>
              <a:gd name="textAreaTop" fmla="*/ 0 h 1257120"/>
              <a:gd name="textAreaBottom" fmla="*/ 1257480 h 1257120"/>
            </a:gdLst>
            <a:ahLst/>
            <a:rect l="textAreaLeft" t="textAreaTop" r="textAreaRight" b="textAreaBottom"/>
            <a:pathLst>
              <a:path w="21600" h="21600">
                <a:moveTo>
                  <a:pt x="7136" y="0"/>
                </a:moveTo>
                <a:lnTo>
                  <a:pt x="14464" y="0"/>
                </a:lnTo>
                <a:lnTo>
                  <a:pt x="14464" y="8100"/>
                </a:lnTo>
                <a:lnTo>
                  <a:pt x="16285" y="8100"/>
                </a:lnTo>
                <a:lnTo>
                  <a:pt x="16285" y="5400"/>
                </a:lnTo>
                <a:lnTo>
                  <a:pt x="21600" y="10800"/>
                </a:lnTo>
                <a:lnTo>
                  <a:pt x="16285" y="16200"/>
                </a:lnTo>
                <a:lnTo>
                  <a:pt x="16285" y="13500"/>
                </a:lnTo>
                <a:lnTo>
                  <a:pt x="14464" y="13500"/>
                </a:lnTo>
                <a:lnTo>
                  <a:pt x="14464" y="21600"/>
                </a:lnTo>
                <a:lnTo>
                  <a:pt x="7136" y="21600"/>
                </a:lnTo>
                <a:lnTo>
                  <a:pt x="7136" y="13500"/>
                </a:lnTo>
                <a:lnTo>
                  <a:pt x="5315" y="13500"/>
                </a:lnTo>
                <a:lnTo>
                  <a:pt x="5315" y="16200"/>
                </a:lnTo>
                <a:lnTo>
                  <a:pt x="0" y="10800"/>
                </a:lnTo>
                <a:lnTo>
                  <a:pt x="5315" y="5400"/>
                </a:lnTo>
                <a:lnTo>
                  <a:pt x="5315" y="8100"/>
                </a:lnTo>
                <a:lnTo>
                  <a:pt x="7136" y="8100"/>
                </a:lnTo>
                <a:close/>
              </a:path>
            </a:pathLst>
          </a:cu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ktangel 76"/>
          <p:cNvSpPr/>
          <p:nvPr/>
        </p:nvSpPr>
        <p:spPr>
          <a:xfrm>
            <a:off x="990720" y="938160"/>
            <a:ext cx="121896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eplace with your own text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his is an example text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ktangel 76"/>
          <p:cNvSpPr/>
          <p:nvPr/>
        </p:nvSpPr>
        <p:spPr>
          <a:xfrm>
            <a:off x="2362320" y="938160"/>
            <a:ext cx="121896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eplace with your own text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his is an example text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Rektangel 76"/>
          <p:cNvSpPr/>
          <p:nvPr/>
        </p:nvSpPr>
        <p:spPr>
          <a:xfrm>
            <a:off x="3657600" y="938160"/>
            <a:ext cx="12193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eplace with your own text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his is an example text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Rektangel 76"/>
          <p:cNvSpPr/>
          <p:nvPr/>
        </p:nvSpPr>
        <p:spPr>
          <a:xfrm>
            <a:off x="4952880" y="938160"/>
            <a:ext cx="12193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eplace with your own text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his is an example text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Rektangel 76"/>
          <p:cNvSpPr/>
          <p:nvPr/>
        </p:nvSpPr>
        <p:spPr>
          <a:xfrm>
            <a:off x="6324480" y="938160"/>
            <a:ext cx="12193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eplace with your own text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his is an example text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ktangel 76"/>
          <p:cNvSpPr/>
          <p:nvPr/>
        </p:nvSpPr>
        <p:spPr>
          <a:xfrm>
            <a:off x="990720" y="3703680"/>
            <a:ext cx="121896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eplace with your own text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his is an example text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Rektangel 76"/>
          <p:cNvSpPr/>
          <p:nvPr/>
        </p:nvSpPr>
        <p:spPr>
          <a:xfrm>
            <a:off x="2362320" y="3703680"/>
            <a:ext cx="121896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eplace with your own text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his is an example text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Rektangel 76"/>
          <p:cNvSpPr/>
          <p:nvPr/>
        </p:nvSpPr>
        <p:spPr>
          <a:xfrm>
            <a:off x="3657600" y="3703680"/>
            <a:ext cx="12193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eplace with your own text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his is an example text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Rektangel 76"/>
          <p:cNvSpPr/>
          <p:nvPr/>
        </p:nvSpPr>
        <p:spPr>
          <a:xfrm>
            <a:off x="4952880" y="3703680"/>
            <a:ext cx="12193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eplace with your own text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his is an example text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Rektangel 76"/>
          <p:cNvSpPr/>
          <p:nvPr/>
        </p:nvSpPr>
        <p:spPr>
          <a:xfrm>
            <a:off x="6324480" y="3703680"/>
            <a:ext cx="12193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eplace with your own text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his is an example text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18"/>
          <p:cNvSpPr/>
          <p:nvPr/>
        </p:nvSpPr>
        <p:spPr>
          <a:xfrm>
            <a:off x="1009800" y="2440080"/>
            <a:ext cx="125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Exampl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19"/>
          <p:cNvSpPr/>
          <p:nvPr/>
        </p:nvSpPr>
        <p:spPr>
          <a:xfrm>
            <a:off x="2324160" y="2440080"/>
            <a:ext cx="125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Exampl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Box 20"/>
          <p:cNvSpPr/>
          <p:nvPr/>
        </p:nvSpPr>
        <p:spPr>
          <a:xfrm>
            <a:off x="3648240" y="2440080"/>
            <a:ext cx="125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Exampl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Box 21"/>
          <p:cNvSpPr/>
          <p:nvPr/>
        </p:nvSpPr>
        <p:spPr>
          <a:xfrm>
            <a:off x="4967280" y="2440080"/>
            <a:ext cx="12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Exampl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Box 22"/>
          <p:cNvSpPr/>
          <p:nvPr/>
        </p:nvSpPr>
        <p:spPr>
          <a:xfrm>
            <a:off x="6286680" y="2440080"/>
            <a:ext cx="125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Exampl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Rectangle 24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Rektangel 76"/>
          <p:cNvSpPr/>
          <p:nvPr/>
        </p:nvSpPr>
        <p:spPr>
          <a:xfrm>
            <a:off x="1112760" y="5473800"/>
            <a:ext cx="221004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Example tex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Go ahead and replace it with your own text. This is an example tex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2" name="Group 19"/>
          <p:cNvGrpSpPr/>
          <p:nvPr/>
        </p:nvGrpSpPr>
        <p:grpSpPr>
          <a:xfrm>
            <a:off x="808200" y="5562720"/>
            <a:ext cx="250560" cy="250560"/>
            <a:chOff x="808200" y="5562720"/>
            <a:chExt cx="250560" cy="250560"/>
          </a:xfrm>
        </p:grpSpPr>
        <p:sp>
          <p:nvSpPr>
            <p:cNvPr id="683" name="Oval 27"/>
            <p:cNvSpPr/>
            <p:nvPr/>
          </p:nvSpPr>
          <p:spPr>
            <a:xfrm>
              <a:off x="808200" y="5562720"/>
              <a:ext cx="250560" cy="2505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Isosceles Triangle 28"/>
            <p:cNvSpPr/>
            <p:nvPr/>
          </p:nvSpPr>
          <p:spPr>
            <a:xfrm rot="5400000">
              <a:off x="874080" y="5622840"/>
              <a:ext cx="149040" cy="129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5" name="Rektangel 76"/>
          <p:cNvSpPr/>
          <p:nvPr/>
        </p:nvSpPr>
        <p:spPr>
          <a:xfrm>
            <a:off x="3805200" y="5473800"/>
            <a:ext cx="220968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Example tex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Go ahead and replace it with your own text. This is an example tex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Group 19"/>
          <p:cNvGrpSpPr/>
          <p:nvPr/>
        </p:nvGrpSpPr>
        <p:grpSpPr>
          <a:xfrm>
            <a:off x="3500280" y="5562720"/>
            <a:ext cx="250920" cy="250560"/>
            <a:chOff x="3500280" y="5562720"/>
            <a:chExt cx="250920" cy="250560"/>
          </a:xfrm>
        </p:grpSpPr>
        <p:sp>
          <p:nvSpPr>
            <p:cNvPr id="687" name="Oval 31"/>
            <p:cNvSpPr/>
            <p:nvPr/>
          </p:nvSpPr>
          <p:spPr>
            <a:xfrm>
              <a:off x="3500280" y="5562720"/>
              <a:ext cx="250920" cy="2505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Isosceles Triangle 32"/>
            <p:cNvSpPr/>
            <p:nvPr/>
          </p:nvSpPr>
          <p:spPr>
            <a:xfrm rot="5400000">
              <a:off x="3567240" y="5622840"/>
              <a:ext cx="149040" cy="130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9" name="Rektangel 76"/>
          <p:cNvSpPr/>
          <p:nvPr/>
        </p:nvSpPr>
        <p:spPr>
          <a:xfrm>
            <a:off x="6345360" y="5473800"/>
            <a:ext cx="220968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Example tex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Go ahead and replace it with your own text. This is an example tex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0" name="Group 19"/>
          <p:cNvGrpSpPr/>
          <p:nvPr/>
        </p:nvGrpSpPr>
        <p:grpSpPr>
          <a:xfrm>
            <a:off x="6040440" y="5562720"/>
            <a:ext cx="250920" cy="250560"/>
            <a:chOff x="6040440" y="5562720"/>
            <a:chExt cx="250920" cy="250560"/>
          </a:xfrm>
        </p:grpSpPr>
        <p:sp>
          <p:nvSpPr>
            <p:cNvPr id="691" name="Oval 35"/>
            <p:cNvSpPr/>
            <p:nvPr/>
          </p:nvSpPr>
          <p:spPr>
            <a:xfrm>
              <a:off x="6040440" y="5562720"/>
              <a:ext cx="250920" cy="2505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Isosceles Triangle 36"/>
            <p:cNvSpPr/>
            <p:nvPr/>
          </p:nvSpPr>
          <p:spPr>
            <a:xfrm rot="5400000">
              <a:off x="6107400" y="5622840"/>
              <a:ext cx="149040" cy="130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3" name="Rectangle 4"/>
          <p:cNvSpPr/>
          <p:nvPr/>
        </p:nvSpPr>
        <p:spPr>
          <a:xfrm>
            <a:off x="874800" y="6264360"/>
            <a:ext cx="1538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Your own foot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4"/>
          <p:cNvSpPr/>
          <p:nvPr/>
        </p:nvSpPr>
        <p:spPr>
          <a:xfrm>
            <a:off x="6767640" y="6264360"/>
            <a:ext cx="1538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Your Log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Box 54"/>
          <p:cNvSpPr/>
          <p:nvPr/>
        </p:nvSpPr>
        <p:spPr>
          <a:xfrm>
            <a:off x="314280" y="378000"/>
            <a:ext cx="287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Calibri"/>
                <a:ea typeface="MS PGothic"/>
              </a:rPr>
              <a:t>ARROWS AND BOX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Freeform 8"/>
          <p:cNvSpPr/>
          <p:nvPr/>
        </p:nvSpPr>
        <p:spPr>
          <a:xfrm>
            <a:off x="571680" y="3062160"/>
            <a:ext cx="399960" cy="965160"/>
          </a:xfrm>
          <a:prstGeom prst="pie">
            <a:avLst/>
          </a:prstGeom>
          <a:solidFill>
            <a:srgbClr val="69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Freeform 8"/>
          <p:cNvSpPr/>
          <p:nvPr/>
        </p:nvSpPr>
        <p:spPr>
          <a:xfrm>
            <a:off x="2077920" y="3089160"/>
            <a:ext cx="40176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Freeform 8"/>
          <p:cNvSpPr/>
          <p:nvPr/>
        </p:nvSpPr>
        <p:spPr>
          <a:xfrm>
            <a:off x="2077920" y="1778040"/>
            <a:ext cx="40176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Freeform 8"/>
          <p:cNvSpPr/>
          <p:nvPr/>
        </p:nvSpPr>
        <p:spPr>
          <a:xfrm>
            <a:off x="2077920" y="4349880"/>
            <a:ext cx="401760" cy="963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Freeform 8"/>
          <p:cNvSpPr/>
          <p:nvPr/>
        </p:nvSpPr>
        <p:spPr>
          <a:xfrm>
            <a:off x="2846520" y="3618000"/>
            <a:ext cx="40140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Freeform 8"/>
          <p:cNvSpPr/>
          <p:nvPr/>
        </p:nvSpPr>
        <p:spPr>
          <a:xfrm>
            <a:off x="2830680" y="4919760"/>
            <a:ext cx="39996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Freeform 8"/>
          <p:cNvSpPr/>
          <p:nvPr/>
        </p:nvSpPr>
        <p:spPr>
          <a:xfrm>
            <a:off x="2830680" y="2500200"/>
            <a:ext cx="39996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Freeform 8"/>
          <p:cNvSpPr/>
          <p:nvPr/>
        </p:nvSpPr>
        <p:spPr>
          <a:xfrm>
            <a:off x="2830680" y="1208160"/>
            <a:ext cx="39996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Freeform 8"/>
          <p:cNvSpPr/>
          <p:nvPr/>
        </p:nvSpPr>
        <p:spPr>
          <a:xfrm>
            <a:off x="3600360" y="1798560"/>
            <a:ext cx="40176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Freeform 8"/>
          <p:cNvSpPr/>
          <p:nvPr/>
        </p:nvSpPr>
        <p:spPr>
          <a:xfrm>
            <a:off x="3600360" y="3095640"/>
            <a:ext cx="401760" cy="963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reeform 8"/>
          <p:cNvSpPr/>
          <p:nvPr/>
        </p:nvSpPr>
        <p:spPr>
          <a:xfrm>
            <a:off x="3600360" y="550800"/>
            <a:ext cx="401760" cy="963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8"/>
          <p:cNvSpPr/>
          <p:nvPr/>
        </p:nvSpPr>
        <p:spPr>
          <a:xfrm>
            <a:off x="3600360" y="4370400"/>
            <a:ext cx="401760" cy="963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reeform 8"/>
          <p:cNvSpPr/>
          <p:nvPr/>
        </p:nvSpPr>
        <p:spPr>
          <a:xfrm>
            <a:off x="3600360" y="5576760"/>
            <a:ext cx="401760" cy="963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Round Diagonal Corner Rectangle 4"/>
          <p:cNvSpPr/>
          <p:nvPr/>
        </p:nvSpPr>
        <p:spPr>
          <a:xfrm>
            <a:off x="4784760" y="712800"/>
            <a:ext cx="3927600" cy="5459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Freeform 8"/>
          <p:cNvSpPr/>
          <p:nvPr/>
        </p:nvSpPr>
        <p:spPr>
          <a:xfrm>
            <a:off x="5021280" y="1170000"/>
            <a:ext cx="401760" cy="965160"/>
          </a:xfrm>
          <a:prstGeom prst="pie">
            <a:avLst/>
          </a:prstGeom>
          <a:solidFill>
            <a:srgbClr val="69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Freeform 8"/>
          <p:cNvSpPr/>
          <p:nvPr/>
        </p:nvSpPr>
        <p:spPr>
          <a:xfrm>
            <a:off x="1324080" y="3622680"/>
            <a:ext cx="401400" cy="963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Freeform 8"/>
          <p:cNvSpPr/>
          <p:nvPr/>
        </p:nvSpPr>
        <p:spPr>
          <a:xfrm>
            <a:off x="1324080" y="2505240"/>
            <a:ext cx="401400" cy="963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traight Connector 21"/>
          <p:cNvSpPr/>
          <p:nvPr/>
        </p:nvSpPr>
        <p:spPr>
          <a:xfrm flipV="1">
            <a:off x="1738440" y="2252160"/>
            <a:ext cx="287280" cy="320760"/>
          </a:xfrm>
          <a:prstGeom prst="line">
            <a:avLst/>
          </a:prstGeom>
          <a:ln w="255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traight Connector 33"/>
          <p:cNvSpPr/>
          <p:nvPr/>
        </p:nvSpPr>
        <p:spPr>
          <a:xfrm flipV="1">
            <a:off x="2467080" y="1564920"/>
            <a:ext cx="287280" cy="320760"/>
          </a:xfrm>
          <a:prstGeom prst="line">
            <a:avLst/>
          </a:prstGeom>
          <a:ln w="255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traight Connector 34"/>
          <p:cNvSpPr/>
          <p:nvPr/>
        </p:nvSpPr>
        <p:spPr>
          <a:xfrm flipV="1">
            <a:off x="3230640" y="885600"/>
            <a:ext cx="287280" cy="322200"/>
          </a:xfrm>
          <a:prstGeom prst="line">
            <a:avLst/>
          </a:prstGeom>
          <a:ln w="255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traight Connector 35"/>
          <p:cNvSpPr/>
          <p:nvPr/>
        </p:nvSpPr>
        <p:spPr>
          <a:xfrm flipV="1">
            <a:off x="1022400" y="2990520"/>
            <a:ext cx="287280" cy="322200"/>
          </a:xfrm>
          <a:prstGeom prst="line">
            <a:avLst/>
          </a:prstGeom>
          <a:ln w="255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traight Connector 36"/>
          <p:cNvSpPr/>
          <p:nvPr/>
        </p:nvSpPr>
        <p:spPr>
          <a:xfrm flipV="1">
            <a:off x="2467080" y="2830680"/>
            <a:ext cx="287280" cy="320400"/>
          </a:xfrm>
          <a:prstGeom prst="line">
            <a:avLst/>
          </a:prstGeom>
          <a:ln w="255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traight Connector 37"/>
          <p:cNvSpPr/>
          <p:nvPr/>
        </p:nvSpPr>
        <p:spPr>
          <a:xfrm flipV="1">
            <a:off x="3230640" y="2090880"/>
            <a:ext cx="287280" cy="320400"/>
          </a:xfrm>
          <a:prstGeom prst="line">
            <a:avLst/>
          </a:prstGeom>
          <a:ln w="255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traight Connector 38"/>
          <p:cNvSpPr/>
          <p:nvPr/>
        </p:nvSpPr>
        <p:spPr>
          <a:xfrm flipV="1">
            <a:off x="2467080" y="4100040"/>
            <a:ext cx="287280" cy="320760"/>
          </a:xfrm>
          <a:prstGeom prst="line">
            <a:avLst/>
          </a:prstGeom>
          <a:ln w="255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Straight Connector 39"/>
          <p:cNvSpPr/>
          <p:nvPr/>
        </p:nvSpPr>
        <p:spPr>
          <a:xfrm flipV="1">
            <a:off x="3230640" y="3428640"/>
            <a:ext cx="287280" cy="320760"/>
          </a:xfrm>
          <a:prstGeom prst="line">
            <a:avLst/>
          </a:prstGeom>
          <a:ln w="255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traight Connector 40"/>
          <p:cNvSpPr/>
          <p:nvPr/>
        </p:nvSpPr>
        <p:spPr>
          <a:xfrm flipV="1">
            <a:off x="3222720" y="4737240"/>
            <a:ext cx="287280" cy="320400"/>
          </a:xfrm>
          <a:prstGeom prst="line">
            <a:avLst/>
          </a:prstGeom>
          <a:ln w="255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traight Connector 41"/>
          <p:cNvSpPr/>
          <p:nvPr/>
        </p:nvSpPr>
        <p:spPr>
          <a:xfrm flipV="1">
            <a:off x="1738440" y="3428640"/>
            <a:ext cx="287280" cy="320760"/>
          </a:xfrm>
          <a:prstGeom prst="line">
            <a:avLst/>
          </a:prstGeom>
          <a:ln w="255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traight Connector 42"/>
          <p:cNvSpPr/>
          <p:nvPr/>
        </p:nvSpPr>
        <p:spPr>
          <a:xfrm>
            <a:off x="3222720" y="5724360"/>
            <a:ext cx="287280" cy="320760"/>
          </a:xfrm>
          <a:prstGeom prst="line">
            <a:avLst/>
          </a:prstGeom>
          <a:ln w="255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traight Connector 43"/>
          <p:cNvSpPr/>
          <p:nvPr/>
        </p:nvSpPr>
        <p:spPr>
          <a:xfrm>
            <a:off x="2479680" y="5153040"/>
            <a:ext cx="287280" cy="320760"/>
          </a:xfrm>
          <a:prstGeom prst="line">
            <a:avLst/>
          </a:prstGeom>
          <a:ln w="255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traight Connector 44"/>
          <p:cNvSpPr/>
          <p:nvPr/>
        </p:nvSpPr>
        <p:spPr>
          <a:xfrm>
            <a:off x="1724760" y="4370400"/>
            <a:ext cx="287640" cy="320760"/>
          </a:xfrm>
          <a:prstGeom prst="line">
            <a:avLst/>
          </a:prstGeom>
          <a:ln w="255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traight Connector 45"/>
          <p:cNvSpPr/>
          <p:nvPr/>
        </p:nvSpPr>
        <p:spPr>
          <a:xfrm>
            <a:off x="1022400" y="3618000"/>
            <a:ext cx="287280" cy="320760"/>
          </a:xfrm>
          <a:prstGeom prst="line">
            <a:avLst/>
          </a:prstGeom>
          <a:ln w="255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traight Connector 46"/>
          <p:cNvSpPr/>
          <p:nvPr/>
        </p:nvSpPr>
        <p:spPr>
          <a:xfrm>
            <a:off x="3222720" y="4210200"/>
            <a:ext cx="287280" cy="320400"/>
          </a:xfrm>
          <a:prstGeom prst="line">
            <a:avLst/>
          </a:prstGeom>
          <a:ln w="255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traight Connector 47"/>
          <p:cNvSpPr/>
          <p:nvPr/>
        </p:nvSpPr>
        <p:spPr>
          <a:xfrm>
            <a:off x="2542320" y="3468600"/>
            <a:ext cx="287640" cy="320760"/>
          </a:xfrm>
          <a:prstGeom prst="line">
            <a:avLst/>
          </a:prstGeom>
          <a:ln w="255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traight Connector 48"/>
          <p:cNvSpPr/>
          <p:nvPr/>
        </p:nvSpPr>
        <p:spPr>
          <a:xfrm>
            <a:off x="3247920" y="2774880"/>
            <a:ext cx="287280" cy="320760"/>
          </a:xfrm>
          <a:prstGeom prst="line">
            <a:avLst/>
          </a:prstGeom>
          <a:ln w="255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traight Connector 50"/>
          <p:cNvSpPr/>
          <p:nvPr/>
        </p:nvSpPr>
        <p:spPr>
          <a:xfrm>
            <a:off x="1789200" y="2741760"/>
            <a:ext cx="287280" cy="320400"/>
          </a:xfrm>
          <a:prstGeom prst="line">
            <a:avLst/>
          </a:prstGeom>
          <a:ln w="255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traight Connector 51"/>
          <p:cNvSpPr/>
          <p:nvPr/>
        </p:nvSpPr>
        <p:spPr>
          <a:xfrm>
            <a:off x="2611440" y="2090880"/>
            <a:ext cx="287280" cy="320400"/>
          </a:xfrm>
          <a:prstGeom prst="line">
            <a:avLst/>
          </a:prstGeom>
          <a:ln w="255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traight Connector 52"/>
          <p:cNvSpPr/>
          <p:nvPr/>
        </p:nvSpPr>
        <p:spPr>
          <a:xfrm>
            <a:off x="3247920" y="1463760"/>
            <a:ext cx="287280" cy="320760"/>
          </a:xfrm>
          <a:prstGeom prst="line">
            <a:avLst/>
          </a:prstGeom>
          <a:ln w="255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Rektangel 76"/>
          <p:cNvSpPr/>
          <p:nvPr/>
        </p:nvSpPr>
        <p:spPr>
          <a:xfrm>
            <a:off x="5676840" y="3720960"/>
            <a:ext cx="2525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Calibri"/>
              </a:rPr>
              <a:t>This is an example text. Go ahead and replace it with your own text. This is an examp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8"/>
          <p:cNvSpPr/>
          <p:nvPr/>
        </p:nvSpPr>
        <p:spPr>
          <a:xfrm>
            <a:off x="5021280" y="3860640"/>
            <a:ext cx="401760" cy="963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Rektangel 76"/>
          <p:cNvSpPr/>
          <p:nvPr/>
        </p:nvSpPr>
        <p:spPr>
          <a:xfrm>
            <a:off x="5676840" y="1030320"/>
            <a:ext cx="2525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Calibri"/>
              </a:rPr>
              <a:t>This is an example text. Go ahead and replace it with your own text. This is an examp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56"/>
          <p:cNvSpPr/>
          <p:nvPr/>
        </p:nvSpPr>
        <p:spPr>
          <a:xfrm>
            <a:off x="291960" y="241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NETWOR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6C20-8886-44FD-8C94-F36F01E846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矩形 106"/>
          <p:cNvSpPr/>
          <p:nvPr/>
        </p:nvSpPr>
        <p:spPr>
          <a:xfrm>
            <a:off x="982800" y="2217600"/>
            <a:ext cx="7399080" cy="2422800"/>
          </a:xfrm>
          <a:prstGeom prst="rect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107"/>
          <p:cNvSpPr/>
          <p:nvPr/>
        </p:nvSpPr>
        <p:spPr>
          <a:xfrm>
            <a:off x="2573280" y="3013200"/>
            <a:ext cx="501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ank   you</a:t>
            </a:r>
            <a:r>
              <a:rPr b="1" lang="zh-CN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93"/>
          <p:cNvSpPr/>
          <p:nvPr/>
        </p:nvSpPr>
        <p:spPr>
          <a:xfrm>
            <a:off x="-1440" y="3584520"/>
            <a:ext cx="9144000" cy="2549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Group 91"/>
          <p:cNvGrpSpPr/>
          <p:nvPr/>
        </p:nvGrpSpPr>
        <p:grpSpPr>
          <a:xfrm>
            <a:off x="1692360" y="1219320"/>
            <a:ext cx="5851440" cy="5163840"/>
            <a:chOff x="1692360" y="1219320"/>
            <a:chExt cx="5851440" cy="5163840"/>
          </a:xfrm>
        </p:grpSpPr>
        <p:sp>
          <p:nvSpPr>
            <p:cNvPr id="47" name="TextBox 81"/>
            <p:cNvSpPr/>
            <p:nvPr/>
          </p:nvSpPr>
          <p:spPr>
            <a:xfrm>
              <a:off x="3565440" y="1973160"/>
              <a:ext cx="2136600" cy="36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TextBox 82"/>
            <p:cNvSpPr/>
            <p:nvPr/>
          </p:nvSpPr>
          <p:spPr>
            <a:xfrm>
              <a:off x="2628720" y="4014720"/>
              <a:ext cx="398772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TextBox 83"/>
            <p:cNvSpPr/>
            <p:nvPr/>
          </p:nvSpPr>
          <p:spPr>
            <a:xfrm>
              <a:off x="2146320" y="5022720"/>
              <a:ext cx="4924440" cy="36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Box 84"/>
            <p:cNvSpPr/>
            <p:nvPr/>
          </p:nvSpPr>
          <p:spPr>
            <a:xfrm>
              <a:off x="1692360" y="6013440"/>
              <a:ext cx="5851440" cy="36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Isosceles Triangle 85"/>
            <p:cNvSpPr/>
            <p:nvPr/>
          </p:nvSpPr>
          <p:spPr>
            <a:xfrm>
              <a:off x="3565440" y="1219320"/>
              <a:ext cx="2136600" cy="755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rapezoid 86"/>
            <p:cNvSpPr/>
            <p:nvPr/>
          </p:nvSpPr>
          <p:spPr>
            <a:xfrm flipV="1">
              <a:off x="3105000" y="2342160"/>
              <a:ext cx="3065400" cy="639720"/>
            </a:xfrm>
            <a:custGeom>
              <a:avLst/>
              <a:gdLst>
                <a:gd name="textAreaLeft" fmla="*/ 509400 w 3065400"/>
                <a:gd name="textAreaRight" fmla="*/ 2556000 w 3065400"/>
                <a:gd name="textAreaTop" fmla="*/ 106200 h 639720"/>
                <a:gd name="textAreaBottom" fmla="*/ 53352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88" y="21600"/>
                  </a:lnTo>
                  <a:lnTo>
                    <a:pt x="331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rapezoid 87"/>
            <p:cNvSpPr/>
            <p:nvPr/>
          </p:nvSpPr>
          <p:spPr>
            <a:xfrm flipV="1">
              <a:off x="2628720" y="3363840"/>
              <a:ext cx="3998880" cy="637920"/>
            </a:xfrm>
            <a:custGeom>
              <a:avLst/>
              <a:gdLst>
                <a:gd name="textAreaLeft" fmla="*/ 584280 w 3998880"/>
                <a:gd name="textAreaRight" fmla="*/ 3414600 w 3998880"/>
                <a:gd name="textAreaTop" fmla="*/ 93240 h 637920"/>
                <a:gd name="textAreaBottom" fmla="*/ 544680 h 63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068" y="21600"/>
                  </a:lnTo>
                  <a:lnTo>
                    <a:pt x="253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Trapezoid 88"/>
            <p:cNvSpPr/>
            <p:nvPr/>
          </p:nvSpPr>
          <p:spPr>
            <a:xfrm flipV="1">
              <a:off x="2146320" y="4382280"/>
              <a:ext cx="4938840" cy="639720"/>
            </a:xfrm>
            <a:custGeom>
              <a:avLst/>
              <a:gdLst>
                <a:gd name="textAreaLeft" fmla="*/ 660960 w 4938840"/>
                <a:gd name="textAreaRight" fmla="*/ 4277880 w 4938840"/>
                <a:gd name="textAreaTop" fmla="*/ 85680 h 639720"/>
                <a:gd name="textAreaBottom" fmla="*/ 55404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45" y="21600"/>
                  </a:lnTo>
                  <a:lnTo>
                    <a:pt x="205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Trapezoid 89"/>
            <p:cNvSpPr/>
            <p:nvPr/>
          </p:nvSpPr>
          <p:spPr>
            <a:xfrm flipV="1">
              <a:off x="1692360" y="5361480"/>
              <a:ext cx="5851440" cy="639720"/>
            </a:xfrm>
            <a:custGeom>
              <a:avLst/>
              <a:gdLst>
                <a:gd name="textAreaLeft" fmla="*/ 735120 w 5851440"/>
                <a:gd name="textAreaRight" fmla="*/ 5116320 w 5851440"/>
                <a:gd name="textAreaTop" fmla="*/ 80280 h 639720"/>
                <a:gd name="textAreaBottom" fmla="*/ 55944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65" y="21600"/>
                  </a:lnTo>
                  <a:lnTo>
                    <a:pt x="173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TextBox 90"/>
            <p:cNvSpPr/>
            <p:nvPr/>
          </p:nvSpPr>
          <p:spPr>
            <a:xfrm>
              <a:off x="3105000" y="2994120"/>
              <a:ext cx="3065400" cy="36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63"/>
          <p:cNvSpPr/>
          <p:nvPr/>
        </p:nvSpPr>
        <p:spPr>
          <a:xfrm>
            <a:off x="3971880" y="1979640"/>
            <a:ext cx="13510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65"/>
          <p:cNvSpPr/>
          <p:nvPr/>
        </p:nvSpPr>
        <p:spPr>
          <a:xfrm>
            <a:off x="3043080" y="4019400"/>
            <a:ext cx="320364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6"/>
          <p:cNvSpPr/>
          <p:nvPr/>
        </p:nvSpPr>
        <p:spPr>
          <a:xfrm>
            <a:off x="2614680" y="5029200"/>
            <a:ext cx="409104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Strategic go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8"/>
          <p:cNvSpPr/>
          <p:nvPr/>
        </p:nvSpPr>
        <p:spPr>
          <a:xfrm>
            <a:off x="2171880" y="6019920"/>
            <a:ext cx="49924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Tac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74"/>
          <p:cNvSpPr/>
          <p:nvPr/>
        </p:nvSpPr>
        <p:spPr>
          <a:xfrm>
            <a:off x="3505320" y="2987640"/>
            <a:ext cx="22860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Isosceles Triangle 59"/>
          <p:cNvSpPr/>
          <p:nvPr/>
        </p:nvSpPr>
        <p:spPr>
          <a:xfrm>
            <a:off x="3983040" y="1225440"/>
            <a:ext cx="1339920" cy="755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rapezoid 60"/>
          <p:cNvSpPr/>
          <p:nvPr/>
        </p:nvSpPr>
        <p:spPr>
          <a:xfrm flipV="1">
            <a:off x="3505320" y="2347200"/>
            <a:ext cx="2286000" cy="639720"/>
          </a:xfrm>
          <a:custGeom>
            <a:avLst/>
            <a:gdLst>
              <a:gd name="textAreaLeft" fmla="*/ 446040 w 2286000"/>
              <a:gd name="textAreaRight" fmla="*/ 1839960 w 2286000"/>
              <a:gd name="textAreaTop" fmla="*/ 124920 h 639720"/>
              <a:gd name="textAreaBottom" fmla="*/ 51480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61" y="21600"/>
                </a:lnTo>
                <a:lnTo>
                  <a:pt x="4439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rapezoid 61"/>
          <p:cNvSpPr/>
          <p:nvPr/>
        </p:nvSpPr>
        <p:spPr>
          <a:xfrm flipV="1">
            <a:off x="3043080" y="3368520"/>
            <a:ext cx="3203640" cy="640080"/>
          </a:xfrm>
          <a:custGeom>
            <a:avLst/>
            <a:gdLst>
              <a:gd name="textAreaLeft" fmla="*/ 520560 w 3203640"/>
              <a:gd name="textAreaRight" fmla="*/ 2683080 w 3203640"/>
              <a:gd name="textAreaTop" fmla="*/ 104040 h 640080"/>
              <a:gd name="textAreaBottom" fmla="*/ 536040 h 64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30" y="21600"/>
                </a:lnTo>
                <a:lnTo>
                  <a:pt x="317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rapezoid 62"/>
          <p:cNvSpPr/>
          <p:nvPr/>
        </p:nvSpPr>
        <p:spPr>
          <a:xfrm flipV="1">
            <a:off x="2614680" y="4388760"/>
            <a:ext cx="4091040" cy="639720"/>
          </a:xfrm>
          <a:custGeom>
            <a:avLst/>
            <a:gdLst>
              <a:gd name="textAreaLeft" fmla="*/ 578160 w 4091040"/>
              <a:gd name="textAreaRight" fmla="*/ 3512880 w 4091040"/>
              <a:gd name="textAreaTop" fmla="*/ 90360 h 639720"/>
              <a:gd name="textAreaBottom" fmla="*/ 54936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254" y="21600"/>
                </a:lnTo>
                <a:lnTo>
                  <a:pt x="2346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rapezoid 67"/>
          <p:cNvSpPr/>
          <p:nvPr/>
        </p:nvSpPr>
        <p:spPr>
          <a:xfrm flipV="1">
            <a:off x="2171880" y="5368320"/>
            <a:ext cx="4992480" cy="639720"/>
          </a:xfrm>
          <a:custGeom>
            <a:avLst/>
            <a:gdLst>
              <a:gd name="textAreaLeft" fmla="*/ 658440 w 4992480"/>
              <a:gd name="textAreaRight" fmla="*/ 4334040 w 4992480"/>
              <a:gd name="textAreaTop" fmla="*/ 84240 h 639720"/>
              <a:gd name="textAreaBottom" fmla="*/ 5554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621" y="21600"/>
                </a:lnTo>
                <a:lnTo>
                  <a:pt x="1979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64"/>
          <p:cNvSpPr/>
          <p:nvPr/>
        </p:nvSpPr>
        <p:spPr>
          <a:xfrm>
            <a:off x="3505320" y="2998800"/>
            <a:ext cx="2286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Group 57"/>
          <p:cNvGrpSpPr/>
          <p:nvPr/>
        </p:nvGrpSpPr>
        <p:grpSpPr>
          <a:xfrm>
            <a:off x="4027320" y="159840"/>
            <a:ext cx="1257480" cy="1580040"/>
            <a:chOff x="4027320" y="159840"/>
            <a:chExt cx="1257480" cy="1580040"/>
          </a:xfrm>
        </p:grpSpPr>
        <p:sp>
          <p:nvSpPr>
            <p:cNvPr id="69" name="Oval 5"/>
            <p:cNvSpPr/>
            <p:nvPr/>
          </p:nvSpPr>
          <p:spPr>
            <a:xfrm>
              <a:off x="4027320" y="482760"/>
              <a:ext cx="1257480" cy="1257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Ellipse 43"/>
            <p:cNvSpPr/>
            <p:nvPr/>
          </p:nvSpPr>
          <p:spPr>
            <a:xfrm>
              <a:off x="4127760" y="591480"/>
              <a:ext cx="1056600" cy="105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Oval 7"/>
            <p:cNvSpPr/>
            <p:nvPr/>
          </p:nvSpPr>
          <p:spPr>
            <a:xfrm>
              <a:off x="4130640" y="591480"/>
              <a:ext cx="1050480" cy="1049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792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Måne 120"/>
            <p:cNvSpPr/>
            <p:nvPr/>
          </p:nvSpPr>
          <p:spPr>
            <a:xfrm rot="16551600">
              <a:off x="4428000" y="906120"/>
              <a:ext cx="455400" cy="97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485" y="963"/>
                    <a:pt x="5370" y="5080"/>
                    <a:pt x="5370" y="10800"/>
                  </a:cubicBezTo>
                  <a:cubicBezTo>
                    <a:pt x="5370" y="16520"/>
                    <a:pt x="13485" y="20637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3" name="Group 14"/>
            <p:cNvGrpSpPr/>
            <p:nvPr/>
          </p:nvGrpSpPr>
          <p:grpSpPr>
            <a:xfrm>
              <a:off x="4188600" y="645840"/>
              <a:ext cx="934560" cy="936000"/>
              <a:chOff x="4188600" y="645840"/>
              <a:chExt cx="934560" cy="936000"/>
            </a:xfrm>
          </p:grpSpPr>
          <p:grpSp>
            <p:nvGrpSpPr>
              <p:cNvPr id="74" name="Group 107"/>
              <p:cNvGrpSpPr/>
              <p:nvPr/>
            </p:nvGrpSpPr>
            <p:grpSpPr>
              <a:xfrm>
                <a:off x="4678560" y="645840"/>
                <a:ext cx="1080" cy="936000"/>
                <a:chOff x="4678560" y="645840"/>
                <a:chExt cx="1080" cy="936000"/>
              </a:xfrm>
            </p:grpSpPr>
            <p:sp>
              <p:nvSpPr>
                <p:cNvPr id="75" name="Straight Connector 55"/>
                <p:cNvSpPr/>
                <p:nvPr/>
              </p:nvSpPr>
              <p:spPr>
                <a:xfrm flipH="1">
                  <a:off x="4678560" y="1502640"/>
                  <a:ext cx="108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" name="Straight Connector 56"/>
                <p:cNvSpPr/>
                <p:nvPr/>
              </p:nvSpPr>
              <p:spPr>
                <a:xfrm flipH="1">
                  <a:off x="4678560" y="645840"/>
                  <a:ext cx="108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7" name="Group 110"/>
              <p:cNvGrpSpPr/>
              <p:nvPr/>
            </p:nvGrpSpPr>
            <p:grpSpPr>
              <a:xfrm>
                <a:off x="4188600" y="1114560"/>
                <a:ext cx="934560" cy="3240"/>
                <a:chOff x="4188600" y="1114560"/>
                <a:chExt cx="934560" cy="3240"/>
              </a:xfrm>
            </p:grpSpPr>
            <p:sp>
              <p:nvSpPr>
                <p:cNvPr id="78" name="Straight Connector 53"/>
                <p:cNvSpPr/>
                <p:nvPr/>
              </p:nvSpPr>
              <p:spPr>
                <a:xfrm>
                  <a:off x="5043960" y="1116720"/>
                  <a:ext cx="7920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Straight Connector 18"/>
                <p:cNvSpPr/>
                <p:nvPr/>
              </p:nvSpPr>
              <p:spPr>
                <a:xfrm>
                  <a:off x="4188600" y="1114560"/>
                  <a:ext cx="7920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0" name="Group 28"/>
            <p:cNvGrpSpPr/>
            <p:nvPr/>
          </p:nvGrpSpPr>
          <p:grpSpPr>
            <a:xfrm>
              <a:off x="4253760" y="705960"/>
              <a:ext cx="806040" cy="806400"/>
              <a:chOff x="4253760" y="705960"/>
              <a:chExt cx="806040" cy="806400"/>
            </a:xfrm>
          </p:grpSpPr>
          <p:grpSp>
            <p:nvGrpSpPr>
              <p:cNvPr id="81" name="Group 122"/>
              <p:cNvGrpSpPr/>
              <p:nvPr/>
            </p:nvGrpSpPr>
            <p:grpSpPr>
              <a:xfrm>
                <a:off x="4420440" y="705960"/>
                <a:ext cx="493200" cy="806400"/>
                <a:chOff x="4420440" y="705960"/>
                <a:chExt cx="493200" cy="806400"/>
              </a:xfrm>
            </p:grpSpPr>
            <p:sp>
              <p:nvSpPr>
                <p:cNvPr id="82" name="Straight Connector 33"/>
                <p:cNvSpPr/>
                <p:nvPr/>
              </p:nvSpPr>
              <p:spPr>
                <a:xfrm>
                  <a:off x="4885920" y="1465920"/>
                  <a:ext cx="2772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" name="Straight Connector 50"/>
                <p:cNvSpPr/>
                <p:nvPr/>
              </p:nvSpPr>
              <p:spPr>
                <a:xfrm>
                  <a:off x="4420440" y="705960"/>
                  <a:ext cx="2772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4" name="Group 123"/>
              <p:cNvGrpSpPr/>
              <p:nvPr/>
            </p:nvGrpSpPr>
            <p:grpSpPr>
              <a:xfrm>
                <a:off x="4253760" y="870120"/>
                <a:ext cx="806040" cy="494640"/>
                <a:chOff x="4253760" y="870120"/>
                <a:chExt cx="806040" cy="494640"/>
              </a:xfrm>
            </p:grpSpPr>
            <p:sp>
              <p:nvSpPr>
                <p:cNvPr id="85" name="Straight Connector 47"/>
                <p:cNvSpPr/>
                <p:nvPr/>
              </p:nvSpPr>
              <p:spPr>
                <a:xfrm flipV="1">
                  <a:off x="5013720" y="870120"/>
                  <a:ext cx="46080" cy="2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6" name="Straight Connector 32"/>
                <p:cNvSpPr/>
                <p:nvPr/>
              </p:nvSpPr>
              <p:spPr>
                <a:xfrm flipV="1">
                  <a:off x="4253760" y="1336680"/>
                  <a:ext cx="46080" cy="2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7" name="Group 35"/>
            <p:cNvGrpSpPr/>
            <p:nvPr/>
          </p:nvGrpSpPr>
          <p:grpSpPr>
            <a:xfrm>
              <a:off x="4248000" y="703800"/>
              <a:ext cx="830880" cy="830160"/>
              <a:chOff x="4248000" y="703800"/>
              <a:chExt cx="830880" cy="830160"/>
            </a:xfrm>
          </p:grpSpPr>
          <p:grpSp>
            <p:nvGrpSpPr>
              <p:cNvPr id="88" name="Group 129"/>
              <p:cNvGrpSpPr/>
              <p:nvPr/>
            </p:nvGrpSpPr>
            <p:grpSpPr>
              <a:xfrm>
                <a:off x="4248000" y="874080"/>
                <a:ext cx="830880" cy="452520"/>
                <a:chOff x="4248000" y="874080"/>
                <a:chExt cx="830880" cy="452520"/>
              </a:xfrm>
            </p:grpSpPr>
            <p:sp>
              <p:nvSpPr>
                <p:cNvPr id="89" name="Straight Connector 43"/>
                <p:cNvSpPr/>
                <p:nvPr/>
              </p:nvSpPr>
              <p:spPr>
                <a:xfrm>
                  <a:off x="5031720" y="1300320"/>
                  <a:ext cx="47160" cy="2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" name="Straight Connector 44"/>
                <p:cNvSpPr/>
                <p:nvPr/>
              </p:nvSpPr>
              <p:spPr>
                <a:xfrm>
                  <a:off x="4248000" y="874080"/>
                  <a:ext cx="47160" cy="26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1" name="Group 130"/>
              <p:cNvGrpSpPr/>
              <p:nvPr/>
            </p:nvGrpSpPr>
            <p:grpSpPr>
              <a:xfrm>
                <a:off x="4429080" y="703800"/>
                <a:ext cx="451800" cy="830160"/>
                <a:chOff x="4429080" y="703800"/>
                <a:chExt cx="451800" cy="830160"/>
              </a:xfrm>
            </p:grpSpPr>
            <p:sp>
              <p:nvSpPr>
                <p:cNvPr id="92" name="Straight Connector 41"/>
                <p:cNvSpPr/>
                <p:nvPr/>
              </p:nvSpPr>
              <p:spPr>
                <a:xfrm flipV="1">
                  <a:off x="4854600" y="703800"/>
                  <a:ext cx="26280" cy="47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" name="Straight Connector 42"/>
                <p:cNvSpPr/>
                <p:nvPr/>
              </p:nvSpPr>
              <p:spPr>
                <a:xfrm flipV="1">
                  <a:off x="4429080" y="1488240"/>
                  <a:ext cx="25560" cy="4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94" name="Block Arc 12"/>
            <p:cNvSpPr/>
            <p:nvPr/>
          </p:nvSpPr>
          <p:spPr>
            <a:xfrm rot="16908600">
              <a:off x="4524840" y="184320"/>
              <a:ext cx="261720" cy="2602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13"/>
            <p:cNvSpPr/>
            <p:nvPr/>
          </p:nvSpPr>
          <p:spPr>
            <a:xfrm>
              <a:off x="4618080" y="393840"/>
              <a:ext cx="75960" cy="88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6" name="Group 139"/>
            <p:cNvGrpSpPr/>
            <p:nvPr/>
          </p:nvGrpSpPr>
          <p:grpSpPr>
            <a:xfrm>
              <a:off x="4417200" y="871920"/>
              <a:ext cx="525960" cy="523440"/>
              <a:chOff x="4417200" y="871920"/>
              <a:chExt cx="525960" cy="523440"/>
            </a:xfrm>
          </p:grpSpPr>
          <p:grpSp>
            <p:nvGrpSpPr>
              <p:cNvPr id="97" name="Group 140"/>
              <p:cNvGrpSpPr/>
              <p:nvPr/>
            </p:nvGrpSpPr>
            <p:grpSpPr>
              <a:xfrm>
                <a:off x="4417200" y="871920"/>
                <a:ext cx="525960" cy="523440"/>
                <a:chOff x="4417200" y="871920"/>
                <a:chExt cx="525960" cy="523440"/>
              </a:xfrm>
            </p:grpSpPr>
            <p:sp>
              <p:nvSpPr>
                <p:cNvPr id="98" name="Isosceles Triangle 34"/>
                <p:cNvSpPr/>
                <p:nvPr/>
              </p:nvSpPr>
              <p:spPr>
                <a:xfrm>
                  <a:off x="4624200" y="871920"/>
                  <a:ext cx="114120" cy="260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" name="Isosceles Triangle 35"/>
                <p:cNvSpPr/>
                <p:nvPr/>
              </p:nvSpPr>
              <p:spPr>
                <a:xfrm flipV="1">
                  <a:off x="4624200" y="1134720"/>
                  <a:ext cx="114120" cy="260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00" name="Group 149"/>
                <p:cNvGrpSpPr/>
                <p:nvPr/>
              </p:nvGrpSpPr>
              <p:grpSpPr>
                <a:xfrm>
                  <a:off x="4417200" y="1076400"/>
                  <a:ext cx="525960" cy="113760"/>
                  <a:chOff x="4417200" y="1076400"/>
                  <a:chExt cx="525960" cy="113760"/>
                </a:xfrm>
              </p:grpSpPr>
              <p:sp>
                <p:nvSpPr>
                  <p:cNvPr id="101" name="Isosceles Triangle 37"/>
                  <p:cNvSpPr/>
                  <p:nvPr/>
                </p:nvSpPr>
                <p:spPr>
                  <a:xfrm rot="16200000">
                    <a:off x="4492440" y="1000800"/>
                    <a:ext cx="110880" cy="261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ctr">
                    <a:noAutofit/>
                  </a:bodyPr>
                  <a:p>
                    <a:pPr marL="457200" indent="-45720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" name="Isosceles Triangle 38"/>
                  <p:cNvSpPr/>
                  <p:nvPr/>
                </p:nvSpPr>
                <p:spPr>
                  <a:xfrm flipV="1" rot="16200000">
                    <a:off x="4756680" y="1003680"/>
                    <a:ext cx="110880" cy="261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ctr">
                    <a:noAutofit/>
                  </a:bodyPr>
                  <a:p>
                    <a:pPr marL="457200" indent="-45720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03" name="Group 141"/>
              <p:cNvGrpSpPr/>
              <p:nvPr/>
            </p:nvGrpSpPr>
            <p:grpSpPr>
              <a:xfrm>
                <a:off x="4529880" y="981360"/>
                <a:ext cx="300960" cy="303840"/>
                <a:chOff x="4529880" y="981360"/>
                <a:chExt cx="300960" cy="303840"/>
              </a:xfrm>
            </p:grpSpPr>
            <p:sp>
              <p:nvSpPr>
                <p:cNvPr id="104" name="Isosceles Triangle 29"/>
                <p:cNvSpPr/>
                <p:nvPr/>
              </p:nvSpPr>
              <p:spPr>
                <a:xfrm rot="18900000">
                  <a:off x="4580280" y="982440"/>
                  <a:ext cx="75960" cy="174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5" name="Isosceles Triangle 30"/>
                <p:cNvSpPr/>
                <p:nvPr/>
              </p:nvSpPr>
              <p:spPr>
                <a:xfrm flipV="1" rot="18900000">
                  <a:off x="4704120" y="1107720"/>
                  <a:ext cx="75960" cy="174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06" name="Group 144"/>
                <p:cNvGrpSpPr/>
                <p:nvPr/>
              </p:nvGrpSpPr>
              <p:grpSpPr>
                <a:xfrm>
                  <a:off x="4531680" y="982800"/>
                  <a:ext cx="298800" cy="302400"/>
                  <a:chOff x="4531680" y="982800"/>
                  <a:chExt cx="298800" cy="302400"/>
                </a:xfrm>
              </p:grpSpPr>
              <p:sp>
                <p:nvSpPr>
                  <p:cNvPr id="107" name="Isosceles Triangle 32"/>
                  <p:cNvSpPr/>
                  <p:nvPr/>
                </p:nvSpPr>
                <p:spPr>
                  <a:xfrm rot="13500000">
                    <a:off x="4582800" y="1109520"/>
                    <a:ext cx="73080" cy="175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5959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pPr marL="457200" indent="-45720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" name="Isosceles Triangle 33"/>
                  <p:cNvSpPr/>
                  <p:nvPr/>
                </p:nvSpPr>
                <p:spPr>
                  <a:xfrm flipV="1" rot="13500000">
                    <a:off x="4707000" y="981720"/>
                    <a:ext cx="71640" cy="175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5959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pPr marL="457200" indent="-45720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09" name="Group 165"/>
            <p:cNvGrpSpPr/>
            <p:nvPr/>
          </p:nvGrpSpPr>
          <p:grpSpPr>
            <a:xfrm>
              <a:off x="4634280" y="777240"/>
              <a:ext cx="87480" cy="678600"/>
              <a:chOff x="4634280" y="777240"/>
              <a:chExt cx="87480" cy="678600"/>
            </a:xfrm>
          </p:grpSpPr>
          <p:grpSp>
            <p:nvGrpSpPr>
              <p:cNvPr id="110" name="Group 153"/>
              <p:cNvGrpSpPr/>
              <p:nvPr/>
            </p:nvGrpSpPr>
            <p:grpSpPr>
              <a:xfrm>
                <a:off x="4652640" y="777240"/>
                <a:ext cx="51840" cy="678600"/>
                <a:chOff x="4652640" y="777240"/>
                <a:chExt cx="51840" cy="678600"/>
              </a:xfrm>
            </p:grpSpPr>
            <p:sp>
              <p:nvSpPr>
                <p:cNvPr id="111" name="Isosceles Triangle 25"/>
                <p:cNvSpPr/>
                <p:nvPr/>
              </p:nvSpPr>
              <p:spPr>
                <a:xfrm flipH="1" rot="10800000">
                  <a:off x="4652640" y="1118160"/>
                  <a:ext cx="5040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2" name="Isosceles Triangle 26"/>
                <p:cNvSpPr/>
                <p:nvPr/>
              </p:nvSpPr>
              <p:spPr>
                <a:xfrm flipH="1" flipV="1" rot="10800000">
                  <a:off x="4654080" y="777240"/>
                  <a:ext cx="5040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3" name="Oval 13"/>
              <p:cNvSpPr/>
              <p:nvPr/>
            </p:nvSpPr>
            <p:spPr>
              <a:xfrm flipH="1" rot="10800000">
                <a:off x="4633920" y="1085760"/>
                <a:ext cx="87480" cy="874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Oval 24"/>
              <p:cNvSpPr/>
              <p:nvPr/>
            </p:nvSpPr>
            <p:spPr>
              <a:xfrm flipH="1" rot="10800000">
                <a:off x="4663440" y="1114200"/>
                <a:ext cx="37800" cy="37800"/>
              </a:xfrm>
              <a:prstGeom prst="ellipse">
                <a:avLst/>
              </a:prstGeom>
              <a:solidFill>
                <a:srgbClr val="000000"/>
              </a:solidFill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5" name="TextBox 166"/>
            <p:cNvSpPr/>
            <p:nvPr/>
          </p:nvSpPr>
          <p:spPr>
            <a:xfrm>
              <a:off x="4571280" y="686160"/>
              <a:ext cx="195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167"/>
            <p:cNvSpPr/>
            <p:nvPr/>
          </p:nvSpPr>
          <p:spPr>
            <a:xfrm>
              <a:off x="4571280" y="1327320"/>
              <a:ext cx="195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TextBox 168"/>
            <p:cNvSpPr/>
            <p:nvPr/>
          </p:nvSpPr>
          <p:spPr>
            <a:xfrm>
              <a:off x="4886280" y="995760"/>
              <a:ext cx="195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TextBox 169"/>
            <p:cNvSpPr/>
            <p:nvPr/>
          </p:nvSpPr>
          <p:spPr>
            <a:xfrm>
              <a:off x="4224240" y="995760"/>
              <a:ext cx="195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Ellipse 45"/>
            <p:cNvSpPr/>
            <p:nvPr/>
          </p:nvSpPr>
          <p:spPr>
            <a:xfrm>
              <a:off x="4248000" y="683640"/>
              <a:ext cx="856440" cy="712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TextBox 76"/>
          <p:cNvSpPr/>
          <p:nvPr/>
        </p:nvSpPr>
        <p:spPr>
          <a:xfrm>
            <a:off x="2811600" y="5481720"/>
            <a:ext cx="38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This is an example text. Please fill in your own text. This is an example text. Please fill in your own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77"/>
          <p:cNvSpPr/>
          <p:nvPr/>
        </p:nvSpPr>
        <p:spPr>
          <a:xfrm>
            <a:off x="3043080" y="4495680"/>
            <a:ext cx="320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This is an example text. Please fill in your own text. This is an example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78"/>
          <p:cNvSpPr/>
          <p:nvPr/>
        </p:nvSpPr>
        <p:spPr>
          <a:xfrm>
            <a:off x="3505320" y="3500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This is an example text. Please fill in your own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79"/>
          <p:cNvSpPr/>
          <p:nvPr/>
        </p:nvSpPr>
        <p:spPr>
          <a:xfrm>
            <a:off x="3971880" y="2438280"/>
            <a:ext cx="135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80"/>
          <p:cNvSpPr/>
          <p:nvPr/>
        </p:nvSpPr>
        <p:spPr>
          <a:xfrm>
            <a:off x="3951360" y="17017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95"/>
          <p:cNvSpPr/>
          <p:nvPr/>
        </p:nvSpPr>
        <p:spPr>
          <a:xfrm>
            <a:off x="1143000" y="6002280"/>
            <a:ext cx="3808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arallelogram 96"/>
          <p:cNvSpPr/>
          <p:nvPr/>
        </p:nvSpPr>
        <p:spPr>
          <a:xfrm>
            <a:off x="1143000" y="5362560"/>
            <a:ext cx="849240" cy="639720"/>
          </a:xfrm>
          <a:prstGeom prst="parallelogram">
            <a:avLst>
              <a:gd name="adj" fmla="val 749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97"/>
          <p:cNvSpPr/>
          <p:nvPr/>
        </p:nvSpPr>
        <p:spPr>
          <a:xfrm>
            <a:off x="1611360" y="4981680"/>
            <a:ext cx="3808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arallelogram 98"/>
          <p:cNvSpPr/>
          <p:nvPr/>
        </p:nvSpPr>
        <p:spPr>
          <a:xfrm>
            <a:off x="1611360" y="4343400"/>
            <a:ext cx="850680" cy="639720"/>
          </a:xfrm>
          <a:prstGeom prst="parallelogram">
            <a:avLst>
              <a:gd name="adj" fmla="val 7498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99"/>
          <p:cNvSpPr/>
          <p:nvPr/>
        </p:nvSpPr>
        <p:spPr>
          <a:xfrm>
            <a:off x="2081160" y="3962520"/>
            <a:ext cx="3808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arallelogram 100"/>
          <p:cNvSpPr/>
          <p:nvPr/>
        </p:nvSpPr>
        <p:spPr>
          <a:xfrm>
            <a:off x="2081160" y="3322800"/>
            <a:ext cx="849240" cy="639720"/>
          </a:xfrm>
          <a:prstGeom prst="parallelogram">
            <a:avLst>
              <a:gd name="adj" fmla="val 7494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101"/>
          <p:cNvSpPr/>
          <p:nvPr/>
        </p:nvSpPr>
        <p:spPr>
          <a:xfrm>
            <a:off x="2549520" y="2941560"/>
            <a:ext cx="38088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arallelogram 102"/>
          <p:cNvSpPr/>
          <p:nvPr/>
        </p:nvSpPr>
        <p:spPr>
          <a:xfrm>
            <a:off x="2549520" y="2301840"/>
            <a:ext cx="849240" cy="639720"/>
          </a:xfrm>
          <a:prstGeom prst="parallelogram">
            <a:avLst>
              <a:gd name="adj" fmla="val 749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Up Arrow 104"/>
          <p:cNvSpPr/>
          <p:nvPr/>
        </p:nvSpPr>
        <p:spPr>
          <a:xfrm>
            <a:off x="2851200" y="1225440"/>
            <a:ext cx="730080" cy="1081080"/>
          </a:xfrm>
          <a:prstGeom prst="up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Group 44"/>
          <p:cNvGrpSpPr/>
          <p:nvPr/>
        </p:nvGrpSpPr>
        <p:grpSpPr>
          <a:xfrm>
            <a:off x="1555920" y="6019920"/>
            <a:ext cx="1185120" cy="307080"/>
            <a:chOff x="1555920" y="6019920"/>
            <a:chExt cx="1185120" cy="307080"/>
          </a:xfrm>
        </p:grpSpPr>
        <p:sp>
          <p:nvSpPr>
            <p:cNvPr id="135" name="Ellipse 53"/>
            <p:cNvSpPr/>
            <p:nvPr/>
          </p:nvSpPr>
          <p:spPr>
            <a:xfrm>
              <a:off x="2009880" y="6049800"/>
              <a:ext cx="270000" cy="271440"/>
            </a:xfrm>
            <a:prstGeom prst="ellipse">
              <a:avLst/>
            </a:prstGeom>
            <a:solidFill>
              <a:srgbClr val="ffffff">
                <a:alpha val="6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kstboks 54"/>
            <p:cNvSpPr/>
            <p:nvPr/>
          </p:nvSpPr>
          <p:spPr>
            <a:xfrm>
              <a:off x="1555920" y="6019920"/>
              <a:ext cx="118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51616"/>
                  </a:solidFill>
                  <a:latin typeface="Calibri"/>
                  <a:ea typeface="MS PGothic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44"/>
          <p:cNvGrpSpPr/>
          <p:nvPr/>
        </p:nvGrpSpPr>
        <p:grpSpPr>
          <a:xfrm>
            <a:off x="2037600" y="5060880"/>
            <a:ext cx="1185120" cy="307080"/>
            <a:chOff x="2037600" y="5060880"/>
            <a:chExt cx="1185120" cy="307080"/>
          </a:xfrm>
        </p:grpSpPr>
        <p:sp>
          <p:nvSpPr>
            <p:cNvPr id="138" name="Ellipse 53"/>
            <p:cNvSpPr/>
            <p:nvPr/>
          </p:nvSpPr>
          <p:spPr>
            <a:xfrm>
              <a:off x="2490840" y="5090760"/>
              <a:ext cx="271800" cy="271800"/>
            </a:xfrm>
            <a:prstGeom prst="ellipse">
              <a:avLst/>
            </a:prstGeom>
            <a:solidFill>
              <a:srgbClr val="ffffff">
                <a:alpha val="6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kstboks 54"/>
            <p:cNvSpPr/>
            <p:nvPr/>
          </p:nvSpPr>
          <p:spPr>
            <a:xfrm>
              <a:off x="2037600" y="5060880"/>
              <a:ext cx="118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51616"/>
                  </a:solidFill>
                  <a:latin typeface="Calibri"/>
                  <a:ea typeface="MS PGothic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44"/>
          <p:cNvGrpSpPr/>
          <p:nvPr/>
        </p:nvGrpSpPr>
        <p:grpSpPr>
          <a:xfrm>
            <a:off x="2451240" y="4035600"/>
            <a:ext cx="1185120" cy="307080"/>
            <a:chOff x="2451240" y="4035600"/>
            <a:chExt cx="1185120" cy="307080"/>
          </a:xfrm>
        </p:grpSpPr>
        <p:sp>
          <p:nvSpPr>
            <p:cNvPr id="141" name="Ellipse 53"/>
            <p:cNvSpPr/>
            <p:nvPr/>
          </p:nvSpPr>
          <p:spPr>
            <a:xfrm>
              <a:off x="2905200" y="4065480"/>
              <a:ext cx="270000" cy="271440"/>
            </a:xfrm>
            <a:prstGeom prst="ellipse">
              <a:avLst/>
            </a:prstGeom>
            <a:solidFill>
              <a:srgbClr val="ffffff">
                <a:alpha val="6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kstboks 54"/>
            <p:cNvSpPr/>
            <p:nvPr/>
          </p:nvSpPr>
          <p:spPr>
            <a:xfrm>
              <a:off x="2451240" y="4035600"/>
              <a:ext cx="118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51616"/>
                  </a:solidFill>
                  <a:latin typeface="Calibri"/>
                  <a:ea typeface="MS PGothic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44"/>
          <p:cNvGrpSpPr/>
          <p:nvPr/>
        </p:nvGrpSpPr>
        <p:grpSpPr>
          <a:xfrm>
            <a:off x="2913120" y="3014640"/>
            <a:ext cx="1185120" cy="307080"/>
            <a:chOff x="2913120" y="3014640"/>
            <a:chExt cx="1185120" cy="307080"/>
          </a:xfrm>
        </p:grpSpPr>
        <p:sp>
          <p:nvSpPr>
            <p:cNvPr id="144" name="Ellipse 53"/>
            <p:cNvSpPr/>
            <p:nvPr/>
          </p:nvSpPr>
          <p:spPr>
            <a:xfrm>
              <a:off x="3367080" y="3044520"/>
              <a:ext cx="270000" cy="271800"/>
            </a:xfrm>
            <a:prstGeom prst="ellipse">
              <a:avLst/>
            </a:prstGeom>
            <a:solidFill>
              <a:srgbClr val="ffffff">
                <a:alpha val="6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Tekstboks 54"/>
            <p:cNvSpPr/>
            <p:nvPr/>
          </p:nvSpPr>
          <p:spPr>
            <a:xfrm>
              <a:off x="2913120" y="3014640"/>
              <a:ext cx="118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51616"/>
                  </a:solidFill>
                  <a:latin typeface="Calibri"/>
                  <a:ea typeface="MS PGothic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44"/>
          <p:cNvGrpSpPr/>
          <p:nvPr/>
        </p:nvGrpSpPr>
        <p:grpSpPr>
          <a:xfrm>
            <a:off x="3379680" y="1998720"/>
            <a:ext cx="1185120" cy="307080"/>
            <a:chOff x="3379680" y="1998720"/>
            <a:chExt cx="1185120" cy="307080"/>
          </a:xfrm>
        </p:grpSpPr>
        <p:sp>
          <p:nvSpPr>
            <p:cNvPr id="147" name="Ellipse 53"/>
            <p:cNvSpPr/>
            <p:nvPr/>
          </p:nvSpPr>
          <p:spPr>
            <a:xfrm>
              <a:off x="3833640" y="2028600"/>
              <a:ext cx="270360" cy="271440"/>
            </a:xfrm>
            <a:prstGeom prst="ellipse">
              <a:avLst/>
            </a:prstGeom>
            <a:solidFill>
              <a:srgbClr val="ffffff">
                <a:alpha val="6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Tekstboks 54"/>
            <p:cNvSpPr/>
            <p:nvPr/>
          </p:nvSpPr>
          <p:spPr>
            <a:xfrm>
              <a:off x="3379680" y="1998720"/>
              <a:ext cx="118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51616"/>
                  </a:solidFill>
                  <a:latin typeface="Calibri"/>
                  <a:ea typeface="MS PGothic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TextBox 54"/>
          <p:cNvSpPr/>
          <p:nvPr/>
        </p:nvSpPr>
        <p:spPr>
          <a:xfrm>
            <a:off x="314280" y="378000"/>
            <a:ext cx="5641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MS PGothic"/>
              </a:rPr>
              <a:t>VISION &amp; MISSION ILLUSTRATIO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6567120" y="2192400"/>
            <a:ext cx="530640" cy="141120"/>
            <a:chOff x="6567120" y="2192400"/>
            <a:chExt cx="530640" cy="141120"/>
          </a:xfrm>
        </p:grpSpPr>
        <p:sp>
          <p:nvSpPr>
            <p:cNvPr id="151" name="Line 33"/>
            <p:cNvSpPr/>
            <p:nvPr/>
          </p:nvSpPr>
          <p:spPr>
            <a:xfrm flipV="1">
              <a:off x="6567480" y="2192400"/>
              <a:ext cx="530280" cy="141120"/>
            </a:xfrm>
            <a:prstGeom prst="line">
              <a:avLst/>
            </a:prstGeom>
            <a:ln w="19080">
              <a:solidFill>
                <a:srgbClr val="34363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 rot="10800000">
              <a:off x="6567120" y="2192400"/>
              <a:ext cx="530280" cy="141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Rektangel 54"/>
          <p:cNvSpPr/>
          <p:nvPr/>
        </p:nvSpPr>
        <p:spPr>
          <a:xfrm>
            <a:off x="693720" y="1535040"/>
            <a:ext cx="1244520" cy="8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Calibri"/>
              </a:rPr>
              <a:t>Exampl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Calibri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3578400"/>
            <a:ext cx="9144000" cy="1847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4"/>
          <p:cNvSpPr/>
          <p:nvPr/>
        </p:nvSpPr>
        <p:spPr>
          <a:xfrm>
            <a:off x="314280" y="378000"/>
            <a:ext cx="5641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Calibri"/>
                <a:ea typeface="MS PGothic"/>
              </a:rPr>
              <a:t>PROS AND CO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50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ktangel 76"/>
          <p:cNvSpPr/>
          <p:nvPr/>
        </p:nvSpPr>
        <p:spPr>
          <a:xfrm>
            <a:off x="1112760" y="5473800"/>
            <a:ext cx="221004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Example tex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Go ahead and replace it with your own text. This is an example tex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Oval 53"/>
          <p:cNvSpPr/>
          <p:nvPr/>
        </p:nvSpPr>
        <p:spPr>
          <a:xfrm>
            <a:off x="808200" y="5562720"/>
            <a:ext cx="250560" cy="250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Isosceles Triangle 54"/>
          <p:cNvSpPr/>
          <p:nvPr/>
        </p:nvSpPr>
        <p:spPr>
          <a:xfrm rot="5400000">
            <a:off x="874800" y="5622840"/>
            <a:ext cx="149040" cy="130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ktangel 76"/>
          <p:cNvSpPr/>
          <p:nvPr/>
        </p:nvSpPr>
        <p:spPr>
          <a:xfrm>
            <a:off x="3805200" y="5473800"/>
            <a:ext cx="220968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Example tex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Go ahead and replace it with your own text. This is an example tex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57"/>
          <p:cNvSpPr/>
          <p:nvPr/>
        </p:nvSpPr>
        <p:spPr>
          <a:xfrm>
            <a:off x="3500280" y="5562720"/>
            <a:ext cx="250920" cy="250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Isosceles Triangle 58"/>
          <p:cNvSpPr/>
          <p:nvPr/>
        </p:nvSpPr>
        <p:spPr>
          <a:xfrm rot="5400000">
            <a:off x="3567240" y="5622840"/>
            <a:ext cx="149040" cy="130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ktangel 76"/>
          <p:cNvSpPr/>
          <p:nvPr/>
        </p:nvSpPr>
        <p:spPr>
          <a:xfrm>
            <a:off x="6345360" y="5473800"/>
            <a:ext cx="220968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Example tex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Go ahead and replace it with your own text. This is an example tex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Oval 61"/>
          <p:cNvSpPr/>
          <p:nvPr/>
        </p:nvSpPr>
        <p:spPr>
          <a:xfrm>
            <a:off x="6040440" y="5562720"/>
            <a:ext cx="250920" cy="250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Isosceles Triangle 62"/>
          <p:cNvSpPr/>
          <p:nvPr/>
        </p:nvSpPr>
        <p:spPr>
          <a:xfrm rot="5400000">
            <a:off x="6106680" y="5622840"/>
            <a:ext cx="149040" cy="129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874800" y="6264360"/>
            <a:ext cx="1538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Your own foot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6767640" y="6264360"/>
            <a:ext cx="1538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Your Log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ktangel 54"/>
          <p:cNvSpPr/>
          <p:nvPr/>
        </p:nvSpPr>
        <p:spPr>
          <a:xfrm>
            <a:off x="7120080" y="1535040"/>
            <a:ext cx="1244520" cy="8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Calibri"/>
              </a:rPr>
              <a:t>Exampl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Calibri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658160" y="2068920"/>
            <a:ext cx="938160" cy="293400"/>
            <a:chOff x="1658160" y="2068920"/>
            <a:chExt cx="938160" cy="293400"/>
          </a:xfrm>
        </p:grpSpPr>
        <p:sp>
          <p:nvSpPr>
            <p:cNvPr id="170" name="Line 33"/>
            <p:cNvSpPr/>
            <p:nvPr/>
          </p:nvSpPr>
          <p:spPr>
            <a:xfrm flipH="1" flipV="1">
              <a:off x="1658160" y="2113200"/>
              <a:ext cx="938160" cy="204480"/>
            </a:xfrm>
            <a:prstGeom prst="line">
              <a:avLst/>
            </a:prstGeom>
            <a:ln w="19080">
              <a:solidFill>
                <a:srgbClr val="34363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 rot="10635000">
              <a:off x="1663200" y="2090880"/>
              <a:ext cx="927360" cy="24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Ellipse 135"/>
          <p:cNvSpPr/>
          <p:nvPr/>
        </p:nvSpPr>
        <p:spPr>
          <a:xfrm rot="21051600">
            <a:off x="6386040" y="2542680"/>
            <a:ext cx="649440" cy="635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llipse 136"/>
          <p:cNvSpPr/>
          <p:nvPr/>
        </p:nvSpPr>
        <p:spPr>
          <a:xfrm>
            <a:off x="6481800" y="2556000"/>
            <a:ext cx="469800" cy="344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Måne 137"/>
          <p:cNvSpPr/>
          <p:nvPr/>
        </p:nvSpPr>
        <p:spPr>
          <a:xfrm rot="16551600">
            <a:off x="6555600" y="2710800"/>
            <a:ext cx="279360" cy="63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847" y="734"/>
                  <a:pt x="4093" y="5080"/>
                  <a:pt x="4093" y="10800"/>
                </a:cubicBezTo>
                <a:cubicBezTo>
                  <a:pt x="4093" y="16520"/>
                  <a:pt x="12847" y="208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8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Ellipse 135"/>
          <p:cNvSpPr/>
          <p:nvPr/>
        </p:nvSpPr>
        <p:spPr>
          <a:xfrm rot="21051600">
            <a:off x="5742000" y="2454120"/>
            <a:ext cx="649440" cy="63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llipse 136"/>
          <p:cNvSpPr/>
          <p:nvPr/>
        </p:nvSpPr>
        <p:spPr>
          <a:xfrm>
            <a:off x="5837400" y="2468520"/>
            <a:ext cx="469800" cy="344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Måne 137"/>
          <p:cNvSpPr/>
          <p:nvPr/>
        </p:nvSpPr>
        <p:spPr>
          <a:xfrm rot="16551600">
            <a:off x="5909400" y="2621520"/>
            <a:ext cx="280800" cy="631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847" y="734"/>
                  <a:pt x="4093" y="5080"/>
                  <a:pt x="4093" y="10800"/>
                </a:cubicBezTo>
                <a:cubicBezTo>
                  <a:pt x="4093" y="16520"/>
                  <a:pt x="12847" y="208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8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Ellipse 135"/>
          <p:cNvSpPr/>
          <p:nvPr/>
        </p:nvSpPr>
        <p:spPr>
          <a:xfrm rot="21051600">
            <a:off x="5106600" y="2381400"/>
            <a:ext cx="649440" cy="636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llipse 136"/>
          <p:cNvSpPr/>
          <p:nvPr/>
        </p:nvSpPr>
        <p:spPr>
          <a:xfrm>
            <a:off x="5202360" y="2395440"/>
            <a:ext cx="469800" cy="344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Måne 137"/>
          <p:cNvSpPr/>
          <p:nvPr/>
        </p:nvSpPr>
        <p:spPr>
          <a:xfrm rot="16551600">
            <a:off x="5275080" y="2549160"/>
            <a:ext cx="281160" cy="63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847" y="734"/>
                  <a:pt x="4093" y="5080"/>
                  <a:pt x="4093" y="10800"/>
                </a:cubicBezTo>
                <a:cubicBezTo>
                  <a:pt x="4093" y="16520"/>
                  <a:pt x="12847" y="208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8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Ellipse 135"/>
          <p:cNvSpPr/>
          <p:nvPr/>
        </p:nvSpPr>
        <p:spPr>
          <a:xfrm rot="21051600">
            <a:off x="5478480" y="1884240"/>
            <a:ext cx="649440" cy="63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llipse 136"/>
          <p:cNvSpPr/>
          <p:nvPr/>
        </p:nvSpPr>
        <p:spPr>
          <a:xfrm>
            <a:off x="5573880" y="1897200"/>
            <a:ext cx="469800" cy="344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Måne 137"/>
          <p:cNvSpPr/>
          <p:nvPr/>
        </p:nvSpPr>
        <p:spPr>
          <a:xfrm rot="16551600">
            <a:off x="5647320" y="2051640"/>
            <a:ext cx="279360" cy="63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847" y="734"/>
                  <a:pt x="4093" y="5080"/>
                  <a:pt x="4093" y="10800"/>
                </a:cubicBezTo>
                <a:cubicBezTo>
                  <a:pt x="4093" y="16520"/>
                  <a:pt x="12847" y="208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8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Ellipse 135"/>
          <p:cNvSpPr/>
          <p:nvPr/>
        </p:nvSpPr>
        <p:spPr>
          <a:xfrm rot="21051600">
            <a:off x="6138360" y="1960200"/>
            <a:ext cx="648000" cy="636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llipse 136"/>
          <p:cNvSpPr/>
          <p:nvPr/>
        </p:nvSpPr>
        <p:spPr>
          <a:xfrm>
            <a:off x="6232680" y="1974960"/>
            <a:ext cx="469800" cy="34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Måne 137"/>
          <p:cNvSpPr/>
          <p:nvPr/>
        </p:nvSpPr>
        <p:spPr>
          <a:xfrm rot="16551600">
            <a:off x="6304680" y="2129400"/>
            <a:ext cx="280800" cy="62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847" y="734"/>
                  <a:pt x="4093" y="5080"/>
                  <a:pt x="4093" y="10800"/>
                </a:cubicBezTo>
                <a:cubicBezTo>
                  <a:pt x="4093" y="16520"/>
                  <a:pt x="12847" y="208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8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Ellipse 135"/>
          <p:cNvSpPr/>
          <p:nvPr/>
        </p:nvSpPr>
        <p:spPr>
          <a:xfrm rot="21051600">
            <a:off x="5870520" y="1380960"/>
            <a:ext cx="649440" cy="6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llipse 136"/>
          <p:cNvSpPr/>
          <p:nvPr/>
        </p:nvSpPr>
        <p:spPr>
          <a:xfrm>
            <a:off x="5965920" y="1395360"/>
            <a:ext cx="469800" cy="344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Måne 137"/>
          <p:cNvSpPr/>
          <p:nvPr/>
        </p:nvSpPr>
        <p:spPr>
          <a:xfrm rot="16551600">
            <a:off x="6038640" y="1550520"/>
            <a:ext cx="281160" cy="63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847" y="734"/>
                  <a:pt x="4093" y="5080"/>
                  <a:pt x="4093" y="10800"/>
                </a:cubicBezTo>
                <a:cubicBezTo>
                  <a:pt x="4093" y="16520"/>
                  <a:pt x="12847" y="208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8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Division 72"/>
          <p:cNvSpPr/>
          <p:nvPr/>
        </p:nvSpPr>
        <p:spPr>
          <a:xfrm rot="21435000">
            <a:off x="6464160" y="2614320"/>
            <a:ext cx="498600" cy="498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Division 74"/>
          <p:cNvSpPr/>
          <p:nvPr/>
        </p:nvSpPr>
        <p:spPr>
          <a:xfrm rot="21435000">
            <a:off x="5835600" y="2528640"/>
            <a:ext cx="498600" cy="498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vision 75"/>
          <p:cNvSpPr/>
          <p:nvPr/>
        </p:nvSpPr>
        <p:spPr>
          <a:xfrm rot="21435000">
            <a:off x="5184720" y="2453760"/>
            <a:ext cx="498600" cy="49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Division 78"/>
          <p:cNvSpPr/>
          <p:nvPr/>
        </p:nvSpPr>
        <p:spPr>
          <a:xfrm rot="21435000">
            <a:off x="5557680" y="1947600"/>
            <a:ext cx="498600" cy="498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Division 80"/>
          <p:cNvSpPr/>
          <p:nvPr/>
        </p:nvSpPr>
        <p:spPr>
          <a:xfrm rot="21435000">
            <a:off x="6207120" y="2037960"/>
            <a:ext cx="498600" cy="49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Division 81"/>
          <p:cNvSpPr/>
          <p:nvPr/>
        </p:nvSpPr>
        <p:spPr>
          <a:xfrm rot="21435000">
            <a:off x="5951520" y="1460160"/>
            <a:ext cx="498600" cy="49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Ellipse 43"/>
          <p:cNvSpPr/>
          <p:nvPr/>
        </p:nvSpPr>
        <p:spPr>
          <a:xfrm rot="21435000">
            <a:off x="3625560" y="3854520"/>
            <a:ext cx="1839960" cy="577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llipse 135"/>
          <p:cNvSpPr/>
          <p:nvPr/>
        </p:nvSpPr>
        <p:spPr>
          <a:xfrm rot="20887200">
            <a:off x="3954600" y="3046320"/>
            <a:ext cx="1160280" cy="1139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Ellipse 136"/>
          <p:cNvSpPr/>
          <p:nvPr/>
        </p:nvSpPr>
        <p:spPr>
          <a:xfrm rot="21435000">
            <a:off x="4111200" y="3069720"/>
            <a:ext cx="841320" cy="61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5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Måne 137"/>
          <p:cNvSpPr/>
          <p:nvPr/>
        </p:nvSpPr>
        <p:spPr>
          <a:xfrm rot="16387200">
            <a:off x="4267800" y="3362760"/>
            <a:ext cx="502920" cy="112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847" y="734"/>
                  <a:pt x="4093" y="5080"/>
                  <a:pt x="4093" y="10800"/>
                </a:cubicBezTo>
                <a:cubicBezTo>
                  <a:pt x="4093" y="16520"/>
                  <a:pt x="12847" y="208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01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10"/>
          <p:cNvSpPr/>
          <p:nvPr/>
        </p:nvSpPr>
        <p:spPr>
          <a:xfrm rot="352200">
            <a:off x="2125800" y="2940120"/>
            <a:ext cx="4984560" cy="10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Ellipse 135"/>
          <p:cNvSpPr/>
          <p:nvPr/>
        </p:nvSpPr>
        <p:spPr>
          <a:xfrm flipV="1" rot="11348400">
            <a:off x="2333160" y="2097720"/>
            <a:ext cx="649440" cy="636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llipse 136"/>
          <p:cNvSpPr/>
          <p:nvPr/>
        </p:nvSpPr>
        <p:spPr>
          <a:xfrm flipV="1" rot="10800000">
            <a:off x="2419200" y="2111760"/>
            <a:ext cx="470160" cy="344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Måne 137"/>
          <p:cNvSpPr/>
          <p:nvPr/>
        </p:nvSpPr>
        <p:spPr>
          <a:xfrm flipV="1" rot="15848400">
            <a:off x="2532960" y="2266560"/>
            <a:ext cx="281160" cy="63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847" y="734"/>
                  <a:pt x="4093" y="5080"/>
                  <a:pt x="4093" y="10800"/>
                </a:cubicBezTo>
                <a:cubicBezTo>
                  <a:pt x="4093" y="16520"/>
                  <a:pt x="12847" y="208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us 21"/>
          <p:cNvSpPr/>
          <p:nvPr/>
        </p:nvSpPr>
        <p:spPr>
          <a:xfrm rot="21435000">
            <a:off x="2438280" y="2187720"/>
            <a:ext cx="436680" cy="43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llipse 43"/>
          <p:cNvSpPr/>
          <p:nvPr/>
        </p:nvSpPr>
        <p:spPr>
          <a:xfrm>
            <a:off x="-144360" y="5489640"/>
            <a:ext cx="183996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1"/>
          <p:cNvSpPr/>
          <p:nvPr/>
        </p:nvSpPr>
        <p:spPr>
          <a:xfrm>
            <a:off x="0" y="5315040"/>
            <a:ext cx="9144000" cy="18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7" name="Group 20"/>
          <p:cNvGrpSpPr/>
          <p:nvPr/>
        </p:nvGrpSpPr>
        <p:grpSpPr>
          <a:xfrm>
            <a:off x="228600" y="4876920"/>
            <a:ext cx="8686800" cy="914400"/>
            <a:chOff x="228600" y="4876920"/>
            <a:chExt cx="8686800" cy="914400"/>
          </a:xfrm>
        </p:grpSpPr>
        <p:sp>
          <p:nvSpPr>
            <p:cNvPr id="208" name="Freeform 8"/>
            <p:cNvSpPr/>
            <p:nvPr/>
          </p:nvSpPr>
          <p:spPr>
            <a:xfrm>
              <a:off x="1454040" y="4876920"/>
              <a:ext cx="1325520" cy="914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9"/>
            <p:cNvSpPr/>
            <p:nvPr/>
          </p:nvSpPr>
          <p:spPr>
            <a:xfrm>
              <a:off x="228600" y="4876920"/>
              <a:ext cx="1322280" cy="914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0"/>
            <p:cNvSpPr/>
            <p:nvPr/>
          </p:nvSpPr>
          <p:spPr>
            <a:xfrm>
              <a:off x="2679480" y="4876920"/>
              <a:ext cx="1325520" cy="914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1"/>
            <p:cNvSpPr/>
            <p:nvPr/>
          </p:nvSpPr>
          <p:spPr>
            <a:xfrm>
              <a:off x="3909240" y="4876920"/>
              <a:ext cx="1325160" cy="914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808b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2"/>
            <p:cNvSpPr/>
            <p:nvPr/>
          </p:nvSpPr>
          <p:spPr>
            <a:xfrm>
              <a:off x="5138640" y="4876920"/>
              <a:ext cx="1318320" cy="914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b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3"/>
            <p:cNvSpPr/>
            <p:nvPr/>
          </p:nvSpPr>
          <p:spPr>
            <a:xfrm>
              <a:off x="6364440" y="4876920"/>
              <a:ext cx="1321920" cy="914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5f8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4"/>
            <p:cNvSpPr/>
            <p:nvPr/>
          </p:nvSpPr>
          <p:spPr>
            <a:xfrm>
              <a:off x="7590240" y="4876920"/>
              <a:ext cx="1325160" cy="914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2642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5" name="Freeform 9"/>
          <p:cNvSpPr/>
          <p:nvPr/>
        </p:nvSpPr>
        <p:spPr>
          <a:xfrm>
            <a:off x="228600" y="5791320"/>
            <a:ext cx="1322280" cy="914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reeform 8"/>
          <p:cNvSpPr/>
          <p:nvPr/>
        </p:nvSpPr>
        <p:spPr>
          <a:xfrm>
            <a:off x="1447920" y="5791320"/>
            <a:ext cx="1325520" cy="914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8"/>
          <p:cNvSpPr/>
          <p:nvPr/>
        </p:nvSpPr>
        <p:spPr>
          <a:xfrm>
            <a:off x="2679840" y="5791320"/>
            <a:ext cx="1325520" cy="914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8"/>
          <p:cNvSpPr/>
          <p:nvPr/>
        </p:nvSpPr>
        <p:spPr>
          <a:xfrm>
            <a:off x="3909960" y="5791320"/>
            <a:ext cx="1325520" cy="914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8"/>
          <p:cNvSpPr/>
          <p:nvPr/>
        </p:nvSpPr>
        <p:spPr>
          <a:xfrm>
            <a:off x="5138640" y="5791320"/>
            <a:ext cx="1325520" cy="914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8"/>
          <p:cNvSpPr/>
          <p:nvPr/>
        </p:nvSpPr>
        <p:spPr>
          <a:xfrm>
            <a:off x="6364440" y="5791320"/>
            <a:ext cx="1325520" cy="914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8"/>
          <p:cNvSpPr/>
          <p:nvPr/>
        </p:nvSpPr>
        <p:spPr>
          <a:xfrm>
            <a:off x="7589880" y="5791320"/>
            <a:ext cx="1325520" cy="914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2" name="Group 31"/>
          <p:cNvGrpSpPr/>
          <p:nvPr/>
        </p:nvGrpSpPr>
        <p:grpSpPr>
          <a:xfrm>
            <a:off x="533520" y="838080"/>
            <a:ext cx="3809880" cy="762120"/>
            <a:chOff x="533520" y="838080"/>
            <a:chExt cx="3809880" cy="762120"/>
          </a:xfrm>
        </p:grpSpPr>
        <p:sp>
          <p:nvSpPr>
            <p:cNvPr id="223" name="Rounded Rectangle 27"/>
            <p:cNvSpPr/>
            <p:nvPr/>
          </p:nvSpPr>
          <p:spPr>
            <a:xfrm>
              <a:off x="533520" y="838080"/>
              <a:ext cx="3809880" cy="762120"/>
            </a:xfrm>
            <a:prstGeom prst="roundRect">
              <a:avLst>
                <a:gd name="adj" fmla="val 1144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Rektangel 54"/>
            <p:cNvSpPr/>
            <p:nvPr/>
          </p:nvSpPr>
          <p:spPr>
            <a:xfrm>
              <a:off x="1371600" y="861840"/>
              <a:ext cx="2819520" cy="7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Calibri"/>
                </a:rPr>
                <a:t>Example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Calibri"/>
                </a:rPr>
                <a:t>This is an example text. Go ahead and replace it with your own text.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tangle 29"/>
            <p:cNvSpPr/>
            <p:nvPr/>
          </p:nvSpPr>
          <p:spPr>
            <a:xfrm>
              <a:off x="685800" y="950760"/>
              <a:ext cx="533160" cy="536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Group 41"/>
          <p:cNvGrpSpPr/>
          <p:nvPr/>
        </p:nvGrpSpPr>
        <p:grpSpPr>
          <a:xfrm>
            <a:off x="533520" y="1828800"/>
            <a:ext cx="3809880" cy="762120"/>
            <a:chOff x="533520" y="1828800"/>
            <a:chExt cx="3809880" cy="762120"/>
          </a:xfrm>
        </p:grpSpPr>
        <p:sp>
          <p:nvSpPr>
            <p:cNvPr id="227" name="Rounded Rectangle 42"/>
            <p:cNvSpPr/>
            <p:nvPr/>
          </p:nvSpPr>
          <p:spPr>
            <a:xfrm>
              <a:off x="533520" y="1828800"/>
              <a:ext cx="3809880" cy="762120"/>
            </a:xfrm>
            <a:prstGeom prst="roundRect">
              <a:avLst>
                <a:gd name="adj" fmla="val 1144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ktangel 54"/>
            <p:cNvSpPr/>
            <p:nvPr/>
          </p:nvSpPr>
          <p:spPr>
            <a:xfrm>
              <a:off x="1371600" y="1852560"/>
              <a:ext cx="2819520" cy="7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Calibri"/>
                </a:rPr>
                <a:t>Example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Calibri"/>
                </a:rPr>
                <a:t>This is an example text. Go ahead and replace it with your own text.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Rectangle 44"/>
            <p:cNvSpPr/>
            <p:nvPr/>
          </p:nvSpPr>
          <p:spPr>
            <a:xfrm>
              <a:off x="685800" y="1941480"/>
              <a:ext cx="533160" cy="536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Group 49"/>
          <p:cNvGrpSpPr/>
          <p:nvPr/>
        </p:nvGrpSpPr>
        <p:grpSpPr>
          <a:xfrm>
            <a:off x="533520" y="2743200"/>
            <a:ext cx="3809880" cy="762120"/>
            <a:chOff x="533520" y="2743200"/>
            <a:chExt cx="3809880" cy="762120"/>
          </a:xfrm>
        </p:grpSpPr>
        <p:sp>
          <p:nvSpPr>
            <p:cNvPr id="231" name="Rounded Rectangle 46"/>
            <p:cNvSpPr/>
            <p:nvPr/>
          </p:nvSpPr>
          <p:spPr>
            <a:xfrm>
              <a:off x="533520" y="2743200"/>
              <a:ext cx="3809880" cy="762120"/>
            </a:xfrm>
            <a:prstGeom prst="roundRect">
              <a:avLst>
                <a:gd name="adj" fmla="val 1144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Rektangel 54"/>
            <p:cNvSpPr/>
            <p:nvPr/>
          </p:nvSpPr>
          <p:spPr>
            <a:xfrm>
              <a:off x="1371600" y="2766960"/>
              <a:ext cx="2819520" cy="7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Calibri"/>
                </a:rPr>
                <a:t>Example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Calibri"/>
                </a:rPr>
                <a:t>This is an example text. Go ahead and replace it with your own text.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Rectangle 40"/>
            <p:cNvSpPr/>
            <p:nvPr/>
          </p:nvSpPr>
          <p:spPr>
            <a:xfrm>
              <a:off x="685800" y="2855880"/>
              <a:ext cx="533160" cy="536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50"/>
          <p:cNvGrpSpPr/>
          <p:nvPr/>
        </p:nvGrpSpPr>
        <p:grpSpPr>
          <a:xfrm>
            <a:off x="533520" y="3733920"/>
            <a:ext cx="3809880" cy="761760"/>
            <a:chOff x="533520" y="3733920"/>
            <a:chExt cx="3809880" cy="761760"/>
          </a:xfrm>
        </p:grpSpPr>
        <p:sp>
          <p:nvSpPr>
            <p:cNvPr id="235" name="Rounded Rectangle 51"/>
            <p:cNvSpPr/>
            <p:nvPr/>
          </p:nvSpPr>
          <p:spPr>
            <a:xfrm>
              <a:off x="533520" y="3733920"/>
              <a:ext cx="3809880" cy="761760"/>
            </a:xfrm>
            <a:prstGeom prst="roundRect">
              <a:avLst>
                <a:gd name="adj" fmla="val 1144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Rektangel 54"/>
            <p:cNvSpPr/>
            <p:nvPr/>
          </p:nvSpPr>
          <p:spPr>
            <a:xfrm>
              <a:off x="1371600" y="3757680"/>
              <a:ext cx="2819520" cy="7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Calibri"/>
                </a:rPr>
                <a:t>Example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Calibri"/>
                </a:rPr>
                <a:t>This is an example text. Go ahead and replace it with your own text.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Rectangle 53"/>
            <p:cNvSpPr/>
            <p:nvPr/>
          </p:nvSpPr>
          <p:spPr>
            <a:xfrm>
              <a:off x="685800" y="3846600"/>
              <a:ext cx="533160" cy="536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8" name="Group 54"/>
          <p:cNvGrpSpPr/>
          <p:nvPr/>
        </p:nvGrpSpPr>
        <p:grpSpPr>
          <a:xfrm>
            <a:off x="4876920" y="1371600"/>
            <a:ext cx="3809880" cy="762120"/>
            <a:chOff x="4876920" y="1371600"/>
            <a:chExt cx="3809880" cy="762120"/>
          </a:xfrm>
        </p:grpSpPr>
        <p:sp>
          <p:nvSpPr>
            <p:cNvPr id="239" name="Rounded Rectangle 55"/>
            <p:cNvSpPr/>
            <p:nvPr/>
          </p:nvSpPr>
          <p:spPr>
            <a:xfrm>
              <a:off x="4876920" y="1371600"/>
              <a:ext cx="3809880" cy="762120"/>
            </a:xfrm>
            <a:prstGeom prst="roundRect">
              <a:avLst>
                <a:gd name="adj" fmla="val 1144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Rektangel 54"/>
            <p:cNvSpPr/>
            <p:nvPr/>
          </p:nvSpPr>
          <p:spPr>
            <a:xfrm>
              <a:off x="5715000" y="1395360"/>
              <a:ext cx="2819520" cy="7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Calibri"/>
                </a:rPr>
                <a:t>Example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Calibri"/>
                </a:rPr>
                <a:t>This is an example text. Go ahead and replace it with your own text.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Rectangle 57"/>
            <p:cNvSpPr/>
            <p:nvPr/>
          </p:nvSpPr>
          <p:spPr>
            <a:xfrm>
              <a:off x="5029200" y="1484280"/>
              <a:ext cx="533160" cy="536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Group 58"/>
          <p:cNvGrpSpPr/>
          <p:nvPr/>
        </p:nvGrpSpPr>
        <p:grpSpPr>
          <a:xfrm>
            <a:off x="4876920" y="2286000"/>
            <a:ext cx="3809880" cy="762120"/>
            <a:chOff x="4876920" y="2286000"/>
            <a:chExt cx="3809880" cy="762120"/>
          </a:xfrm>
        </p:grpSpPr>
        <p:sp>
          <p:nvSpPr>
            <p:cNvPr id="243" name="Rounded Rectangle 59"/>
            <p:cNvSpPr/>
            <p:nvPr/>
          </p:nvSpPr>
          <p:spPr>
            <a:xfrm>
              <a:off x="4876920" y="2286000"/>
              <a:ext cx="3809880" cy="762120"/>
            </a:xfrm>
            <a:prstGeom prst="roundRect">
              <a:avLst>
                <a:gd name="adj" fmla="val 1144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Rektangel 54"/>
            <p:cNvSpPr/>
            <p:nvPr/>
          </p:nvSpPr>
          <p:spPr>
            <a:xfrm>
              <a:off x="5715000" y="2309760"/>
              <a:ext cx="2819520" cy="7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Calibri"/>
                </a:rPr>
                <a:t>Example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Calibri"/>
                </a:rPr>
                <a:t>This is an example text. Go ahead and replace it with your own text.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Rectangle 61"/>
            <p:cNvSpPr/>
            <p:nvPr/>
          </p:nvSpPr>
          <p:spPr>
            <a:xfrm>
              <a:off x="5029200" y="2398680"/>
              <a:ext cx="533160" cy="536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6" name="Group 62"/>
          <p:cNvGrpSpPr/>
          <p:nvPr/>
        </p:nvGrpSpPr>
        <p:grpSpPr>
          <a:xfrm>
            <a:off x="4876920" y="3276720"/>
            <a:ext cx="3809880" cy="761760"/>
            <a:chOff x="4876920" y="3276720"/>
            <a:chExt cx="3809880" cy="761760"/>
          </a:xfrm>
        </p:grpSpPr>
        <p:sp>
          <p:nvSpPr>
            <p:cNvPr id="247" name="Rounded Rectangle 63"/>
            <p:cNvSpPr/>
            <p:nvPr/>
          </p:nvSpPr>
          <p:spPr>
            <a:xfrm>
              <a:off x="4876920" y="3276720"/>
              <a:ext cx="3809880" cy="761760"/>
            </a:xfrm>
            <a:prstGeom prst="roundRect">
              <a:avLst>
                <a:gd name="adj" fmla="val 1144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Rektangel 54"/>
            <p:cNvSpPr/>
            <p:nvPr/>
          </p:nvSpPr>
          <p:spPr>
            <a:xfrm>
              <a:off x="5715000" y="3300480"/>
              <a:ext cx="2819520" cy="7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Calibri"/>
                </a:rPr>
                <a:t>Example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Calibri"/>
                </a:rPr>
                <a:t>This is an example text. Go ahead and replace it with your own text.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Rectangle 65"/>
            <p:cNvSpPr/>
            <p:nvPr/>
          </p:nvSpPr>
          <p:spPr>
            <a:xfrm>
              <a:off x="5029200" y="3389400"/>
              <a:ext cx="533160" cy="536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TextBox 59"/>
          <p:cNvSpPr/>
          <p:nvPr/>
        </p:nvSpPr>
        <p:spPr>
          <a:xfrm>
            <a:off x="243000" y="1522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CHEVR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 DIA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ktangel 26"/>
          <p:cNvSpPr/>
          <p:nvPr/>
        </p:nvSpPr>
        <p:spPr>
          <a:xfrm flipV="1" rot="10800000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Content Placeholder 3" descr=""/>
          <p:cNvPicPr/>
          <p:nvPr/>
        </p:nvPicPr>
        <p:blipFill>
          <a:blip r:embed="rId1"/>
          <a:stretch/>
        </p:blipFill>
        <p:spPr>
          <a:xfrm>
            <a:off x="314280" y="760320"/>
            <a:ext cx="8229600" cy="50468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54"/>
          <p:cNvSpPr/>
          <p:nvPr/>
        </p:nvSpPr>
        <p:spPr>
          <a:xfrm>
            <a:off x="314280" y="378000"/>
            <a:ext cx="5324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Calibri"/>
                <a:ea typeface="MS PGothic"/>
              </a:rPr>
              <a:t>DATA DRIVEN</a:t>
            </a:r>
            <a:r>
              <a:rPr b="0" lang="en-US" sz="1500" spc="-1" strike="noStrike">
                <a:solidFill>
                  <a:srgbClr val="262626"/>
                </a:solidFill>
                <a:latin typeface="Calibri"/>
                <a:ea typeface="MS PGothic"/>
              </a:rPr>
              <a:t> COLUMN GRAPH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16-Point Star 7"/>
          <p:cNvSpPr/>
          <p:nvPr/>
        </p:nvSpPr>
        <p:spPr>
          <a:xfrm>
            <a:off x="6751800" y="507960"/>
            <a:ext cx="2234880" cy="2057400"/>
          </a:xfrm>
          <a:custGeom>
            <a:avLst/>
            <a:gdLst>
              <a:gd name="textAreaLeft" fmla="*/ 436680 w 2234880"/>
              <a:gd name="textAreaRight" fmla="*/ 1798200 w 2234880"/>
              <a:gd name="textAreaTop" fmla="*/ 402120 h 2057400"/>
              <a:gd name="textAreaBottom" fmla="*/ 16552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70" y="12575"/>
                </a:lnTo>
                <a:lnTo>
                  <a:pt x="786" y="14846"/>
                </a:lnTo>
                <a:lnTo>
                  <a:pt x="3000" y="15866"/>
                </a:lnTo>
                <a:lnTo>
                  <a:pt x="3163" y="18437"/>
                </a:lnTo>
                <a:lnTo>
                  <a:pt x="5599" y="18511"/>
                </a:lnTo>
                <a:lnTo>
                  <a:pt x="6580" y="20741"/>
                </a:lnTo>
                <a:lnTo>
                  <a:pt x="8866" y="19898"/>
                </a:lnTo>
                <a:lnTo>
                  <a:pt x="10800" y="21600"/>
                </a:lnTo>
                <a:lnTo>
                  <a:pt x="12575" y="19930"/>
                </a:lnTo>
                <a:lnTo>
                  <a:pt x="14846" y="20814"/>
                </a:lnTo>
                <a:lnTo>
                  <a:pt x="15866" y="18600"/>
                </a:lnTo>
                <a:lnTo>
                  <a:pt x="18437" y="18437"/>
                </a:lnTo>
                <a:lnTo>
                  <a:pt x="18511" y="16001"/>
                </a:lnTo>
                <a:lnTo>
                  <a:pt x="20741" y="15020"/>
                </a:lnTo>
                <a:lnTo>
                  <a:pt x="19898" y="12734"/>
                </a:lnTo>
                <a:lnTo>
                  <a:pt x="21600" y="10800"/>
                </a:lnTo>
                <a:lnTo>
                  <a:pt x="19930" y="9025"/>
                </a:lnTo>
                <a:lnTo>
                  <a:pt x="20814" y="6754"/>
                </a:lnTo>
                <a:lnTo>
                  <a:pt x="18600" y="5734"/>
                </a:lnTo>
                <a:lnTo>
                  <a:pt x="18437" y="3163"/>
                </a:lnTo>
                <a:lnTo>
                  <a:pt x="16001" y="3089"/>
                </a:lnTo>
                <a:lnTo>
                  <a:pt x="15020" y="859"/>
                </a:lnTo>
                <a:lnTo>
                  <a:pt x="12734" y="1702"/>
                </a:lnTo>
                <a:lnTo>
                  <a:pt x="10800" y="0"/>
                </a:lnTo>
                <a:lnTo>
                  <a:pt x="9025" y="1670"/>
                </a:lnTo>
                <a:lnTo>
                  <a:pt x="6754" y="786"/>
                </a:lnTo>
                <a:lnTo>
                  <a:pt x="5734" y="3000"/>
                </a:lnTo>
                <a:lnTo>
                  <a:pt x="3163" y="3163"/>
                </a:lnTo>
                <a:lnTo>
                  <a:pt x="3089" y="5599"/>
                </a:lnTo>
                <a:lnTo>
                  <a:pt x="859" y="6580"/>
                </a:lnTo>
                <a:lnTo>
                  <a:pt x="1702" y="8866"/>
                </a:lnTo>
                <a:lnTo>
                  <a:pt x="0" y="10800"/>
                </a:lnTo>
                <a:close/>
              </a:path>
            </a:pathLst>
          </a:custGeom>
          <a:solidFill>
            <a:srgbClr val="fd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16-Point Star 8"/>
          <p:cNvSpPr/>
          <p:nvPr/>
        </p:nvSpPr>
        <p:spPr>
          <a:xfrm>
            <a:off x="6904080" y="649440"/>
            <a:ext cx="1930320" cy="1776240"/>
          </a:xfrm>
          <a:custGeom>
            <a:avLst/>
            <a:gdLst>
              <a:gd name="textAreaLeft" fmla="*/ 377280 w 1930320"/>
              <a:gd name="textAreaRight" fmla="*/ 1553040 w 1930320"/>
              <a:gd name="textAreaTop" fmla="*/ 347040 h 1776240"/>
              <a:gd name="textAreaBottom" fmla="*/ 1429200 h 1776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70" y="12575"/>
                </a:lnTo>
                <a:lnTo>
                  <a:pt x="786" y="14846"/>
                </a:lnTo>
                <a:lnTo>
                  <a:pt x="3000" y="15866"/>
                </a:lnTo>
                <a:lnTo>
                  <a:pt x="3163" y="18437"/>
                </a:lnTo>
                <a:lnTo>
                  <a:pt x="5599" y="18511"/>
                </a:lnTo>
                <a:lnTo>
                  <a:pt x="6580" y="20741"/>
                </a:lnTo>
                <a:lnTo>
                  <a:pt x="8866" y="19898"/>
                </a:lnTo>
                <a:lnTo>
                  <a:pt x="10800" y="21600"/>
                </a:lnTo>
                <a:lnTo>
                  <a:pt x="12575" y="19930"/>
                </a:lnTo>
                <a:lnTo>
                  <a:pt x="14846" y="20814"/>
                </a:lnTo>
                <a:lnTo>
                  <a:pt x="15866" y="18600"/>
                </a:lnTo>
                <a:lnTo>
                  <a:pt x="18437" y="18437"/>
                </a:lnTo>
                <a:lnTo>
                  <a:pt x="18511" y="16001"/>
                </a:lnTo>
                <a:lnTo>
                  <a:pt x="20741" y="15020"/>
                </a:lnTo>
                <a:lnTo>
                  <a:pt x="19898" y="12734"/>
                </a:lnTo>
                <a:lnTo>
                  <a:pt x="21600" y="10800"/>
                </a:lnTo>
                <a:lnTo>
                  <a:pt x="19930" y="9025"/>
                </a:lnTo>
                <a:lnTo>
                  <a:pt x="20814" y="6754"/>
                </a:lnTo>
                <a:lnTo>
                  <a:pt x="18600" y="5734"/>
                </a:lnTo>
                <a:lnTo>
                  <a:pt x="18437" y="3163"/>
                </a:lnTo>
                <a:lnTo>
                  <a:pt x="16001" y="3089"/>
                </a:lnTo>
                <a:lnTo>
                  <a:pt x="15020" y="859"/>
                </a:lnTo>
                <a:lnTo>
                  <a:pt x="12734" y="1702"/>
                </a:lnTo>
                <a:lnTo>
                  <a:pt x="10800" y="0"/>
                </a:lnTo>
                <a:lnTo>
                  <a:pt x="9025" y="1670"/>
                </a:lnTo>
                <a:lnTo>
                  <a:pt x="6754" y="786"/>
                </a:lnTo>
                <a:lnTo>
                  <a:pt x="5734" y="3000"/>
                </a:lnTo>
                <a:lnTo>
                  <a:pt x="3163" y="3163"/>
                </a:lnTo>
                <a:lnTo>
                  <a:pt x="3089" y="5599"/>
                </a:lnTo>
                <a:lnTo>
                  <a:pt x="859" y="6580"/>
                </a:lnTo>
                <a:lnTo>
                  <a:pt x="1702" y="886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5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54"/>
          <p:cNvSpPr/>
          <p:nvPr/>
        </p:nvSpPr>
        <p:spPr>
          <a:xfrm rot="19800000">
            <a:off x="7141320" y="122868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MS PGothic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0" y="5689440"/>
            <a:ext cx="9144000" cy="11811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8" name="Group 19"/>
          <p:cNvGrpSpPr/>
          <p:nvPr/>
        </p:nvGrpSpPr>
        <p:grpSpPr>
          <a:xfrm>
            <a:off x="249120" y="5888160"/>
            <a:ext cx="250920" cy="250560"/>
            <a:chOff x="249120" y="5888160"/>
            <a:chExt cx="250920" cy="250560"/>
          </a:xfrm>
        </p:grpSpPr>
        <p:sp>
          <p:nvSpPr>
            <p:cNvPr id="259" name="Oval 1031"/>
            <p:cNvSpPr/>
            <p:nvPr/>
          </p:nvSpPr>
          <p:spPr>
            <a:xfrm>
              <a:off x="249120" y="5888160"/>
              <a:ext cx="250920" cy="250560"/>
            </a:xfrm>
            <a:prstGeom prst="ellipse">
              <a:avLst/>
            </a:prstGeom>
            <a:noFill/>
            <a:ln w="9360">
              <a:solidFill>
                <a:srgbClr val="353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Isosceles Triangle 1032"/>
            <p:cNvSpPr/>
            <p:nvPr/>
          </p:nvSpPr>
          <p:spPr>
            <a:xfrm rot="5400000">
              <a:off x="316080" y="5948280"/>
              <a:ext cx="149040" cy="130320"/>
            </a:xfrm>
            <a:prstGeom prst="triangle">
              <a:avLst>
                <a:gd name="adj" fmla="val 50000"/>
              </a:avLst>
            </a:prstGeom>
            <a:solidFill>
              <a:srgbClr val="353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1" name="Rektangel 76"/>
          <p:cNvSpPr/>
          <p:nvPr/>
        </p:nvSpPr>
        <p:spPr>
          <a:xfrm>
            <a:off x="2666880" y="5803920"/>
            <a:ext cx="189720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62626"/>
                </a:solidFill>
                <a:latin typeface="Calibri"/>
              </a:rPr>
              <a:t>Example tex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bri"/>
              </a:rPr>
              <a:t>Go ahead and replace it with your own text. This is an example text. Go ahead and replace it with your ow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ktangel 76"/>
          <p:cNvSpPr/>
          <p:nvPr/>
        </p:nvSpPr>
        <p:spPr>
          <a:xfrm>
            <a:off x="503280" y="5803920"/>
            <a:ext cx="189720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62626"/>
                </a:solidFill>
                <a:latin typeface="Calibri"/>
              </a:rPr>
              <a:t>Example tex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bri"/>
              </a:rPr>
              <a:t>Go ahead and replace it with your own text. This is an example text. Go ahead and replace it with your ow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ktangel 76"/>
          <p:cNvSpPr/>
          <p:nvPr/>
        </p:nvSpPr>
        <p:spPr>
          <a:xfrm>
            <a:off x="7068960" y="5803920"/>
            <a:ext cx="189720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62626"/>
                </a:solidFill>
                <a:latin typeface="Calibri"/>
              </a:rPr>
              <a:t>Example tex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bri"/>
              </a:rPr>
              <a:t>Go ahead and replace it with your own text. This is an example text. Go ahead and replace it with your ow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ktangel 76"/>
          <p:cNvSpPr/>
          <p:nvPr/>
        </p:nvSpPr>
        <p:spPr>
          <a:xfrm>
            <a:off x="4973760" y="5803920"/>
            <a:ext cx="189684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62626"/>
                </a:solidFill>
                <a:latin typeface="Calibri"/>
              </a:rPr>
              <a:t>Example tex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bri"/>
              </a:rPr>
              <a:t>Go ahead and replace it with your own text. This is an example text. Go ahead and replace it with your ow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Group 19"/>
          <p:cNvGrpSpPr/>
          <p:nvPr/>
        </p:nvGrpSpPr>
        <p:grpSpPr>
          <a:xfrm>
            <a:off x="2400480" y="5888160"/>
            <a:ext cx="250560" cy="250560"/>
            <a:chOff x="2400480" y="5888160"/>
            <a:chExt cx="250560" cy="250560"/>
          </a:xfrm>
        </p:grpSpPr>
        <p:sp>
          <p:nvSpPr>
            <p:cNvPr id="266" name="Oval 1009"/>
            <p:cNvSpPr/>
            <p:nvPr/>
          </p:nvSpPr>
          <p:spPr>
            <a:xfrm>
              <a:off x="2400480" y="5888160"/>
              <a:ext cx="250560" cy="250560"/>
            </a:xfrm>
            <a:prstGeom prst="ellipse">
              <a:avLst/>
            </a:prstGeom>
            <a:noFill/>
            <a:ln w="9360">
              <a:solidFill>
                <a:srgbClr val="353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Isosceles Triangle 1010"/>
            <p:cNvSpPr/>
            <p:nvPr/>
          </p:nvSpPr>
          <p:spPr>
            <a:xfrm rot="5400000">
              <a:off x="2466360" y="5948280"/>
              <a:ext cx="149040" cy="129960"/>
            </a:xfrm>
            <a:prstGeom prst="triangle">
              <a:avLst>
                <a:gd name="adj" fmla="val 50000"/>
              </a:avLst>
            </a:prstGeom>
            <a:solidFill>
              <a:srgbClr val="353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Group 19"/>
          <p:cNvGrpSpPr/>
          <p:nvPr/>
        </p:nvGrpSpPr>
        <p:grpSpPr>
          <a:xfrm>
            <a:off x="4702320" y="5888160"/>
            <a:ext cx="250560" cy="250560"/>
            <a:chOff x="4702320" y="5888160"/>
            <a:chExt cx="250560" cy="250560"/>
          </a:xfrm>
        </p:grpSpPr>
        <p:sp>
          <p:nvSpPr>
            <p:cNvPr id="269" name="Oval 1012"/>
            <p:cNvSpPr/>
            <p:nvPr/>
          </p:nvSpPr>
          <p:spPr>
            <a:xfrm>
              <a:off x="4702320" y="5888160"/>
              <a:ext cx="250560" cy="250560"/>
            </a:xfrm>
            <a:prstGeom prst="ellipse">
              <a:avLst/>
            </a:prstGeom>
            <a:noFill/>
            <a:ln w="9360">
              <a:solidFill>
                <a:srgbClr val="353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Isosceles Triangle 1013"/>
            <p:cNvSpPr/>
            <p:nvPr/>
          </p:nvSpPr>
          <p:spPr>
            <a:xfrm rot="5400000">
              <a:off x="4768200" y="5948280"/>
              <a:ext cx="149040" cy="129960"/>
            </a:xfrm>
            <a:prstGeom prst="triangle">
              <a:avLst>
                <a:gd name="adj" fmla="val 50000"/>
              </a:avLst>
            </a:prstGeom>
            <a:solidFill>
              <a:srgbClr val="353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Group 19"/>
          <p:cNvGrpSpPr/>
          <p:nvPr/>
        </p:nvGrpSpPr>
        <p:grpSpPr>
          <a:xfrm>
            <a:off x="6819840" y="5888160"/>
            <a:ext cx="250920" cy="250560"/>
            <a:chOff x="6819840" y="5888160"/>
            <a:chExt cx="250920" cy="250560"/>
          </a:xfrm>
        </p:grpSpPr>
        <p:sp>
          <p:nvSpPr>
            <p:cNvPr id="272" name="Oval 1015"/>
            <p:cNvSpPr/>
            <p:nvPr/>
          </p:nvSpPr>
          <p:spPr>
            <a:xfrm>
              <a:off x="6819840" y="5888160"/>
              <a:ext cx="250920" cy="250560"/>
            </a:xfrm>
            <a:prstGeom prst="ellipse">
              <a:avLst/>
            </a:prstGeom>
            <a:noFill/>
            <a:ln w="9360">
              <a:solidFill>
                <a:srgbClr val="353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Isosceles Triangle 1016"/>
            <p:cNvSpPr/>
            <p:nvPr/>
          </p:nvSpPr>
          <p:spPr>
            <a:xfrm rot="5400000">
              <a:off x="6886800" y="5948280"/>
              <a:ext cx="149040" cy="130320"/>
            </a:xfrm>
            <a:prstGeom prst="triangle">
              <a:avLst>
                <a:gd name="adj" fmla="val 50000"/>
              </a:avLst>
            </a:prstGeom>
            <a:solidFill>
              <a:srgbClr val="353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3"/>
          <p:cNvSpPr/>
          <p:nvPr/>
        </p:nvSpPr>
        <p:spPr>
          <a:xfrm>
            <a:off x="9360" y="4208400"/>
            <a:ext cx="9144000" cy="18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Freeform 6"/>
          <p:cNvSpPr/>
          <p:nvPr/>
        </p:nvSpPr>
        <p:spPr>
          <a:xfrm flipH="1">
            <a:off x="6833520" y="2698920"/>
            <a:ext cx="2143080" cy="23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" name="Group 112"/>
          <p:cNvGrpSpPr/>
          <p:nvPr/>
        </p:nvGrpSpPr>
        <p:grpSpPr>
          <a:xfrm>
            <a:off x="470160" y="2431080"/>
            <a:ext cx="6576480" cy="2661480"/>
            <a:chOff x="470160" y="2431080"/>
            <a:chExt cx="6576480" cy="2661480"/>
          </a:xfrm>
        </p:grpSpPr>
        <p:grpSp>
          <p:nvGrpSpPr>
            <p:cNvPr id="277" name="Group 51"/>
            <p:cNvGrpSpPr/>
            <p:nvPr/>
          </p:nvGrpSpPr>
          <p:grpSpPr>
            <a:xfrm>
              <a:off x="5640840" y="2563920"/>
              <a:ext cx="1405800" cy="2376360"/>
              <a:chOff x="5640840" y="2563920"/>
              <a:chExt cx="1405800" cy="2376360"/>
            </a:xfrm>
          </p:grpSpPr>
          <p:sp>
            <p:nvSpPr>
              <p:cNvPr id="278" name="Rounded Rectangle 52"/>
              <p:cNvSpPr/>
              <p:nvPr/>
            </p:nvSpPr>
            <p:spPr>
              <a:xfrm rot="436200">
                <a:off x="5778360" y="2626200"/>
                <a:ext cx="1130040" cy="2251440"/>
              </a:xfrm>
              <a:custGeom>
                <a:avLst/>
                <a:gdLst>
                  <a:gd name="textAreaLeft" fmla="*/ 14040 w 1130040"/>
                  <a:gd name="textAreaRight" fmla="*/ 1116000 w 1130040"/>
                  <a:gd name="textAreaTop" fmla="*/ 14040 h 2251440"/>
                  <a:gd name="textAreaBottom" fmla="*/ 2237400 h 2251440"/>
                </a:gdLst>
                <a:ahLst/>
                <a:rect l="textAreaLeft" t="textAreaTop" r="textAreaRight" b="textAreaBottom"/>
                <a:pathLst>
                  <a:path w="21600" h="43028">
                    <a:moveTo>
                      <a:pt x="922" y="0"/>
                    </a:moveTo>
                    <a:arcTo wR="922" hR="922" stAng="16200000" swAng="-5400000"/>
                    <a:lnTo>
                      <a:pt x="0" y="42106"/>
                    </a:lnTo>
                    <a:arcTo wR="922" hR="922" stAng="10800000" swAng="-5400000"/>
                    <a:lnTo>
                      <a:pt x="20678" y="43028"/>
                    </a:lnTo>
                    <a:arcTo wR="922" hR="922" stAng="5400000" swAng="-5400000"/>
                    <a:lnTo>
                      <a:pt x="21600" y="922"/>
                    </a:lnTo>
                    <a:arcTo wR="922" hR="92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Straight Connector 53"/>
              <p:cNvSpPr/>
              <p:nvPr/>
            </p:nvSpPr>
            <p:spPr>
              <a:xfrm>
                <a:off x="5895000" y="3724560"/>
                <a:ext cx="896760" cy="115920"/>
              </a:xfrm>
              <a:prstGeom prst="line">
                <a:avLst/>
              </a:prstGeom>
              <a:ln w="255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80" name="Group 54"/>
              <p:cNvGrpSpPr/>
              <p:nvPr/>
            </p:nvGrpSpPr>
            <p:grpSpPr>
              <a:xfrm>
                <a:off x="5910120" y="2685960"/>
                <a:ext cx="1011240" cy="1010880"/>
                <a:chOff x="5910120" y="2685960"/>
                <a:chExt cx="1011240" cy="1010880"/>
              </a:xfrm>
            </p:grpSpPr>
            <p:sp>
              <p:nvSpPr>
                <p:cNvPr id="281" name="Oval 4"/>
                <p:cNvSpPr/>
                <p:nvPr/>
              </p:nvSpPr>
              <p:spPr>
                <a:xfrm rot="436200">
                  <a:off x="6009480" y="269892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2" name="Oval 5"/>
                <p:cNvSpPr/>
                <p:nvPr/>
              </p:nvSpPr>
              <p:spPr>
                <a:xfrm rot="436200">
                  <a:off x="6684120" y="278496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3" name="Oval 67"/>
                <p:cNvSpPr/>
                <p:nvPr/>
              </p:nvSpPr>
              <p:spPr>
                <a:xfrm rot="436200">
                  <a:off x="5964840" y="304632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4" name="Oval 68"/>
                <p:cNvSpPr/>
                <p:nvPr/>
              </p:nvSpPr>
              <p:spPr>
                <a:xfrm rot="436200">
                  <a:off x="6639840" y="313236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5" name="Oval 69"/>
                <p:cNvSpPr/>
                <p:nvPr/>
              </p:nvSpPr>
              <p:spPr>
                <a:xfrm rot="436200">
                  <a:off x="6302880" y="309348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6" name="Oval 70"/>
                <p:cNvSpPr/>
                <p:nvPr/>
              </p:nvSpPr>
              <p:spPr>
                <a:xfrm rot="436200">
                  <a:off x="6347160" y="274644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7" name="Oval 71"/>
                <p:cNvSpPr/>
                <p:nvPr/>
              </p:nvSpPr>
              <p:spPr>
                <a:xfrm rot="436200">
                  <a:off x="5923440" y="337320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8" name="Oval 72"/>
                <p:cNvSpPr/>
                <p:nvPr/>
              </p:nvSpPr>
              <p:spPr>
                <a:xfrm rot="436200">
                  <a:off x="6598080" y="345924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9" name="Oval 73"/>
                <p:cNvSpPr/>
                <p:nvPr/>
              </p:nvSpPr>
              <p:spPr>
                <a:xfrm rot="436200">
                  <a:off x="6261480" y="342036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0" name="Group 55"/>
              <p:cNvGrpSpPr/>
              <p:nvPr/>
            </p:nvGrpSpPr>
            <p:grpSpPr>
              <a:xfrm>
                <a:off x="5764320" y="3828960"/>
                <a:ext cx="1011240" cy="1010880"/>
                <a:chOff x="5764320" y="3828960"/>
                <a:chExt cx="1011240" cy="1010880"/>
              </a:xfrm>
            </p:grpSpPr>
            <p:sp>
              <p:nvSpPr>
                <p:cNvPr id="291" name="Oval 4"/>
                <p:cNvSpPr/>
                <p:nvPr/>
              </p:nvSpPr>
              <p:spPr>
                <a:xfrm rot="436200">
                  <a:off x="5863680" y="384192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2" name="Oval 5"/>
                <p:cNvSpPr/>
                <p:nvPr/>
              </p:nvSpPr>
              <p:spPr>
                <a:xfrm rot="436200">
                  <a:off x="6538320" y="392796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3" name="Oval 58"/>
                <p:cNvSpPr/>
                <p:nvPr/>
              </p:nvSpPr>
              <p:spPr>
                <a:xfrm rot="436200">
                  <a:off x="5819040" y="418932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4" name="Oval 59"/>
                <p:cNvSpPr/>
                <p:nvPr/>
              </p:nvSpPr>
              <p:spPr>
                <a:xfrm rot="436200">
                  <a:off x="6494040" y="427572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5" name="Oval 60"/>
                <p:cNvSpPr/>
                <p:nvPr/>
              </p:nvSpPr>
              <p:spPr>
                <a:xfrm rot="436200">
                  <a:off x="6157080" y="423648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6" name="Oval 61"/>
                <p:cNvSpPr/>
                <p:nvPr/>
              </p:nvSpPr>
              <p:spPr>
                <a:xfrm rot="436200">
                  <a:off x="6201360" y="388944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7" name="Oval 62"/>
                <p:cNvSpPr/>
                <p:nvPr/>
              </p:nvSpPr>
              <p:spPr>
                <a:xfrm rot="436200">
                  <a:off x="5777640" y="451620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8" name="Oval 63"/>
                <p:cNvSpPr/>
                <p:nvPr/>
              </p:nvSpPr>
              <p:spPr>
                <a:xfrm rot="436200">
                  <a:off x="6452280" y="460224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9" name="Oval 64"/>
                <p:cNvSpPr/>
                <p:nvPr/>
              </p:nvSpPr>
              <p:spPr>
                <a:xfrm rot="436200">
                  <a:off x="6115680" y="456336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00" name="Group 41"/>
            <p:cNvGrpSpPr/>
            <p:nvPr/>
          </p:nvGrpSpPr>
          <p:grpSpPr>
            <a:xfrm>
              <a:off x="4763160" y="2499120"/>
              <a:ext cx="1639800" cy="2457720"/>
              <a:chOff x="4763160" y="2499120"/>
              <a:chExt cx="1639800" cy="2457720"/>
            </a:xfrm>
          </p:grpSpPr>
          <p:sp>
            <p:nvSpPr>
              <p:cNvPr id="301" name="Rounded Rectangle 42"/>
              <p:cNvSpPr/>
              <p:nvPr/>
            </p:nvSpPr>
            <p:spPr>
              <a:xfrm rot="837600">
                <a:off x="5018040" y="2602080"/>
                <a:ext cx="1130040" cy="2251440"/>
              </a:xfrm>
              <a:custGeom>
                <a:avLst/>
                <a:gdLst>
                  <a:gd name="textAreaLeft" fmla="*/ 14040 w 1130040"/>
                  <a:gd name="textAreaRight" fmla="*/ 1116000 w 1130040"/>
                  <a:gd name="textAreaTop" fmla="*/ 14040 h 2251440"/>
                  <a:gd name="textAreaBottom" fmla="*/ 2237400 h 2251440"/>
                </a:gdLst>
                <a:ahLst/>
                <a:rect l="textAreaLeft" t="textAreaTop" r="textAreaRight" b="textAreaBottom"/>
                <a:pathLst>
                  <a:path w="21600" h="43028">
                    <a:moveTo>
                      <a:pt x="922" y="0"/>
                    </a:moveTo>
                    <a:arcTo wR="922" hR="922" stAng="16200000" swAng="-5400000"/>
                    <a:lnTo>
                      <a:pt x="0" y="42106"/>
                    </a:lnTo>
                    <a:arcTo wR="922" hR="922" stAng="10800000" swAng="-5400000"/>
                    <a:lnTo>
                      <a:pt x="20678" y="43028"/>
                    </a:lnTo>
                    <a:arcTo wR="922" hR="922" stAng="5400000" swAng="-5400000"/>
                    <a:lnTo>
                      <a:pt x="21600" y="922"/>
                    </a:lnTo>
                    <a:arcTo wR="922" hR="92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Straight Connector 43"/>
              <p:cNvSpPr/>
              <p:nvPr/>
            </p:nvSpPr>
            <p:spPr>
              <a:xfrm>
                <a:off x="5140440" y="3648240"/>
                <a:ext cx="877320" cy="219600"/>
              </a:xfrm>
              <a:prstGeom prst="line">
                <a:avLst/>
              </a:prstGeom>
              <a:ln w="255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Oval 44"/>
              <p:cNvSpPr/>
              <p:nvPr/>
            </p:nvSpPr>
            <p:spPr>
              <a:xfrm rot="837600">
                <a:off x="5612760" y="3088800"/>
                <a:ext cx="223920" cy="223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04" name="Group 41"/>
              <p:cNvGrpSpPr/>
              <p:nvPr/>
            </p:nvGrpSpPr>
            <p:grpSpPr>
              <a:xfrm>
                <a:off x="4905360" y="3776760"/>
                <a:ext cx="1087200" cy="1061280"/>
                <a:chOff x="4905360" y="3776760"/>
                <a:chExt cx="1087200" cy="1061280"/>
              </a:xfrm>
            </p:grpSpPr>
            <p:sp>
              <p:nvSpPr>
                <p:cNvPr id="305" name="Oval 36"/>
                <p:cNvSpPr/>
                <p:nvPr/>
              </p:nvSpPr>
              <p:spPr>
                <a:xfrm rot="837600">
                  <a:off x="5084280" y="380016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6" name="Oval 47"/>
                <p:cNvSpPr/>
                <p:nvPr/>
              </p:nvSpPr>
              <p:spPr>
                <a:xfrm rot="837600">
                  <a:off x="5744520" y="396432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7" name="Oval 48"/>
                <p:cNvSpPr/>
                <p:nvPr/>
              </p:nvSpPr>
              <p:spPr>
                <a:xfrm rot="837600">
                  <a:off x="4928760" y="442584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8" name="Oval 49"/>
                <p:cNvSpPr/>
                <p:nvPr/>
              </p:nvSpPr>
              <p:spPr>
                <a:xfrm rot="837600">
                  <a:off x="5589000" y="459000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9" name="Oval 50"/>
                <p:cNvSpPr/>
                <p:nvPr/>
              </p:nvSpPr>
              <p:spPr>
                <a:xfrm rot="837600">
                  <a:off x="5345280" y="420048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10" name="Group 27"/>
            <p:cNvGrpSpPr/>
            <p:nvPr/>
          </p:nvGrpSpPr>
          <p:grpSpPr>
            <a:xfrm>
              <a:off x="4020840" y="2482560"/>
              <a:ext cx="1758960" cy="2487960"/>
              <a:chOff x="4020840" y="2482560"/>
              <a:chExt cx="1758960" cy="2487960"/>
            </a:xfrm>
          </p:grpSpPr>
          <p:sp>
            <p:nvSpPr>
              <p:cNvPr id="311" name="Rounded Rectangle 28"/>
              <p:cNvSpPr/>
              <p:nvPr/>
            </p:nvSpPr>
            <p:spPr>
              <a:xfrm rot="1057800">
                <a:off x="4335120" y="2600640"/>
                <a:ext cx="1130040" cy="2251440"/>
              </a:xfrm>
              <a:custGeom>
                <a:avLst/>
                <a:gdLst>
                  <a:gd name="textAreaLeft" fmla="*/ 14040 w 1130040"/>
                  <a:gd name="textAreaRight" fmla="*/ 1116000 w 1130040"/>
                  <a:gd name="textAreaTop" fmla="*/ 14040 h 2251440"/>
                  <a:gd name="textAreaBottom" fmla="*/ 2237400 h 2251440"/>
                </a:gdLst>
                <a:ahLst/>
                <a:rect l="textAreaLeft" t="textAreaTop" r="textAreaRight" b="textAreaBottom"/>
                <a:pathLst>
                  <a:path w="21600" h="43028">
                    <a:moveTo>
                      <a:pt x="922" y="0"/>
                    </a:moveTo>
                    <a:arcTo wR="922" hR="922" stAng="16200000" swAng="-5400000"/>
                    <a:lnTo>
                      <a:pt x="0" y="42106"/>
                    </a:lnTo>
                    <a:arcTo wR="922" hR="922" stAng="10800000" swAng="-5400000"/>
                    <a:lnTo>
                      <a:pt x="20678" y="43028"/>
                    </a:lnTo>
                    <a:arcTo wR="922" hR="922" stAng="5400000" swAng="-5400000"/>
                    <a:lnTo>
                      <a:pt x="21600" y="922"/>
                    </a:lnTo>
                    <a:arcTo wR="922" hR="92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Straight Connector 29"/>
              <p:cNvSpPr/>
              <p:nvPr/>
            </p:nvSpPr>
            <p:spPr>
              <a:xfrm>
                <a:off x="4514760" y="3634920"/>
                <a:ext cx="861120" cy="275400"/>
              </a:xfrm>
              <a:prstGeom prst="line">
                <a:avLst/>
              </a:prstGeom>
              <a:ln w="255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13" name="Group 36"/>
              <p:cNvGrpSpPr/>
              <p:nvPr/>
            </p:nvGrpSpPr>
            <p:grpSpPr>
              <a:xfrm>
                <a:off x="4400640" y="3780720"/>
                <a:ext cx="620640" cy="1001520"/>
                <a:chOff x="4400640" y="3780720"/>
                <a:chExt cx="620640" cy="1001520"/>
              </a:xfrm>
            </p:grpSpPr>
            <p:sp>
              <p:nvSpPr>
                <p:cNvPr id="314" name="Oval 38"/>
                <p:cNvSpPr/>
                <p:nvPr/>
              </p:nvSpPr>
              <p:spPr>
                <a:xfrm rot="1057800">
                  <a:off x="4429080" y="380916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5" name="Oval 39"/>
                <p:cNvSpPr/>
                <p:nvPr/>
              </p:nvSpPr>
              <p:spPr>
                <a:xfrm rot="1057800">
                  <a:off x="4768560" y="452952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6" name="Oval 40"/>
                <p:cNvSpPr/>
                <p:nvPr/>
              </p:nvSpPr>
              <p:spPr>
                <a:xfrm rot="1057800">
                  <a:off x="4583160" y="415728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7" name="Group 38"/>
              <p:cNvGrpSpPr/>
              <p:nvPr/>
            </p:nvGrpSpPr>
            <p:grpSpPr>
              <a:xfrm>
                <a:off x="4657680" y="2680920"/>
                <a:ext cx="844920" cy="1055880"/>
                <a:chOff x="4657680" y="2680920"/>
                <a:chExt cx="844920" cy="1055880"/>
              </a:xfrm>
            </p:grpSpPr>
            <p:sp>
              <p:nvSpPr>
                <p:cNvPr id="318" name="Oval 4"/>
                <p:cNvSpPr/>
                <p:nvPr/>
              </p:nvSpPr>
              <p:spPr>
                <a:xfrm rot="1057800">
                  <a:off x="4898880" y="2709360"/>
                  <a:ext cx="224280" cy="22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9" name="Oval 33"/>
                <p:cNvSpPr/>
                <p:nvPr/>
              </p:nvSpPr>
              <p:spPr>
                <a:xfrm rot="1057800">
                  <a:off x="4792680" y="3043080"/>
                  <a:ext cx="224280" cy="22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0" name="Oval 34"/>
                <p:cNvSpPr/>
                <p:nvPr/>
              </p:nvSpPr>
              <p:spPr>
                <a:xfrm rot="1057800">
                  <a:off x="4686480" y="3376800"/>
                  <a:ext cx="224280" cy="22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1" name="Oval 4"/>
                <p:cNvSpPr/>
                <p:nvPr/>
              </p:nvSpPr>
              <p:spPr>
                <a:xfrm rot="1057800">
                  <a:off x="5249520" y="2820600"/>
                  <a:ext cx="224280" cy="22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2" name="Oval 36"/>
                <p:cNvSpPr/>
                <p:nvPr/>
              </p:nvSpPr>
              <p:spPr>
                <a:xfrm rot="1057800">
                  <a:off x="5143320" y="3154320"/>
                  <a:ext cx="224280" cy="22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3" name="Oval 37"/>
                <p:cNvSpPr/>
                <p:nvPr/>
              </p:nvSpPr>
              <p:spPr>
                <a:xfrm rot="1057800">
                  <a:off x="5038560" y="3483720"/>
                  <a:ext cx="224280" cy="22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24" name="Group 11"/>
            <p:cNvGrpSpPr/>
            <p:nvPr/>
          </p:nvGrpSpPr>
          <p:grpSpPr>
            <a:xfrm>
              <a:off x="3207600" y="2431080"/>
              <a:ext cx="1959840" cy="2517120"/>
              <a:chOff x="3207600" y="2431080"/>
              <a:chExt cx="1959840" cy="2517120"/>
            </a:xfrm>
          </p:grpSpPr>
          <p:sp>
            <p:nvSpPr>
              <p:cNvPr id="325" name="Rounded Rectangle 12"/>
              <p:cNvSpPr/>
              <p:nvPr/>
            </p:nvSpPr>
            <p:spPr>
              <a:xfrm rot="1465200">
                <a:off x="3622320" y="2563920"/>
                <a:ext cx="1130040" cy="2251440"/>
              </a:xfrm>
              <a:custGeom>
                <a:avLst/>
                <a:gdLst>
                  <a:gd name="textAreaLeft" fmla="*/ 14040 w 1130040"/>
                  <a:gd name="textAreaRight" fmla="*/ 1116000 w 1130040"/>
                  <a:gd name="textAreaTop" fmla="*/ 14040 h 2251440"/>
                  <a:gd name="textAreaBottom" fmla="*/ 2237400 h 2251440"/>
                </a:gdLst>
                <a:ahLst/>
                <a:rect l="textAreaLeft" t="textAreaTop" r="textAreaRight" b="textAreaBottom"/>
                <a:pathLst>
                  <a:path w="21600" h="43028">
                    <a:moveTo>
                      <a:pt x="922" y="0"/>
                    </a:moveTo>
                    <a:arcTo wR="922" hR="922" stAng="16200000" swAng="-5400000"/>
                    <a:lnTo>
                      <a:pt x="0" y="42106"/>
                    </a:lnTo>
                    <a:arcTo wR="922" hR="922" stAng="10800000" swAng="-5400000"/>
                    <a:lnTo>
                      <a:pt x="20678" y="43028"/>
                    </a:lnTo>
                    <a:arcTo wR="922" hR="922" stAng="5400000" swAng="-5400000"/>
                    <a:lnTo>
                      <a:pt x="21600" y="922"/>
                    </a:lnTo>
                    <a:arcTo wR="922" hR="92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26" name="Group 23"/>
              <p:cNvGrpSpPr/>
              <p:nvPr/>
            </p:nvGrpSpPr>
            <p:grpSpPr>
              <a:xfrm>
                <a:off x="3822840" y="2580840"/>
                <a:ext cx="1206000" cy="1215720"/>
                <a:chOff x="3822840" y="2580840"/>
                <a:chExt cx="1206000" cy="1215720"/>
              </a:xfrm>
            </p:grpSpPr>
            <p:sp>
              <p:nvSpPr>
                <p:cNvPr id="327" name="Oval 4"/>
                <p:cNvSpPr/>
                <p:nvPr/>
              </p:nvSpPr>
              <p:spPr>
                <a:xfrm rot="1465200">
                  <a:off x="4149000" y="2616840"/>
                  <a:ext cx="223920" cy="22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8" name="Oval 5"/>
                <p:cNvSpPr/>
                <p:nvPr/>
              </p:nvSpPr>
              <p:spPr>
                <a:xfrm rot="1465200">
                  <a:off x="4768560" y="2898000"/>
                  <a:ext cx="223920" cy="22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9" name="Oval 22"/>
                <p:cNvSpPr/>
                <p:nvPr/>
              </p:nvSpPr>
              <p:spPr>
                <a:xfrm rot="1465200">
                  <a:off x="4004280" y="2935800"/>
                  <a:ext cx="223920" cy="22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0" name="Oval 23"/>
                <p:cNvSpPr/>
                <p:nvPr/>
              </p:nvSpPr>
              <p:spPr>
                <a:xfrm rot="1465200">
                  <a:off x="4623480" y="3216960"/>
                  <a:ext cx="223920" cy="22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1" name="Oval 24"/>
                <p:cNvSpPr/>
                <p:nvPr/>
              </p:nvSpPr>
              <p:spPr>
                <a:xfrm rot="1465200">
                  <a:off x="3859200" y="3254760"/>
                  <a:ext cx="223920" cy="22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2" name="Oval 25"/>
                <p:cNvSpPr/>
                <p:nvPr/>
              </p:nvSpPr>
              <p:spPr>
                <a:xfrm rot="1465200">
                  <a:off x="4478760" y="3535920"/>
                  <a:ext cx="223920" cy="22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3" name="Oval 26"/>
                <p:cNvSpPr/>
                <p:nvPr/>
              </p:nvSpPr>
              <p:spPr>
                <a:xfrm rot="1465200">
                  <a:off x="4321440" y="3084120"/>
                  <a:ext cx="223920" cy="22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34" name="Straight Connector 14"/>
              <p:cNvSpPr/>
              <p:nvPr/>
            </p:nvSpPr>
            <p:spPr>
              <a:xfrm>
                <a:off x="3767040" y="3531240"/>
                <a:ext cx="822960" cy="375120"/>
              </a:xfrm>
              <a:prstGeom prst="line">
                <a:avLst/>
              </a:prstGeom>
              <a:ln w="255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35" name="Group 24"/>
              <p:cNvGrpSpPr/>
              <p:nvPr/>
            </p:nvGrpSpPr>
            <p:grpSpPr>
              <a:xfrm>
                <a:off x="3359520" y="3652920"/>
                <a:ext cx="1182240" cy="1165320"/>
                <a:chOff x="3359520" y="3652920"/>
                <a:chExt cx="1182240" cy="1165320"/>
              </a:xfrm>
            </p:grpSpPr>
            <p:sp>
              <p:nvSpPr>
                <p:cNvPr id="336" name="Oval 16"/>
                <p:cNvSpPr/>
                <p:nvPr/>
              </p:nvSpPr>
              <p:spPr>
                <a:xfrm rot="1465200">
                  <a:off x="3661920" y="368892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7" name="Oval 17"/>
                <p:cNvSpPr/>
                <p:nvPr/>
              </p:nvSpPr>
              <p:spPr>
                <a:xfrm rot="1465200">
                  <a:off x="4281480" y="397044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8" name="Oval 18"/>
                <p:cNvSpPr/>
                <p:nvPr/>
              </p:nvSpPr>
              <p:spPr>
                <a:xfrm rot="1465200">
                  <a:off x="3395520" y="427608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9" name="Oval 19"/>
                <p:cNvSpPr/>
                <p:nvPr/>
              </p:nvSpPr>
              <p:spPr>
                <a:xfrm rot="1465200">
                  <a:off x="4015080" y="455760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40" name="Group 74"/>
            <p:cNvGrpSpPr/>
            <p:nvPr/>
          </p:nvGrpSpPr>
          <p:grpSpPr>
            <a:xfrm>
              <a:off x="2556360" y="2479320"/>
              <a:ext cx="1578600" cy="2439000"/>
              <a:chOff x="2556360" y="2479320"/>
              <a:chExt cx="1578600" cy="2439000"/>
            </a:xfrm>
          </p:grpSpPr>
          <p:sp>
            <p:nvSpPr>
              <p:cNvPr id="341" name="Rounded Rectangle 75"/>
              <p:cNvSpPr/>
              <p:nvPr/>
            </p:nvSpPr>
            <p:spPr>
              <a:xfrm rot="729000">
                <a:off x="2780280" y="2572920"/>
                <a:ext cx="1130040" cy="2251440"/>
              </a:xfrm>
              <a:custGeom>
                <a:avLst/>
                <a:gdLst>
                  <a:gd name="textAreaLeft" fmla="*/ 14040 w 1130040"/>
                  <a:gd name="textAreaRight" fmla="*/ 1116000 w 1130040"/>
                  <a:gd name="textAreaTop" fmla="*/ 14040 h 2251440"/>
                  <a:gd name="textAreaBottom" fmla="*/ 2237400 h 2251440"/>
                </a:gdLst>
                <a:ahLst/>
                <a:rect l="textAreaLeft" t="textAreaTop" r="textAreaRight" b="textAreaBottom"/>
                <a:pathLst>
                  <a:path w="21600" h="43028">
                    <a:moveTo>
                      <a:pt x="922" y="0"/>
                    </a:moveTo>
                    <a:arcTo wR="922" hR="922" stAng="16200000" swAng="-5400000"/>
                    <a:lnTo>
                      <a:pt x="0" y="42106"/>
                    </a:lnTo>
                    <a:arcTo wR="922" hR="922" stAng="10800000" swAng="-5400000"/>
                    <a:lnTo>
                      <a:pt x="20678" y="43028"/>
                    </a:lnTo>
                    <a:arcTo wR="922" hR="922" stAng="5400000" swAng="-5400000"/>
                    <a:lnTo>
                      <a:pt x="21600" y="922"/>
                    </a:lnTo>
                    <a:arcTo wR="922" hR="92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Straight Connector 76"/>
              <p:cNvSpPr/>
              <p:nvPr/>
            </p:nvSpPr>
            <p:spPr>
              <a:xfrm>
                <a:off x="2900880" y="3633120"/>
                <a:ext cx="883800" cy="191880"/>
              </a:xfrm>
              <a:prstGeom prst="line">
                <a:avLst/>
              </a:prstGeom>
              <a:ln w="255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Oval 77"/>
              <p:cNvSpPr/>
              <p:nvPr/>
            </p:nvSpPr>
            <p:spPr>
              <a:xfrm rot="729000">
                <a:off x="3358800" y="3055680"/>
                <a:ext cx="223920" cy="223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44" name="Group 41"/>
              <p:cNvGrpSpPr/>
              <p:nvPr/>
            </p:nvGrpSpPr>
            <p:grpSpPr>
              <a:xfrm>
                <a:off x="2696400" y="3762360"/>
                <a:ext cx="1066680" cy="1039680"/>
                <a:chOff x="2696400" y="3762360"/>
                <a:chExt cx="1066680" cy="1039680"/>
              </a:xfrm>
            </p:grpSpPr>
            <p:sp>
              <p:nvSpPr>
                <p:cNvPr id="345" name="Oval 36"/>
                <p:cNvSpPr/>
                <p:nvPr/>
              </p:nvSpPr>
              <p:spPr>
                <a:xfrm rot="729000">
                  <a:off x="2853000" y="378324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6" name="Oval 80"/>
                <p:cNvSpPr/>
                <p:nvPr/>
              </p:nvSpPr>
              <p:spPr>
                <a:xfrm rot="729000">
                  <a:off x="3517920" y="392652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7" name="Oval 81"/>
                <p:cNvSpPr/>
                <p:nvPr/>
              </p:nvSpPr>
              <p:spPr>
                <a:xfrm rot="729000">
                  <a:off x="2717280" y="441360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8" name="Oval 82"/>
                <p:cNvSpPr/>
                <p:nvPr/>
              </p:nvSpPr>
              <p:spPr>
                <a:xfrm rot="729000">
                  <a:off x="3382200" y="455688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9" name="Oval 83"/>
                <p:cNvSpPr/>
                <p:nvPr/>
              </p:nvSpPr>
              <p:spPr>
                <a:xfrm rot="729000">
                  <a:off x="3126600" y="417528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50" name="Group 84"/>
            <p:cNvGrpSpPr/>
            <p:nvPr/>
          </p:nvGrpSpPr>
          <p:grpSpPr>
            <a:xfrm>
              <a:off x="1603080" y="2543760"/>
              <a:ext cx="1506960" cy="2414520"/>
              <a:chOff x="1603080" y="2543760"/>
              <a:chExt cx="1506960" cy="2414520"/>
            </a:xfrm>
          </p:grpSpPr>
          <p:sp>
            <p:nvSpPr>
              <p:cNvPr id="351" name="Rounded Rectangle 85"/>
              <p:cNvSpPr/>
              <p:nvPr/>
            </p:nvSpPr>
            <p:spPr>
              <a:xfrm rot="605400">
                <a:off x="1791360" y="2625120"/>
                <a:ext cx="1130040" cy="2251440"/>
              </a:xfrm>
              <a:custGeom>
                <a:avLst/>
                <a:gdLst>
                  <a:gd name="textAreaLeft" fmla="*/ 14040 w 1130040"/>
                  <a:gd name="textAreaRight" fmla="*/ 1116000 w 1130040"/>
                  <a:gd name="textAreaTop" fmla="*/ 14040 h 2251440"/>
                  <a:gd name="textAreaBottom" fmla="*/ 2237400 h 2251440"/>
                </a:gdLst>
                <a:ahLst/>
                <a:rect l="textAreaLeft" t="textAreaTop" r="textAreaRight" b="textAreaBottom"/>
                <a:pathLst>
                  <a:path w="21600" h="43028">
                    <a:moveTo>
                      <a:pt x="922" y="0"/>
                    </a:moveTo>
                    <a:arcTo wR="922" hR="922" stAng="16200000" swAng="-5400000"/>
                    <a:lnTo>
                      <a:pt x="0" y="42106"/>
                    </a:lnTo>
                    <a:arcTo wR="922" hR="922" stAng="10800000" swAng="-5400000"/>
                    <a:lnTo>
                      <a:pt x="20678" y="43028"/>
                    </a:lnTo>
                    <a:arcTo wR="922" hR="922" stAng="5400000" swAng="-5400000"/>
                    <a:lnTo>
                      <a:pt x="21600" y="922"/>
                    </a:lnTo>
                    <a:arcTo wR="922" hR="92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Straight Connector 86"/>
              <p:cNvSpPr/>
              <p:nvPr/>
            </p:nvSpPr>
            <p:spPr>
              <a:xfrm>
                <a:off x="1962720" y="3711240"/>
                <a:ext cx="889920" cy="159840"/>
              </a:xfrm>
              <a:prstGeom prst="line">
                <a:avLst/>
              </a:prstGeom>
              <a:ln w="255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53" name="Group 36"/>
              <p:cNvGrpSpPr/>
              <p:nvPr/>
            </p:nvGrpSpPr>
            <p:grpSpPr>
              <a:xfrm>
                <a:off x="1896480" y="3861720"/>
                <a:ext cx="690840" cy="929160"/>
                <a:chOff x="1896480" y="3861720"/>
                <a:chExt cx="690840" cy="929160"/>
              </a:xfrm>
            </p:grpSpPr>
            <p:sp>
              <p:nvSpPr>
                <p:cNvPr id="354" name="Oval 95"/>
                <p:cNvSpPr/>
                <p:nvPr/>
              </p:nvSpPr>
              <p:spPr>
                <a:xfrm rot="605400">
                  <a:off x="1914120" y="387936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5" name="Oval 96"/>
                <p:cNvSpPr/>
                <p:nvPr/>
              </p:nvSpPr>
              <p:spPr>
                <a:xfrm rot="605400">
                  <a:off x="2345400" y="454896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6" name="Oval 97"/>
                <p:cNvSpPr/>
                <p:nvPr/>
              </p:nvSpPr>
              <p:spPr>
                <a:xfrm rot="605400">
                  <a:off x="2112840" y="420444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57" name="Group 38"/>
              <p:cNvGrpSpPr/>
              <p:nvPr/>
            </p:nvGrpSpPr>
            <p:grpSpPr>
              <a:xfrm>
                <a:off x="2095200" y="2709720"/>
                <a:ext cx="744840" cy="1009800"/>
                <a:chOff x="2095200" y="2709720"/>
                <a:chExt cx="744840" cy="1009800"/>
              </a:xfrm>
            </p:grpSpPr>
            <p:sp>
              <p:nvSpPr>
                <p:cNvPr id="358" name="Oval 4"/>
                <p:cNvSpPr/>
                <p:nvPr/>
              </p:nvSpPr>
              <p:spPr>
                <a:xfrm rot="605400">
                  <a:off x="2235600" y="2727360"/>
                  <a:ext cx="224280" cy="22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9" name="Oval 90"/>
                <p:cNvSpPr/>
                <p:nvPr/>
              </p:nvSpPr>
              <p:spPr>
                <a:xfrm rot="605400">
                  <a:off x="2174040" y="3072240"/>
                  <a:ext cx="224280" cy="22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0" name="Oval 91"/>
                <p:cNvSpPr/>
                <p:nvPr/>
              </p:nvSpPr>
              <p:spPr>
                <a:xfrm rot="605400">
                  <a:off x="2112840" y="3417120"/>
                  <a:ext cx="224280" cy="22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1" name="Oval 4"/>
                <p:cNvSpPr/>
                <p:nvPr/>
              </p:nvSpPr>
              <p:spPr>
                <a:xfrm rot="605400">
                  <a:off x="2597760" y="2791800"/>
                  <a:ext cx="224280" cy="22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2" name="Oval 93"/>
                <p:cNvSpPr/>
                <p:nvPr/>
              </p:nvSpPr>
              <p:spPr>
                <a:xfrm rot="605400">
                  <a:off x="2536200" y="3136680"/>
                  <a:ext cx="224280" cy="22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3" name="Oval 94"/>
                <p:cNvSpPr/>
                <p:nvPr/>
              </p:nvSpPr>
              <p:spPr>
                <a:xfrm rot="605400">
                  <a:off x="2475720" y="3476880"/>
                  <a:ext cx="224280" cy="22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64" name="Group 98"/>
            <p:cNvGrpSpPr/>
            <p:nvPr/>
          </p:nvGrpSpPr>
          <p:grpSpPr>
            <a:xfrm>
              <a:off x="470160" y="2679120"/>
              <a:ext cx="1504080" cy="2413440"/>
              <a:chOff x="470160" y="2679120"/>
              <a:chExt cx="1504080" cy="2413440"/>
            </a:xfrm>
          </p:grpSpPr>
          <p:sp>
            <p:nvSpPr>
              <p:cNvPr id="365" name="Rounded Rectangle 99"/>
              <p:cNvSpPr/>
              <p:nvPr/>
            </p:nvSpPr>
            <p:spPr>
              <a:xfrm rot="600600">
                <a:off x="657000" y="2760120"/>
                <a:ext cx="1130040" cy="2251440"/>
              </a:xfrm>
              <a:custGeom>
                <a:avLst/>
                <a:gdLst>
                  <a:gd name="textAreaLeft" fmla="*/ 14040 w 1130040"/>
                  <a:gd name="textAreaRight" fmla="*/ 1116000 w 1130040"/>
                  <a:gd name="textAreaTop" fmla="*/ 14040 h 2251440"/>
                  <a:gd name="textAreaBottom" fmla="*/ 2237400 h 2251440"/>
                </a:gdLst>
                <a:ahLst/>
                <a:rect l="textAreaLeft" t="textAreaTop" r="textAreaRight" b="textAreaBottom"/>
                <a:pathLst>
                  <a:path w="21600" h="43028">
                    <a:moveTo>
                      <a:pt x="922" y="0"/>
                    </a:moveTo>
                    <a:arcTo wR="922" hR="922" stAng="16200000" swAng="-5400000"/>
                    <a:lnTo>
                      <a:pt x="0" y="42106"/>
                    </a:lnTo>
                    <a:arcTo wR="922" hR="922" stAng="10800000" swAng="-5400000"/>
                    <a:lnTo>
                      <a:pt x="20678" y="43028"/>
                    </a:lnTo>
                    <a:arcTo wR="922" hR="922" stAng="5400000" swAng="-5400000"/>
                    <a:lnTo>
                      <a:pt x="21600" y="922"/>
                    </a:lnTo>
                    <a:arcTo wR="922" hR="92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Straight Connector 100"/>
              <p:cNvSpPr/>
              <p:nvPr/>
            </p:nvSpPr>
            <p:spPr>
              <a:xfrm>
                <a:off x="828000" y="3846240"/>
                <a:ext cx="890640" cy="158760"/>
              </a:xfrm>
              <a:prstGeom prst="line">
                <a:avLst/>
              </a:prstGeom>
              <a:ln w="255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67" name="Group 36"/>
              <p:cNvGrpSpPr/>
              <p:nvPr/>
            </p:nvGrpSpPr>
            <p:grpSpPr>
              <a:xfrm>
                <a:off x="762840" y="3997080"/>
                <a:ext cx="691560" cy="928440"/>
                <a:chOff x="762840" y="3997080"/>
                <a:chExt cx="691560" cy="928440"/>
              </a:xfrm>
            </p:grpSpPr>
            <p:sp>
              <p:nvSpPr>
                <p:cNvPr id="368" name="Oval 109"/>
                <p:cNvSpPr/>
                <p:nvPr/>
              </p:nvSpPr>
              <p:spPr>
                <a:xfrm rot="600600">
                  <a:off x="780480" y="401472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9" name="Oval 110"/>
                <p:cNvSpPr/>
                <p:nvPr/>
              </p:nvSpPr>
              <p:spPr>
                <a:xfrm rot="600600">
                  <a:off x="1212480" y="468360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0" name="Oval 111"/>
                <p:cNvSpPr/>
                <p:nvPr/>
              </p:nvSpPr>
              <p:spPr>
                <a:xfrm rot="600600">
                  <a:off x="979200" y="4339080"/>
                  <a:ext cx="223920" cy="2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71" name="Group 38"/>
              <p:cNvGrpSpPr/>
              <p:nvPr/>
            </p:nvGrpSpPr>
            <p:grpSpPr>
              <a:xfrm>
                <a:off x="960480" y="2844360"/>
                <a:ext cx="744120" cy="1009080"/>
                <a:chOff x="960480" y="2844360"/>
                <a:chExt cx="744120" cy="1009080"/>
              </a:xfrm>
            </p:grpSpPr>
            <p:sp>
              <p:nvSpPr>
                <p:cNvPr id="372" name="Oval 4"/>
                <p:cNvSpPr/>
                <p:nvPr/>
              </p:nvSpPr>
              <p:spPr>
                <a:xfrm rot="600600">
                  <a:off x="1100160" y="2862000"/>
                  <a:ext cx="224280" cy="22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3" name="Oval 104"/>
                <p:cNvSpPr/>
                <p:nvPr/>
              </p:nvSpPr>
              <p:spPr>
                <a:xfrm rot="600600">
                  <a:off x="1038960" y="3206880"/>
                  <a:ext cx="224280" cy="22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4" name="Oval 105"/>
                <p:cNvSpPr/>
                <p:nvPr/>
              </p:nvSpPr>
              <p:spPr>
                <a:xfrm rot="600600">
                  <a:off x="978120" y="3552120"/>
                  <a:ext cx="224280" cy="22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5" name="Oval 4"/>
                <p:cNvSpPr/>
                <p:nvPr/>
              </p:nvSpPr>
              <p:spPr>
                <a:xfrm rot="600600">
                  <a:off x="1462320" y="2926080"/>
                  <a:ext cx="224280" cy="22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6" name="Oval 107"/>
                <p:cNvSpPr/>
                <p:nvPr/>
              </p:nvSpPr>
              <p:spPr>
                <a:xfrm rot="600600">
                  <a:off x="1401480" y="3270960"/>
                  <a:ext cx="224280" cy="22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7" name="Oval 108"/>
                <p:cNvSpPr/>
                <p:nvPr/>
              </p:nvSpPr>
              <p:spPr>
                <a:xfrm rot="600600">
                  <a:off x="1341360" y="3611160"/>
                  <a:ext cx="224280" cy="22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378" name="TextBox 216"/>
          <p:cNvSpPr/>
          <p:nvPr/>
        </p:nvSpPr>
        <p:spPr>
          <a:xfrm>
            <a:off x="222120" y="216000"/>
            <a:ext cx="19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DOMINO EFF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7522920" y="1447920"/>
            <a:ext cx="360" cy="1191960"/>
            <a:chOff x="7522920" y="1447920"/>
            <a:chExt cx="360" cy="1191960"/>
          </a:xfrm>
        </p:grpSpPr>
        <p:sp>
          <p:nvSpPr>
            <p:cNvPr id="380" name="Line 33"/>
            <p:cNvSpPr/>
            <p:nvPr/>
          </p:nvSpPr>
          <p:spPr>
            <a:xfrm>
              <a:off x="7523280" y="1447920"/>
              <a:ext cx="0" cy="1191960"/>
            </a:xfrm>
            <a:prstGeom prst="line">
              <a:avLst/>
            </a:prstGeom>
            <a:ln w="19080">
              <a:solidFill>
                <a:srgbClr val="34363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 rot="5400000">
              <a:off x="6927120" y="2043720"/>
              <a:ext cx="1191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2" name="Rektangel 63"/>
          <p:cNvSpPr/>
          <p:nvPr/>
        </p:nvSpPr>
        <p:spPr>
          <a:xfrm>
            <a:off x="6877080" y="666720"/>
            <a:ext cx="1299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Calibri"/>
                <a:ea typeface="MS PGothic"/>
              </a:rPr>
              <a:t>Exampl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Calibri"/>
                <a:ea typeface="MS PGothic"/>
              </a:rPr>
              <a:t>This is an example text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123640" y="2057400"/>
            <a:ext cx="360" cy="927000"/>
            <a:chOff x="2123640" y="2057400"/>
            <a:chExt cx="360" cy="927000"/>
          </a:xfrm>
        </p:grpSpPr>
        <p:sp>
          <p:nvSpPr>
            <p:cNvPr id="384" name="Line 33"/>
            <p:cNvSpPr/>
            <p:nvPr/>
          </p:nvSpPr>
          <p:spPr>
            <a:xfrm>
              <a:off x="2124000" y="2057400"/>
              <a:ext cx="0" cy="927000"/>
            </a:xfrm>
            <a:prstGeom prst="line">
              <a:avLst/>
            </a:prstGeom>
            <a:ln w="19080">
              <a:solidFill>
                <a:srgbClr val="34363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 rot="5400000">
              <a:off x="1660320" y="2520720"/>
              <a:ext cx="927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Rektangel 63"/>
          <p:cNvSpPr/>
          <p:nvPr/>
        </p:nvSpPr>
        <p:spPr>
          <a:xfrm>
            <a:off x="1506600" y="1274760"/>
            <a:ext cx="1299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Calibri"/>
                <a:ea typeface="MS PGothic"/>
              </a:rPr>
              <a:t>Exampl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Calibri"/>
                <a:ea typeface="MS PGothic"/>
              </a:rPr>
              <a:t>This is an example text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4572000" y="1447200"/>
            <a:ext cx="4680" cy="982800"/>
            <a:chOff x="4572000" y="1447200"/>
            <a:chExt cx="4680" cy="982800"/>
          </a:xfrm>
        </p:grpSpPr>
        <p:sp>
          <p:nvSpPr>
            <p:cNvPr id="388" name="Line 33"/>
            <p:cNvSpPr/>
            <p:nvPr/>
          </p:nvSpPr>
          <p:spPr>
            <a:xfrm>
              <a:off x="4572000" y="1447200"/>
              <a:ext cx="4680" cy="982440"/>
            </a:xfrm>
            <a:prstGeom prst="line">
              <a:avLst/>
            </a:prstGeom>
            <a:ln w="19080">
              <a:solidFill>
                <a:srgbClr val="34363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"/>
            <p:cNvSpPr txBox="1"/>
            <p:nvPr/>
          </p:nvSpPr>
          <p:spPr>
            <a:xfrm rot="16200000">
              <a:off x="4083120" y="1936440"/>
              <a:ext cx="982440" cy="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2120" bIns="-4212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0" name="Rektangel 63"/>
          <p:cNvSpPr/>
          <p:nvPr/>
        </p:nvSpPr>
        <p:spPr>
          <a:xfrm>
            <a:off x="3940200" y="666720"/>
            <a:ext cx="1299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Calibri"/>
                <a:ea typeface="MS PGothic"/>
              </a:rPr>
              <a:t>Exampl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Calibri"/>
                <a:ea typeface="MS PGothic"/>
              </a:rPr>
              <a:t>This is an example text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Grupper 22"/>
          <p:cNvGrpSpPr/>
          <p:nvPr/>
        </p:nvGrpSpPr>
        <p:grpSpPr>
          <a:xfrm>
            <a:off x="-38160" y="5367240"/>
            <a:ext cx="9296640" cy="1490760"/>
            <a:chOff x="-38160" y="5367240"/>
            <a:chExt cx="9296640" cy="1490760"/>
          </a:xfrm>
        </p:grpSpPr>
        <p:grpSp>
          <p:nvGrpSpPr>
            <p:cNvPr id="392" name="Grupper 5"/>
            <p:cNvGrpSpPr/>
            <p:nvPr/>
          </p:nvGrpSpPr>
          <p:grpSpPr>
            <a:xfrm>
              <a:off x="-38160" y="5367240"/>
              <a:ext cx="9296640" cy="1490760"/>
              <a:chOff x="-38160" y="5367240"/>
              <a:chExt cx="9296640" cy="1490760"/>
            </a:xfrm>
          </p:grpSpPr>
          <p:sp>
            <p:nvSpPr>
              <p:cNvPr id="393" name="Rektangel 18"/>
              <p:cNvSpPr/>
              <p:nvPr/>
            </p:nvSpPr>
            <p:spPr>
              <a:xfrm>
                <a:off x="-2880" y="5549760"/>
                <a:ext cx="9226800" cy="1308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1717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94" name="Grupper 13"/>
              <p:cNvGrpSpPr/>
              <p:nvPr/>
            </p:nvGrpSpPr>
            <p:grpSpPr>
              <a:xfrm>
                <a:off x="-38160" y="5367240"/>
                <a:ext cx="9296640" cy="212760"/>
                <a:chOff x="-38160" y="5367240"/>
                <a:chExt cx="9296640" cy="212760"/>
              </a:xfrm>
            </p:grpSpPr>
            <p:sp>
              <p:nvSpPr>
                <p:cNvPr id="395" name="Rektangel 20"/>
                <p:cNvSpPr/>
                <p:nvPr/>
              </p:nvSpPr>
              <p:spPr>
                <a:xfrm>
                  <a:off x="-38160" y="5367240"/>
                  <a:ext cx="9296640" cy="21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6" name="Rektangel 21"/>
                <p:cNvSpPr/>
                <p:nvPr/>
              </p:nvSpPr>
              <p:spPr>
                <a:xfrm>
                  <a:off x="-38160" y="5392800"/>
                  <a:ext cx="9296640" cy="102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97" name="Text Box 17"/>
            <p:cNvSpPr/>
            <p:nvPr/>
          </p:nvSpPr>
          <p:spPr>
            <a:xfrm>
              <a:off x="2673360" y="5864040"/>
              <a:ext cx="37465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457200" indent="-457200" algn="just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This is an example text. Go ahead and replace it with your own text. It is meant to give you a feeling of how the designs looks including text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98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18"/>
          <p:cNvSpPr/>
          <p:nvPr/>
        </p:nvSpPr>
        <p:spPr>
          <a:xfrm rot="10800000">
            <a:off x="0" y="3199680"/>
            <a:ext cx="9144000" cy="259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54"/>
          <p:cNvSpPr/>
          <p:nvPr/>
        </p:nvSpPr>
        <p:spPr>
          <a:xfrm>
            <a:off x="314280" y="378000"/>
            <a:ext cx="2835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MS PGothic"/>
              </a:rPr>
              <a:t>MARKETING ILLUSTRATIO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1" name="Group 74"/>
          <p:cNvGrpSpPr/>
          <p:nvPr/>
        </p:nvGrpSpPr>
        <p:grpSpPr>
          <a:xfrm>
            <a:off x="3915000" y="1589400"/>
            <a:ext cx="4962240" cy="3706560"/>
            <a:chOff x="3915000" y="1589400"/>
            <a:chExt cx="4962240" cy="3706560"/>
          </a:xfrm>
        </p:grpSpPr>
        <p:grpSp>
          <p:nvGrpSpPr>
            <p:cNvPr id="402" name="Group 30"/>
            <p:cNvGrpSpPr/>
            <p:nvPr/>
          </p:nvGrpSpPr>
          <p:grpSpPr>
            <a:xfrm>
              <a:off x="5256000" y="2895120"/>
              <a:ext cx="2209680" cy="2400840"/>
              <a:chOff x="5256000" y="2895120"/>
              <a:chExt cx="2209680" cy="2400840"/>
            </a:xfrm>
          </p:grpSpPr>
          <p:sp>
            <p:nvSpPr>
              <p:cNvPr id="403" name="Ellipse 98"/>
              <p:cNvSpPr/>
              <p:nvPr/>
            </p:nvSpPr>
            <p:spPr>
              <a:xfrm>
                <a:off x="5409720" y="4954320"/>
                <a:ext cx="1954800" cy="34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Oval 5"/>
              <p:cNvSpPr/>
              <p:nvPr/>
            </p:nvSpPr>
            <p:spPr>
              <a:xfrm>
                <a:off x="5256000" y="2895120"/>
                <a:ext cx="2209680" cy="221076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10"/>
              <p:cNvSpPr/>
              <p:nvPr/>
            </p:nvSpPr>
            <p:spPr>
              <a:xfrm>
                <a:off x="5256000" y="2895480"/>
                <a:ext cx="2209680" cy="2179800"/>
              </a:xfrm>
              <a:prstGeom prst="pie">
                <a:avLst/>
              </a:prstGeom>
              <a:solidFill>
                <a:srgbClr val="7793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6" name="Group 33"/>
            <p:cNvGrpSpPr/>
            <p:nvPr/>
          </p:nvGrpSpPr>
          <p:grpSpPr>
            <a:xfrm>
              <a:off x="5765040" y="1589400"/>
              <a:ext cx="1305720" cy="1800000"/>
              <a:chOff x="5765040" y="1589400"/>
              <a:chExt cx="1305720" cy="1800000"/>
            </a:xfrm>
          </p:grpSpPr>
          <p:sp>
            <p:nvSpPr>
              <p:cNvPr id="407" name="Ellipse 98"/>
              <p:cNvSpPr/>
              <p:nvPr/>
            </p:nvSpPr>
            <p:spPr>
              <a:xfrm>
                <a:off x="6017760" y="3047760"/>
                <a:ext cx="685800" cy="34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08" name="Group 12"/>
              <p:cNvGrpSpPr/>
              <p:nvPr/>
            </p:nvGrpSpPr>
            <p:grpSpPr>
              <a:xfrm>
                <a:off x="5765040" y="1589400"/>
                <a:ext cx="1305720" cy="1656360"/>
                <a:chOff x="5765040" y="1589400"/>
                <a:chExt cx="1305720" cy="1656360"/>
              </a:xfrm>
            </p:grpSpPr>
            <p:sp>
              <p:nvSpPr>
                <p:cNvPr id="409" name="Rounded Rectangle 11"/>
                <p:cNvSpPr/>
                <p:nvPr/>
              </p:nvSpPr>
              <p:spPr>
                <a:xfrm rot="44400">
                  <a:off x="6340680" y="2273040"/>
                  <a:ext cx="106200" cy="971640"/>
                </a:xfrm>
                <a:custGeom>
                  <a:avLst/>
                  <a:gdLst>
                    <a:gd name="textAreaLeft" fmla="*/ 15480 w 106200"/>
                    <a:gd name="textAreaRight" fmla="*/ 90720 w 106200"/>
                    <a:gd name="textAreaTop" fmla="*/ 15480 h 971640"/>
                    <a:gd name="textAreaBottom" fmla="*/ 956160 h 971640"/>
                  </a:gdLst>
                  <a:ahLst/>
                  <a:rect l="textAreaLeft" t="textAreaTop" r="textAreaRight" b="textAreaBottom"/>
                  <a:pathLst>
                    <a:path w="21600" h="197027">
                      <a:moveTo>
                        <a:pt x="10800" y="0"/>
                      </a:moveTo>
                      <a:arcTo wR="10800" hR="10800" stAng="16200000" swAng="-5400000"/>
                      <a:lnTo>
                        <a:pt x="0" y="186227"/>
                      </a:lnTo>
                      <a:arcTo wR="10800" hR="10800" stAng="10800000" swAng="-5400000"/>
                      <a:lnTo>
                        <a:pt x="10800" y="19702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216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410" name="Group 10"/>
                <p:cNvGrpSpPr/>
                <p:nvPr/>
              </p:nvGrpSpPr>
              <p:grpSpPr>
                <a:xfrm>
                  <a:off x="5765040" y="1589400"/>
                  <a:ext cx="1305720" cy="773640"/>
                  <a:chOff x="5765040" y="1589400"/>
                  <a:chExt cx="1305720" cy="773640"/>
                </a:xfrm>
              </p:grpSpPr>
              <p:sp>
                <p:nvSpPr>
                  <p:cNvPr id="411" name="Rounded Rectangle 8"/>
                  <p:cNvSpPr/>
                  <p:nvPr/>
                </p:nvSpPr>
                <p:spPr>
                  <a:xfrm rot="48000">
                    <a:off x="5770080" y="1598400"/>
                    <a:ext cx="1295280" cy="755640"/>
                  </a:xfrm>
                  <a:prstGeom prst="roundRect">
                    <a:avLst>
                      <a:gd name="adj" fmla="val 7718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457200" indent="-45720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2" name="Rounded Rectangle 9"/>
                  <p:cNvSpPr/>
                  <p:nvPr/>
                </p:nvSpPr>
                <p:spPr>
                  <a:xfrm rot="48000">
                    <a:off x="5823720" y="1658520"/>
                    <a:ext cx="1187640" cy="647640"/>
                  </a:xfrm>
                  <a:prstGeom prst="roundRect">
                    <a:avLst>
                      <a:gd name="adj" fmla="val 7713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457200" indent="-45720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413" name="Group 20"/>
            <p:cNvGrpSpPr/>
            <p:nvPr/>
          </p:nvGrpSpPr>
          <p:grpSpPr>
            <a:xfrm>
              <a:off x="6449040" y="1632600"/>
              <a:ext cx="1916640" cy="1994040"/>
              <a:chOff x="6449040" y="1632600"/>
              <a:chExt cx="1916640" cy="1994040"/>
            </a:xfrm>
          </p:grpSpPr>
          <p:sp>
            <p:nvSpPr>
              <p:cNvPr id="414" name="Ellipse 98"/>
              <p:cNvSpPr/>
              <p:nvPr/>
            </p:nvSpPr>
            <p:spPr>
              <a:xfrm rot="2232600">
                <a:off x="6482520" y="3112200"/>
                <a:ext cx="685800" cy="34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5" name="Group 15"/>
              <p:cNvGrpSpPr/>
              <p:nvPr/>
            </p:nvGrpSpPr>
            <p:grpSpPr>
              <a:xfrm>
                <a:off x="6783480" y="1632600"/>
                <a:ext cx="1582200" cy="1711440"/>
                <a:chOff x="6783480" y="1632600"/>
                <a:chExt cx="1582200" cy="1711440"/>
              </a:xfrm>
            </p:grpSpPr>
            <p:sp>
              <p:nvSpPr>
                <p:cNvPr id="416" name="Rounded Rectangle 16"/>
                <p:cNvSpPr/>
                <p:nvPr/>
              </p:nvSpPr>
              <p:spPr>
                <a:xfrm rot="2277600">
                  <a:off x="7069320" y="2446920"/>
                  <a:ext cx="106200" cy="966240"/>
                </a:xfrm>
                <a:custGeom>
                  <a:avLst/>
                  <a:gdLst>
                    <a:gd name="textAreaLeft" fmla="*/ 15480 w 106200"/>
                    <a:gd name="textAreaRight" fmla="*/ 90720 w 106200"/>
                    <a:gd name="textAreaTop" fmla="*/ 15480 h 966240"/>
                    <a:gd name="textAreaBottom" fmla="*/ 950760 h 966240"/>
                  </a:gdLst>
                  <a:ahLst/>
                  <a:rect l="textAreaLeft" t="textAreaTop" r="textAreaRight" b="textAreaBottom"/>
                  <a:pathLst>
                    <a:path w="21600" h="195932">
                      <a:moveTo>
                        <a:pt x="10800" y="0"/>
                      </a:moveTo>
                      <a:arcTo wR="10800" hR="10800" stAng="16200000" swAng="-5400000"/>
                      <a:lnTo>
                        <a:pt x="0" y="185132"/>
                      </a:lnTo>
                      <a:arcTo wR="10800" hR="10800" stAng="10800000" swAng="-5400000"/>
                      <a:lnTo>
                        <a:pt x="10800" y="195932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216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417" name="Group 17"/>
                <p:cNvGrpSpPr/>
                <p:nvPr/>
              </p:nvGrpSpPr>
              <p:grpSpPr>
                <a:xfrm>
                  <a:off x="6882120" y="1632600"/>
                  <a:ext cx="1483560" cy="1389960"/>
                  <a:chOff x="6882120" y="1632600"/>
                  <a:chExt cx="1483560" cy="1389960"/>
                </a:xfrm>
              </p:grpSpPr>
              <p:sp>
                <p:nvSpPr>
                  <p:cNvPr id="418" name="Rounded Rectangle 18"/>
                  <p:cNvSpPr/>
                  <p:nvPr/>
                </p:nvSpPr>
                <p:spPr>
                  <a:xfrm rot="2280600">
                    <a:off x="6976080" y="1951560"/>
                    <a:ext cx="1295280" cy="751680"/>
                  </a:xfrm>
                  <a:prstGeom prst="roundRect">
                    <a:avLst>
                      <a:gd name="adj" fmla="val 7718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457200" indent="-45720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9" name="Rounded Rectangle 19"/>
                  <p:cNvSpPr/>
                  <p:nvPr/>
                </p:nvSpPr>
                <p:spPr>
                  <a:xfrm rot="2280600">
                    <a:off x="7040520" y="2016000"/>
                    <a:ext cx="1187640" cy="644400"/>
                  </a:xfrm>
                  <a:prstGeom prst="roundRect">
                    <a:avLst>
                      <a:gd name="adj" fmla="val 7713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457200" indent="-45720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420" name="Group 21"/>
            <p:cNvGrpSpPr/>
            <p:nvPr/>
          </p:nvGrpSpPr>
          <p:grpSpPr>
            <a:xfrm>
              <a:off x="4183560" y="1756800"/>
              <a:ext cx="1929960" cy="2003040"/>
              <a:chOff x="4183560" y="1756800"/>
              <a:chExt cx="1929960" cy="2003040"/>
            </a:xfrm>
          </p:grpSpPr>
          <p:sp>
            <p:nvSpPr>
              <p:cNvPr id="421" name="Ellipse 98"/>
              <p:cNvSpPr/>
              <p:nvPr/>
            </p:nvSpPr>
            <p:spPr>
              <a:xfrm rot="18900000">
                <a:off x="5407200" y="3225600"/>
                <a:ext cx="685800" cy="34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22" name="Group 23"/>
              <p:cNvGrpSpPr/>
              <p:nvPr/>
            </p:nvGrpSpPr>
            <p:grpSpPr>
              <a:xfrm>
                <a:off x="4183560" y="1756800"/>
                <a:ext cx="1639440" cy="1676880"/>
                <a:chOff x="4183560" y="1756800"/>
                <a:chExt cx="1639440" cy="1676880"/>
              </a:xfrm>
            </p:grpSpPr>
            <p:sp>
              <p:nvSpPr>
                <p:cNvPr id="423" name="Rounded Rectangle 24"/>
                <p:cNvSpPr/>
                <p:nvPr/>
              </p:nvSpPr>
              <p:spPr>
                <a:xfrm rot="18945000">
                  <a:off x="5389560" y="2555280"/>
                  <a:ext cx="106200" cy="980280"/>
                </a:xfrm>
                <a:custGeom>
                  <a:avLst/>
                  <a:gdLst>
                    <a:gd name="textAreaLeft" fmla="*/ 15480 w 106200"/>
                    <a:gd name="textAreaRight" fmla="*/ 90720 w 106200"/>
                    <a:gd name="textAreaTop" fmla="*/ 15480 h 980280"/>
                    <a:gd name="textAreaBottom" fmla="*/ 964800 h 980280"/>
                  </a:gdLst>
                  <a:ahLst/>
                  <a:rect l="textAreaLeft" t="textAreaTop" r="textAreaRight" b="textAreaBottom"/>
                  <a:pathLst>
                    <a:path w="21600" h="198778">
                      <a:moveTo>
                        <a:pt x="10800" y="0"/>
                      </a:moveTo>
                      <a:arcTo wR="10800" hR="10800" stAng="16200000" swAng="-5400000"/>
                      <a:lnTo>
                        <a:pt x="0" y="187978"/>
                      </a:lnTo>
                      <a:arcTo wR="10800" hR="10800" stAng="10800000" swAng="-5400000"/>
                      <a:lnTo>
                        <a:pt x="10800" y="19877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216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424" name="Group 25"/>
                <p:cNvGrpSpPr/>
                <p:nvPr/>
              </p:nvGrpSpPr>
              <p:grpSpPr>
                <a:xfrm>
                  <a:off x="4183560" y="1756800"/>
                  <a:ext cx="1460160" cy="1449360"/>
                  <a:chOff x="4183560" y="1756800"/>
                  <a:chExt cx="1460160" cy="1449360"/>
                </a:xfrm>
              </p:grpSpPr>
              <p:sp>
                <p:nvSpPr>
                  <p:cNvPr id="425" name="Rounded Rectangle 26"/>
                  <p:cNvSpPr/>
                  <p:nvPr/>
                </p:nvSpPr>
                <p:spPr>
                  <a:xfrm rot="18948600">
                    <a:off x="4266000" y="2100240"/>
                    <a:ext cx="1295280" cy="762480"/>
                  </a:xfrm>
                  <a:prstGeom prst="roundRect">
                    <a:avLst>
                      <a:gd name="adj" fmla="val 7718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457200" indent="-45720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26" name="Rounded Rectangle 27"/>
                  <p:cNvSpPr/>
                  <p:nvPr/>
                </p:nvSpPr>
                <p:spPr>
                  <a:xfrm rot="18948600">
                    <a:off x="4333320" y="2165040"/>
                    <a:ext cx="1185840" cy="653760"/>
                  </a:xfrm>
                  <a:prstGeom prst="roundRect">
                    <a:avLst>
                      <a:gd name="adj" fmla="val 7713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457200" indent="-45720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427" name="Group 41"/>
            <p:cNvGrpSpPr/>
            <p:nvPr/>
          </p:nvGrpSpPr>
          <p:grpSpPr>
            <a:xfrm>
              <a:off x="6810480" y="2432160"/>
              <a:ext cx="2066760" cy="1645560"/>
              <a:chOff x="6810480" y="2432160"/>
              <a:chExt cx="2066760" cy="1645560"/>
            </a:xfrm>
          </p:grpSpPr>
          <p:sp>
            <p:nvSpPr>
              <p:cNvPr id="428" name="Ellipse 98"/>
              <p:cNvSpPr/>
              <p:nvPr/>
            </p:nvSpPr>
            <p:spPr>
              <a:xfrm rot="3773400">
                <a:off x="6775920" y="3523320"/>
                <a:ext cx="685800" cy="342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29" name="Group 43"/>
              <p:cNvGrpSpPr/>
              <p:nvPr/>
            </p:nvGrpSpPr>
            <p:grpSpPr>
              <a:xfrm>
                <a:off x="7083720" y="2432160"/>
                <a:ext cx="1793520" cy="1494000"/>
                <a:chOff x="7083720" y="2432160"/>
                <a:chExt cx="1793520" cy="1494000"/>
              </a:xfrm>
            </p:grpSpPr>
            <p:sp>
              <p:nvSpPr>
                <p:cNvPr id="430" name="Rounded Rectangle 44"/>
                <p:cNvSpPr/>
                <p:nvPr/>
              </p:nvSpPr>
              <p:spPr>
                <a:xfrm rot="3817800">
                  <a:off x="7486560" y="3025800"/>
                  <a:ext cx="106200" cy="965520"/>
                </a:xfrm>
                <a:custGeom>
                  <a:avLst/>
                  <a:gdLst>
                    <a:gd name="textAreaLeft" fmla="*/ 15480 w 106200"/>
                    <a:gd name="textAreaRight" fmla="*/ 90720 w 106200"/>
                    <a:gd name="textAreaTop" fmla="*/ 15480 h 965520"/>
                    <a:gd name="textAreaBottom" fmla="*/ 950040 h 965520"/>
                  </a:gdLst>
                  <a:ahLst/>
                  <a:rect l="textAreaLeft" t="textAreaTop" r="textAreaRight" b="textAreaBottom"/>
                  <a:pathLst>
                    <a:path w="21600" h="195786">
                      <a:moveTo>
                        <a:pt x="10800" y="0"/>
                      </a:moveTo>
                      <a:arcTo wR="10800" hR="10800" stAng="16200000" swAng="-5400000"/>
                      <a:lnTo>
                        <a:pt x="0" y="184986"/>
                      </a:lnTo>
                      <a:arcTo wR="10800" hR="10800" stAng="10800000" swAng="-5400000"/>
                      <a:lnTo>
                        <a:pt x="10800" y="195786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216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431" name="Group 45"/>
                <p:cNvGrpSpPr/>
                <p:nvPr/>
              </p:nvGrpSpPr>
              <p:grpSpPr>
                <a:xfrm>
                  <a:off x="7629840" y="2432160"/>
                  <a:ext cx="1247400" cy="1494000"/>
                  <a:chOff x="7629840" y="2432160"/>
                  <a:chExt cx="1247400" cy="1494000"/>
                </a:xfrm>
              </p:grpSpPr>
              <p:sp>
                <p:nvSpPr>
                  <p:cNvPr id="432" name="Rounded Rectangle 46"/>
                  <p:cNvSpPr/>
                  <p:nvPr/>
                </p:nvSpPr>
                <p:spPr>
                  <a:xfrm rot="3822000">
                    <a:off x="7605720" y="2803320"/>
                    <a:ext cx="1295280" cy="750960"/>
                  </a:xfrm>
                  <a:prstGeom prst="roundRect">
                    <a:avLst>
                      <a:gd name="adj" fmla="val 7718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457200" indent="-45720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33" name="Rounded Rectangle 47"/>
                  <p:cNvSpPr/>
                  <p:nvPr/>
                </p:nvSpPr>
                <p:spPr>
                  <a:xfrm rot="3822000">
                    <a:off x="7671240" y="2863080"/>
                    <a:ext cx="1187280" cy="643680"/>
                  </a:xfrm>
                  <a:prstGeom prst="roundRect">
                    <a:avLst>
                      <a:gd name="adj" fmla="val 7713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457200" indent="-45720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434" name="Group 48"/>
            <p:cNvGrpSpPr/>
            <p:nvPr/>
          </p:nvGrpSpPr>
          <p:grpSpPr>
            <a:xfrm>
              <a:off x="3915000" y="2652480"/>
              <a:ext cx="2023200" cy="1690200"/>
              <a:chOff x="3915000" y="2652480"/>
              <a:chExt cx="2023200" cy="1690200"/>
            </a:xfrm>
          </p:grpSpPr>
          <p:sp>
            <p:nvSpPr>
              <p:cNvPr id="435" name="Ellipse 98"/>
              <p:cNvSpPr/>
              <p:nvPr/>
            </p:nvSpPr>
            <p:spPr>
              <a:xfrm rot="17652600">
                <a:off x="5298480" y="3788640"/>
                <a:ext cx="685800" cy="342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36" name="Group 50"/>
              <p:cNvGrpSpPr/>
              <p:nvPr/>
            </p:nvGrpSpPr>
            <p:grpSpPr>
              <a:xfrm>
                <a:off x="3915000" y="2652480"/>
                <a:ext cx="1791000" cy="1495800"/>
                <a:chOff x="3915000" y="2652480"/>
                <a:chExt cx="1791000" cy="1495800"/>
              </a:xfrm>
            </p:grpSpPr>
            <p:sp>
              <p:nvSpPr>
                <p:cNvPr id="437" name="Rounded Rectangle 51"/>
                <p:cNvSpPr/>
                <p:nvPr/>
              </p:nvSpPr>
              <p:spPr>
                <a:xfrm rot="17697000">
                  <a:off x="5186160" y="3242880"/>
                  <a:ext cx="106200" cy="979200"/>
                </a:xfrm>
                <a:custGeom>
                  <a:avLst/>
                  <a:gdLst>
                    <a:gd name="textAreaLeft" fmla="*/ 15480 w 106200"/>
                    <a:gd name="textAreaRight" fmla="*/ 90720 w 106200"/>
                    <a:gd name="textAreaTop" fmla="*/ 15480 h 979200"/>
                    <a:gd name="textAreaBottom" fmla="*/ 963720 h 979200"/>
                  </a:gdLst>
                  <a:ahLst/>
                  <a:rect l="textAreaLeft" t="textAreaTop" r="textAreaRight" b="textAreaBottom"/>
                  <a:pathLst>
                    <a:path w="21600" h="198559">
                      <a:moveTo>
                        <a:pt x="10800" y="0"/>
                      </a:moveTo>
                      <a:arcTo wR="10800" hR="10800" stAng="16200000" swAng="-5400000"/>
                      <a:lnTo>
                        <a:pt x="0" y="187759"/>
                      </a:lnTo>
                      <a:arcTo wR="10800" hR="10800" stAng="10800000" swAng="-5400000"/>
                      <a:lnTo>
                        <a:pt x="10800" y="198559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216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438" name="Group 52"/>
                <p:cNvGrpSpPr/>
                <p:nvPr/>
              </p:nvGrpSpPr>
              <p:grpSpPr>
                <a:xfrm>
                  <a:off x="3915000" y="2652480"/>
                  <a:ext cx="1237680" cy="1495800"/>
                  <a:chOff x="3915000" y="2652480"/>
                  <a:chExt cx="1237680" cy="1495800"/>
                </a:xfrm>
              </p:grpSpPr>
              <p:sp>
                <p:nvSpPr>
                  <p:cNvPr id="439" name="Rounded Rectangle 53"/>
                  <p:cNvSpPr/>
                  <p:nvPr/>
                </p:nvSpPr>
                <p:spPr>
                  <a:xfrm rot="17700600">
                    <a:off x="3885840" y="3019680"/>
                    <a:ext cx="1295280" cy="761400"/>
                  </a:xfrm>
                  <a:prstGeom prst="roundRect">
                    <a:avLst>
                      <a:gd name="adj" fmla="val 7718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457200" indent="-45720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0" name="Rounded Rectangle 54"/>
                  <p:cNvSpPr/>
                  <p:nvPr/>
                </p:nvSpPr>
                <p:spPr>
                  <a:xfrm rot="17700600">
                    <a:off x="3947040" y="3079440"/>
                    <a:ext cx="1187280" cy="652680"/>
                  </a:xfrm>
                  <a:prstGeom prst="roundRect">
                    <a:avLst>
                      <a:gd name="adj" fmla="val 7713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457200" indent="-45720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sp>
          <p:nvSpPr>
            <p:cNvPr id="441" name="TextBox 69"/>
            <p:cNvSpPr/>
            <p:nvPr/>
          </p:nvSpPr>
          <p:spPr>
            <a:xfrm>
              <a:off x="5819760" y="1816920"/>
              <a:ext cx="115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MARKETING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TextBox 70"/>
            <p:cNvSpPr/>
            <p:nvPr/>
          </p:nvSpPr>
          <p:spPr>
            <a:xfrm rot="2191800">
              <a:off x="7067880" y="2154240"/>
              <a:ext cx="115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P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TextBox 71"/>
            <p:cNvSpPr/>
            <p:nvPr/>
          </p:nvSpPr>
          <p:spPr>
            <a:xfrm rot="18866400">
              <a:off x="4320000" y="2339280"/>
              <a:ext cx="118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SAL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TextBox 72"/>
            <p:cNvSpPr/>
            <p:nvPr/>
          </p:nvSpPr>
          <p:spPr>
            <a:xfrm rot="3780000">
              <a:off x="7712280" y="3006720"/>
              <a:ext cx="115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MEDI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TextBox 73"/>
            <p:cNvSpPr/>
            <p:nvPr/>
          </p:nvSpPr>
          <p:spPr>
            <a:xfrm rot="17741400">
              <a:off x="3947760" y="3235680"/>
              <a:ext cx="115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STRATEG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6" name="Rounded Rectangle 44"/>
          <p:cNvSpPr/>
          <p:nvPr/>
        </p:nvSpPr>
        <p:spPr>
          <a:xfrm flipH="1" rot="16200000">
            <a:off x="1697400" y="3203640"/>
            <a:ext cx="1079640" cy="3133800"/>
          </a:xfrm>
          <a:custGeom>
            <a:avLst/>
            <a:gdLst>
              <a:gd name="textAreaLeft" fmla="*/ 24840 w 1079640"/>
              <a:gd name="textAreaRight" fmla="*/ 1054800 w 1079640"/>
              <a:gd name="textAreaTop" fmla="*/ 24840 h 3133800"/>
              <a:gd name="textAreaBottom" fmla="*/ 3108960 h 3133800"/>
            </a:gdLst>
            <a:ahLst/>
            <a:rect l="textAreaLeft" t="textAreaTop" r="textAreaRight" b="textAreaBottom"/>
            <a:pathLst>
              <a:path w="21600" h="62683">
                <a:moveTo>
                  <a:pt x="1699" y="0"/>
                </a:moveTo>
                <a:arcTo wR="1699" hR="1699" stAng="16200000" swAng="-5400000"/>
                <a:lnTo>
                  <a:pt x="0" y="60984"/>
                </a:lnTo>
                <a:arcTo wR="1699" hR="1699" stAng="10800000" swAng="-5400000"/>
                <a:lnTo>
                  <a:pt x="19901" y="62683"/>
                </a:lnTo>
                <a:arcTo wR="1699" hR="1699" stAng="5400000" swAng="-5400000"/>
                <a:lnTo>
                  <a:pt x="21600" y="1699"/>
                </a:lnTo>
                <a:arcTo wR="1699" hR="1699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ounded Rectangle 38"/>
          <p:cNvSpPr/>
          <p:nvPr/>
        </p:nvSpPr>
        <p:spPr>
          <a:xfrm flipH="1" rot="16200000">
            <a:off x="1697400" y="1923840"/>
            <a:ext cx="1079280" cy="3133800"/>
          </a:xfrm>
          <a:custGeom>
            <a:avLst/>
            <a:gdLst>
              <a:gd name="textAreaLeft" fmla="*/ 24840 w 1079280"/>
              <a:gd name="textAreaRight" fmla="*/ 1054440 w 1079280"/>
              <a:gd name="textAreaTop" fmla="*/ 24840 h 3133800"/>
              <a:gd name="textAreaBottom" fmla="*/ 3108960 h 3133800"/>
            </a:gdLst>
            <a:ahLst/>
            <a:rect l="textAreaLeft" t="textAreaTop" r="textAreaRight" b="textAreaBottom"/>
            <a:pathLst>
              <a:path w="21600" h="62704">
                <a:moveTo>
                  <a:pt x="1699" y="0"/>
                </a:moveTo>
                <a:arcTo wR="1699" hR="1699" stAng="16200000" swAng="-5400000"/>
                <a:lnTo>
                  <a:pt x="0" y="61005"/>
                </a:lnTo>
                <a:arcTo wR="1699" hR="1699" stAng="10800000" swAng="-5400000"/>
                <a:lnTo>
                  <a:pt x="19901" y="62704"/>
                </a:lnTo>
                <a:arcTo wR="1699" hR="1699" stAng="5400000" swAng="-5400000"/>
                <a:lnTo>
                  <a:pt x="21600" y="1699"/>
                </a:lnTo>
                <a:arcTo wR="1699" hR="1699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ound Same Side Corner Rectangle 77"/>
          <p:cNvSpPr/>
          <p:nvPr/>
        </p:nvSpPr>
        <p:spPr>
          <a:xfrm>
            <a:off x="671400" y="2952720"/>
            <a:ext cx="3133800" cy="314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Round Same Side Corner Rectangle 78"/>
          <p:cNvSpPr/>
          <p:nvPr/>
        </p:nvSpPr>
        <p:spPr>
          <a:xfrm>
            <a:off x="671400" y="4233960"/>
            <a:ext cx="3133800" cy="314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ounded Rectangle 27"/>
          <p:cNvSpPr/>
          <p:nvPr/>
        </p:nvSpPr>
        <p:spPr>
          <a:xfrm flipH="1" rot="16200000">
            <a:off x="1697400" y="636480"/>
            <a:ext cx="1079640" cy="3133800"/>
          </a:xfrm>
          <a:custGeom>
            <a:avLst/>
            <a:gdLst>
              <a:gd name="textAreaLeft" fmla="*/ 24840 w 1079640"/>
              <a:gd name="textAreaRight" fmla="*/ 1054800 w 1079640"/>
              <a:gd name="textAreaTop" fmla="*/ 24840 h 3133800"/>
              <a:gd name="textAreaBottom" fmla="*/ 3108960 h 3133800"/>
            </a:gdLst>
            <a:ahLst/>
            <a:rect l="textAreaLeft" t="textAreaTop" r="textAreaRight" b="textAreaBottom"/>
            <a:pathLst>
              <a:path w="21600" h="62683">
                <a:moveTo>
                  <a:pt x="1699" y="0"/>
                </a:moveTo>
                <a:arcTo wR="1699" hR="1699" stAng="16200000" swAng="-5400000"/>
                <a:lnTo>
                  <a:pt x="0" y="60984"/>
                </a:lnTo>
                <a:arcTo wR="1699" hR="1699" stAng="10800000" swAng="-5400000"/>
                <a:lnTo>
                  <a:pt x="19901" y="62683"/>
                </a:lnTo>
                <a:arcTo wR="1699" hR="1699" stAng="5400000" swAng="-5400000"/>
                <a:lnTo>
                  <a:pt x="21600" y="1699"/>
                </a:lnTo>
                <a:arcTo wR="1699" hR="1699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Round Same Side Corner Rectangle 80"/>
          <p:cNvSpPr/>
          <p:nvPr/>
        </p:nvSpPr>
        <p:spPr>
          <a:xfrm>
            <a:off x="671400" y="1647720"/>
            <a:ext cx="3133800" cy="314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ktangel 76"/>
          <p:cNvSpPr/>
          <p:nvPr/>
        </p:nvSpPr>
        <p:spPr>
          <a:xfrm>
            <a:off x="804960" y="1676520"/>
            <a:ext cx="2435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Example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ktangel 76"/>
          <p:cNvSpPr/>
          <p:nvPr/>
        </p:nvSpPr>
        <p:spPr>
          <a:xfrm>
            <a:off x="804960" y="2979720"/>
            <a:ext cx="2435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Example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4" name="Group 44"/>
          <p:cNvGrpSpPr/>
          <p:nvPr/>
        </p:nvGrpSpPr>
        <p:grpSpPr>
          <a:xfrm>
            <a:off x="464400" y="2131920"/>
            <a:ext cx="1211040" cy="403200"/>
            <a:chOff x="464400" y="2131920"/>
            <a:chExt cx="1211040" cy="403200"/>
          </a:xfrm>
        </p:grpSpPr>
        <p:sp>
          <p:nvSpPr>
            <p:cNvPr id="455" name="Ellipse 53"/>
            <p:cNvSpPr/>
            <p:nvPr/>
          </p:nvSpPr>
          <p:spPr>
            <a:xfrm>
              <a:off x="839880" y="2131920"/>
              <a:ext cx="403200" cy="403200"/>
            </a:xfrm>
            <a:prstGeom prst="ellipse">
              <a:avLst/>
            </a:prstGeom>
            <a:solidFill>
              <a:srgbClr val="ffffff">
                <a:alpha val="6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Tekstboks 54"/>
            <p:cNvSpPr/>
            <p:nvPr/>
          </p:nvSpPr>
          <p:spPr>
            <a:xfrm>
              <a:off x="464400" y="2138040"/>
              <a:ext cx="12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51616"/>
                  </a:solidFill>
                  <a:latin typeface="Calibri"/>
                  <a:ea typeface="MS P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7" name="Group 44"/>
          <p:cNvGrpSpPr/>
          <p:nvPr/>
        </p:nvGrpSpPr>
        <p:grpSpPr>
          <a:xfrm>
            <a:off x="463680" y="3409920"/>
            <a:ext cx="1211040" cy="401760"/>
            <a:chOff x="463680" y="3409920"/>
            <a:chExt cx="1211040" cy="401760"/>
          </a:xfrm>
        </p:grpSpPr>
        <p:sp>
          <p:nvSpPr>
            <p:cNvPr id="458" name="Ellipse 53"/>
            <p:cNvSpPr/>
            <p:nvPr/>
          </p:nvSpPr>
          <p:spPr>
            <a:xfrm>
              <a:off x="839880" y="3409920"/>
              <a:ext cx="403200" cy="401760"/>
            </a:xfrm>
            <a:prstGeom prst="ellipse">
              <a:avLst/>
            </a:prstGeom>
            <a:solidFill>
              <a:srgbClr val="ffffff">
                <a:alpha val="6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Tekstboks 54"/>
            <p:cNvSpPr/>
            <p:nvPr/>
          </p:nvSpPr>
          <p:spPr>
            <a:xfrm>
              <a:off x="463680" y="3415320"/>
              <a:ext cx="12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51616"/>
                  </a:solidFill>
                  <a:latin typeface="Calibri"/>
                  <a:ea typeface="MS P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0" name="Group 44"/>
          <p:cNvGrpSpPr/>
          <p:nvPr/>
        </p:nvGrpSpPr>
        <p:grpSpPr>
          <a:xfrm>
            <a:off x="463680" y="4683240"/>
            <a:ext cx="1211040" cy="401400"/>
            <a:chOff x="463680" y="4683240"/>
            <a:chExt cx="1211040" cy="401400"/>
          </a:xfrm>
        </p:grpSpPr>
        <p:sp>
          <p:nvSpPr>
            <p:cNvPr id="461" name="Ellipse 53"/>
            <p:cNvSpPr/>
            <p:nvPr/>
          </p:nvSpPr>
          <p:spPr>
            <a:xfrm>
              <a:off x="839880" y="4683240"/>
              <a:ext cx="403200" cy="401400"/>
            </a:xfrm>
            <a:prstGeom prst="ellipse">
              <a:avLst/>
            </a:prstGeom>
            <a:solidFill>
              <a:srgbClr val="ffffff">
                <a:alpha val="6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Tekstboks 54"/>
            <p:cNvSpPr/>
            <p:nvPr/>
          </p:nvSpPr>
          <p:spPr>
            <a:xfrm>
              <a:off x="463680" y="4688640"/>
              <a:ext cx="12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51616"/>
                  </a:solidFill>
                  <a:latin typeface="Calibri"/>
                  <a:ea typeface="MS PGothic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3" name="Rektangel 76"/>
          <p:cNvSpPr/>
          <p:nvPr/>
        </p:nvSpPr>
        <p:spPr>
          <a:xfrm>
            <a:off x="804960" y="4260960"/>
            <a:ext cx="2435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Example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kstboks 72"/>
          <p:cNvSpPr/>
          <p:nvPr/>
        </p:nvSpPr>
        <p:spPr>
          <a:xfrm>
            <a:off x="1574640" y="2144880"/>
            <a:ext cx="2124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S PGothic"/>
              </a:rPr>
              <a:t>This is an example text. Example text. Go ahead and replace i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kstboks 72"/>
          <p:cNvSpPr/>
          <p:nvPr/>
        </p:nvSpPr>
        <p:spPr>
          <a:xfrm>
            <a:off x="1574640" y="3430440"/>
            <a:ext cx="2124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S PGothic"/>
              </a:rPr>
              <a:t>This is an example text. Example text. Go ahead and replace i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kstboks 72"/>
          <p:cNvSpPr/>
          <p:nvPr/>
        </p:nvSpPr>
        <p:spPr>
          <a:xfrm>
            <a:off x="1574640" y="4711680"/>
            <a:ext cx="2124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S PGothic"/>
              </a:rPr>
              <a:t>This is an example text. Example text. Go ahead and replace i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ktangel 38"/>
          <p:cNvSpPr/>
          <p:nvPr/>
        </p:nvSpPr>
        <p:spPr>
          <a:xfrm flipV="1" rot="10800000">
            <a:off x="0" y="-1080"/>
            <a:ext cx="9144000" cy="3443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8" name="Gruppe 43"/>
          <p:cNvGrpSpPr/>
          <p:nvPr/>
        </p:nvGrpSpPr>
        <p:grpSpPr>
          <a:xfrm>
            <a:off x="5662080" y="2762280"/>
            <a:ext cx="2869200" cy="1614600"/>
            <a:chOff x="5662080" y="2762280"/>
            <a:chExt cx="2869200" cy="1614600"/>
          </a:xfrm>
        </p:grpSpPr>
        <p:sp>
          <p:nvSpPr>
            <p:cNvPr id="469" name="Kombinationstegning 42"/>
            <p:cNvSpPr/>
            <p:nvPr/>
          </p:nvSpPr>
          <p:spPr>
            <a:xfrm>
              <a:off x="7743960" y="3433680"/>
              <a:ext cx="787320" cy="943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7"/>
            <p:cNvSpPr/>
            <p:nvPr/>
          </p:nvSpPr>
          <p:spPr>
            <a:xfrm flipH="1" rot="5400000">
              <a:off x="5946480" y="2477160"/>
              <a:ext cx="1592640" cy="2162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a0a2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1" name="Rectangle 8"/>
          <p:cNvSpPr/>
          <p:nvPr/>
        </p:nvSpPr>
        <p:spPr>
          <a:xfrm>
            <a:off x="314280" y="195120"/>
            <a:ext cx="8520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MS PGothic"/>
              </a:rPr>
              <a:t>PUZZL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MS PGothic"/>
              </a:rPr>
              <a:t>PROC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Lige forbindelse 36"/>
          <p:cNvSpPr/>
          <p:nvPr/>
        </p:nvSpPr>
        <p:spPr>
          <a:xfrm flipH="1">
            <a:off x="3792600" y="4338720"/>
            <a:ext cx="1440" cy="525240"/>
          </a:xfrm>
          <a:prstGeom prst="line">
            <a:avLst/>
          </a:prstGeom>
          <a:ln w="936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reeform 18"/>
          <p:cNvSpPr/>
          <p:nvPr/>
        </p:nvSpPr>
        <p:spPr>
          <a:xfrm>
            <a:off x="2430360" y="2770200"/>
            <a:ext cx="2833920" cy="1592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Freeform 23"/>
          <p:cNvSpPr/>
          <p:nvPr/>
        </p:nvSpPr>
        <p:spPr>
          <a:xfrm rot="16200000">
            <a:off x="4368600" y="2468520"/>
            <a:ext cx="2178000" cy="1593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adad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24"/>
          <p:cNvSpPr/>
          <p:nvPr/>
        </p:nvSpPr>
        <p:spPr>
          <a:xfrm>
            <a:off x="1459080" y="2209680"/>
            <a:ext cx="1593720" cy="2162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adad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kstboks 26"/>
          <p:cNvSpPr/>
          <p:nvPr/>
        </p:nvSpPr>
        <p:spPr>
          <a:xfrm>
            <a:off x="1473840" y="387036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kstboks 27"/>
          <p:cNvSpPr/>
          <p:nvPr/>
        </p:nvSpPr>
        <p:spPr>
          <a:xfrm>
            <a:off x="3059640" y="387036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kstboks 28"/>
          <p:cNvSpPr/>
          <p:nvPr/>
        </p:nvSpPr>
        <p:spPr>
          <a:xfrm>
            <a:off x="4713840" y="387036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libri"/>
                <a:ea typeface="MS PGothic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9" name="Gruppe 24"/>
          <p:cNvGrpSpPr/>
          <p:nvPr/>
        </p:nvGrpSpPr>
        <p:grpSpPr>
          <a:xfrm>
            <a:off x="2689200" y="4680000"/>
            <a:ext cx="2185920" cy="1800000"/>
            <a:chOff x="2689200" y="4680000"/>
            <a:chExt cx="2185920" cy="1800000"/>
          </a:xfrm>
        </p:grpSpPr>
        <p:sp>
          <p:nvSpPr>
            <p:cNvPr id="480" name="Rektangel med enkelt afrundet hjørne 25"/>
            <p:cNvSpPr/>
            <p:nvPr/>
          </p:nvSpPr>
          <p:spPr>
            <a:xfrm flipH="1" rot="10800000">
              <a:off x="2689200" y="4773600"/>
              <a:ext cx="2184480" cy="170640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Rektangel 32"/>
            <p:cNvSpPr/>
            <p:nvPr/>
          </p:nvSpPr>
          <p:spPr>
            <a:xfrm>
              <a:off x="2689200" y="4680000"/>
              <a:ext cx="2185920" cy="115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538c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2" name="Rektangel 33"/>
          <p:cNvSpPr/>
          <p:nvPr/>
        </p:nvSpPr>
        <p:spPr>
          <a:xfrm>
            <a:off x="2779560" y="4890960"/>
            <a:ext cx="200196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e1c11"/>
                </a:solidFill>
                <a:latin typeface="Calibri"/>
              </a:rPr>
              <a:t>Ex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o ahead and replace it with your own text. This is an example text. Go ahead and replace it with your own tex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kstboks 44"/>
          <p:cNvSpPr/>
          <p:nvPr/>
        </p:nvSpPr>
        <p:spPr>
          <a:xfrm>
            <a:off x="6233040" y="387036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84"/>
          <p:cNvSpPr/>
          <p:nvPr/>
        </p:nvSpPr>
        <p:spPr>
          <a:xfrm>
            <a:off x="0" y="3886200"/>
            <a:ext cx="9144000" cy="23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5" name="Group 50"/>
          <p:cNvGrpSpPr/>
          <p:nvPr/>
        </p:nvGrpSpPr>
        <p:grpSpPr>
          <a:xfrm>
            <a:off x="2908440" y="825480"/>
            <a:ext cx="4902120" cy="4902120"/>
            <a:chOff x="2908440" y="825480"/>
            <a:chExt cx="4902120" cy="4902120"/>
          </a:xfrm>
        </p:grpSpPr>
        <p:grpSp>
          <p:nvGrpSpPr>
            <p:cNvPr id="486" name="Group 17"/>
            <p:cNvGrpSpPr/>
            <p:nvPr/>
          </p:nvGrpSpPr>
          <p:grpSpPr>
            <a:xfrm>
              <a:off x="2908440" y="825480"/>
              <a:ext cx="4902120" cy="4902120"/>
              <a:chOff x="2908440" y="825480"/>
              <a:chExt cx="4902120" cy="4902120"/>
            </a:xfrm>
          </p:grpSpPr>
          <p:sp>
            <p:nvSpPr>
              <p:cNvPr id="487" name="Oval 3"/>
              <p:cNvSpPr/>
              <p:nvPr/>
            </p:nvSpPr>
            <p:spPr>
              <a:xfrm>
                <a:off x="2908440" y="825480"/>
                <a:ext cx="4902120" cy="4902120"/>
              </a:xfrm>
              <a:prstGeom prst="ellipse">
                <a:avLst/>
              </a:prstGeom>
              <a:noFill/>
              <a:ln w="28440">
                <a:solidFill>
                  <a:srgbClr val="096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Oval 57"/>
              <p:cNvSpPr/>
              <p:nvPr/>
            </p:nvSpPr>
            <p:spPr>
              <a:xfrm>
                <a:off x="3375000" y="1279440"/>
                <a:ext cx="3994200" cy="3994200"/>
              </a:xfrm>
              <a:prstGeom prst="ellipse">
                <a:avLst/>
              </a:prstGeom>
              <a:noFill/>
              <a:ln w="28440">
                <a:solidFill>
                  <a:srgbClr val="096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Oval 58"/>
              <p:cNvSpPr/>
              <p:nvPr/>
            </p:nvSpPr>
            <p:spPr>
              <a:xfrm>
                <a:off x="3735360" y="1639800"/>
                <a:ext cx="3273480" cy="3273480"/>
              </a:xfrm>
              <a:prstGeom prst="ellipse">
                <a:avLst/>
              </a:prstGeom>
              <a:noFill/>
              <a:ln w="28440">
                <a:solidFill>
                  <a:srgbClr val="096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Oval 59"/>
              <p:cNvSpPr/>
              <p:nvPr/>
            </p:nvSpPr>
            <p:spPr>
              <a:xfrm>
                <a:off x="4043520" y="1947600"/>
                <a:ext cx="2657520" cy="2657520"/>
              </a:xfrm>
              <a:prstGeom prst="ellipse">
                <a:avLst/>
              </a:prstGeom>
              <a:noFill/>
              <a:ln w="28440">
                <a:solidFill>
                  <a:srgbClr val="096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Oval 60"/>
              <p:cNvSpPr/>
              <p:nvPr/>
            </p:nvSpPr>
            <p:spPr>
              <a:xfrm>
                <a:off x="4361040" y="2265120"/>
                <a:ext cx="2022480" cy="2022480"/>
              </a:xfrm>
              <a:prstGeom prst="ellipse">
                <a:avLst/>
              </a:prstGeom>
              <a:noFill/>
              <a:ln w="28440">
                <a:solidFill>
                  <a:srgbClr val="096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Oval 61"/>
              <p:cNvSpPr/>
              <p:nvPr/>
            </p:nvSpPr>
            <p:spPr>
              <a:xfrm>
                <a:off x="4602240" y="2498760"/>
                <a:ext cx="1539720" cy="1539720"/>
              </a:xfrm>
              <a:prstGeom prst="ellipse">
                <a:avLst/>
              </a:prstGeom>
              <a:noFill/>
              <a:ln w="28440">
                <a:solidFill>
                  <a:srgbClr val="096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3" name="Gruppe 91"/>
            <p:cNvGrpSpPr/>
            <p:nvPr/>
          </p:nvGrpSpPr>
          <p:grpSpPr>
            <a:xfrm>
              <a:off x="4759560" y="2658960"/>
              <a:ext cx="1235520" cy="1235160"/>
              <a:chOff x="4759560" y="2658960"/>
              <a:chExt cx="1235520" cy="1235160"/>
            </a:xfrm>
          </p:grpSpPr>
          <p:sp>
            <p:nvSpPr>
              <p:cNvPr id="494" name="Ellipse 44"/>
              <p:cNvSpPr/>
              <p:nvPr/>
            </p:nvSpPr>
            <p:spPr>
              <a:xfrm rot="21051600">
                <a:off x="4838040" y="2737800"/>
                <a:ext cx="1078200" cy="1077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60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Ellipse 45"/>
              <p:cNvSpPr/>
              <p:nvPr/>
            </p:nvSpPr>
            <p:spPr>
              <a:xfrm>
                <a:off x="4989600" y="2760480"/>
                <a:ext cx="784440" cy="584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6" name="Måne 63"/>
              <p:cNvSpPr/>
              <p:nvPr/>
            </p:nvSpPr>
            <p:spPr>
              <a:xfrm rot="16551600">
                <a:off x="5113800" y="3033360"/>
                <a:ext cx="474480" cy="1046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47" y="734"/>
                      <a:pt x="4093" y="5080"/>
                      <a:pt x="4093" y="10800"/>
                    </a:cubicBezTo>
                    <a:cubicBezTo>
                      <a:pt x="4093" y="16520"/>
                      <a:pt x="12847" y="2086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7" name="Group 62"/>
          <p:cNvGrpSpPr/>
          <p:nvPr/>
        </p:nvGrpSpPr>
        <p:grpSpPr>
          <a:xfrm>
            <a:off x="2959200" y="2651040"/>
            <a:ext cx="2433600" cy="2432160"/>
            <a:chOff x="2959200" y="2651040"/>
            <a:chExt cx="2433600" cy="2432160"/>
          </a:xfrm>
        </p:grpSpPr>
        <p:grpSp>
          <p:nvGrpSpPr>
            <p:cNvPr id="498" name="Group 16"/>
            <p:cNvGrpSpPr/>
            <p:nvPr/>
          </p:nvGrpSpPr>
          <p:grpSpPr>
            <a:xfrm>
              <a:off x="2959200" y="2651040"/>
              <a:ext cx="2433600" cy="2432160"/>
              <a:chOff x="2959200" y="2651040"/>
              <a:chExt cx="2433600" cy="2432160"/>
            </a:xfrm>
          </p:grpSpPr>
          <p:sp>
            <p:nvSpPr>
              <p:cNvPr id="499" name="Oval 69"/>
              <p:cNvSpPr/>
              <p:nvPr/>
            </p:nvSpPr>
            <p:spPr>
              <a:xfrm>
                <a:off x="2959200" y="2651040"/>
                <a:ext cx="2433600" cy="24321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Oval 70"/>
              <p:cNvSpPr/>
              <p:nvPr/>
            </p:nvSpPr>
            <p:spPr>
              <a:xfrm>
                <a:off x="3190680" y="2876400"/>
                <a:ext cx="1982880" cy="198144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Oval 71"/>
              <p:cNvSpPr/>
              <p:nvPr/>
            </p:nvSpPr>
            <p:spPr>
              <a:xfrm>
                <a:off x="3368520" y="3054240"/>
                <a:ext cx="1627200" cy="1625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Oval 72"/>
              <p:cNvSpPr/>
              <p:nvPr/>
            </p:nvSpPr>
            <p:spPr>
              <a:xfrm>
                <a:off x="3522600" y="3208320"/>
                <a:ext cx="1319040" cy="131760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Oval 14"/>
              <p:cNvSpPr/>
              <p:nvPr/>
            </p:nvSpPr>
            <p:spPr>
              <a:xfrm>
                <a:off x="3679920" y="3365280"/>
                <a:ext cx="1004760" cy="1003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Oval 15"/>
              <p:cNvSpPr/>
              <p:nvPr/>
            </p:nvSpPr>
            <p:spPr>
              <a:xfrm>
                <a:off x="3800520" y="3481200"/>
                <a:ext cx="763560" cy="7635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5" name="Gruppe 244"/>
            <p:cNvGrpSpPr/>
            <p:nvPr/>
          </p:nvGrpSpPr>
          <p:grpSpPr>
            <a:xfrm>
              <a:off x="3865680" y="3543120"/>
              <a:ext cx="666360" cy="666360"/>
              <a:chOff x="3865680" y="3543120"/>
              <a:chExt cx="666360" cy="666360"/>
            </a:xfrm>
          </p:grpSpPr>
          <p:grpSp>
            <p:nvGrpSpPr>
              <p:cNvPr id="506" name="Gruppe 242"/>
              <p:cNvGrpSpPr/>
              <p:nvPr/>
            </p:nvGrpSpPr>
            <p:grpSpPr>
              <a:xfrm>
                <a:off x="3865680" y="3543120"/>
                <a:ext cx="666360" cy="666360"/>
                <a:chOff x="3865680" y="3543120"/>
                <a:chExt cx="666360" cy="666360"/>
              </a:xfrm>
            </p:grpSpPr>
            <p:sp>
              <p:nvSpPr>
                <p:cNvPr id="507" name="Ellipse 49"/>
                <p:cNvSpPr/>
                <p:nvPr/>
              </p:nvSpPr>
              <p:spPr>
                <a:xfrm rot="1356000">
                  <a:off x="3943800" y="3621240"/>
                  <a:ext cx="509760" cy="509400"/>
                </a:xfrm>
                <a:prstGeom prst="ellipse">
                  <a:avLst/>
                </a:prstGeom>
                <a:blipFill rotWithShape="0">
                  <a:blip r:embed="rId1"/>
                  <a:srcRect/>
                  <a:stretch/>
                </a:blipFill>
                <a:ln w="12600">
                  <a:solidFill>
                    <a:srgbClr val="aecd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8" name="Ellipse 50"/>
                <p:cNvSpPr/>
                <p:nvPr/>
              </p:nvSpPr>
              <p:spPr>
                <a:xfrm>
                  <a:off x="4026960" y="3628800"/>
                  <a:ext cx="360720" cy="276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343080" indent="-343080" algn="ctr">
                    <a:lnSpc>
                      <a:spcPct val="100000"/>
                    </a:lnSpc>
                    <a:buClr>
                      <a:srgbClr val="ffffff"/>
                    </a:buClr>
                    <a:buFont typeface="Calibri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09" name="Måne 48"/>
              <p:cNvSpPr/>
              <p:nvPr/>
            </p:nvSpPr>
            <p:spPr>
              <a:xfrm rot="16551600">
                <a:off x="4073400" y="3796200"/>
                <a:ext cx="203400" cy="470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47" y="734"/>
                      <a:pt x="4093" y="5080"/>
                      <a:pt x="4093" y="10800"/>
                    </a:cubicBezTo>
                    <a:cubicBezTo>
                      <a:pt x="4093" y="16520"/>
                      <a:pt x="12847" y="2086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0" name="Group 75"/>
          <p:cNvGrpSpPr/>
          <p:nvPr/>
        </p:nvGrpSpPr>
        <p:grpSpPr>
          <a:xfrm>
            <a:off x="6383160" y="1108080"/>
            <a:ext cx="2433960" cy="2432160"/>
            <a:chOff x="6383160" y="1108080"/>
            <a:chExt cx="2433960" cy="2432160"/>
          </a:xfrm>
        </p:grpSpPr>
        <p:grpSp>
          <p:nvGrpSpPr>
            <p:cNvPr id="511" name="Group 16"/>
            <p:cNvGrpSpPr/>
            <p:nvPr/>
          </p:nvGrpSpPr>
          <p:grpSpPr>
            <a:xfrm>
              <a:off x="6383160" y="1108080"/>
              <a:ext cx="2433960" cy="2432160"/>
              <a:chOff x="6383160" y="1108080"/>
              <a:chExt cx="2433960" cy="2432160"/>
            </a:xfrm>
          </p:grpSpPr>
          <p:sp>
            <p:nvSpPr>
              <p:cNvPr id="512" name="Oval 82"/>
              <p:cNvSpPr/>
              <p:nvPr/>
            </p:nvSpPr>
            <p:spPr>
              <a:xfrm>
                <a:off x="6383160" y="1108080"/>
                <a:ext cx="2433960" cy="24321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Oval 83"/>
              <p:cNvSpPr/>
              <p:nvPr/>
            </p:nvSpPr>
            <p:spPr>
              <a:xfrm>
                <a:off x="6614640" y="1333440"/>
                <a:ext cx="1983240" cy="198144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Oval 84"/>
              <p:cNvSpPr/>
              <p:nvPr/>
            </p:nvSpPr>
            <p:spPr>
              <a:xfrm>
                <a:off x="6792840" y="1511280"/>
                <a:ext cx="1627560" cy="1625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Oval 85"/>
              <p:cNvSpPr/>
              <p:nvPr/>
            </p:nvSpPr>
            <p:spPr>
              <a:xfrm>
                <a:off x="6946560" y="1665360"/>
                <a:ext cx="1319400" cy="131760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6" name="Oval 86"/>
              <p:cNvSpPr/>
              <p:nvPr/>
            </p:nvSpPr>
            <p:spPr>
              <a:xfrm>
                <a:off x="7103880" y="1822320"/>
                <a:ext cx="1005120" cy="1003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Oval 87"/>
              <p:cNvSpPr/>
              <p:nvPr/>
            </p:nvSpPr>
            <p:spPr>
              <a:xfrm>
                <a:off x="7224480" y="1938240"/>
                <a:ext cx="763560" cy="7635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8" name="Gruppe 244"/>
            <p:cNvGrpSpPr/>
            <p:nvPr/>
          </p:nvGrpSpPr>
          <p:grpSpPr>
            <a:xfrm>
              <a:off x="7290000" y="2000160"/>
              <a:ext cx="666360" cy="666360"/>
              <a:chOff x="7290000" y="2000160"/>
              <a:chExt cx="666360" cy="666360"/>
            </a:xfrm>
          </p:grpSpPr>
          <p:grpSp>
            <p:nvGrpSpPr>
              <p:cNvPr id="519" name="Gruppe 242"/>
              <p:cNvGrpSpPr/>
              <p:nvPr/>
            </p:nvGrpSpPr>
            <p:grpSpPr>
              <a:xfrm>
                <a:off x="7290000" y="2000160"/>
                <a:ext cx="666360" cy="666360"/>
                <a:chOff x="7290000" y="2000160"/>
                <a:chExt cx="666360" cy="666360"/>
              </a:xfrm>
            </p:grpSpPr>
            <p:sp>
              <p:nvSpPr>
                <p:cNvPr id="520" name="Ellipse 49"/>
                <p:cNvSpPr/>
                <p:nvPr/>
              </p:nvSpPr>
              <p:spPr>
                <a:xfrm rot="1356000">
                  <a:off x="7368120" y="2078280"/>
                  <a:ext cx="509760" cy="509400"/>
                </a:xfrm>
                <a:prstGeom prst="ellipse">
                  <a:avLst/>
                </a:prstGeom>
                <a:blipFill rotWithShape="0">
                  <a:blip r:embed="rId2"/>
                  <a:srcRect/>
                  <a:stretch/>
                </a:blipFill>
                <a:ln w="12600">
                  <a:solidFill>
                    <a:srgbClr val="aecd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1" name="Ellipse 50"/>
                <p:cNvSpPr/>
                <p:nvPr/>
              </p:nvSpPr>
              <p:spPr>
                <a:xfrm>
                  <a:off x="7451280" y="2085840"/>
                  <a:ext cx="360720" cy="276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343080" indent="-343080" algn="ctr">
                    <a:lnSpc>
                      <a:spcPct val="100000"/>
                    </a:lnSpc>
                    <a:buClr>
                      <a:srgbClr val="ffffff"/>
                    </a:buClr>
                    <a:buFont typeface="Calibri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22" name="Måne 48"/>
              <p:cNvSpPr/>
              <p:nvPr/>
            </p:nvSpPr>
            <p:spPr>
              <a:xfrm rot="16551600">
                <a:off x="7497720" y="2253240"/>
                <a:ext cx="203400" cy="470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47" y="734"/>
                      <a:pt x="4093" y="5080"/>
                      <a:pt x="4093" y="10800"/>
                    </a:cubicBezTo>
                    <a:cubicBezTo>
                      <a:pt x="4093" y="16520"/>
                      <a:pt x="12847" y="2086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23" name="Gruppe 244"/>
          <p:cNvGrpSpPr/>
          <p:nvPr/>
        </p:nvGrpSpPr>
        <p:grpSpPr>
          <a:xfrm>
            <a:off x="369360" y="2055960"/>
            <a:ext cx="728640" cy="727920"/>
            <a:chOff x="369360" y="2055960"/>
            <a:chExt cx="728640" cy="727920"/>
          </a:xfrm>
        </p:grpSpPr>
        <p:grpSp>
          <p:nvGrpSpPr>
            <p:cNvPr id="524" name="Gruppe 242"/>
            <p:cNvGrpSpPr/>
            <p:nvPr/>
          </p:nvGrpSpPr>
          <p:grpSpPr>
            <a:xfrm>
              <a:off x="369360" y="2055960"/>
              <a:ext cx="728640" cy="727920"/>
              <a:chOff x="369360" y="2055960"/>
              <a:chExt cx="728640" cy="727920"/>
            </a:xfrm>
          </p:grpSpPr>
          <p:sp>
            <p:nvSpPr>
              <p:cNvPr id="525" name="Ellipse 49"/>
              <p:cNvSpPr/>
              <p:nvPr/>
            </p:nvSpPr>
            <p:spPr>
              <a:xfrm rot="1356000">
                <a:off x="454680" y="2141640"/>
                <a:ext cx="557640" cy="5562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12600">
                <a:solidFill>
                  <a:srgbClr val="839b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50"/>
              <p:cNvSpPr/>
              <p:nvPr/>
            </p:nvSpPr>
            <p:spPr>
              <a:xfrm>
                <a:off x="545760" y="2151000"/>
                <a:ext cx="395640" cy="301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buClr>
                    <a:srgbClr val="ffffff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27" name="Måne 48"/>
            <p:cNvSpPr/>
            <p:nvPr/>
          </p:nvSpPr>
          <p:spPr>
            <a:xfrm rot="16551600">
              <a:off x="596520" y="2332080"/>
              <a:ext cx="221760" cy="51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847" y="734"/>
                    <a:pt x="4093" y="5080"/>
                    <a:pt x="4093" y="10800"/>
                  </a:cubicBezTo>
                  <a:cubicBezTo>
                    <a:pt x="4093" y="16520"/>
                    <a:pt x="12847" y="2086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8" name="Gruppe 91"/>
          <p:cNvGrpSpPr/>
          <p:nvPr/>
        </p:nvGrpSpPr>
        <p:grpSpPr>
          <a:xfrm>
            <a:off x="406440" y="1072440"/>
            <a:ext cx="655920" cy="655200"/>
            <a:chOff x="406440" y="1072440"/>
            <a:chExt cx="655920" cy="655200"/>
          </a:xfrm>
        </p:grpSpPr>
        <p:sp>
          <p:nvSpPr>
            <p:cNvPr id="529" name="Ellipse 44"/>
            <p:cNvSpPr/>
            <p:nvPr/>
          </p:nvSpPr>
          <p:spPr>
            <a:xfrm rot="21051600">
              <a:off x="447840" y="1114200"/>
              <a:ext cx="572400" cy="57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60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Ellipse 45"/>
            <p:cNvSpPr/>
            <p:nvPr/>
          </p:nvSpPr>
          <p:spPr>
            <a:xfrm>
              <a:off x="528480" y="1127160"/>
              <a:ext cx="415800" cy="309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Måne 63"/>
            <p:cNvSpPr/>
            <p:nvPr/>
          </p:nvSpPr>
          <p:spPr>
            <a:xfrm rot="16551600">
              <a:off x="594360" y="1270440"/>
              <a:ext cx="251640" cy="555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847" y="734"/>
                    <a:pt x="4093" y="5080"/>
                    <a:pt x="4093" y="10800"/>
                  </a:cubicBezTo>
                  <a:cubicBezTo>
                    <a:pt x="4093" y="16520"/>
                    <a:pt x="12847" y="2086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2" name="Group 135"/>
          <p:cNvGrpSpPr/>
          <p:nvPr/>
        </p:nvGrpSpPr>
        <p:grpSpPr>
          <a:xfrm>
            <a:off x="2908440" y="655560"/>
            <a:ext cx="1511280" cy="1509840"/>
            <a:chOff x="2908440" y="655560"/>
            <a:chExt cx="1511280" cy="1509840"/>
          </a:xfrm>
        </p:grpSpPr>
        <p:sp>
          <p:nvSpPr>
            <p:cNvPr id="533" name="Oval 104"/>
            <p:cNvSpPr/>
            <p:nvPr/>
          </p:nvSpPr>
          <p:spPr>
            <a:xfrm>
              <a:off x="2908440" y="655560"/>
              <a:ext cx="1511280" cy="1509840"/>
            </a:xfrm>
            <a:prstGeom prst="ellipse">
              <a:avLst/>
            </a:prstGeom>
            <a:noFill/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Oval 106"/>
            <p:cNvSpPr/>
            <p:nvPr/>
          </p:nvSpPr>
          <p:spPr>
            <a:xfrm>
              <a:off x="3141720" y="888840"/>
              <a:ext cx="1044720" cy="1043280"/>
            </a:xfrm>
            <a:prstGeom prst="ellipse">
              <a:avLst/>
            </a:prstGeom>
            <a:noFill/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Oval 108"/>
            <p:cNvSpPr/>
            <p:nvPr/>
          </p:nvSpPr>
          <p:spPr>
            <a:xfrm>
              <a:off x="3290760" y="1036440"/>
              <a:ext cx="746280" cy="747720"/>
            </a:xfrm>
            <a:prstGeom prst="ellipse">
              <a:avLst/>
            </a:prstGeom>
            <a:noFill/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6" name="Gruppe 244"/>
            <p:cNvGrpSpPr/>
            <p:nvPr/>
          </p:nvGrpSpPr>
          <p:grpSpPr>
            <a:xfrm>
              <a:off x="3332520" y="1076040"/>
              <a:ext cx="666360" cy="666360"/>
              <a:chOff x="3332520" y="1076040"/>
              <a:chExt cx="666360" cy="666360"/>
            </a:xfrm>
          </p:grpSpPr>
          <p:grpSp>
            <p:nvGrpSpPr>
              <p:cNvPr id="537" name="Gruppe 242"/>
              <p:cNvGrpSpPr/>
              <p:nvPr/>
            </p:nvGrpSpPr>
            <p:grpSpPr>
              <a:xfrm>
                <a:off x="3332520" y="1076040"/>
                <a:ext cx="666360" cy="666360"/>
                <a:chOff x="3332520" y="1076040"/>
                <a:chExt cx="666360" cy="666360"/>
              </a:xfrm>
            </p:grpSpPr>
            <p:sp>
              <p:nvSpPr>
                <p:cNvPr id="538" name="Ellipse 49"/>
                <p:cNvSpPr/>
                <p:nvPr/>
              </p:nvSpPr>
              <p:spPr>
                <a:xfrm rot="1356000">
                  <a:off x="3410640" y="1154160"/>
                  <a:ext cx="509760" cy="509400"/>
                </a:xfrm>
                <a:prstGeom prst="ellipse">
                  <a:avLst/>
                </a:prstGeom>
                <a:blipFill rotWithShape="0">
                  <a:blip r:embed="rId4"/>
                  <a:srcRect/>
                  <a:stretch/>
                </a:blipFill>
                <a:ln w="126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Ellipse 50"/>
                <p:cNvSpPr/>
                <p:nvPr/>
              </p:nvSpPr>
              <p:spPr>
                <a:xfrm>
                  <a:off x="3493800" y="1161720"/>
                  <a:ext cx="360720" cy="27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343080" indent="-343080" algn="ctr">
                    <a:lnSpc>
                      <a:spcPct val="100000"/>
                    </a:lnSpc>
                    <a:buClr>
                      <a:srgbClr val="ffffff"/>
                    </a:buClr>
                    <a:buFont typeface="Calibri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Måne 48"/>
              <p:cNvSpPr/>
              <p:nvPr/>
            </p:nvSpPr>
            <p:spPr>
              <a:xfrm rot="16551600">
                <a:off x="3540240" y="1329120"/>
                <a:ext cx="203400" cy="470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47" y="734"/>
                      <a:pt x="4093" y="5080"/>
                      <a:pt x="4093" y="10800"/>
                    </a:cubicBezTo>
                    <a:cubicBezTo>
                      <a:pt x="4093" y="16520"/>
                      <a:pt x="12847" y="2086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1" name="Group 112"/>
          <p:cNvGrpSpPr/>
          <p:nvPr/>
        </p:nvGrpSpPr>
        <p:grpSpPr>
          <a:xfrm>
            <a:off x="2878200" y="4216320"/>
            <a:ext cx="1509480" cy="1511280"/>
            <a:chOff x="2878200" y="4216320"/>
            <a:chExt cx="1509480" cy="1511280"/>
          </a:xfrm>
        </p:grpSpPr>
        <p:sp>
          <p:nvSpPr>
            <p:cNvPr id="542" name="Oval 113"/>
            <p:cNvSpPr/>
            <p:nvPr/>
          </p:nvSpPr>
          <p:spPr>
            <a:xfrm>
              <a:off x="2878200" y="4216320"/>
              <a:ext cx="1509480" cy="1511280"/>
            </a:xfrm>
            <a:prstGeom prst="ellipse">
              <a:avLst/>
            </a:prstGeom>
            <a:noFill/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Oval 114"/>
            <p:cNvSpPr/>
            <p:nvPr/>
          </p:nvSpPr>
          <p:spPr>
            <a:xfrm>
              <a:off x="3111480" y="4449600"/>
              <a:ext cx="1042920" cy="1044720"/>
            </a:xfrm>
            <a:prstGeom prst="ellipse">
              <a:avLst/>
            </a:prstGeom>
            <a:noFill/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Oval 115"/>
            <p:cNvSpPr/>
            <p:nvPr/>
          </p:nvSpPr>
          <p:spPr>
            <a:xfrm>
              <a:off x="3259080" y="4598640"/>
              <a:ext cx="747720" cy="746280"/>
            </a:xfrm>
            <a:prstGeom prst="ellipse">
              <a:avLst/>
            </a:prstGeom>
            <a:noFill/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5" name="Gruppe 244"/>
            <p:cNvGrpSpPr/>
            <p:nvPr/>
          </p:nvGrpSpPr>
          <p:grpSpPr>
            <a:xfrm>
              <a:off x="3301920" y="4637520"/>
              <a:ext cx="665640" cy="666360"/>
              <a:chOff x="3301920" y="4637520"/>
              <a:chExt cx="665640" cy="666360"/>
            </a:xfrm>
          </p:grpSpPr>
          <p:grpSp>
            <p:nvGrpSpPr>
              <p:cNvPr id="546" name="Gruppe 242"/>
              <p:cNvGrpSpPr/>
              <p:nvPr/>
            </p:nvGrpSpPr>
            <p:grpSpPr>
              <a:xfrm>
                <a:off x="3301920" y="4637520"/>
                <a:ext cx="665640" cy="666360"/>
                <a:chOff x="3301920" y="4637520"/>
                <a:chExt cx="665640" cy="666360"/>
              </a:xfrm>
            </p:grpSpPr>
            <p:sp>
              <p:nvSpPr>
                <p:cNvPr id="547" name="Ellipse 49"/>
                <p:cNvSpPr/>
                <p:nvPr/>
              </p:nvSpPr>
              <p:spPr>
                <a:xfrm rot="1356000">
                  <a:off x="3380040" y="4715640"/>
                  <a:ext cx="509040" cy="509760"/>
                </a:xfrm>
                <a:prstGeom prst="ellipse">
                  <a:avLst/>
                </a:prstGeom>
                <a:blipFill rotWithShape="0">
                  <a:blip r:embed="rId5"/>
                  <a:srcRect/>
                  <a:stretch/>
                </a:blipFill>
                <a:ln w="126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48" name="Ellipse 50"/>
                <p:cNvSpPr/>
                <p:nvPr/>
              </p:nvSpPr>
              <p:spPr>
                <a:xfrm>
                  <a:off x="3463560" y="4723920"/>
                  <a:ext cx="360360" cy="276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343080" indent="-343080" algn="ctr">
                    <a:lnSpc>
                      <a:spcPct val="100000"/>
                    </a:lnSpc>
                    <a:buClr>
                      <a:srgbClr val="ffffff"/>
                    </a:buClr>
                    <a:buFont typeface="Calibri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9" name="Måne 48"/>
              <p:cNvSpPr/>
              <p:nvPr/>
            </p:nvSpPr>
            <p:spPr>
              <a:xfrm rot="16551600">
                <a:off x="3509280" y="4890960"/>
                <a:ext cx="203400" cy="469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47" y="734"/>
                      <a:pt x="4093" y="5080"/>
                      <a:pt x="4093" y="10800"/>
                    </a:cubicBezTo>
                    <a:cubicBezTo>
                      <a:pt x="4093" y="16520"/>
                      <a:pt x="12847" y="2086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0" name="Group 121"/>
          <p:cNvGrpSpPr/>
          <p:nvPr/>
        </p:nvGrpSpPr>
        <p:grpSpPr>
          <a:xfrm>
            <a:off x="5392800" y="2735280"/>
            <a:ext cx="1509480" cy="1509840"/>
            <a:chOff x="5392800" y="2735280"/>
            <a:chExt cx="1509480" cy="1509840"/>
          </a:xfrm>
        </p:grpSpPr>
        <p:sp>
          <p:nvSpPr>
            <p:cNvPr id="551" name="Oval 122"/>
            <p:cNvSpPr/>
            <p:nvPr/>
          </p:nvSpPr>
          <p:spPr>
            <a:xfrm>
              <a:off x="5392800" y="2735280"/>
              <a:ext cx="1509480" cy="1509840"/>
            </a:xfrm>
            <a:prstGeom prst="ellipse">
              <a:avLst/>
            </a:prstGeom>
            <a:noFill/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Oval 123"/>
            <p:cNvSpPr/>
            <p:nvPr/>
          </p:nvSpPr>
          <p:spPr>
            <a:xfrm>
              <a:off x="5626080" y="2968560"/>
              <a:ext cx="1042920" cy="1043280"/>
            </a:xfrm>
            <a:prstGeom prst="ellipse">
              <a:avLst/>
            </a:prstGeom>
            <a:noFill/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Oval 124"/>
            <p:cNvSpPr/>
            <p:nvPr/>
          </p:nvSpPr>
          <p:spPr>
            <a:xfrm>
              <a:off x="5773680" y="3116160"/>
              <a:ext cx="747720" cy="747720"/>
            </a:xfrm>
            <a:prstGeom prst="ellipse">
              <a:avLst/>
            </a:prstGeom>
            <a:noFill/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4" name="Gruppe 244"/>
            <p:cNvGrpSpPr/>
            <p:nvPr/>
          </p:nvGrpSpPr>
          <p:grpSpPr>
            <a:xfrm>
              <a:off x="5816520" y="3156120"/>
              <a:ext cx="665640" cy="666000"/>
              <a:chOff x="5816520" y="3156120"/>
              <a:chExt cx="665640" cy="666000"/>
            </a:xfrm>
          </p:grpSpPr>
          <p:grpSp>
            <p:nvGrpSpPr>
              <p:cNvPr id="555" name="Gruppe 242"/>
              <p:cNvGrpSpPr/>
              <p:nvPr/>
            </p:nvGrpSpPr>
            <p:grpSpPr>
              <a:xfrm>
                <a:off x="5816520" y="3156120"/>
                <a:ext cx="665640" cy="666000"/>
                <a:chOff x="5816520" y="3156120"/>
                <a:chExt cx="665640" cy="666000"/>
              </a:xfrm>
            </p:grpSpPr>
            <p:sp>
              <p:nvSpPr>
                <p:cNvPr id="556" name="Ellipse 49"/>
                <p:cNvSpPr/>
                <p:nvPr/>
              </p:nvSpPr>
              <p:spPr>
                <a:xfrm rot="1356000">
                  <a:off x="5894640" y="3234240"/>
                  <a:ext cx="509040" cy="509400"/>
                </a:xfrm>
                <a:prstGeom prst="ellipse">
                  <a:avLst/>
                </a:prstGeom>
                <a:blipFill rotWithShape="0">
                  <a:blip r:embed="rId6"/>
                  <a:srcRect/>
                  <a:stretch/>
                </a:blipFill>
                <a:ln w="126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7" name="Ellipse 50"/>
                <p:cNvSpPr/>
                <p:nvPr/>
              </p:nvSpPr>
              <p:spPr>
                <a:xfrm>
                  <a:off x="5978160" y="3241440"/>
                  <a:ext cx="360360" cy="27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343080" indent="-343080" algn="ctr">
                    <a:lnSpc>
                      <a:spcPct val="100000"/>
                    </a:lnSpc>
                    <a:buClr>
                      <a:srgbClr val="ffffff"/>
                    </a:buClr>
                    <a:buFont typeface="Calibri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58" name="Måne 48"/>
              <p:cNvSpPr/>
              <p:nvPr/>
            </p:nvSpPr>
            <p:spPr>
              <a:xfrm rot="16551600">
                <a:off x="6023880" y="3409200"/>
                <a:ext cx="203400" cy="469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47" y="734"/>
                      <a:pt x="4093" y="5080"/>
                      <a:pt x="4093" y="10800"/>
                    </a:cubicBezTo>
                    <a:cubicBezTo>
                      <a:pt x="4093" y="16520"/>
                      <a:pt x="12847" y="2086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9" name="Gruppe 244"/>
          <p:cNvGrpSpPr/>
          <p:nvPr/>
        </p:nvGrpSpPr>
        <p:grpSpPr>
          <a:xfrm>
            <a:off x="371520" y="3070800"/>
            <a:ext cx="725040" cy="725040"/>
            <a:chOff x="371520" y="3070800"/>
            <a:chExt cx="725040" cy="725040"/>
          </a:xfrm>
        </p:grpSpPr>
        <p:grpSp>
          <p:nvGrpSpPr>
            <p:cNvPr id="560" name="Gruppe 242"/>
            <p:cNvGrpSpPr/>
            <p:nvPr/>
          </p:nvGrpSpPr>
          <p:grpSpPr>
            <a:xfrm>
              <a:off x="371520" y="3070800"/>
              <a:ext cx="725040" cy="725040"/>
              <a:chOff x="371520" y="3070800"/>
              <a:chExt cx="725040" cy="725040"/>
            </a:xfrm>
          </p:grpSpPr>
          <p:sp>
            <p:nvSpPr>
              <p:cNvPr id="561" name="Ellipse 49"/>
              <p:cNvSpPr/>
              <p:nvPr/>
            </p:nvSpPr>
            <p:spPr>
              <a:xfrm rot="1356000">
                <a:off x="456480" y="3155760"/>
                <a:ext cx="554400" cy="55440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1260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Ellipse 50"/>
              <p:cNvSpPr/>
              <p:nvPr/>
            </p:nvSpPr>
            <p:spPr>
              <a:xfrm>
                <a:off x="545760" y="3165480"/>
                <a:ext cx="393840" cy="29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buClr>
                    <a:srgbClr val="ffffff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3" name="Måne 48"/>
            <p:cNvSpPr/>
            <p:nvPr/>
          </p:nvSpPr>
          <p:spPr>
            <a:xfrm rot="16551600">
              <a:off x="597240" y="3346920"/>
              <a:ext cx="221040" cy="511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847" y="734"/>
                    <a:pt x="4093" y="5080"/>
                    <a:pt x="4093" y="10800"/>
                  </a:cubicBezTo>
                  <a:cubicBezTo>
                    <a:pt x="4093" y="16520"/>
                    <a:pt x="12847" y="2086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4" name="Group 145"/>
          <p:cNvGrpSpPr/>
          <p:nvPr/>
        </p:nvGrpSpPr>
        <p:grpSpPr>
          <a:xfrm>
            <a:off x="4870440" y="1117440"/>
            <a:ext cx="1042920" cy="1043280"/>
            <a:chOff x="4870440" y="1117440"/>
            <a:chExt cx="1042920" cy="1043280"/>
          </a:xfrm>
        </p:grpSpPr>
        <p:sp>
          <p:nvSpPr>
            <p:cNvPr id="565" name="Oval 138"/>
            <p:cNvSpPr/>
            <p:nvPr/>
          </p:nvSpPr>
          <p:spPr>
            <a:xfrm>
              <a:off x="4870440" y="1117440"/>
              <a:ext cx="1042920" cy="1043280"/>
            </a:xfrm>
            <a:prstGeom prst="ellipse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Oval 139"/>
            <p:cNvSpPr/>
            <p:nvPr/>
          </p:nvSpPr>
          <p:spPr>
            <a:xfrm>
              <a:off x="5018040" y="1265040"/>
              <a:ext cx="747720" cy="748080"/>
            </a:xfrm>
            <a:prstGeom prst="ellipse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7" name="Gruppe 244"/>
            <p:cNvGrpSpPr/>
            <p:nvPr/>
          </p:nvGrpSpPr>
          <p:grpSpPr>
            <a:xfrm>
              <a:off x="5060520" y="1317600"/>
              <a:ext cx="666000" cy="666360"/>
              <a:chOff x="5060520" y="1317600"/>
              <a:chExt cx="666000" cy="666360"/>
            </a:xfrm>
          </p:grpSpPr>
          <p:grpSp>
            <p:nvGrpSpPr>
              <p:cNvPr id="568" name="Gruppe 242"/>
              <p:cNvGrpSpPr/>
              <p:nvPr/>
            </p:nvGrpSpPr>
            <p:grpSpPr>
              <a:xfrm>
                <a:off x="5060520" y="1317600"/>
                <a:ext cx="666000" cy="666360"/>
                <a:chOff x="5060520" y="1317600"/>
                <a:chExt cx="666000" cy="666360"/>
              </a:xfrm>
            </p:grpSpPr>
            <p:sp>
              <p:nvSpPr>
                <p:cNvPr id="569" name="Ellipse 49"/>
                <p:cNvSpPr/>
                <p:nvPr/>
              </p:nvSpPr>
              <p:spPr>
                <a:xfrm rot="1356000">
                  <a:off x="5138640" y="1395720"/>
                  <a:ext cx="509400" cy="509760"/>
                </a:xfrm>
                <a:prstGeom prst="ellipse">
                  <a:avLst/>
                </a:prstGeom>
                <a:blipFill rotWithShape="0">
                  <a:blip r:embed="rId8"/>
                  <a:srcRect/>
                  <a:stretch/>
                </a:blipFill>
                <a:ln w="1260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Ellipse 50"/>
                <p:cNvSpPr/>
                <p:nvPr/>
              </p:nvSpPr>
              <p:spPr>
                <a:xfrm>
                  <a:off x="5222520" y="1403280"/>
                  <a:ext cx="360360" cy="27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343080" indent="-343080" algn="ctr">
                    <a:lnSpc>
                      <a:spcPct val="100000"/>
                    </a:lnSpc>
                    <a:buClr>
                      <a:srgbClr val="ffffff"/>
                    </a:buClr>
                    <a:buFont typeface="Calibri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71" name="Måne 48"/>
              <p:cNvSpPr/>
              <p:nvPr/>
            </p:nvSpPr>
            <p:spPr>
              <a:xfrm rot="16551600">
                <a:off x="5268240" y="1571040"/>
                <a:ext cx="203400" cy="469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47" y="734"/>
                      <a:pt x="4093" y="5080"/>
                      <a:pt x="4093" y="10800"/>
                    </a:cubicBezTo>
                    <a:cubicBezTo>
                      <a:pt x="4093" y="16520"/>
                      <a:pt x="12847" y="2086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72" name="Group 146"/>
          <p:cNvGrpSpPr/>
          <p:nvPr/>
        </p:nvGrpSpPr>
        <p:grpSpPr>
          <a:xfrm>
            <a:off x="5626080" y="5083200"/>
            <a:ext cx="1042920" cy="1041480"/>
            <a:chOff x="5626080" y="5083200"/>
            <a:chExt cx="1042920" cy="1041480"/>
          </a:xfrm>
        </p:grpSpPr>
        <p:sp>
          <p:nvSpPr>
            <p:cNvPr id="573" name="Oval 147"/>
            <p:cNvSpPr/>
            <p:nvPr/>
          </p:nvSpPr>
          <p:spPr>
            <a:xfrm>
              <a:off x="5626080" y="5083200"/>
              <a:ext cx="1042920" cy="1041480"/>
            </a:xfrm>
            <a:prstGeom prst="ellipse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Oval 148"/>
            <p:cNvSpPr/>
            <p:nvPr/>
          </p:nvSpPr>
          <p:spPr>
            <a:xfrm>
              <a:off x="5773680" y="5230800"/>
              <a:ext cx="747720" cy="746280"/>
            </a:xfrm>
            <a:prstGeom prst="ellipse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5" name="Gruppe 244"/>
            <p:cNvGrpSpPr/>
            <p:nvPr/>
          </p:nvGrpSpPr>
          <p:grpSpPr>
            <a:xfrm>
              <a:off x="5816520" y="5282640"/>
              <a:ext cx="665640" cy="665280"/>
              <a:chOff x="5816520" y="5282640"/>
              <a:chExt cx="665640" cy="665280"/>
            </a:xfrm>
          </p:grpSpPr>
          <p:grpSp>
            <p:nvGrpSpPr>
              <p:cNvPr id="576" name="Gruppe 242"/>
              <p:cNvGrpSpPr/>
              <p:nvPr/>
            </p:nvGrpSpPr>
            <p:grpSpPr>
              <a:xfrm>
                <a:off x="5816520" y="5282640"/>
                <a:ext cx="665640" cy="665280"/>
                <a:chOff x="5816520" y="5282640"/>
                <a:chExt cx="665640" cy="665280"/>
              </a:xfrm>
            </p:grpSpPr>
            <p:sp>
              <p:nvSpPr>
                <p:cNvPr id="577" name="Ellipse 49"/>
                <p:cNvSpPr/>
                <p:nvPr/>
              </p:nvSpPr>
              <p:spPr>
                <a:xfrm rot="1356000">
                  <a:off x="5894640" y="5360760"/>
                  <a:ext cx="509400" cy="508680"/>
                </a:xfrm>
                <a:prstGeom prst="ellipse">
                  <a:avLst/>
                </a:prstGeom>
                <a:blipFill rotWithShape="0">
                  <a:blip r:embed="rId9"/>
                  <a:srcRect/>
                  <a:stretch/>
                </a:blipFill>
                <a:ln w="1260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8" name="Ellipse 50"/>
                <p:cNvSpPr/>
                <p:nvPr/>
              </p:nvSpPr>
              <p:spPr>
                <a:xfrm>
                  <a:off x="5978160" y="5368680"/>
                  <a:ext cx="360360" cy="276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343080" indent="-343080" algn="ctr">
                    <a:lnSpc>
                      <a:spcPct val="100000"/>
                    </a:lnSpc>
                    <a:buClr>
                      <a:srgbClr val="ffffff"/>
                    </a:buClr>
                    <a:buFont typeface="Calibri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79" name="Måne 48"/>
              <p:cNvSpPr/>
              <p:nvPr/>
            </p:nvSpPr>
            <p:spPr>
              <a:xfrm rot="16551600">
                <a:off x="6023880" y="5535360"/>
                <a:ext cx="203040" cy="469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47" y="734"/>
                      <a:pt x="4093" y="5080"/>
                      <a:pt x="4093" y="10800"/>
                    </a:cubicBezTo>
                    <a:cubicBezTo>
                      <a:pt x="4093" y="16520"/>
                      <a:pt x="12847" y="2086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80" name="Group 154"/>
          <p:cNvGrpSpPr/>
          <p:nvPr/>
        </p:nvGrpSpPr>
        <p:grpSpPr>
          <a:xfrm>
            <a:off x="2387520" y="2584440"/>
            <a:ext cx="1042920" cy="1042920"/>
            <a:chOff x="2387520" y="2584440"/>
            <a:chExt cx="1042920" cy="1042920"/>
          </a:xfrm>
        </p:grpSpPr>
        <p:sp>
          <p:nvSpPr>
            <p:cNvPr id="581" name="Oval 155"/>
            <p:cNvSpPr/>
            <p:nvPr/>
          </p:nvSpPr>
          <p:spPr>
            <a:xfrm>
              <a:off x="2387520" y="2584440"/>
              <a:ext cx="1042920" cy="1042920"/>
            </a:xfrm>
            <a:prstGeom prst="ellipse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Oval 156"/>
            <p:cNvSpPr/>
            <p:nvPr/>
          </p:nvSpPr>
          <p:spPr>
            <a:xfrm>
              <a:off x="2535120" y="2732040"/>
              <a:ext cx="747720" cy="747720"/>
            </a:xfrm>
            <a:prstGeom prst="ellipse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3" name="Gruppe 244"/>
            <p:cNvGrpSpPr/>
            <p:nvPr/>
          </p:nvGrpSpPr>
          <p:grpSpPr>
            <a:xfrm>
              <a:off x="2577600" y="2784240"/>
              <a:ext cx="666000" cy="666000"/>
              <a:chOff x="2577600" y="2784240"/>
              <a:chExt cx="666000" cy="666000"/>
            </a:xfrm>
          </p:grpSpPr>
          <p:grpSp>
            <p:nvGrpSpPr>
              <p:cNvPr id="584" name="Gruppe 242"/>
              <p:cNvGrpSpPr/>
              <p:nvPr/>
            </p:nvGrpSpPr>
            <p:grpSpPr>
              <a:xfrm>
                <a:off x="2577600" y="2784240"/>
                <a:ext cx="666000" cy="666000"/>
                <a:chOff x="2577600" y="2784240"/>
                <a:chExt cx="666000" cy="666000"/>
              </a:xfrm>
            </p:grpSpPr>
            <p:sp>
              <p:nvSpPr>
                <p:cNvPr id="585" name="Ellipse 49"/>
                <p:cNvSpPr/>
                <p:nvPr/>
              </p:nvSpPr>
              <p:spPr>
                <a:xfrm rot="1356000">
                  <a:off x="2655720" y="2862360"/>
                  <a:ext cx="509400" cy="509400"/>
                </a:xfrm>
                <a:prstGeom prst="ellipse">
                  <a:avLst/>
                </a:prstGeom>
                <a:blipFill rotWithShape="0">
                  <a:blip r:embed="rId10"/>
                  <a:srcRect/>
                  <a:stretch/>
                </a:blipFill>
                <a:ln w="1260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457200" indent="-45720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6" name="Ellipse 50"/>
                <p:cNvSpPr/>
                <p:nvPr/>
              </p:nvSpPr>
              <p:spPr>
                <a:xfrm>
                  <a:off x="2739600" y="2869920"/>
                  <a:ext cx="360360" cy="276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343080" indent="-343080" algn="ctr">
                    <a:lnSpc>
                      <a:spcPct val="100000"/>
                    </a:lnSpc>
                    <a:buClr>
                      <a:srgbClr val="ffffff"/>
                    </a:buClr>
                    <a:buFont typeface="Calibri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87" name="Måne 48"/>
              <p:cNvSpPr/>
              <p:nvPr/>
            </p:nvSpPr>
            <p:spPr>
              <a:xfrm rot="16551600">
                <a:off x="2785320" y="3037320"/>
                <a:ext cx="203400" cy="469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47" y="734"/>
                      <a:pt x="4093" y="5080"/>
                      <a:pt x="4093" y="10800"/>
                    </a:cubicBezTo>
                    <a:cubicBezTo>
                      <a:pt x="4093" y="16520"/>
                      <a:pt x="12847" y="2086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88" name="Gruppe 244"/>
          <p:cNvGrpSpPr/>
          <p:nvPr/>
        </p:nvGrpSpPr>
        <p:grpSpPr>
          <a:xfrm>
            <a:off x="373320" y="4083840"/>
            <a:ext cx="722880" cy="722880"/>
            <a:chOff x="373320" y="4083840"/>
            <a:chExt cx="722880" cy="722880"/>
          </a:xfrm>
        </p:grpSpPr>
        <p:grpSp>
          <p:nvGrpSpPr>
            <p:cNvPr id="589" name="Gruppe 242"/>
            <p:cNvGrpSpPr/>
            <p:nvPr/>
          </p:nvGrpSpPr>
          <p:grpSpPr>
            <a:xfrm>
              <a:off x="373320" y="4083840"/>
              <a:ext cx="722880" cy="722880"/>
              <a:chOff x="373320" y="4083840"/>
              <a:chExt cx="722880" cy="722880"/>
            </a:xfrm>
          </p:grpSpPr>
          <p:sp>
            <p:nvSpPr>
              <p:cNvPr id="590" name="Ellipse 49"/>
              <p:cNvSpPr/>
              <p:nvPr/>
            </p:nvSpPr>
            <p:spPr>
              <a:xfrm rot="1356000">
                <a:off x="457920" y="4168800"/>
                <a:ext cx="552960" cy="5529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1" name="Ellipse 50"/>
              <p:cNvSpPr/>
              <p:nvPr/>
            </p:nvSpPr>
            <p:spPr>
              <a:xfrm>
                <a:off x="547200" y="4178160"/>
                <a:ext cx="392400" cy="29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buClr>
                    <a:srgbClr val="ffffff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2" name="Måne 48"/>
            <p:cNvSpPr/>
            <p:nvPr/>
          </p:nvSpPr>
          <p:spPr>
            <a:xfrm rot="16551600">
              <a:off x="598320" y="4358520"/>
              <a:ext cx="220680" cy="50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847" y="734"/>
                    <a:pt x="4093" y="5080"/>
                    <a:pt x="4093" y="10800"/>
                  </a:cubicBezTo>
                  <a:cubicBezTo>
                    <a:pt x="4093" y="16520"/>
                    <a:pt x="12847" y="2086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3" name="TextBox 278"/>
          <p:cNvSpPr/>
          <p:nvPr/>
        </p:nvSpPr>
        <p:spPr>
          <a:xfrm>
            <a:off x="268200" y="201600"/>
            <a:ext cx="15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RIPPL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Rektangel 63"/>
          <p:cNvSpPr/>
          <p:nvPr/>
        </p:nvSpPr>
        <p:spPr>
          <a:xfrm>
            <a:off x="1025640" y="1128600"/>
            <a:ext cx="120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1616"/>
                </a:solidFill>
                <a:latin typeface="Calibri"/>
              </a:rPr>
              <a:t>This is an example text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ktangel 63"/>
          <p:cNvSpPr/>
          <p:nvPr/>
        </p:nvSpPr>
        <p:spPr>
          <a:xfrm>
            <a:off x="1025640" y="2128680"/>
            <a:ext cx="120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1616"/>
                </a:solidFill>
                <a:latin typeface="Calibri"/>
              </a:rPr>
              <a:t>This is an example text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Rektangel 63"/>
          <p:cNvSpPr/>
          <p:nvPr/>
        </p:nvSpPr>
        <p:spPr>
          <a:xfrm>
            <a:off x="1025640" y="3168720"/>
            <a:ext cx="120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1616"/>
                </a:solidFill>
                <a:latin typeface="Calibri"/>
              </a:rPr>
              <a:t>This is an example text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Rektangel 63"/>
          <p:cNvSpPr/>
          <p:nvPr/>
        </p:nvSpPr>
        <p:spPr>
          <a:xfrm>
            <a:off x="1025640" y="4189320"/>
            <a:ext cx="120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1616"/>
                </a:solidFill>
                <a:latin typeface="Calibri"/>
              </a:rPr>
              <a:t>This is an example text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"/>
          <p:cNvSpPr/>
          <p:nvPr/>
        </p:nvSpPr>
        <p:spPr>
          <a:xfrm>
            <a:off x="657360" y="1568520"/>
            <a:ext cx="528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动态ppt模板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09:19:00Z</dcterms:created>
  <dc:creator>Rasmus Olsen</dc:creator>
  <dc:description/>
  <dc:language>en-US</dc:language>
  <cp:lastModifiedBy>Administrator</cp:lastModifiedBy>
  <dcterms:modified xsi:type="dcterms:W3CDTF">2015-08-09T01:09:4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